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A1E772-31CA-464F-B982-1A4160B2AB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EAView application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 Testimon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3960" indent="0">
              <a:lnSpc>
                <a:spcPct val="90000"/>
              </a:lnSpc>
              <a:spcBef>
                <a:spcPts val="720"/>
              </a:spcBef>
              <a:buNone/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EX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468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73836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Internet Access to Microsof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100160" y="2071800"/>
            <a:ext cx="6400800" cy="33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.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71640" indent="-417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developer\drg\vdr\hl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309760" y="3203640"/>
            <a:ext cx="1313280" cy="1948320"/>
          </a:xfrm>
          <a:custGeom>
            <a:avLst/>
            <a:gdLst/>
            <a:ahLst/>
            <a:rect l="0" t="0" r="r" b="b"/>
            <a:pathLst>
              <a:path w="3648" h="5412">
                <a:moveTo>
                  <a:pt x="3648" y="2905"/>
                </a:moveTo>
                <a:lnTo>
                  <a:pt x="3549" y="2875"/>
                </a:lnTo>
                <a:lnTo>
                  <a:pt x="3446" y="2845"/>
                </a:lnTo>
                <a:lnTo>
                  <a:pt x="3355" y="2827"/>
                </a:lnTo>
                <a:lnTo>
                  <a:pt x="3256" y="2802"/>
                </a:lnTo>
                <a:lnTo>
                  <a:pt x="3157" y="2772"/>
                </a:lnTo>
                <a:lnTo>
                  <a:pt x="3067" y="2742"/>
                </a:lnTo>
                <a:lnTo>
                  <a:pt x="2976" y="2712"/>
                </a:lnTo>
                <a:lnTo>
                  <a:pt x="2873" y="2682"/>
                </a:lnTo>
                <a:lnTo>
                  <a:pt x="2786" y="2652"/>
                </a:lnTo>
                <a:lnTo>
                  <a:pt x="2694" y="2621"/>
                </a:lnTo>
                <a:lnTo>
                  <a:pt x="2604" y="2591"/>
                </a:lnTo>
                <a:lnTo>
                  <a:pt x="2513" y="2549"/>
                </a:lnTo>
                <a:lnTo>
                  <a:pt x="2430" y="2519"/>
                </a:lnTo>
                <a:lnTo>
                  <a:pt x="2340" y="2488"/>
                </a:lnTo>
                <a:lnTo>
                  <a:pt x="2261" y="2446"/>
                </a:lnTo>
                <a:lnTo>
                  <a:pt x="2170" y="2416"/>
                </a:lnTo>
                <a:lnTo>
                  <a:pt x="2088" y="2368"/>
                </a:lnTo>
                <a:lnTo>
                  <a:pt x="2010" y="2338"/>
                </a:lnTo>
                <a:lnTo>
                  <a:pt x="1927" y="2295"/>
                </a:lnTo>
                <a:lnTo>
                  <a:pt x="1849" y="2265"/>
                </a:lnTo>
                <a:lnTo>
                  <a:pt x="1770" y="2223"/>
                </a:lnTo>
                <a:lnTo>
                  <a:pt x="1696" y="2174"/>
                </a:lnTo>
                <a:lnTo>
                  <a:pt x="1618" y="2132"/>
                </a:lnTo>
                <a:lnTo>
                  <a:pt x="1548" y="2102"/>
                </a:lnTo>
                <a:lnTo>
                  <a:pt x="1477" y="2060"/>
                </a:lnTo>
                <a:lnTo>
                  <a:pt x="1407" y="2011"/>
                </a:lnTo>
                <a:lnTo>
                  <a:pt x="1337" y="1969"/>
                </a:lnTo>
                <a:lnTo>
                  <a:pt x="1275" y="1927"/>
                </a:lnTo>
                <a:lnTo>
                  <a:pt x="1205" y="1879"/>
                </a:lnTo>
                <a:lnTo>
                  <a:pt x="1147" y="1836"/>
                </a:lnTo>
                <a:lnTo>
                  <a:pt x="1073" y="1794"/>
                </a:lnTo>
                <a:lnTo>
                  <a:pt x="1015" y="1746"/>
                </a:lnTo>
                <a:lnTo>
                  <a:pt x="953" y="1685"/>
                </a:lnTo>
                <a:lnTo>
                  <a:pt x="903" y="1643"/>
                </a:lnTo>
                <a:lnTo>
                  <a:pt x="841" y="1601"/>
                </a:lnTo>
                <a:lnTo>
                  <a:pt x="792" y="1552"/>
                </a:lnTo>
                <a:lnTo>
                  <a:pt x="734" y="1498"/>
                </a:lnTo>
                <a:lnTo>
                  <a:pt x="684" y="1450"/>
                </a:lnTo>
                <a:lnTo>
                  <a:pt x="631" y="1408"/>
                </a:lnTo>
                <a:lnTo>
                  <a:pt x="594" y="1346"/>
                </a:lnTo>
                <a:lnTo>
                  <a:pt x="540" y="1304"/>
                </a:lnTo>
                <a:lnTo>
                  <a:pt x="503" y="1243"/>
                </a:lnTo>
                <a:lnTo>
                  <a:pt x="462" y="1195"/>
                </a:lnTo>
                <a:lnTo>
                  <a:pt x="420" y="1141"/>
                </a:lnTo>
                <a:lnTo>
                  <a:pt x="379" y="1093"/>
                </a:lnTo>
                <a:lnTo>
                  <a:pt x="342" y="1032"/>
                </a:lnTo>
                <a:lnTo>
                  <a:pt x="309" y="990"/>
                </a:lnTo>
                <a:lnTo>
                  <a:pt x="272" y="929"/>
                </a:lnTo>
                <a:lnTo>
                  <a:pt x="239" y="887"/>
                </a:lnTo>
                <a:lnTo>
                  <a:pt x="210" y="827"/>
                </a:lnTo>
                <a:lnTo>
                  <a:pt x="181" y="766"/>
                </a:lnTo>
                <a:lnTo>
                  <a:pt x="160" y="724"/>
                </a:lnTo>
                <a:lnTo>
                  <a:pt x="140" y="664"/>
                </a:lnTo>
                <a:lnTo>
                  <a:pt x="111" y="603"/>
                </a:lnTo>
                <a:lnTo>
                  <a:pt x="90" y="561"/>
                </a:lnTo>
                <a:lnTo>
                  <a:pt x="70" y="501"/>
                </a:lnTo>
                <a:lnTo>
                  <a:pt x="61" y="440"/>
                </a:lnTo>
                <a:lnTo>
                  <a:pt x="41" y="398"/>
                </a:lnTo>
                <a:lnTo>
                  <a:pt x="28" y="338"/>
                </a:lnTo>
                <a:lnTo>
                  <a:pt x="20" y="277"/>
                </a:lnTo>
                <a:lnTo>
                  <a:pt x="8" y="217"/>
                </a:lnTo>
                <a:lnTo>
                  <a:pt x="8" y="175"/>
                </a:lnTo>
                <a:lnTo>
                  <a:pt x="0" y="114"/>
                </a:lnTo>
                <a:lnTo>
                  <a:pt x="0" y="54"/>
                </a:lnTo>
                <a:lnTo>
                  <a:pt x="0" y="0"/>
                </a:lnTo>
                <a:lnTo>
                  <a:pt x="0" y="2501"/>
                </a:lnTo>
                <a:lnTo>
                  <a:pt x="0" y="2561"/>
                </a:lnTo>
                <a:lnTo>
                  <a:pt x="0" y="2621"/>
                </a:lnTo>
                <a:lnTo>
                  <a:pt x="8" y="2682"/>
                </a:lnTo>
                <a:lnTo>
                  <a:pt x="8" y="2724"/>
                </a:lnTo>
                <a:lnTo>
                  <a:pt x="20" y="2784"/>
                </a:lnTo>
                <a:lnTo>
                  <a:pt x="28" y="2845"/>
                </a:lnTo>
                <a:lnTo>
                  <a:pt x="41" y="2905"/>
                </a:lnTo>
                <a:lnTo>
                  <a:pt x="61" y="2947"/>
                </a:lnTo>
                <a:lnTo>
                  <a:pt x="70" y="3008"/>
                </a:lnTo>
                <a:lnTo>
                  <a:pt x="90" y="3068"/>
                </a:lnTo>
                <a:lnTo>
                  <a:pt x="111" y="3110"/>
                </a:lnTo>
                <a:lnTo>
                  <a:pt x="140" y="3171"/>
                </a:lnTo>
                <a:lnTo>
                  <a:pt x="160" y="3231"/>
                </a:lnTo>
                <a:lnTo>
                  <a:pt x="181" y="3274"/>
                </a:lnTo>
                <a:lnTo>
                  <a:pt x="210" y="3334"/>
                </a:lnTo>
                <a:lnTo>
                  <a:pt x="239" y="3394"/>
                </a:lnTo>
                <a:lnTo>
                  <a:pt x="272" y="3437"/>
                </a:lnTo>
                <a:lnTo>
                  <a:pt x="309" y="3497"/>
                </a:lnTo>
                <a:lnTo>
                  <a:pt x="342" y="3539"/>
                </a:lnTo>
                <a:lnTo>
                  <a:pt x="379" y="3600"/>
                </a:lnTo>
                <a:lnTo>
                  <a:pt x="420" y="3642"/>
                </a:lnTo>
                <a:lnTo>
                  <a:pt x="462" y="3702"/>
                </a:lnTo>
                <a:lnTo>
                  <a:pt x="503" y="3751"/>
                </a:lnTo>
                <a:lnTo>
                  <a:pt x="540" y="3805"/>
                </a:lnTo>
                <a:lnTo>
                  <a:pt x="594" y="3853"/>
                </a:lnTo>
                <a:lnTo>
                  <a:pt x="631" y="3914"/>
                </a:lnTo>
                <a:lnTo>
                  <a:pt x="684" y="3956"/>
                </a:lnTo>
                <a:lnTo>
                  <a:pt x="734" y="3998"/>
                </a:lnTo>
                <a:lnTo>
                  <a:pt x="792" y="4060"/>
                </a:lnTo>
                <a:lnTo>
                  <a:pt x="841" y="4108"/>
                </a:lnTo>
                <a:lnTo>
                  <a:pt x="903" y="4150"/>
                </a:lnTo>
                <a:lnTo>
                  <a:pt x="953" y="4192"/>
                </a:lnTo>
                <a:lnTo>
                  <a:pt x="1015" y="4253"/>
                </a:lnTo>
                <a:lnTo>
                  <a:pt x="1073" y="4295"/>
                </a:lnTo>
                <a:lnTo>
                  <a:pt x="1147" y="4343"/>
                </a:lnTo>
                <a:lnTo>
                  <a:pt x="1205" y="4386"/>
                </a:lnTo>
                <a:lnTo>
                  <a:pt x="1275" y="4434"/>
                </a:lnTo>
                <a:lnTo>
                  <a:pt x="1337" y="4476"/>
                </a:lnTo>
                <a:lnTo>
                  <a:pt x="1407" y="4518"/>
                </a:lnTo>
                <a:lnTo>
                  <a:pt x="1477" y="4567"/>
                </a:lnTo>
                <a:lnTo>
                  <a:pt x="1548" y="4609"/>
                </a:lnTo>
                <a:lnTo>
                  <a:pt x="1618" y="4639"/>
                </a:lnTo>
                <a:lnTo>
                  <a:pt x="1696" y="4682"/>
                </a:lnTo>
                <a:lnTo>
                  <a:pt x="1770" y="4730"/>
                </a:lnTo>
                <a:lnTo>
                  <a:pt x="1849" y="4772"/>
                </a:lnTo>
                <a:lnTo>
                  <a:pt x="1927" y="4802"/>
                </a:lnTo>
                <a:lnTo>
                  <a:pt x="2010" y="4845"/>
                </a:lnTo>
                <a:lnTo>
                  <a:pt x="2088" y="4875"/>
                </a:lnTo>
                <a:lnTo>
                  <a:pt x="2170" y="4923"/>
                </a:lnTo>
                <a:lnTo>
                  <a:pt x="2261" y="4947"/>
                </a:lnTo>
                <a:lnTo>
                  <a:pt x="2340" y="4996"/>
                </a:lnTo>
                <a:lnTo>
                  <a:pt x="2430" y="5026"/>
                </a:lnTo>
                <a:lnTo>
                  <a:pt x="2513" y="5056"/>
                </a:lnTo>
                <a:lnTo>
                  <a:pt x="2604" y="5098"/>
                </a:lnTo>
                <a:lnTo>
                  <a:pt x="2694" y="5128"/>
                </a:lnTo>
                <a:lnTo>
                  <a:pt x="2786" y="5159"/>
                </a:lnTo>
                <a:lnTo>
                  <a:pt x="2873" y="5189"/>
                </a:lnTo>
                <a:lnTo>
                  <a:pt x="2976" y="5219"/>
                </a:lnTo>
                <a:lnTo>
                  <a:pt x="3067" y="5249"/>
                </a:lnTo>
                <a:lnTo>
                  <a:pt x="3157" y="5273"/>
                </a:lnTo>
                <a:lnTo>
                  <a:pt x="3256" y="5304"/>
                </a:lnTo>
                <a:lnTo>
                  <a:pt x="3355" y="5334"/>
                </a:lnTo>
                <a:lnTo>
                  <a:pt x="3446" y="5352"/>
                </a:lnTo>
                <a:lnTo>
                  <a:pt x="3549" y="5382"/>
                </a:lnTo>
                <a:lnTo>
                  <a:pt x="3648" y="5412"/>
                </a:lnTo>
                <a:lnTo>
                  <a:pt x="3648" y="2905"/>
                </a:lnTo>
                <a:close/>
              </a:path>
            </a:pathLst>
          </a:custGeom>
          <a:solidFill>
            <a:srgbClr val="808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51800" y="3421080"/>
            <a:ext cx="68760" cy="1041840"/>
          </a:xfrm>
          <a:custGeom>
            <a:avLst/>
            <a:gdLst/>
            <a:ahLst/>
            <a:rect l="0" t="0" r="r" b="b"/>
            <a:pathLst>
              <a:path w="191" h="2894">
                <a:moveTo>
                  <a:pt x="191" y="0"/>
                </a:moveTo>
                <a:lnTo>
                  <a:pt x="171" y="60"/>
                </a:lnTo>
                <a:lnTo>
                  <a:pt x="150" y="120"/>
                </a:lnTo>
                <a:lnTo>
                  <a:pt x="120" y="163"/>
                </a:lnTo>
                <a:lnTo>
                  <a:pt x="91" y="223"/>
                </a:lnTo>
                <a:lnTo>
                  <a:pt x="58" y="283"/>
                </a:lnTo>
                <a:lnTo>
                  <a:pt x="28" y="326"/>
                </a:lnTo>
                <a:lnTo>
                  <a:pt x="0" y="386"/>
                </a:lnTo>
                <a:lnTo>
                  <a:pt x="0" y="2894"/>
                </a:lnTo>
                <a:lnTo>
                  <a:pt x="28" y="2834"/>
                </a:lnTo>
                <a:lnTo>
                  <a:pt x="58" y="2792"/>
                </a:lnTo>
                <a:lnTo>
                  <a:pt x="91" y="2731"/>
                </a:lnTo>
                <a:lnTo>
                  <a:pt x="120" y="2671"/>
                </a:lnTo>
                <a:lnTo>
                  <a:pt x="150" y="2629"/>
                </a:lnTo>
                <a:lnTo>
                  <a:pt x="171" y="2568"/>
                </a:lnTo>
                <a:lnTo>
                  <a:pt x="191" y="2508"/>
                </a:lnTo>
                <a:lnTo>
                  <a:pt x="191" y="0"/>
                </a:lnTo>
                <a:close/>
              </a:path>
            </a:pathLst>
          </a:custGeom>
          <a:solidFill>
            <a:srgbClr val="603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48320" y="3559320"/>
            <a:ext cx="1203840" cy="1592640"/>
          </a:xfrm>
          <a:custGeom>
            <a:avLst/>
            <a:gdLst/>
            <a:ahLst/>
            <a:rect l="0" t="0" r="r" b="b"/>
            <a:pathLst>
              <a:path w="3344" h="4424">
                <a:moveTo>
                  <a:pt x="3344" y="0"/>
                </a:moveTo>
                <a:lnTo>
                  <a:pt x="3303" y="42"/>
                </a:lnTo>
                <a:lnTo>
                  <a:pt x="3274" y="102"/>
                </a:lnTo>
                <a:lnTo>
                  <a:pt x="3233" y="151"/>
                </a:lnTo>
                <a:lnTo>
                  <a:pt x="3192" y="205"/>
                </a:lnTo>
                <a:lnTo>
                  <a:pt x="3150" y="253"/>
                </a:lnTo>
                <a:lnTo>
                  <a:pt x="3101" y="314"/>
                </a:lnTo>
                <a:lnTo>
                  <a:pt x="3060" y="356"/>
                </a:lnTo>
                <a:lnTo>
                  <a:pt x="3010" y="416"/>
                </a:lnTo>
                <a:lnTo>
                  <a:pt x="2961" y="459"/>
                </a:lnTo>
                <a:lnTo>
                  <a:pt x="2911" y="507"/>
                </a:lnTo>
                <a:lnTo>
                  <a:pt x="2862" y="561"/>
                </a:lnTo>
                <a:lnTo>
                  <a:pt x="2800" y="610"/>
                </a:lnTo>
                <a:lnTo>
                  <a:pt x="2751" y="652"/>
                </a:lnTo>
                <a:lnTo>
                  <a:pt x="2689" y="694"/>
                </a:lnTo>
                <a:lnTo>
                  <a:pt x="2631" y="755"/>
                </a:lnTo>
                <a:lnTo>
                  <a:pt x="2569" y="803"/>
                </a:lnTo>
                <a:lnTo>
                  <a:pt x="2506" y="845"/>
                </a:lnTo>
                <a:lnTo>
                  <a:pt x="2449" y="888"/>
                </a:lnTo>
                <a:lnTo>
                  <a:pt x="2379" y="936"/>
                </a:lnTo>
                <a:lnTo>
                  <a:pt x="2309" y="978"/>
                </a:lnTo>
                <a:lnTo>
                  <a:pt x="2238" y="1021"/>
                </a:lnTo>
                <a:lnTo>
                  <a:pt x="2168" y="1069"/>
                </a:lnTo>
                <a:lnTo>
                  <a:pt x="2098" y="1112"/>
                </a:lnTo>
                <a:lnTo>
                  <a:pt x="2028" y="1142"/>
                </a:lnTo>
                <a:lnTo>
                  <a:pt x="1958" y="1185"/>
                </a:lnTo>
                <a:lnTo>
                  <a:pt x="1876" y="1233"/>
                </a:lnTo>
                <a:lnTo>
                  <a:pt x="1797" y="1275"/>
                </a:lnTo>
                <a:lnTo>
                  <a:pt x="1727" y="1306"/>
                </a:lnTo>
                <a:lnTo>
                  <a:pt x="1645" y="1348"/>
                </a:lnTo>
                <a:lnTo>
                  <a:pt x="1554" y="1378"/>
                </a:lnTo>
                <a:lnTo>
                  <a:pt x="1476" y="1426"/>
                </a:lnTo>
                <a:lnTo>
                  <a:pt x="1394" y="1457"/>
                </a:lnTo>
                <a:lnTo>
                  <a:pt x="1303" y="1499"/>
                </a:lnTo>
                <a:lnTo>
                  <a:pt x="1225" y="1529"/>
                </a:lnTo>
                <a:lnTo>
                  <a:pt x="1134" y="1559"/>
                </a:lnTo>
                <a:lnTo>
                  <a:pt x="1043" y="1602"/>
                </a:lnTo>
                <a:lnTo>
                  <a:pt x="953" y="1632"/>
                </a:lnTo>
                <a:lnTo>
                  <a:pt x="862" y="1662"/>
                </a:lnTo>
                <a:lnTo>
                  <a:pt x="770" y="1692"/>
                </a:lnTo>
                <a:lnTo>
                  <a:pt x="680" y="1723"/>
                </a:lnTo>
                <a:lnTo>
                  <a:pt x="581" y="1753"/>
                </a:lnTo>
                <a:lnTo>
                  <a:pt x="490" y="1783"/>
                </a:lnTo>
                <a:lnTo>
                  <a:pt x="391" y="1813"/>
                </a:lnTo>
                <a:lnTo>
                  <a:pt x="300" y="1837"/>
                </a:lnTo>
                <a:lnTo>
                  <a:pt x="197" y="1855"/>
                </a:lnTo>
                <a:lnTo>
                  <a:pt x="98" y="1886"/>
                </a:lnTo>
                <a:lnTo>
                  <a:pt x="0" y="1916"/>
                </a:lnTo>
                <a:lnTo>
                  <a:pt x="0" y="4424"/>
                </a:lnTo>
                <a:lnTo>
                  <a:pt x="98" y="4394"/>
                </a:lnTo>
                <a:lnTo>
                  <a:pt x="197" y="4364"/>
                </a:lnTo>
                <a:lnTo>
                  <a:pt x="300" y="4346"/>
                </a:lnTo>
                <a:lnTo>
                  <a:pt x="391" y="4316"/>
                </a:lnTo>
                <a:lnTo>
                  <a:pt x="490" y="4285"/>
                </a:lnTo>
                <a:lnTo>
                  <a:pt x="581" y="4261"/>
                </a:lnTo>
                <a:lnTo>
                  <a:pt x="680" y="4231"/>
                </a:lnTo>
                <a:lnTo>
                  <a:pt x="770" y="4201"/>
                </a:lnTo>
                <a:lnTo>
                  <a:pt x="862" y="4171"/>
                </a:lnTo>
                <a:lnTo>
                  <a:pt x="953" y="4140"/>
                </a:lnTo>
                <a:lnTo>
                  <a:pt x="1043" y="4110"/>
                </a:lnTo>
                <a:lnTo>
                  <a:pt x="1134" y="4068"/>
                </a:lnTo>
                <a:lnTo>
                  <a:pt x="1225" y="4038"/>
                </a:lnTo>
                <a:lnTo>
                  <a:pt x="1303" y="4008"/>
                </a:lnTo>
                <a:lnTo>
                  <a:pt x="1394" y="3959"/>
                </a:lnTo>
                <a:lnTo>
                  <a:pt x="1476" y="3935"/>
                </a:lnTo>
                <a:lnTo>
                  <a:pt x="1554" y="3887"/>
                </a:lnTo>
                <a:lnTo>
                  <a:pt x="1645" y="3856"/>
                </a:lnTo>
                <a:lnTo>
                  <a:pt x="1727" y="3814"/>
                </a:lnTo>
                <a:lnTo>
                  <a:pt x="1797" y="3784"/>
                </a:lnTo>
                <a:lnTo>
                  <a:pt x="1876" y="3742"/>
                </a:lnTo>
                <a:lnTo>
                  <a:pt x="1958" y="3693"/>
                </a:lnTo>
                <a:lnTo>
                  <a:pt x="2028" y="3651"/>
                </a:lnTo>
                <a:lnTo>
                  <a:pt x="2098" y="3621"/>
                </a:lnTo>
                <a:lnTo>
                  <a:pt x="2168" y="3579"/>
                </a:lnTo>
                <a:lnTo>
                  <a:pt x="2238" y="3530"/>
                </a:lnTo>
                <a:lnTo>
                  <a:pt x="2309" y="3488"/>
                </a:lnTo>
                <a:lnTo>
                  <a:pt x="2379" y="3446"/>
                </a:lnTo>
                <a:lnTo>
                  <a:pt x="2449" y="3397"/>
                </a:lnTo>
                <a:lnTo>
                  <a:pt x="2506" y="3355"/>
                </a:lnTo>
                <a:lnTo>
                  <a:pt x="2569" y="3306"/>
                </a:lnTo>
                <a:lnTo>
                  <a:pt x="2631" y="3263"/>
                </a:lnTo>
                <a:lnTo>
                  <a:pt x="2689" y="3203"/>
                </a:lnTo>
                <a:lnTo>
                  <a:pt x="2751" y="3161"/>
                </a:lnTo>
                <a:lnTo>
                  <a:pt x="2800" y="3118"/>
                </a:lnTo>
                <a:lnTo>
                  <a:pt x="2862" y="3070"/>
                </a:lnTo>
                <a:lnTo>
                  <a:pt x="2911" y="3010"/>
                </a:lnTo>
                <a:lnTo>
                  <a:pt x="2961" y="2967"/>
                </a:lnTo>
                <a:lnTo>
                  <a:pt x="3010" y="2925"/>
                </a:lnTo>
                <a:lnTo>
                  <a:pt x="3060" y="2865"/>
                </a:lnTo>
                <a:lnTo>
                  <a:pt x="3101" y="2816"/>
                </a:lnTo>
                <a:lnTo>
                  <a:pt x="3150" y="2762"/>
                </a:lnTo>
                <a:lnTo>
                  <a:pt x="3192" y="2713"/>
                </a:lnTo>
                <a:lnTo>
                  <a:pt x="3233" y="2653"/>
                </a:lnTo>
                <a:lnTo>
                  <a:pt x="3274" y="2611"/>
                </a:lnTo>
                <a:lnTo>
                  <a:pt x="3303" y="2550"/>
                </a:lnTo>
                <a:lnTo>
                  <a:pt x="3344" y="2508"/>
                </a:lnTo>
                <a:lnTo>
                  <a:pt x="3344" y="0"/>
                </a:lnTo>
                <a:close/>
              </a:path>
            </a:pathLst>
          </a:custGeom>
          <a:solidFill>
            <a:srgbClr val="203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22680" y="4249800"/>
            <a:ext cx="1926000" cy="1008360"/>
          </a:xfrm>
          <a:custGeom>
            <a:avLst/>
            <a:gdLst/>
            <a:ahLst/>
            <a:rect l="0" t="0" r="r" b="b"/>
            <a:pathLst>
              <a:path w="5350" h="2801">
                <a:moveTo>
                  <a:pt x="5350" y="0"/>
                </a:moveTo>
                <a:lnTo>
                  <a:pt x="5247" y="12"/>
                </a:lnTo>
                <a:lnTo>
                  <a:pt x="5148" y="42"/>
                </a:lnTo>
                <a:lnTo>
                  <a:pt x="5049" y="60"/>
                </a:lnTo>
                <a:lnTo>
                  <a:pt x="4946" y="72"/>
                </a:lnTo>
                <a:lnTo>
                  <a:pt x="4847" y="102"/>
                </a:lnTo>
                <a:lnTo>
                  <a:pt x="4736" y="114"/>
                </a:lnTo>
                <a:lnTo>
                  <a:pt x="4636" y="132"/>
                </a:lnTo>
                <a:lnTo>
                  <a:pt x="4525" y="144"/>
                </a:lnTo>
                <a:lnTo>
                  <a:pt x="4426" y="162"/>
                </a:lnTo>
                <a:lnTo>
                  <a:pt x="4315" y="175"/>
                </a:lnTo>
                <a:lnTo>
                  <a:pt x="4211" y="193"/>
                </a:lnTo>
                <a:lnTo>
                  <a:pt x="4104" y="205"/>
                </a:lnTo>
                <a:lnTo>
                  <a:pt x="3992" y="223"/>
                </a:lnTo>
                <a:lnTo>
                  <a:pt x="3880" y="235"/>
                </a:lnTo>
                <a:lnTo>
                  <a:pt x="3781" y="235"/>
                </a:lnTo>
                <a:lnTo>
                  <a:pt x="3670" y="247"/>
                </a:lnTo>
                <a:lnTo>
                  <a:pt x="3558" y="265"/>
                </a:lnTo>
                <a:lnTo>
                  <a:pt x="3447" y="265"/>
                </a:lnTo>
                <a:lnTo>
                  <a:pt x="3339" y="277"/>
                </a:lnTo>
                <a:lnTo>
                  <a:pt x="3228" y="277"/>
                </a:lnTo>
                <a:lnTo>
                  <a:pt x="3117" y="277"/>
                </a:lnTo>
                <a:lnTo>
                  <a:pt x="3005" y="277"/>
                </a:lnTo>
                <a:lnTo>
                  <a:pt x="2894" y="295"/>
                </a:lnTo>
                <a:lnTo>
                  <a:pt x="2786" y="295"/>
                </a:lnTo>
                <a:lnTo>
                  <a:pt x="2675" y="295"/>
                </a:lnTo>
                <a:lnTo>
                  <a:pt x="2564" y="295"/>
                </a:lnTo>
                <a:lnTo>
                  <a:pt x="2452" y="295"/>
                </a:lnTo>
                <a:lnTo>
                  <a:pt x="2341" y="277"/>
                </a:lnTo>
                <a:lnTo>
                  <a:pt x="2233" y="277"/>
                </a:lnTo>
                <a:lnTo>
                  <a:pt x="2122" y="277"/>
                </a:lnTo>
                <a:lnTo>
                  <a:pt x="2011" y="277"/>
                </a:lnTo>
                <a:lnTo>
                  <a:pt x="1911" y="265"/>
                </a:lnTo>
                <a:lnTo>
                  <a:pt x="1800" y="265"/>
                </a:lnTo>
                <a:lnTo>
                  <a:pt x="1689" y="247"/>
                </a:lnTo>
                <a:lnTo>
                  <a:pt x="1577" y="235"/>
                </a:lnTo>
                <a:lnTo>
                  <a:pt x="1470" y="235"/>
                </a:lnTo>
                <a:lnTo>
                  <a:pt x="1358" y="223"/>
                </a:lnTo>
                <a:lnTo>
                  <a:pt x="1254" y="205"/>
                </a:lnTo>
                <a:lnTo>
                  <a:pt x="1147" y="193"/>
                </a:lnTo>
                <a:lnTo>
                  <a:pt x="1035" y="175"/>
                </a:lnTo>
                <a:lnTo>
                  <a:pt x="932" y="162"/>
                </a:lnTo>
                <a:lnTo>
                  <a:pt x="825" y="144"/>
                </a:lnTo>
                <a:lnTo>
                  <a:pt x="722" y="132"/>
                </a:lnTo>
                <a:lnTo>
                  <a:pt x="614" y="114"/>
                </a:lnTo>
                <a:lnTo>
                  <a:pt x="511" y="102"/>
                </a:lnTo>
                <a:lnTo>
                  <a:pt x="412" y="72"/>
                </a:lnTo>
                <a:lnTo>
                  <a:pt x="301" y="60"/>
                </a:lnTo>
                <a:lnTo>
                  <a:pt x="202" y="42"/>
                </a:lnTo>
                <a:lnTo>
                  <a:pt x="99" y="12"/>
                </a:lnTo>
                <a:lnTo>
                  <a:pt x="0" y="0"/>
                </a:lnTo>
                <a:lnTo>
                  <a:pt x="0" y="2505"/>
                </a:lnTo>
                <a:lnTo>
                  <a:pt x="99" y="2517"/>
                </a:lnTo>
                <a:lnTo>
                  <a:pt x="202" y="2547"/>
                </a:lnTo>
                <a:lnTo>
                  <a:pt x="301" y="2559"/>
                </a:lnTo>
                <a:lnTo>
                  <a:pt x="412" y="2577"/>
                </a:lnTo>
                <a:lnTo>
                  <a:pt x="511" y="2608"/>
                </a:lnTo>
                <a:lnTo>
                  <a:pt x="614" y="2620"/>
                </a:lnTo>
                <a:lnTo>
                  <a:pt x="722" y="2638"/>
                </a:lnTo>
                <a:lnTo>
                  <a:pt x="825" y="2650"/>
                </a:lnTo>
                <a:lnTo>
                  <a:pt x="932" y="2668"/>
                </a:lnTo>
                <a:lnTo>
                  <a:pt x="1035" y="2680"/>
                </a:lnTo>
                <a:lnTo>
                  <a:pt x="1147" y="2692"/>
                </a:lnTo>
                <a:lnTo>
                  <a:pt x="1254" y="2710"/>
                </a:lnTo>
                <a:lnTo>
                  <a:pt x="1358" y="2722"/>
                </a:lnTo>
                <a:lnTo>
                  <a:pt x="1470" y="2740"/>
                </a:lnTo>
                <a:lnTo>
                  <a:pt x="1577" y="2740"/>
                </a:lnTo>
                <a:lnTo>
                  <a:pt x="1689" y="2752"/>
                </a:lnTo>
                <a:lnTo>
                  <a:pt x="1800" y="2770"/>
                </a:lnTo>
                <a:lnTo>
                  <a:pt x="1911" y="2770"/>
                </a:lnTo>
                <a:lnTo>
                  <a:pt x="2011" y="2783"/>
                </a:lnTo>
                <a:lnTo>
                  <a:pt x="2122" y="2783"/>
                </a:lnTo>
                <a:lnTo>
                  <a:pt x="2233" y="2783"/>
                </a:lnTo>
                <a:lnTo>
                  <a:pt x="2341" y="2783"/>
                </a:lnTo>
                <a:lnTo>
                  <a:pt x="2452" y="2801"/>
                </a:lnTo>
                <a:lnTo>
                  <a:pt x="2564" y="2801"/>
                </a:lnTo>
                <a:lnTo>
                  <a:pt x="2675" y="2801"/>
                </a:lnTo>
                <a:lnTo>
                  <a:pt x="2786" y="2801"/>
                </a:lnTo>
                <a:lnTo>
                  <a:pt x="2894" y="2801"/>
                </a:lnTo>
                <a:lnTo>
                  <a:pt x="3005" y="2783"/>
                </a:lnTo>
                <a:lnTo>
                  <a:pt x="3117" y="2783"/>
                </a:lnTo>
                <a:lnTo>
                  <a:pt x="3228" y="2783"/>
                </a:lnTo>
                <a:lnTo>
                  <a:pt x="3339" y="2783"/>
                </a:lnTo>
                <a:lnTo>
                  <a:pt x="3447" y="2770"/>
                </a:lnTo>
                <a:lnTo>
                  <a:pt x="3558" y="2770"/>
                </a:lnTo>
                <a:lnTo>
                  <a:pt x="3670" y="2752"/>
                </a:lnTo>
                <a:lnTo>
                  <a:pt x="3781" y="2740"/>
                </a:lnTo>
                <a:lnTo>
                  <a:pt x="3880" y="2740"/>
                </a:lnTo>
                <a:lnTo>
                  <a:pt x="3992" y="2722"/>
                </a:lnTo>
                <a:lnTo>
                  <a:pt x="4104" y="2710"/>
                </a:lnTo>
                <a:lnTo>
                  <a:pt x="4211" y="2692"/>
                </a:lnTo>
                <a:lnTo>
                  <a:pt x="4315" y="2680"/>
                </a:lnTo>
                <a:lnTo>
                  <a:pt x="4426" y="2668"/>
                </a:lnTo>
                <a:lnTo>
                  <a:pt x="4525" y="2650"/>
                </a:lnTo>
                <a:lnTo>
                  <a:pt x="4636" y="2638"/>
                </a:lnTo>
                <a:lnTo>
                  <a:pt x="4736" y="2620"/>
                </a:lnTo>
                <a:lnTo>
                  <a:pt x="4847" y="2608"/>
                </a:lnTo>
                <a:lnTo>
                  <a:pt x="4946" y="2577"/>
                </a:lnTo>
                <a:lnTo>
                  <a:pt x="5049" y="2559"/>
                </a:lnTo>
                <a:lnTo>
                  <a:pt x="5148" y="2547"/>
                </a:lnTo>
                <a:lnTo>
                  <a:pt x="5247" y="2517"/>
                </a:lnTo>
                <a:lnTo>
                  <a:pt x="5350" y="2505"/>
                </a:lnTo>
                <a:lnTo>
                  <a:pt x="5350" y="0"/>
                </a:lnTo>
                <a:close/>
              </a:path>
            </a:pathLst>
          </a:custGeom>
          <a:solidFill>
            <a:srgbClr val="b5006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86400" y="2060640"/>
            <a:ext cx="2076840" cy="1143360"/>
          </a:xfrm>
          <a:custGeom>
            <a:avLst/>
            <a:gdLst/>
            <a:ahLst/>
            <a:rect l="0" t="0" r="r" b="b"/>
            <a:pathLst>
              <a:path w="5769" h="3176">
                <a:moveTo>
                  <a:pt x="552" y="0"/>
                </a:moveTo>
                <a:lnTo>
                  <a:pt x="663" y="0"/>
                </a:lnTo>
                <a:lnTo>
                  <a:pt x="770" y="0"/>
                </a:lnTo>
                <a:lnTo>
                  <a:pt x="881" y="18"/>
                </a:lnTo>
                <a:lnTo>
                  <a:pt x="992" y="18"/>
                </a:lnTo>
                <a:lnTo>
                  <a:pt x="1104" y="30"/>
                </a:lnTo>
                <a:lnTo>
                  <a:pt x="1203" y="48"/>
                </a:lnTo>
                <a:lnTo>
                  <a:pt x="1314" y="48"/>
                </a:lnTo>
                <a:lnTo>
                  <a:pt x="1425" y="60"/>
                </a:lnTo>
                <a:lnTo>
                  <a:pt x="1533" y="78"/>
                </a:lnTo>
                <a:lnTo>
                  <a:pt x="1636" y="90"/>
                </a:lnTo>
                <a:lnTo>
                  <a:pt x="1747" y="108"/>
                </a:lnTo>
                <a:lnTo>
                  <a:pt x="1846" y="120"/>
                </a:lnTo>
                <a:lnTo>
                  <a:pt x="1957" y="132"/>
                </a:lnTo>
                <a:lnTo>
                  <a:pt x="2056" y="150"/>
                </a:lnTo>
                <a:lnTo>
                  <a:pt x="2168" y="181"/>
                </a:lnTo>
                <a:lnTo>
                  <a:pt x="2266" y="193"/>
                </a:lnTo>
                <a:lnTo>
                  <a:pt x="2369" y="211"/>
                </a:lnTo>
                <a:lnTo>
                  <a:pt x="2468" y="241"/>
                </a:lnTo>
                <a:lnTo>
                  <a:pt x="2567" y="253"/>
                </a:lnTo>
                <a:lnTo>
                  <a:pt x="2670" y="283"/>
                </a:lnTo>
                <a:lnTo>
                  <a:pt x="2769" y="313"/>
                </a:lnTo>
                <a:lnTo>
                  <a:pt x="2868" y="325"/>
                </a:lnTo>
                <a:lnTo>
                  <a:pt x="2971" y="356"/>
                </a:lnTo>
                <a:lnTo>
                  <a:pt x="3062" y="386"/>
                </a:lnTo>
                <a:lnTo>
                  <a:pt x="3160" y="416"/>
                </a:lnTo>
                <a:lnTo>
                  <a:pt x="3251" y="446"/>
                </a:lnTo>
                <a:lnTo>
                  <a:pt x="3350" y="458"/>
                </a:lnTo>
                <a:lnTo>
                  <a:pt x="3441" y="507"/>
                </a:lnTo>
                <a:lnTo>
                  <a:pt x="3531" y="537"/>
                </a:lnTo>
                <a:lnTo>
                  <a:pt x="3622" y="567"/>
                </a:lnTo>
                <a:lnTo>
                  <a:pt x="3713" y="597"/>
                </a:lnTo>
                <a:lnTo>
                  <a:pt x="3803" y="621"/>
                </a:lnTo>
                <a:lnTo>
                  <a:pt x="3894" y="651"/>
                </a:lnTo>
                <a:lnTo>
                  <a:pt x="3972" y="700"/>
                </a:lnTo>
                <a:lnTo>
                  <a:pt x="4063" y="730"/>
                </a:lnTo>
                <a:lnTo>
                  <a:pt x="4145" y="772"/>
                </a:lnTo>
                <a:lnTo>
                  <a:pt x="4223" y="802"/>
                </a:lnTo>
                <a:lnTo>
                  <a:pt x="4314" y="845"/>
                </a:lnTo>
                <a:lnTo>
                  <a:pt x="4397" y="875"/>
                </a:lnTo>
                <a:lnTo>
                  <a:pt x="4468" y="923"/>
                </a:lnTo>
                <a:lnTo>
                  <a:pt x="4546" y="965"/>
                </a:lnTo>
                <a:lnTo>
                  <a:pt x="4628" y="995"/>
                </a:lnTo>
                <a:lnTo>
                  <a:pt x="4698" y="1038"/>
                </a:lnTo>
                <a:lnTo>
                  <a:pt x="4768" y="1086"/>
                </a:lnTo>
                <a:lnTo>
                  <a:pt x="4838" y="1128"/>
                </a:lnTo>
                <a:lnTo>
                  <a:pt x="4908" y="1171"/>
                </a:lnTo>
                <a:lnTo>
                  <a:pt x="4978" y="1219"/>
                </a:lnTo>
                <a:lnTo>
                  <a:pt x="5048" y="1261"/>
                </a:lnTo>
                <a:lnTo>
                  <a:pt x="5118" y="1303"/>
                </a:lnTo>
                <a:lnTo>
                  <a:pt x="5176" y="1352"/>
                </a:lnTo>
                <a:lnTo>
                  <a:pt x="5238" y="1394"/>
                </a:lnTo>
                <a:lnTo>
                  <a:pt x="5300" y="1436"/>
                </a:lnTo>
                <a:lnTo>
                  <a:pt x="5357" y="1484"/>
                </a:lnTo>
                <a:lnTo>
                  <a:pt x="5419" y="1527"/>
                </a:lnTo>
                <a:lnTo>
                  <a:pt x="5469" y="1575"/>
                </a:lnTo>
                <a:lnTo>
                  <a:pt x="5530" y="1630"/>
                </a:lnTo>
                <a:lnTo>
                  <a:pt x="5580" y="1679"/>
                </a:lnTo>
                <a:lnTo>
                  <a:pt x="5629" y="1721"/>
                </a:lnTo>
                <a:lnTo>
                  <a:pt x="5679" y="1781"/>
                </a:lnTo>
                <a:lnTo>
                  <a:pt x="5728" y="1823"/>
                </a:lnTo>
                <a:lnTo>
                  <a:pt x="5769" y="1884"/>
                </a:lnTo>
                <a:lnTo>
                  <a:pt x="0" y="3176"/>
                </a:lnTo>
                <a:lnTo>
                  <a:pt x="552" y="0"/>
                </a:lnTo>
                <a:close/>
              </a:path>
            </a:pathLst>
          </a:custGeom>
          <a:solidFill>
            <a:srgbClr val="ffc08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86400" y="2739960"/>
            <a:ext cx="2277000" cy="681480"/>
          </a:xfrm>
          <a:custGeom>
            <a:avLst/>
            <a:gdLst/>
            <a:ahLst/>
            <a:rect l="0" t="0" r="r" b="b"/>
            <a:pathLst>
              <a:path w="6325" h="1893">
                <a:moveTo>
                  <a:pt x="5773" y="0"/>
                </a:moveTo>
                <a:lnTo>
                  <a:pt x="5822" y="42"/>
                </a:lnTo>
                <a:lnTo>
                  <a:pt x="5863" y="102"/>
                </a:lnTo>
                <a:lnTo>
                  <a:pt x="5905" y="150"/>
                </a:lnTo>
                <a:lnTo>
                  <a:pt x="5946" y="204"/>
                </a:lnTo>
                <a:lnTo>
                  <a:pt x="5975" y="253"/>
                </a:lnTo>
                <a:lnTo>
                  <a:pt x="6016" y="313"/>
                </a:lnTo>
                <a:lnTo>
                  <a:pt x="6045" y="355"/>
                </a:lnTo>
                <a:lnTo>
                  <a:pt x="6074" y="415"/>
                </a:lnTo>
                <a:lnTo>
                  <a:pt x="6107" y="457"/>
                </a:lnTo>
                <a:lnTo>
                  <a:pt x="6135" y="519"/>
                </a:lnTo>
                <a:lnTo>
                  <a:pt x="6164" y="579"/>
                </a:lnTo>
                <a:lnTo>
                  <a:pt x="6185" y="621"/>
                </a:lnTo>
                <a:lnTo>
                  <a:pt x="6205" y="681"/>
                </a:lnTo>
                <a:lnTo>
                  <a:pt x="6226" y="742"/>
                </a:lnTo>
                <a:lnTo>
                  <a:pt x="6247" y="802"/>
                </a:lnTo>
                <a:lnTo>
                  <a:pt x="6263" y="844"/>
                </a:lnTo>
                <a:lnTo>
                  <a:pt x="6276" y="904"/>
                </a:lnTo>
                <a:lnTo>
                  <a:pt x="6284" y="964"/>
                </a:lnTo>
                <a:lnTo>
                  <a:pt x="6296" y="1007"/>
                </a:lnTo>
                <a:lnTo>
                  <a:pt x="6304" y="1067"/>
                </a:lnTo>
                <a:lnTo>
                  <a:pt x="6317" y="1127"/>
                </a:lnTo>
                <a:lnTo>
                  <a:pt x="6317" y="1181"/>
                </a:lnTo>
                <a:lnTo>
                  <a:pt x="6325" y="1230"/>
                </a:lnTo>
                <a:lnTo>
                  <a:pt x="6325" y="1290"/>
                </a:lnTo>
                <a:lnTo>
                  <a:pt x="6325" y="1344"/>
                </a:lnTo>
                <a:lnTo>
                  <a:pt x="6317" y="1404"/>
                </a:lnTo>
                <a:lnTo>
                  <a:pt x="6317" y="1466"/>
                </a:lnTo>
                <a:lnTo>
                  <a:pt x="6304" y="1508"/>
                </a:lnTo>
                <a:lnTo>
                  <a:pt x="6296" y="1568"/>
                </a:lnTo>
                <a:lnTo>
                  <a:pt x="6284" y="1628"/>
                </a:lnTo>
                <a:lnTo>
                  <a:pt x="6276" y="1688"/>
                </a:lnTo>
                <a:lnTo>
                  <a:pt x="6263" y="1731"/>
                </a:lnTo>
                <a:lnTo>
                  <a:pt x="6247" y="1791"/>
                </a:lnTo>
                <a:lnTo>
                  <a:pt x="6226" y="1851"/>
                </a:lnTo>
                <a:lnTo>
                  <a:pt x="6205" y="1893"/>
                </a:lnTo>
                <a:lnTo>
                  <a:pt x="0" y="1290"/>
                </a:lnTo>
                <a:lnTo>
                  <a:pt x="5773" y="0"/>
                </a:lnTo>
                <a:close/>
              </a:path>
            </a:pathLst>
          </a:custGeom>
          <a:solidFill>
            <a:srgbClr val="10d0c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86400" y="3203640"/>
            <a:ext cx="2165760" cy="1046520"/>
          </a:xfrm>
          <a:custGeom>
            <a:avLst/>
            <a:gdLst/>
            <a:ahLst/>
            <a:rect l="0" t="0" r="r" b="b"/>
            <a:pathLst>
              <a:path w="6016" h="2907">
                <a:moveTo>
                  <a:pt x="6016" y="990"/>
                </a:moveTo>
                <a:lnTo>
                  <a:pt x="5975" y="1033"/>
                </a:lnTo>
                <a:lnTo>
                  <a:pt x="5946" y="1093"/>
                </a:lnTo>
                <a:lnTo>
                  <a:pt x="5905" y="1141"/>
                </a:lnTo>
                <a:lnTo>
                  <a:pt x="5864" y="1196"/>
                </a:lnTo>
                <a:lnTo>
                  <a:pt x="5823" y="1244"/>
                </a:lnTo>
                <a:lnTo>
                  <a:pt x="5773" y="1304"/>
                </a:lnTo>
                <a:lnTo>
                  <a:pt x="5732" y="1347"/>
                </a:lnTo>
                <a:lnTo>
                  <a:pt x="5682" y="1407"/>
                </a:lnTo>
                <a:lnTo>
                  <a:pt x="5633" y="1449"/>
                </a:lnTo>
                <a:lnTo>
                  <a:pt x="5583" y="1499"/>
                </a:lnTo>
                <a:lnTo>
                  <a:pt x="5534" y="1553"/>
                </a:lnTo>
                <a:lnTo>
                  <a:pt x="5472" y="1602"/>
                </a:lnTo>
                <a:lnTo>
                  <a:pt x="5423" y="1644"/>
                </a:lnTo>
                <a:lnTo>
                  <a:pt x="5361" y="1686"/>
                </a:lnTo>
                <a:lnTo>
                  <a:pt x="5303" y="1747"/>
                </a:lnTo>
                <a:lnTo>
                  <a:pt x="5241" y="1795"/>
                </a:lnTo>
                <a:lnTo>
                  <a:pt x="5179" y="1837"/>
                </a:lnTo>
                <a:lnTo>
                  <a:pt x="5122" y="1879"/>
                </a:lnTo>
                <a:lnTo>
                  <a:pt x="5052" y="1928"/>
                </a:lnTo>
                <a:lnTo>
                  <a:pt x="4982" y="1970"/>
                </a:lnTo>
                <a:lnTo>
                  <a:pt x="4912" y="2012"/>
                </a:lnTo>
                <a:lnTo>
                  <a:pt x="4841" y="2061"/>
                </a:lnTo>
                <a:lnTo>
                  <a:pt x="4771" y="2103"/>
                </a:lnTo>
                <a:lnTo>
                  <a:pt x="4701" y="2133"/>
                </a:lnTo>
                <a:lnTo>
                  <a:pt x="4631" y="2175"/>
                </a:lnTo>
                <a:lnTo>
                  <a:pt x="4549" y="2224"/>
                </a:lnTo>
                <a:lnTo>
                  <a:pt x="4469" y="2266"/>
                </a:lnTo>
                <a:lnTo>
                  <a:pt x="4399" y="2296"/>
                </a:lnTo>
                <a:lnTo>
                  <a:pt x="4317" y="2339"/>
                </a:lnTo>
                <a:lnTo>
                  <a:pt x="4226" y="2369"/>
                </a:lnTo>
                <a:lnTo>
                  <a:pt x="4148" y="2417"/>
                </a:lnTo>
                <a:lnTo>
                  <a:pt x="4065" y="2447"/>
                </a:lnTo>
                <a:lnTo>
                  <a:pt x="3975" y="2490"/>
                </a:lnTo>
                <a:lnTo>
                  <a:pt x="3896" y="2520"/>
                </a:lnTo>
                <a:lnTo>
                  <a:pt x="3806" y="2550"/>
                </a:lnTo>
                <a:lnTo>
                  <a:pt x="3715" y="2592"/>
                </a:lnTo>
                <a:lnTo>
                  <a:pt x="3624" y="2623"/>
                </a:lnTo>
                <a:lnTo>
                  <a:pt x="3534" y="2653"/>
                </a:lnTo>
                <a:lnTo>
                  <a:pt x="3443" y="2683"/>
                </a:lnTo>
                <a:lnTo>
                  <a:pt x="3352" y="2713"/>
                </a:lnTo>
                <a:lnTo>
                  <a:pt x="3253" y="2743"/>
                </a:lnTo>
                <a:lnTo>
                  <a:pt x="3163" y="2774"/>
                </a:lnTo>
                <a:lnTo>
                  <a:pt x="3064" y="2804"/>
                </a:lnTo>
                <a:lnTo>
                  <a:pt x="2973" y="2828"/>
                </a:lnTo>
                <a:lnTo>
                  <a:pt x="2870" y="2846"/>
                </a:lnTo>
                <a:lnTo>
                  <a:pt x="2771" y="2876"/>
                </a:lnTo>
                <a:lnTo>
                  <a:pt x="2672" y="2907"/>
                </a:lnTo>
                <a:lnTo>
                  <a:pt x="0" y="0"/>
                </a:lnTo>
                <a:lnTo>
                  <a:pt x="6016" y="990"/>
                </a:lnTo>
                <a:close/>
              </a:path>
            </a:pathLst>
          </a:custGeom>
          <a:solidFill>
            <a:srgbClr val="3060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22680" y="3203640"/>
            <a:ext cx="1926000" cy="1152720"/>
          </a:xfrm>
          <a:custGeom>
            <a:avLst/>
            <a:gdLst/>
            <a:ahLst/>
            <a:rect l="0" t="0" r="r" b="b"/>
            <a:pathLst>
              <a:path w="5350" h="3202">
                <a:moveTo>
                  <a:pt x="5350" y="2906"/>
                </a:moveTo>
                <a:lnTo>
                  <a:pt x="5247" y="2918"/>
                </a:lnTo>
                <a:lnTo>
                  <a:pt x="5148" y="2948"/>
                </a:lnTo>
                <a:lnTo>
                  <a:pt x="5049" y="2966"/>
                </a:lnTo>
                <a:lnTo>
                  <a:pt x="4946" y="2978"/>
                </a:lnTo>
                <a:lnTo>
                  <a:pt x="4847" y="3009"/>
                </a:lnTo>
                <a:lnTo>
                  <a:pt x="4736" y="3021"/>
                </a:lnTo>
                <a:lnTo>
                  <a:pt x="4636" y="3039"/>
                </a:lnTo>
                <a:lnTo>
                  <a:pt x="4525" y="3051"/>
                </a:lnTo>
                <a:lnTo>
                  <a:pt x="4426" y="3069"/>
                </a:lnTo>
                <a:lnTo>
                  <a:pt x="4315" y="3081"/>
                </a:lnTo>
                <a:lnTo>
                  <a:pt x="4211" y="3099"/>
                </a:lnTo>
                <a:lnTo>
                  <a:pt x="4104" y="3111"/>
                </a:lnTo>
                <a:lnTo>
                  <a:pt x="3992" y="3129"/>
                </a:lnTo>
                <a:lnTo>
                  <a:pt x="3880" y="3142"/>
                </a:lnTo>
                <a:lnTo>
                  <a:pt x="3781" y="3142"/>
                </a:lnTo>
                <a:lnTo>
                  <a:pt x="3670" y="3154"/>
                </a:lnTo>
                <a:lnTo>
                  <a:pt x="3558" y="3172"/>
                </a:lnTo>
                <a:lnTo>
                  <a:pt x="3447" y="3172"/>
                </a:lnTo>
                <a:lnTo>
                  <a:pt x="3339" y="3184"/>
                </a:lnTo>
                <a:lnTo>
                  <a:pt x="3228" y="3184"/>
                </a:lnTo>
                <a:lnTo>
                  <a:pt x="3117" y="3184"/>
                </a:lnTo>
                <a:lnTo>
                  <a:pt x="3005" y="3184"/>
                </a:lnTo>
                <a:lnTo>
                  <a:pt x="2894" y="3202"/>
                </a:lnTo>
                <a:lnTo>
                  <a:pt x="2786" y="3202"/>
                </a:lnTo>
                <a:lnTo>
                  <a:pt x="2675" y="3202"/>
                </a:lnTo>
                <a:lnTo>
                  <a:pt x="2564" y="3202"/>
                </a:lnTo>
                <a:lnTo>
                  <a:pt x="2452" y="3202"/>
                </a:lnTo>
                <a:lnTo>
                  <a:pt x="2341" y="3184"/>
                </a:lnTo>
                <a:lnTo>
                  <a:pt x="2233" y="3184"/>
                </a:lnTo>
                <a:lnTo>
                  <a:pt x="2122" y="3184"/>
                </a:lnTo>
                <a:lnTo>
                  <a:pt x="2011" y="3184"/>
                </a:lnTo>
                <a:lnTo>
                  <a:pt x="1911" y="3172"/>
                </a:lnTo>
                <a:lnTo>
                  <a:pt x="1800" y="3172"/>
                </a:lnTo>
                <a:lnTo>
                  <a:pt x="1689" y="3154"/>
                </a:lnTo>
                <a:lnTo>
                  <a:pt x="1577" y="3142"/>
                </a:lnTo>
                <a:lnTo>
                  <a:pt x="1470" y="3142"/>
                </a:lnTo>
                <a:lnTo>
                  <a:pt x="1358" y="3129"/>
                </a:lnTo>
                <a:lnTo>
                  <a:pt x="1254" y="3111"/>
                </a:lnTo>
                <a:lnTo>
                  <a:pt x="1147" y="3099"/>
                </a:lnTo>
                <a:lnTo>
                  <a:pt x="1035" y="3081"/>
                </a:lnTo>
                <a:lnTo>
                  <a:pt x="932" y="3069"/>
                </a:lnTo>
                <a:lnTo>
                  <a:pt x="825" y="3051"/>
                </a:lnTo>
                <a:lnTo>
                  <a:pt x="722" y="3039"/>
                </a:lnTo>
                <a:lnTo>
                  <a:pt x="614" y="3021"/>
                </a:lnTo>
                <a:lnTo>
                  <a:pt x="511" y="3009"/>
                </a:lnTo>
                <a:lnTo>
                  <a:pt x="412" y="2978"/>
                </a:lnTo>
                <a:lnTo>
                  <a:pt x="301" y="2966"/>
                </a:lnTo>
                <a:lnTo>
                  <a:pt x="202" y="2948"/>
                </a:lnTo>
                <a:lnTo>
                  <a:pt x="99" y="2918"/>
                </a:lnTo>
                <a:lnTo>
                  <a:pt x="0" y="2906"/>
                </a:lnTo>
                <a:lnTo>
                  <a:pt x="2675" y="0"/>
                </a:lnTo>
                <a:lnTo>
                  <a:pt x="5350" y="2906"/>
                </a:lnTo>
                <a:close/>
              </a:path>
            </a:pathLst>
          </a:custGeom>
          <a:solidFill>
            <a:srgbClr val="f95ab7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309760" y="2057400"/>
            <a:ext cx="2475360" cy="2192760"/>
          </a:xfrm>
          <a:custGeom>
            <a:avLst/>
            <a:gdLst/>
            <a:ahLst/>
            <a:rect l="0" t="0" r="r" b="b"/>
            <a:pathLst>
              <a:path w="6876" h="6091">
                <a:moveTo>
                  <a:pt x="3648" y="6091"/>
                </a:moveTo>
                <a:lnTo>
                  <a:pt x="3549" y="6061"/>
                </a:lnTo>
                <a:lnTo>
                  <a:pt x="3446" y="6031"/>
                </a:lnTo>
                <a:lnTo>
                  <a:pt x="3355" y="6013"/>
                </a:lnTo>
                <a:lnTo>
                  <a:pt x="3256" y="5989"/>
                </a:lnTo>
                <a:lnTo>
                  <a:pt x="3157" y="5959"/>
                </a:lnTo>
                <a:lnTo>
                  <a:pt x="3066" y="5928"/>
                </a:lnTo>
                <a:lnTo>
                  <a:pt x="2976" y="5898"/>
                </a:lnTo>
                <a:lnTo>
                  <a:pt x="2873" y="5868"/>
                </a:lnTo>
                <a:lnTo>
                  <a:pt x="2786" y="5838"/>
                </a:lnTo>
                <a:lnTo>
                  <a:pt x="2695" y="5808"/>
                </a:lnTo>
                <a:lnTo>
                  <a:pt x="2604" y="5777"/>
                </a:lnTo>
                <a:lnTo>
                  <a:pt x="2514" y="5735"/>
                </a:lnTo>
                <a:lnTo>
                  <a:pt x="2431" y="5705"/>
                </a:lnTo>
                <a:lnTo>
                  <a:pt x="2340" y="5675"/>
                </a:lnTo>
                <a:lnTo>
                  <a:pt x="2262" y="5633"/>
                </a:lnTo>
                <a:lnTo>
                  <a:pt x="2171" y="5602"/>
                </a:lnTo>
                <a:lnTo>
                  <a:pt x="2089" y="5554"/>
                </a:lnTo>
                <a:lnTo>
                  <a:pt x="2010" y="5524"/>
                </a:lnTo>
                <a:lnTo>
                  <a:pt x="1928" y="5482"/>
                </a:lnTo>
                <a:lnTo>
                  <a:pt x="1849" y="5452"/>
                </a:lnTo>
                <a:lnTo>
                  <a:pt x="1771" y="5409"/>
                </a:lnTo>
                <a:lnTo>
                  <a:pt x="1695" y="5361"/>
                </a:lnTo>
                <a:lnTo>
                  <a:pt x="1617" y="5319"/>
                </a:lnTo>
                <a:lnTo>
                  <a:pt x="1547" y="5289"/>
                </a:lnTo>
                <a:lnTo>
                  <a:pt x="1477" y="5246"/>
                </a:lnTo>
                <a:lnTo>
                  <a:pt x="1407" y="5198"/>
                </a:lnTo>
                <a:lnTo>
                  <a:pt x="1336" y="5156"/>
                </a:lnTo>
                <a:lnTo>
                  <a:pt x="1275" y="5114"/>
                </a:lnTo>
                <a:lnTo>
                  <a:pt x="1204" y="5065"/>
                </a:lnTo>
                <a:lnTo>
                  <a:pt x="1147" y="5023"/>
                </a:lnTo>
                <a:lnTo>
                  <a:pt x="1072" y="4981"/>
                </a:lnTo>
                <a:lnTo>
                  <a:pt x="1015" y="4933"/>
                </a:lnTo>
                <a:lnTo>
                  <a:pt x="953" y="4872"/>
                </a:lnTo>
                <a:lnTo>
                  <a:pt x="903" y="4830"/>
                </a:lnTo>
                <a:lnTo>
                  <a:pt x="841" y="4788"/>
                </a:lnTo>
                <a:lnTo>
                  <a:pt x="792" y="4739"/>
                </a:lnTo>
                <a:lnTo>
                  <a:pt x="734" y="4685"/>
                </a:lnTo>
                <a:lnTo>
                  <a:pt x="685" y="4637"/>
                </a:lnTo>
                <a:lnTo>
                  <a:pt x="631" y="4595"/>
                </a:lnTo>
                <a:lnTo>
                  <a:pt x="594" y="4533"/>
                </a:lnTo>
                <a:lnTo>
                  <a:pt x="540" y="4491"/>
                </a:lnTo>
                <a:lnTo>
                  <a:pt x="503" y="4431"/>
                </a:lnTo>
                <a:lnTo>
                  <a:pt x="462" y="4382"/>
                </a:lnTo>
                <a:lnTo>
                  <a:pt x="420" y="4328"/>
                </a:lnTo>
                <a:lnTo>
                  <a:pt x="379" y="4280"/>
                </a:lnTo>
                <a:lnTo>
                  <a:pt x="342" y="4219"/>
                </a:lnTo>
                <a:lnTo>
                  <a:pt x="309" y="4177"/>
                </a:lnTo>
                <a:lnTo>
                  <a:pt x="272" y="4117"/>
                </a:lnTo>
                <a:lnTo>
                  <a:pt x="239" y="4074"/>
                </a:lnTo>
                <a:lnTo>
                  <a:pt x="210" y="4014"/>
                </a:lnTo>
                <a:lnTo>
                  <a:pt x="181" y="3954"/>
                </a:lnTo>
                <a:lnTo>
                  <a:pt x="160" y="3912"/>
                </a:lnTo>
                <a:lnTo>
                  <a:pt x="140" y="3851"/>
                </a:lnTo>
                <a:lnTo>
                  <a:pt x="111" y="3791"/>
                </a:lnTo>
                <a:lnTo>
                  <a:pt x="90" y="3749"/>
                </a:lnTo>
                <a:lnTo>
                  <a:pt x="70" y="3688"/>
                </a:lnTo>
                <a:lnTo>
                  <a:pt x="61" y="3628"/>
                </a:lnTo>
                <a:lnTo>
                  <a:pt x="41" y="3586"/>
                </a:lnTo>
                <a:lnTo>
                  <a:pt x="28" y="3525"/>
                </a:lnTo>
                <a:lnTo>
                  <a:pt x="20" y="3465"/>
                </a:lnTo>
                <a:lnTo>
                  <a:pt x="8" y="3405"/>
                </a:lnTo>
                <a:lnTo>
                  <a:pt x="8" y="3362"/>
                </a:lnTo>
                <a:lnTo>
                  <a:pt x="0" y="3302"/>
                </a:lnTo>
                <a:lnTo>
                  <a:pt x="0" y="3242"/>
                </a:lnTo>
                <a:lnTo>
                  <a:pt x="0" y="3187"/>
                </a:lnTo>
                <a:lnTo>
                  <a:pt x="0" y="3127"/>
                </a:lnTo>
                <a:lnTo>
                  <a:pt x="0" y="3079"/>
                </a:lnTo>
                <a:lnTo>
                  <a:pt x="8" y="3024"/>
                </a:lnTo>
                <a:lnTo>
                  <a:pt x="8" y="2964"/>
                </a:lnTo>
                <a:lnTo>
                  <a:pt x="20" y="2904"/>
                </a:lnTo>
                <a:lnTo>
                  <a:pt x="28" y="2861"/>
                </a:lnTo>
                <a:lnTo>
                  <a:pt x="41" y="2801"/>
                </a:lnTo>
                <a:lnTo>
                  <a:pt x="61" y="2741"/>
                </a:lnTo>
                <a:lnTo>
                  <a:pt x="70" y="2698"/>
                </a:lnTo>
                <a:lnTo>
                  <a:pt x="90" y="2638"/>
                </a:lnTo>
                <a:lnTo>
                  <a:pt x="111" y="2578"/>
                </a:lnTo>
                <a:lnTo>
                  <a:pt x="140" y="2517"/>
                </a:lnTo>
                <a:lnTo>
                  <a:pt x="160" y="2475"/>
                </a:lnTo>
                <a:lnTo>
                  <a:pt x="181" y="2415"/>
                </a:lnTo>
                <a:lnTo>
                  <a:pt x="210" y="2354"/>
                </a:lnTo>
                <a:lnTo>
                  <a:pt x="239" y="2312"/>
                </a:lnTo>
                <a:lnTo>
                  <a:pt x="272" y="2252"/>
                </a:lnTo>
                <a:lnTo>
                  <a:pt x="309" y="2209"/>
                </a:lnTo>
                <a:lnTo>
                  <a:pt x="342" y="2149"/>
                </a:lnTo>
                <a:lnTo>
                  <a:pt x="379" y="2101"/>
                </a:lnTo>
                <a:lnTo>
                  <a:pt x="420" y="2047"/>
                </a:lnTo>
                <a:lnTo>
                  <a:pt x="462" y="1998"/>
                </a:lnTo>
                <a:lnTo>
                  <a:pt x="503" y="1938"/>
                </a:lnTo>
                <a:lnTo>
                  <a:pt x="540" y="1896"/>
                </a:lnTo>
                <a:lnTo>
                  <a:pt x="594" y="1835"/>
                </a:lnTo>
                <a:lnTo>
                  <a:pt x="631" y="1793"/>
                </a:lnTo>
                <a:lnTo>
                  <a:pt x="685" y="1733"/>
                </a:lnTo>
                <a:lnTo>
                  <a:pt x="734" y="1690"/>
                </a:lnTo>
                <a:lnTo>
                  <a:pt x="792" y="1642"/>
                </a:lnTo>
                <a:lnTo>
                  <a:pt x="841" y="1588"/>
                </a:lnTo>
                <a:lnTo>
                  <a:pt x="903" y="1540"/>
                </a:lnTo>
                <a:lnTo>
                  <a:pt x="953" y="1496"/>
                </a:lnTo>
                <a:lnTo>
                  <a:pt x="1015" y="1448"/>
                </a:lnTo>
                <a:lnTo>
                  <a:pt x="1072" y="1406"/>
                </a:lnTo>
                <a:lnTo>
                  <a:pt x="1147" y="1364"/>
                </a:lnTo>
                <a:lnTo>
                  <a:pt x="1204" y="1315"/>
                </a:lnTo>
                <a:lnTo>
                  <a:pt x="1275" y="1273"/>
                </a:lnTo>
                <a:lnTo>
                  <a:pt x="1336" y="1231"/>
                </a:lnTo>
                <a:lnTo>
                  <a:pt x="1407" y="1182"/>
                </a:lnTo>
                <a:lnTo>
                  <a:pt x="1477" y="1140"/>
                </a:lnTo>
                <a:lnTo>
                  <a:pt x="1547" y="1098"/>
                </a:lnTo>
                <a:lnTo>
                  <a:pt x="1617" y="1050"/>
                </a:lnTo>
                <a:lnTo>
                  <a:pt x="1695" y="1007"/>
                </a:lnTo>
                <a:lnTo>
                  <a:pt x="1771" y="977"/>
                </a:lnTo>
                <a:lnTo>
                  <a:pt x="1849" y="935"/>
                </a:lnTo>
                <a:lnTo>
                  <a:pt x="1928" y="887"/>
                </a:lnTo>
                <a:lnTo>
                  <a:pt x="2010" y="857"/>
                </a:lnTo>
                <a:lnTo>
                  <a:pt x="2089" y="814"/>
                </a:lnTo>
                <a:lnTo>
                  <a:pt x="2171" y="784"/>
                </a:lnTo>
                <a:lnTo>
                  <a:pt x="2262" y="742"/>
                </a:lnTo>
                <a:lnTo>
                  <a:pt x="2340" y="712"/>
                </a:lnTo>
                <a:lnTo>
                  <a:pt x="2431" y="663"/>
                </a:lnTo>
                <a:lnTo>
                  <a:pt x="2514" y="633"/>
                </a:lnTo>
                <a:lnTo>
                  <a:pt x="2604" y="609"/>
                </a:lnTo>
                <a:lnTo>
                  <a:pt x="2695" y="579"/>
                </a:lnTo>
                <a:lnTo>
                  <a:pt x="2786" y="549"/>
                </a:lnTo>
                <a:lnTo>
                  <a:pt x="2873" y="519"/>
                </a:lnTo>
                <a:lnTo>
                  <a:pt x="2976" y="470"/>
                </a:lnTo>
                <a:lnTo>
                  <a:pt x="3066" y="458"/>
                </a:lnTo>
                <a:lnTo>
                  <a:pt x="3157" y="428"/>
                </a:lnTo>
                <a:lnTo>
                  <a:pt x="3256" y="398"/>
                </a:lnTo>
                <a:lnTo>
                  <a:pt x="3355" y="368"/>
                </a:lnTo>
                <a:lnTo>
                  <a:pt x="3446" y="337"/>
                </a:lnTo>
                <a:lnTo>
                  <a:pt x="3549" y="325"/>
                </a:lnTo>
                <a:lnTo>
                  <a:pt x="3648" y="295"/>
                </a:lnTo>
                <a:lnTo>
                  <a:pt x="3747" y="265"/>
                </a:lnTo>
                <a:lnTo>
                  <a:pt x="3851" y="253"/>
                </a:lnTo>
                <a:lnTo>
                  <a:pt x="3950" y="223"/>
                </a:lnTo>
                <a:lnTo>
                  <a:pt x="4061" y="205"/>
                </a:lnTo>
                <a:lnTo>
                  <a:pt x="4160" y="193"/>
                </a:lnTo>
                <a:lnTo>
                  <a:pt x="4263" y="162"/>
                </a:lnTo>
                <a:lnTo>
                  <a:pt x="4370" y="144"/>
                </a:lnTo>
                <a:lnTo>
                  <a:pt x="4474" y="132"/>
                </a:lnTo>
                <a:lnTo>
                  <a:pt x="4581" y="120"/>
                </a:lnTo>
                <a:lnTo>
                  <a:pt x="4684" y="102"/>
                </a:lnTo>
                <a:lnTo>
                  <a:pt x="4795" y="90"/>
                </a:lnTo>
                <a:lnTo>
                  <a:pt x="4903" y="72"/>
                </a:lnTo>
                <a:lnTo>
                  <a:pt x="5006" y="60"/>
                </a:lnTo>
                <a:lnTo>
                  <a:pt x="5117" y="60"/>
                </a:lnTo>
                <a:lnTo>
                  <a:pt x="5226" y="42"/>
                </a:lnTo>
                <a:lnTo>
                  <a:pt x="5337" y="30"/>
                </a:lnTo>
                <a:lnTo>
                  <a:pt x="5448" y="30"/>
                </a:lnTo>
                <a:lnTo>
                  <a:pt x="5560" y="12"/>
                </a:lnTo>
                <a:lnTo>
                  <a:pt x="5659" y="12"/>
                </a:lnTo>
                <a:lnTo>
                  <a:pt x="5770" y="12"/>
                </a:lnTo>
                <a:lnTo>
                  <a:pt x="5882" y="0"/>
                </a:lnTo>
                <a:lnTo>
                  <a:pt x="5989" y="0"/>
                </a:lnTo>
                <a:lnTo>
                  <a:pt x="6100" y="0"/>
                </a:lnTo>
                <a:lnTo>
                  <a:pt x="6212" y="0"/>
                </a:lnTo>
                <a:lnTo>
                  <a:pt x="6323" y="0"/>
                </a:lnTo>
                <a:lnTo>
                  <a:pt x="6435" y="0"/>
                </a:lnTo>
                <a:lnTo>
                  <a:pt x="6542" y="0"/>
                </a:lnTo>
                <a:lnTo>
                  <a:pt x="6653" y="0"/>
                </a:lnTo>
                <a:lnTo>
                  <a:pt x="6765" y="0"/>
                </a:lnTo>
                <a:lnTo>
                  <a:pt x="6876" y="12"/>
                </a:lnTo>
                <a:lnTo>
                  <a:pt x="6323" y="3187"/>
                </a:lnTo>
                <a:lnTo>
                  <a:pt x="3648" y="6091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Microsoft’s Information Produc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867280" y="2111400"/>
            <a:ext cx="3200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40520" y="4673520"/>
            <a:ext cx="2327400" cy="17272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4871880"/>
            <a:ext cx="2971800" cy="1604880"/>
            <a:chOff x="0" y="4871880"/>
            <a:chExt cx="2971800" cy="1604880"/>
          </a:xfrm>
        </p:grpSpPr>
        <p:sp>
          <p:nvSpPr>
            <p:cNvPr id="60" name=""/>
            <p:cNvSpPr/>
            <p:nvPr/>
          </p:nvSpPr>
          <p:spPr>
            <a:xfrm>
              <a:off x="0" y="4871880"/>
              <a:ext cx="2971800" cy="160488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f95ab7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606680" y="4943520"/>
              <a:ext cx="126540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43000" y="5138640"/>
              <a:ext cx="1276200" cy="111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279360" y="1994040"/>
            <a:ext cx="2158920" cy="1527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658800" y="1828800"/>
            <a:ext cx="1254240" cy="1514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20520" y="1081080"/>
            <a:ext cx="2495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759-54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651640" y="1157400"/>
            <a:ext cx="329580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344-2121 x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00160" y="3629160"/>
            <a:ext cx="274320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Cas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. Sol.Tele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423-88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108840" y="3851280"/>
            <a:ext cx="24955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ch*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-800-433-9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8325000" y="6210360"/>
            <a:ext cx="762120" cy="609840"/>
            <a:chOff x="8325000" y="6210360"/>
            <a:chExt cx="762120" cy="609840"/>
          </a:xfrm>
        </p:grpSpPr>
        <p:grpSp>
          <p:nvGrpSpPr>
            <p:cNvPr id="70" name=""/>
            <p:cNvGrpSpPr/>
            <p:nvPr/>
          </p:nvGrpSpPr>
          <p:grpSpPr>
            <a:xfrm>
              <a:off x="8683560" y="6210360"/>
              <a:ext cx="403560" cy="609840"/>
              <a:chOff x="8683560" y="6210360"/>
              <a:chExt cx="403560" cy="609840"/>
            </a:xfrm>
          </p:grpSpPr>
          <p:sp>
            <p:nvSpPr>
              <p:cNvPr id="71" name=""/>
              <p:cNvSpPr/>
              <p:nvPr/>
            </p:nvSpPr>
            <p:spPr>
              <a:xfrm>
                <a:off x="8683560" y="6210360"/>
                <a:ext cx="298800" cy="20880"/>
              </a:xfrm>
              <a:custGeom>
                <a:avLst/>
                <a:gdLst/>
                <a:ahLst/>
                <a:rect l="0" t="0" r="r" b="b"/>
                <a:pathLst>
                  <a:path w="830" h="58">
                    <a:moveTo>
                      <a:pt x="762" y="58"/>
                    </a:moveTo>
                    <a:lnTo>
                      <a:pt x="0" y="58"/>
                    </a:lnTo>
                    <a:lnTo>
                      <a:pt x="72" y="0"/>
                    </a:lnTo>
                    <a:lnTo>
                      <a:pt x="830" y="0"/>
                    </a:lnTo>
                    <a:lnTo>
                      <a:pt x="762" y="58"/>
                    </a:lnTo>
                    <a:close/>
                  </a:path>
                </a:pathLst>
              </a:custGeom>
              <a:solidFill>
                <a:srgbClr val="bf3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958240" y="6210360"/>
                <a:ext cx="127440" cy="313200"/>
              </a:xfrm>
              <a:custGeom>
                <a:avLst/>
                <a:gdLst/>
                <a:ahLst/>
                <a:rect l="0" t="0" r="r" b="b"/>
                <a:pathLst>
                  <a:path w="354" h="870">
                    <a:moveTo>
                      <a:pt x="67" y="0"/>
                    </a:moveTo>
                    <a:lnTo>
                      <a:pt x="0" y="56"/>
                    </a:lnTo>
                    <a:lnTo>
                      <a:pt x="293" y="870"/>
                    </a:lnTo>
                    <a:lnTo>
                      <a:pt x="354" y="826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5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961480" y="6505560"/>
                <a:ext cx="125640" cy="314640"/>
              </a:xfrm>
              <a:custGeom>
                <a:avLst/>
                <a:gdLst/>
                <a:ahLst/>
                <a:rect l="0" t="0" r="r" b="b"/>
                <a:pathLst>
                  <a:path w="349" h="874">
                    <a:moveTo>
                      <a:pt x="349" y="0"/>
                    </a:moveTo>
                    <a:lnTo>
                      <a:pt x="286" y="45"/>
                    </a:lnTo>
                    <a:lnTo>
                      <a:pt x="0" y="874"/>
                    </a:lnTo>
                    <a:lnTo>
                      <a:pt x="65" y="819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7f3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683560" y="6230880"/>
                <a:ext cx="381240" cy="589320"/>
              </a:xfrm>
              <a:custGeom>
                <a:avLst/>
                <a:gdLst/>
                <a:ahLst/>
                <a:rect l="0" t="0" r="r" b="b"/>
                <a:pathLst>
                  <a:path w="1059" h="1637">
                    <a:moveTo>
                      <a:pt x="765" y="0"/>
                    </a:moveTo>
                    <a:lnTo>
                      <a:pt x="0" y="0"/>
                    </a:lnTo>
                    <a:lnTo>
                      <a:pt x="287" y="815"/>
                    </a:lnTo>
                    <a:lnTo>
                      <a:pt x="0" y="1637"/>
                    </a:lnTo>
                    <a:lnTo>
                      <a:pt x="773" y="1637"/>
                    </a:lnTo>
                    <a:lnTo>
                      <a:pt x="1059" y="810"/>
                    </a:lnTo>
                    <a:lnTo>
                      <a:pt x="765" y="0"/>
                    </a:lnTo>
                    <a:close/>
                  </a:path>
                </a:pathLst>
              </a:custGeom>
              <a:solidFill>
                <a:srgbClr val="ff5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8325000" y="6210360"/>
              <a:ext cx="439920" cy="608400"/>
              <a:chOff x="8325000" y="6210360"/>
              <a:chExt cx="439920" cy="608400"/>
            </a:xfrm>
          </p:grpSpPr>
          <p:sp>
            <p:nvSpPr>
              <p:cNvPr id="76" name=""/>
              <p:cNvSpPr/>
              <p:nvPr/>
            </p:nvSpPr>
            <p:spPr>
              <a:xfrm>
                <a:off x="8325000" y="6210360"/>
                <a:ext cx="327240" cy="20880"/>
              </a:xfrm>
              <a:custGeom>
                <a:avLst/>
                <a:gdLst/>
                <a:ahLst/>
                <a:rect l="0" t="0" r="r" b="b"/>
                <a:pathLst>
                  <a:path w="909" h="58">
                    <a:moveTo>
                      <a:pt x="833" y="58"/>
                    </a:moveTo>
                    <a:lnTo>
                      <a:pt x="0" y="58"/>
                    </a:lnTo>
                    <a:lnTo>
                      <a:pt x="79" y="0"/>
                    </a:lnTo>
                    <a:lnTo>
                      <a:pt x="909" y="0"/>
                    </a:lnTo>
                    <a:lnTo>
                      <a:pt x="833" y="58"/>
                    </a:lnTo>
                    <a:close/>
                  </a:path>
                </a:pathLst>
              </a:custGeom>
              <a:solidFill>
                <a:srgbClr val="5f009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30240" bIns="-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8624880" y="6210360"/>
                <a:ext cx="138600" cy="311400"/>
              </a:xfrm>
              <a:custGeom>
                <a:avLst/>
                <a:gdLst/>
                <a:ahLst/>
                <a:rect l="0" t="0" r="r" b="b"/>
                <a:pathLst>
                  <a:path w="385" h="865">
                    <a:moveTo>
                      <a:pt x="74" y="0"/>
                    </a:moveTo>
                    <a:lnTo>
                      <a:pt x="0" y="56"/>
                    </a:lnTo>
                    <a:lnTo>
                      <a:pt x="319" y="865"/>
                    </a:lnTo>
                    <a:lnTo>
                      <a:pt x="385" y="821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9f3f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628120" y="6505560"/>
                <a:ext cx="136800" cy="313200"/>
              </a:xfrm>
              <a:custGeom>
                <a:avLst/>
                <a:gdLst/>
                <a:ahLst/>
                <a:rect l="0" t="0" r="r" b="b"/>
                <a:pathLst>
                  <a:path w="380" h="870">
                    <a:moveTo>
                      <a:pt x="380" y="0"/>
                    </a:moveTo>
                    <a:lnTo>
                      <a:pt x="312" y="44"/>
                    </a:lnTo>
                    <a:lnTo>
                      <a:pt x="0" y="870"/>
                    </a:lnTo>
                    <a:lnTo>
                      <a:pt x="72" y="816"/>
                    </a:lnTo>
                    <a:lnTo>
                      <a:pt x="380" y="0"/>
                    </a:lnTo>
                    <a:close/>
                  </a:path>
                </a:pathLst>
              </a:custGeom>
              <a:solidFill>
                <a:srgbClr val="df9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325000" y="6230880"/>
                <a:ext cx="416160" cy="587880"/>
              </a:xfrm>
              <a:custGeom>
                <a:avLst/>
                <a:gdLst/>
                <a:ahLst/>
                <a:rect l="0" t="0" r="r" b="b"/>
                <a:pathLst>
                  <a:path w="1156" h="1633">
                    <a:moveTo>
                      <a:pt x="834" y="0"/>
                    </a:moveTo>
                    <a:lnTo>
                      <a:pt x="0" y="0"/>
                    </a:lnTo>
                    <a:lnTo>
                      <a:pt x="0" y="1633"/>
                    </a:lnTo>
                    <a:lnTo>
                      <a:pt x="842" y="1633"/>
                    </a:lnTo>
                    <a:lnTo>
                      <a:pt x="1156" y="809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7f00d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829480" y="2244600"/>
            <a:ext cx="32004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Solution Provider Progra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90720" y="1733400"/>
            <a:ext cx="716292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plan for delivering vertical, line-of-business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r “programatic way” for supporting third party integrators and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Information @ 1-800-426-94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Why Component Based Develop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990720" y="2104920"/>
            <a:ext cx="716292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-oriented computing has failed. But component software, such as Visual Basic’s custom controls, is succeeding. Here’s wh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te mag May 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Software Components</a:t>
            </a:r>
            <a:br>
              <a:rPr sz="4800"/>
            </a:b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elp address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376360"/>
            <a:ext cx="7162920" cy="38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er skill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ick development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ertise encaps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ware management and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use before purchase, purchase before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fd076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Mi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Application Archite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885960" y="1943280"/>
            <a:ext cx="7072200" cy="82872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I / Presentation /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28800" y="2886120"/>
            <a:ext cx="2228760" cy="75708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343320" y="2895480"/>
            <a:ext cx="2228760" cy="75708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719680" y="2905200"/>
            <a:ext cx="2228760" cy="757080"/>
          </a:xfrm>
          <a:prstGeom prst="rect">
            <a:avLst/>
          </a:prstGeom>
          <a:solidFill>
            <a:srgbClr val="ffd076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880920" y="3681360"/>
            <a:ext cx="2262240" cy="1204920"/>
          </a:xfrm>
          <a:prstGeom prst="rect">
            <a:avLst/>
          </a:prstGeom>
          <a:solidFill>
            <a:srgbClr val="618ffd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357720" y="4162320"/>
            <a:ext cx="2224080" cy="1204920"/>
          </a:xfrm>
          <a:prstGeom prst="rect">
            <a:avLst/>
          </a:prstGeom>
          <a:solidFill>
            <a:srgbClr val="f95ab7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786280" y="5014800"/>
            <a:ext cx="2262240" cy="1204920"/>
          </a:xfrm>
          <a:prstGeom prst="rect">
            <a:avLst/>
          </a:prstGeom>
          <a:solidFill>
            <a:srgbClr val="ffd076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sines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86240" y="3686040"/>
            <a:ext cx="0" cy="471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00760" y="3686040"/>
            <a:ext cx="0" cy="131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721400" y="274680"/>
            <a:ext cx="2997360" cy="2284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640480" y="2292480"/>
            <a:ext cx="663840" cy="757440"/>
          </a:xfrm>
          <a:custGeom>
            <a:avLst/>
            <a:gdLst/>
            <a:ahLst/>
            <a:rect l="0" t="0" r="r" b="b"/>
            <a:pathLst>
              <a:path w="1844" h="2104">
                <a:moveTo>
                  <a:pt x="613" y="2104"/>
                </a:moveTo>
                <a:lnTo>
                  <a:pt x="1228" y="2104"/>
                </a:lnTo>
                <a:lnTo>
                  <a:pt x="1228" y="631"/>
                </a:lnTo>
                <a:lnTo>
                  <a:pt x="1844" y="631"/>
                </a:lnTo>
                <a:lnTo>
                  <a:pt x="921" y="0"/>
                </a:lnTo>
                <a:lnTo>
                  <a:pt x="0" y="631"/>
                </a:lnTo>
                <a:lnTo>
                  <a:pt x="613" y="631"/>
                </a:lnTo>
                <a:lnTo>
                  <a:pt x="613" y="2104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97a6c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55880" y="4138560"/>
            <a:ext cx="5232240" cy="42552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55880" y="4138560"/>
            <a:ext cx="5232240" cy="4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Automation Interfa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440" y="5146560"/>
            <a:ext cx="8061480" cy="1262160"/>
          </a:xfrm>
          <a:prstGeom prst="rect">
            <a:avLst/>
          </a:prstGeom>
          <a:solidFill>
            <a:srgbClr val="009688"/>
          </a:solidFill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9160" y="689040"/>
            <a:ext cx="45291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0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Microsoft Office Solutions Plat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84720" y="6049800"/>
            <a:ext cx="2357280" cy="3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compon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67984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6d3995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-pa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70520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72768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58800" y="5178600"/>
            <a:ext cx="1752480" cy="838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3352680"/>
            <a:ext cx="8229600" cy="3808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sual Basic for Application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981840" y="458460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48400" y="454644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71920" y="460368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66760" y="456552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679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43828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419720" y="2895480"/>
            <a:ext cx="198108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V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400800" y="2895480"/>
            <a:ext cx="2286000" cy="45720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100000">
                <a:srgbClr val="361c4a"/>
              </a:gs>
            </a:gsLst>
            <a:lin ang="5400000"/>
          </a:gradFill>
          <a:ln w="12600">
            <a:solidFill>
              <a:srgbClr val="97a6cc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ture Word/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L7 Toda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843120" y="1771560"/>
            <a:ext cx="1971720" cy="3572280"/>
            <a:chOff x="843120" y="1771560"/>
            <a:chExt cx="1971720" cy="3572280"/>
          </a:xfrm>
        </p:grpSpPr>
        <p:sp>
          <p:nvSpPr>
            <p:cNvPr id="120" name=""/>
            <p:cNvSpPr/>
            <p:nvPr/>
          </p:nvSpPr>
          <p:spPr>
            <a:xfrm>
              <a:off x="843120" y="1771560"/>
              <a:ext cx="1971720" cy="1800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843120" y="1771560"/>
              <a:ext cx="197172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ndor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85960" y="3586320"/>
              <a:ext cx="0" cy="115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7160" y="4686480"/>
              <a:ext cx="1957320" cy="657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857160" y="4686120"/>
              <a:ext cx="195732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324480" y="1738440"/>
            <a:ext cx="1971720" cy="3571920"/>
            <a:chOff x="6324480" y="1738440"/>
            <a:chExt cx="1971720" cy="3571920"/>
          </a:xfrm>
        </p:grpSpPr>
        <p:sp>
          <p:nvSpPr>
            <p:cNvPr id="126" name=""/>
            <p:cNvSpPr/>
            <p:nvPr/>
          </p:nvSpPr>
          <p:spPr>
            <a:xfrm>
              <a:off x="6324480" y="1738440"/>
              <a:ext cx="1971720" cy="1800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324480" y="1738440"/>
              <a:ext cx="197172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Vendor</a:t>
              </a:r>
              <a:br>
                <a:rPr sz="3200"/>
              </a:b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67680" y="3552840"/>
              <a:ext cx="0" cy="1157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38880" y="4653000"/>
              <a:ext cx="1957320" cy="657360"/>
            </a:xfrm>
            <a:prstGeom prst="rect">
              <a:avLst/>
            </a:prstGeom>
            <a:solidFill>
              <a:srgbClr val="729fcf"/>
            </a:solidFill>
            <a:ln w="0">
              <a:solidFill>
                <a:srgbClr val="3465a4"/>
              </a:solidFill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338880" y="4653000"/>
              <a:ext cx="1957320" cy="657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er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743280" y="2185920"/>
            <a:ext cx="1886040" cy="1228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743280" y="2185920"/>
            <a:ext cx="18860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14480" y="28144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43720" y="280044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68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557280" y="3957480"/>
            <a:ext cx="8058240" cy="2629080"/>
          </a:xfrm>
          <a:prstGeom prst="rect">
            <a:avLst/>
          </a:prstGeom>
          <a:gradFill rotWithShape="0">
            <a:gsLst>
              <a:gs pos="0">
                <a:srgbClr val="00279f"/>
              </a:gs>
              <a:gs pos="50000">
                <a:srgbClr val="000b2f"/>
              </a:gs>
              <a:gs pos="100000">
                <a:srgbClr val="00279f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fd076"/>
                </a:solidFill>
                <a:latin typeface="Times New Roman"/>
                <a:ea typeface="Times New Roman"/>
              </a:rPr>
              <a:t>HL7 &amp; OLE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280" y="1328760"/>
            <a:ext cx="1971720" cy="1800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00280" y="1328760"/>
            <a:ext cx="1971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43120" y="3143160"/>
            <a:ext cx="0" cy="1157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14320" y="4243320"/>
            <a:ext cx="1957320" cy="657360"/>
          </a:xfrm>
          <a:prstGeom prst="rect">
            <a:avLst/>
          </a:prstGeom>
          <a:solidFill>
            <a:srgbClr val="b760f9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281640" y="1295280"/>
            <a:ext cx="1971720" cy="180036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281640" y="1295280"/>
            <a:ext cx="197172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ndor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224840" y="3110040"/>
            <a:ext cx="0" cy="115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296040" y="4210200"/>
            <a:ext cx="1957320" cy="657360"/>
          </a:xfrm>
          <a:prstGeom prst="rect">
            <a:avLst/>
          </a:prstGeom>
          <a:solidFill>
            <a:srgbClr val="009688"/>
          </a:solidFill>
          <a:ln w="12600">
            <a:solidFill>
              <a:srgbClr val="ffffff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00440" y="1743120"/>
            <a:ext cx="1886040" cy="12286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00440" y="1743120"/>
            <a:ext cx="1886040" cy="12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L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2371680"/>
            <a:ext cx="928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00880" y="235728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08200" y="5132520"/>
            <a:ext cx="4237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althcare Application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PatientInfo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Wilcox</dc:creator>
  <dc:description/>
  <dc:language>en-US</dc:language>
  <cp:lastModifiedBy>John Wilcox</cp:lastModifiedBy>
  <cp:revision>0</cp:revision>
  <dc:subject/>
  <dc:title>Internet Access to Microsoft</dc:title>
</cp:coreProperties>
</file>