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85640" y="71424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:  Kernel,  Executive, And Subsystems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ian Mo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ianMo@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952720" y="228600"/>
            <a:ext cx="32385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6560" y="1600200"/>
            <a:ext cx="62485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610000" y="228600"/>
            <a:ext cx="3924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5880" y="173340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71760" y="238284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Kern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2760" y="1425600"/>
            <a:ext cx="8180280" cy="6904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11280" y="2127240"/>
            <a:ext cx="1247760" cy="100800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23000" y="2130480"/>
            <a:ext cx="1246320" cy="1006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57600" y="2125800"/>
            <a:ext cx="1270080" cy="100476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429680" y="2125800"/>
            <a:ext cx="1230480" cy="1015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70760" y="2127240"/>
            <a:ext cx="1262160" cy="10065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5640" y="2130480"/>
            <a:ext cx="1932120" cy="995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17600" y="3133800"/>
            <a:ext cx="6448320" cy="617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82760" y="3751200"/>
            <a:ext cx="4091040" cy="696960"/>
          </a:xfrm>
          <a:prstGeom prst="rect">
            <a:avLst/>
          </a:prstGeom>
          <a:solidFill>
            <a:srgbClr val="232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5240" y="3755880"/>
            <a:ext cx="4092480" cy="69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30560" y="3965400"/>
            <a:ext cx="4684680" cy="48276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245360" y="5337000"/>
            <a:ext cx="1428840" cy="86184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78600" y="5342040"/>
            <a:ext cx="1160640" cy="84312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4200" y="5335560"/>
            <a:ext cx="1023840" cy="86184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4520" y="5342040"/>
            <a:ext cx="965160" cy="84312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84360" y="5342040"/>
            <a:ext cx="1195560" cy="843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679920" y="5338800"/>
            <a:ext cx="1120680" cy="84456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00600" y="5338800"/>
            <a:ext cx="1282680" cy="84456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9120" y="3511440"/>
            <a:ext cx="1668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4200" y="2678040"/>
            <a:ext cx="1728720" cy="10731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040" y="4462560"/>
            <a:ext cx="8169480" cy="891000"/>
          </a:xfrm>
          <a:custGeom>
            <a:avLst/>
            <a:gdLst/>
            <a:ahLst/>
            <a:rect l="0" t="0" r="r" b="b"/>
            <a:pathLst>
              <a:path w="22693" h="2475">
                <a:moveTo>
                  <a:pt x="0" y="0"/>
                </a:moveTo>
                <a:lnTo>
                  <a:pt x="22693" y="0"/>
                </a:lnTo>
                <a:lnTo>
                  <a:pt x="20790" y="1268"/>
                </a:lnTo>
                <a:lnTo>
                  <a:pt x="22693" y="2475"/>
                </a:lnTo>
                <a:lnTo>
                  <a:pt x="0" y="2475"/>
                </a:lnTo>
                <a:lnTo>
                  <a:pt x="1648" y="126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29120" y="4645080"/>
            <a:ext cx="28926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733920"/>
            <a:ext cx="152280" cy="7621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39080" y="3733920"/>
            <a:ext cx="152280" cy="7621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2160" y="21906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Windows NT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66840" y="201924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216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44480" y="1504800"/>
            <a:ext cx="7658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2600" y="123840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744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52520" y="23184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92280" y="4923000"/>
            <a:ext cx="3943440" cy="425520"/>
          </a:xfrm>
          <a:prstGeom prst="rect">
            <a:avLst/>
          </a:prstGeom>
          <a:solidFill>
            <a:srgbClr val="232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35360" y="4923000"/>
            <a:ext cx="3859200" cy="425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81400" y="5041800"/>
            <a:ext cx="4610160" cy="30492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058160" y="5715000"/>
            <a:ext cx="14158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32360" y="5715000"/>
            <a:ext cx="122724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5716440"/>
            <a:ext cx="96696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55640" y="5713560"/>
            <a:ext cx="9176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77960" y="571500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64080" y="5711760"/>
            <a:ext cx="1017720" cy="50976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240" y="5713560"/>
            <a:ext cx="116352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57360" y="3976560"/>
            <a:ext cx="1122480" cy="61128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46600" y="3976560"/>
            <a:ext cx="1231920" cy="61128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6600" y="3976560"/>
            <a:ext cx="1177920" cy="60156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218360" y="3976560"/>
            <a:ext cx="1274760" cy="601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77080" y="3976560"/>
            <a:ext cx="1238400" cy="604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92280" y="3976560"/>
            <a:ext cx="1765440" cy="6112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30560" y="4589640"/>
            <a:ext cx="6256440" cy="343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92280" y="4325760"/>
            <a:ext cx="1541520" cy="598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58800" y="1628640"/>
            <a:ext cx="1085760" cy="60660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44600" y="1871640"/>
            <a:ext cx="1085760" cy="6066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28600" y="211140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1160" y="2340000"/>
            <a:ext cx="1085760" cy="606600"/>
          </a:xfrm>
          <a:prstGeom prst="rect">
            <a:avLst/>
          </a:prstGeom>
          <a:solidFill>
            <a:srgbClr val="1f71a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95160" y="2579760"/>
            <a:ext cx="1085760" cy="6066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1160" y="1141560"/>
            <a:ext cx="13352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36920" y="1628640"/>
            <a:ext cx="1085760" cy="60660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22720" y="1871640"/>
            <a:ext cx="1085760" cy="60660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06720" y="2111400"/>
            <a:ext cx="1085760" cy="6066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789280" y="2340000"/>
            <a:ext cx="1085760" cy="606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97040" y="2579760"/>
            <a:ext cx="1085760" cy="6066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789280" y="1162080"/>
            <a:ext cx="1216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45280" y="1628640"/>
            <a:ext cx="1085760" cy="6066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30720" y="1871640"/>
            <a:ext cx="1085760" cy="6066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15080" y="2111400"/>
            <a:ext cx="1085760" cy="6066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5240" y="2340000"/>
            <a:ext cx="110664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81640" y="257976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5240" y="115092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259760" y="1628640"/>
            <a:ext cx="1085760" cy="6066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45200" y="1871640"/>
            <a:ext cx="1085760" cy="606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29560" y="2111400"/>
            <a:ext cx="1085760" cy="606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15000" y="1174680"/>
            <a:ext cx="1741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15000" y="234324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19880" y="2579760"/>
            <a:ext cx="1085760" cy="6066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468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992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84160" y="322740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7032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9556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09800" y="323532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220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96000" y="3186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711680" y="322740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4076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66000" y="31939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80240" y="323532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92280" y="3552840"/>
            <a:ext cx="78040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0480" y="5361120"/>
            <a:ext cx="7801200" cy="365400"/>
          </a:xfrm>
          <a:custGeom>
            <a:avLst/>
            <a:gdLst/>
            <a:ahLst/>
            <a:rect l="0" t="0" r="r" b="b"/>
            <a:pathLst>
              <a:path w="21670" h="1015">
                <a:moveTo>
                  <a:pt x="79" y="0"/>
                </a:moveTo>
                <a:lnTo>
                  <a:pt x="21670" y="0"/>
                </a:lnTo>
                <a:lnTo>
                  <a:pt x="20498" y="485"/>
                </a:lnTo>
                <a:lnTo>
                  <a:pt x="21635" y="1015"/>
                </a:lnTo>
                <a:lnTo>
                  <a:pt x="0" y="1015"/>
                </a:lnTo>
                <a:lnTo>
                  <a:pt x="1145" y="543"/>
                </a:lnTo>
                <a:lnTo>
                  <a:pt x="79" y="0"/>
                </a:lnTo>
                <a:close/>
              </a:path>
            </a:pathLst>
          </a:custGeom>
          <a:solidFill>
            <a:srgbClr val="1f71a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60640" y="5405400"/>
            <a:ext cx="16956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39840" y="1638360"/>
            <a:ext cx="66675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“real-time”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88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iority Spec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3800" y="1141560"/>
            <a:ext cx="8132760" cy="252252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5b52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53960" y="1335240"/>
            <a:ext cx="1322280" cy="3222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59120" y="1297080"/>
            <a:ext cx="229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 time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3760" y="1854360"/>
            <a:ext cx="1322640" cy="1198440"/>
            <a:chOff x="2093760" y="1854360"/>
            <a:chExt cx="1322640" cy="1198440"/>
          </a:xfrm>
        </p:grpSpPr>
        <p:sp>
          <p:nvSpPr>
            <p:cNvPr id="161" name=""/>
            <p:cNvSpPr txBox="1"/>
            <p:nvPr/>
          </p:nvSpPr>
          <p:spPr>
            <a:xfrm>
              <a:off x="2093760" y="1854360"/>
              <a:ext cx="1322280" cy="1198440"/>
            </a:xfrm>
            <a:prstGeom prst="rect">
              <a:avLst/>
            </a:prstGeom>
            <a:gradFill rotWithShape="0">
              <a:gsLst>
                <a:gs pos="0">
                  <a:srgbClr val="fc0128"/>
                </a:gs>
                <a:gs pos="100000">
                  <a:srgbClr val="320008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2840" y="2376360"/>
              <a:ext cx="130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12840" y="2832120"/>
              <a:ext cx="130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12840" y="2611440"/>
              <a:ext cx="130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93760" y="2125800"/>
              <a:ext cx="1306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3660840" y="1854360"/>
            <a:ext cx="1828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7480" y="3281400"/>
            <a:ext cx="1341360" cy="25344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100000">
                <a:srgbClr val="3e040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49800" y="3208320"/>
            <a:ext cx="14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 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426360" y="1163520"/>
            <a:ext cx="1352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800" y="3652920"/>
            <a:ext cx="8128080" cy="288144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193ca8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3733920"/>
            <a:ext cx="1546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b3b900"/>
                </a:solidFill>
                <a:latin typeface="Times New Roman"/>
                <a:ea typeface="Times New Roman"/>
              </a:rPr>
              <a:t>15-</a:t>
            </a:r>
            <a:r>
              <a:rPr b="1" lang="en-US" sz="1400" spc="-1" strike="noStrike">
                <a:solidFill>
                  <a:srgbClr val="b3b900"/>
                </a:solidFill>
                <a:latin typeface="Times New Roman"/>
                <a:ea typeface="Times New Roman"/>
              </a:rPr>
              <a:t>Non-realtim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b3b900"/>
                </a:solidFill>
                <a:latin typeface="Times New Roman"/>
                <a:ea typeface="Times New Roman"/>
              </a:rPr>
              <a:t>time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43400" y="3841920"/>
            <a:ext cx="298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16160" y="3662280"/>
            <a:ext cx="27874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4392720"/>
            <a:ext cx="317520" cy="58104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34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99160" y="4861080"/>
            <a:ext cx="32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27480" y="4313160"/>
            <a:ext cx="29844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652920" y="4578480"/>
            <a:ext cx="106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78760" y="6262560"/>
            <a:ext cx="1204920" cy="147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00600" y="609300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61000" y="3681360"/>
            <a:ext cx="1352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9160" y="473724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2040" y="461628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8520" y="450216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14720" y="3921120"/>
            <a:ext cx="318960" cy="581040"/>
          </a:xfrm>
          <a:prstGeom prst="rect">
            <a:avLst/>
          </a:prstGeom>
          <a:gradFill rotWithShape="0">
            <a:gsLst>
              <a:gs pos="0">
                <a:srgbClr val="51dc00"/>
              </a:gs>
              <a:gs pos="100000">
                <a:srgbClr val="1842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24440" y="4381560"/>
            <a:ext cx="3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25880" y="426564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24440" y="4146480"/>
            <a:ext cx="298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4720" y="403236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946840" y="4583160"/>
            <a:ext cx="241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94160" y="4970520"/>
            <a:ext cx="216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35720" y="5051520"/>
            <a:ext cx="317520" cy="58104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9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32480" y="551988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770520" y="4991040"/>
            <a:ext cx="241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5080" y="5397480"/>
            <a:ext cx="3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35720" y="5284800"/>
            <a:ext cx="31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35720" y="516096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54560" y="5364000"/>
            <a:ext cx="29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foreground/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91480" y="5927760"/>
            <a:ext cx="1227240" cy="13644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81600" y="5756400"/>
            <a:ext cx="194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1-</a:t>
            </a:r>
            <a:r>
              <a:rPr b="1" lang="en-US" sz="16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Non realtime/i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74760" y="3879720"/>
            <a:ext cx="1341360" cy="136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013120" y="4129200"/>
            <a:ext cx="198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3280" y="5861160"/>
            <a:ext cx="26114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b3b900"/>
                </a:solidFill>
                <a:latin typeface="Times New Roman"/>
                <a:ea typeface="Times New Roman"/>
              </a:rPr>
              <a:t>Priorities 15 and 1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b3b900"/>
                </a:solidFill>
                <a:latin typeface="Times New Roman"/>
                <a:ea typeface="Times New Roman"/>
              </a:rPr>
              <a:t>to all three dynamic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171440" y="4076640"/>
            <a:ext cx="876600" cy="1800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02120" y="6010200"/>
            <a:ext cx="17366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83520" y="589104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424720" y="624204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03520" y="3817800"/>
            <a:ext cx="311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21400" y="4643280"/>
            <a:ext cx="317520" cy="58248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025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22840" y="5113440"/>
            <a:ext cx="316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24640" y="4989600"/>
            <a:ext cx="31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21400" y="487836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24640" y="475452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000680" y="2274840"/>
            <a:ext cx="2654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s like input, cursor, cache flushing, file sys.,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148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altime Under 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46400" y="2100240"/>
            <a:ext cx="4659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ing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 (graph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88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iority Spec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32080" y="1720800"/>
            <a:ext cx="62802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always runs highest priority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 classes exported via Win32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time threads can run above priority of system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88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iority Spec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90720" y="1746360"/>
            <a:ext cx="716292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16 to 31 is real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realtime ranges of prio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 is realtime - time-critical (highest priority in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to 26 (24 is realtime n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is realtime -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9560" y="171468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95440" y="2682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25640" y="1542960"/>
            <a:ext cx="709452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314360" y="28479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82760" y="1425600"/>
            <a:ext cx="8180280" cy="6904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411280" y="2127240"/>
            <a:ext cx="1247760" cy="100800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23000" y="2130480"/>
            <a:ext cx="1246320" cy="1006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57600" y="2125800"/>
            <a:ext cx="1270080" cy="100476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429680" y="2125800"/>
            <a:ext cx="1230480" cy="1015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0760" y="2127240"/>
            <a:ext cx="1262160" cy="10065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5640" y="2130480"/>
            <a:ext cx="1932120" cy="995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17600" y="3133800"/>
            <a:ext cx="6448320" cy="617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82760" y="3751200"/>
            <a:ext cx="4091040" cy="696960"/>
          </a:xfrm>
          <a:prstGeom prst="rect">
            <a:avLst/>
          </a:prstGeom>
          <a:solidFill>
            <a:srgbClr val="232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5240" y="3755880"/>
            <a:ext cx="4092480" cy="69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30560" y="3965400"/>
            <a:ext cx="4684680" cy="48276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245360" y="5337000"/>
            <a:ext cx="1428840" cy="86184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78600" y="5342040"/>
            <a:ext cx="1160640" cy="84312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4200" y="5335560"/>
            <a:ext cx="1023840" cy="86184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14520" y="5342040"/>
            <a:ext cx="965160" cy="84312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484360" y="5342040"/>
            <a:ext cx="1195560" cy="843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79920" y="5338800"/>
            <a:ext cx="1120680" cy="84456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800600" y="5338800"/>
            <a:ext cx="1282680" cy="84456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9120" y="3511440"/>
            <a:ext cx="1668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4200" y="2678040"/>
            <a:ext cx="1728720" cy="10731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040" y="4462560"/>
            <a:ext cx="8169480" cy="891000"/>
          </a:xfrm>
          <a:custGeom>
            <a:avLst/>
            <a:gdLst/>
            <a:ahLst/>
            <a:rect l="0" t="0" r="r" b="b"/>
            <a:pathLst>
              <a:path w="22693" h="2475">
                <a:moveTo>
                  <a:pt x="0" y="0"/>
                </a:moveTo>
                <a:lnTo>
                  <a:pt x="22693" y="0"/>
                </a:lnTo>
                <a:lnTo>
                  <a:pt x="20790" y="1268"/>
                </a:lnTo>
                <a:lnTo>
                  <a:pt x="22693" y="2475"/>
                </a:lnTo>
                <a:lnTo>
                  <a:pt x="0" y="2475"/>
                </a:lnTo>
                <a:lnTo>
                  <a:pt x="1648" y="126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129120" y="4645080"/>
            <a:ext cx="28926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133720"/>
            <a:ext cx="15228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39080" y="2133720"/>
            <a:ext cx="15228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857240" y="2682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0240" y="1447920"/>
            <a:ext cx="54864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314360" y="2379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54280" y="1447920"/>
            <a:ext cx="56386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685880" y="23796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256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00040" y="23796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30360" y="1504800"/>
            <a:ext cx="7886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095560" y="23796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4920" y="150480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23796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90520" y="2038320"/>
            <a:ext cx="6762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19480" y="23796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4440" y="13143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316160" y="1447920"/>
            <a:ext cx="65152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: “Deleg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14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39720" y="1266840"/>
            <a:ext cx="1969920" cy="309888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681960" y="1195560"/>
            <a:ext cx="1890720" cy="229068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92400" y="3271680"/>
            <a:ext cx="1380960" cy="107460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81960" y="2197080"/>
            <a:ext cx="1163520" cy="128916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73720" y="3486240"/>
            <a:ext cx="2471760" cy="86040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373720" y="2217600"/>
            <a:ext cx="2455920" cy="105408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76560" y="2211480"/>
            <a:ext cx="2705400" cy="107460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6120" y="2197080"/>
            <a:ext cx="1163520" cy="121752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2608200" y="2211480"/>
            <a:ext cx="2765520" cy="106020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61960" y="2205000"/>
            <a:ext cx="2530440" cy="106668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6120" y="3414600"/>
            <a:ext cx="2546280" cy="93204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0" y="2022480"/>
            <a:ext cx="12412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00840" y="4132440"/>
            <a:ext cx="1739880" cy="49068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5160" y="4919760"/>
            <a:ext cx="9016920" cy="43020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Executiv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46600" y="5635800"/>
            <a:ext cx="1106640" cy="649440"/>
          </a:xfrm>
          <a:prstGeom prst="rect">
            <a:avLst/>
          </a:prstGeom>
          <a:solidFill>
            <a:srgbClr val="1f71a8"/>
          </a:solidFill>
          <a:ln w="12600">
            <a:solidFill>
              <a:srgbClr val="e2b4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5813280"/>
            <a:ext cx="6890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63760" y="5864400"/>
            <a:ext cx="231768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Wait 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Wai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y Wait 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845480" y="3486240"/>
            <a:ext cx="0" cy="646200"/>
          </a:xfrm>
          <a:prstGeom prst="line">
            <a:avLst/>
          </a:prstGeom>
          <a:ln w="12600">
            <a:solidFill>
              <a:srgbClr val="e2b4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82160" y="4632480"/>
            <a:ext cx="0" cy="287280"/>
          </a:xfrm>
          <a:prstGeom prst="line">
            <a:avLst/>
          </a:prstGeom>
          <a:ln w="12600">
            <a:solidFill>
              <a:srgbClr val="e2b4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82520" y="4375080"/>
            <a:ext cx="0" cy="544680"/>
          </a:xfrm>
          <a:prstGeom prst="line">
            <a:avLst/>
          </a:prstGeom>
          <a:ln w="12600">
            <a:solidFill>
              <a:srgbClr val="e2b4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81880" y="4632480"/>
            <a:ext cx="0" cy="28728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81880" y="5364000"/>
            <a:ext cx="0" cy="40176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43280" y="5800680"/>
            <a:ext cx="1874520" cy="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55880" y="5349960"/>
            <a:ext cx="0" cy="42840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60800" y="5778360"/>
            <a:ext cx="2497320" cy="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55880" y="4384800"/>
            <a:ext cx="0" cy="534960"/>
          </a:xfrm>
          <a:prstGeom prst="line">
            <a:avLst/>
          </a:prstGeom>
          <a:ln w="1260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88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ast I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11280" y="1150920"/>
            <a:ext cx="61228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thread in subsystem for eac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 uses Windows NT event pai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LowWait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ighWait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</a:t>
            </a:r>
            <a:r>
              <a:rPr b="1" lang="en-US" sz="3200" spc="-1" strike="noStrike">
                <a:solidFill>
                  <a:srgbClr val="ffffff"/>
                </a:solidFill>
                <a:latin typeface="Lucida Calligraphy"/>
                <a:ea typeface="Lucida Calligraphy"/>
              </a:rPr>
              <a:t>i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6/33-66 MHz, 34 microseconds for round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94040" y="3157560"/>
            <a:ext cx="3355920" cy="11239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High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ow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900520" y="3728880"/>
            <a:ext cx="3346200" cy="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19480" y="228600"/>
            <a:ext cx="27050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, Others T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23796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25400" y="146700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ging Poli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39720" y="1560600"/>
            <a:ext cx="794052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 is tuned to multitask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,  some page faulting is goo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policy is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 active pages on per process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852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very fault look at available memory 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6504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mple, grow work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365040">
              <a:lnSpc>
                <a:spcPct val="85000"/>
              </a:lnSpc>
              <a:spcBef>
                <a:spcPts val="601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 enough, remove page from working set (page against the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349280" y="255600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2520" y="23184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bsystems and Us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435400" y="4433760"/>
            <a:ext cx="1122480" cy="61128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724280" y="4433760"/>
            <a:ext cx="1231920" cy="61128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54280" y="4433760"/>
            <a:ext cx="1177920" cy="60156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196040" y="4433760"/>
            <a:ext cx="1274760" cy="601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954760" y="4433760"/>
            <a:ext cx="1238400" cy="604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69960" y="4433760"/>
            <a:ext cx="1765440" cy="6112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08240" y="5046840"/>
            <a:ext cx="6256440" cy="343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69960" y="4782960"/>
            <a:ext cx="1541520" cy="598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36840" y="2085840"/>
            <a:ext cx="1085760" cy="60660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322280" y="2328840"/>
            <a:ext cx="1085760" cy="6066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106640" y="256860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88840" y="2797200"/>
            <a:ext cx="1085760" cy="606600"/>
          </a:xfrm>
          <a:prstGeom prst="rect">
            <a:avLst/>
          </a:prstGeom>
          <a:solidFill>
            <a:srgbClr val="1f71a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73200" y="3036960"/>
            <a:ext cx="1085760" cy="6066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88840" y="1598760"/>
            <a:ext cx="13352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414600" y="2085840"/>
            <a:ext cx="1085760" cy="60660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200400" y="2328840"/>
            <a:ext cx="1085760" cy="60660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984400" y="2568600"/>
            <a:ext cx="1085760" cy="6066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766960" y="2797200"/>
            <a:ext cx="1085760" cy="606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575080" y="3036960"/>
            <a:ext cx="1085760" cy="6066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766960" y="1619280"/>
            <a:ext cx="1216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322960" y="2085840"/>
            <a:ext cx="1085760" cy="6066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8400" y="2328840"/>
            <a:ext cx="1085760" cy="6066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892760" y="2568600"/>
            <a:ext cx="1085760" cy="6066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52920" y="2797200"/>
            <a:ext cx="110664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59320" y="303696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52920" y="160812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7440" y="2085840"/>
            <a:ext cx="1085760" cy="6066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023240" y="2328840"/>
            <a:ext cx="1085760" cy="606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07240" y="2568600"/>
            <a:ext cx="1085760" cy="606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593040" y="1631880"/>
            <a:ext cx="1741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593040" y="2800440"/>
            <a:ext cx="1085760" cy="606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397560" y="3036960"/>
            <a:ext cx="1085760" cy="6066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22360" y="36432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47600" y="36432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61840" y="368460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48000" y="36511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73240" y="36511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87480" y="369252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49880" y="36432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73680" y="36432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9360" y="368460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8440" y="36511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3680" y="36511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57920" y="3692520"/>
            <a:ext cx="376200" cy="22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69960" y="4010040"/>
            <a:ext cx="78040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686800" y="1676520"/>
            <a:ext cx="152280" cy="22860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676520"/>
            <a:ext cx="152280" cy="22860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743200" y="23796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25360" y="144792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14560" y="23796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058840" y="144792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609560" y="19044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32 Subsystem 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886040" y="1962000"/>
            <a:ext cx="53722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 flipH="1">
            <a:off x="1906560" y="1432080"/>
            <a:ext cx="277920" cy="17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28880" y="1971720"/>
            <a:ext cx="25236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888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32 Compon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7760" y="4808520"/>
            <a:ext cx="8991720" cy="1447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ileg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0" y="1562040"/>
            <a:ext cx="1892160" cy="414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320" y="1562040"/>
            <a:ext cx="18921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5400" y="2662200"/>
            <a:ext cx="1828800" cy="1733400"/>
          </a:xfrm>
          <a:prstGeom prst="rect">
            <a:avLst/>
          </a:prstGeom>
          <a:solidFill>
            <a:srgbClr val="1f71a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1360" y="3156120"/>
            <a:ext cx="16765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71360" y="3156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1360" y="3537000"/>
            <a:ext cx="16765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1360" y="353700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1360" y="3917880"/>
            <a:ext cx="16765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71360" y="391788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06760" y="1608120"/>
            <a:ext cx="2743200" cy="10666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GDI/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951600" y="3222720"/>
            <a:ext cx="814320" cy="8143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0" y="3240000"/>
            <a:ext cx="912960" cy="8017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568840" y="3193920"/>
            <a:ext cx="1309680" cy="86040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7c2d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840800" y="3208320"/>
            <a:ext cx="1290600" cy="84600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7c2d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21360" y="2446200"/>
            <a:ext cx="1295280" cy="838440"/>
          </a:xfrm>
          <a:prstGeom prst="line">
            <a:avLst/>
          </a:prstGeom>
          <a:ln w="1260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130720" y="2446200"/>
            <a:ext cx="890640" cy="792360"/>
          </a:xfrm>
          <a:prstGeom prst="line">
            <a:avLst/>
          </a:prstGeom>
          <a:ln w="1260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935760" y="1684440"/>
            <a:ext cx="2057400" cy="129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2960" y="2217600"/>
            <a:ext cx="380880" cy="380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7c2d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49960" y="2141640"/>
            <a:ext cx="685800" cy="152280"/>
          </a:xfrm>
          <a:prstGeom prst="line">
            <a:avLst/>
          </a:prstGeom>
          <a:ln w="1260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11360" y="1455840"/>
            <a:ext cx="638280" cy="24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411360" y="1989000"/>
            <a:ext cx="152640" cy="142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4280" y="1836720"/>
            <a:ext cx="2210040" cy="3124440"/>
          </a:xfrm>
          <a:custGeom>
            <a:avLst/>
            <a:gdLst/>
            <a:ahLst/>
            <a:rect l="0" t="0" r="r" b="b"/>
            <a:pathLst>
              <a:path fill="none" w="6139" h="8679">
                <a:moveTo>
                  <a:pt x="0" y="0"/>
                </a:moveTo>
                <a:lnTo>
                  <a:pt x="2116" y="8679"/>
                </a:lnTo>
                <a:lnTo>
                  <a:pt x="3811" y="8679"/>
                </a:lnTo>
                <a:lnTo>
                  <a:pt x="6139" y="1905"/>
                </a:lnTo>
              </a:path>
            </a:pathLst>
          </a:custGeom>
          <a:ln w="2556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45240" y="4046400"/>
            <a:ext cx="991080" cy="838440"/>
          </a:xfrm>
          <a:custGeom>
            <a:avLst/>
            <a:gdLst/>
            <a:ahLst/>
            <a:rect l="0" t="0" r="r" b="b"/>
            <a:pathLst>
              <a:path fill="none" w="2753" h="2329">
                <a:moveTo>
                  <a:pt x="0" y="0"/>
                </a:moveTo>
                <a:lnTo>
                  <a:pt x="847" y="2329"/>
                </a:lnTo>
                <a:lnTo>
                  <a:pt x="1694" y="2329"/>
                </a:lnTo>
                <a:lnTo>
                  <a:pt x="2753" y="0"/>
                </a:lnTo>
              </a:path>
            </a:pathLst>
          </a:custGeom>
          <a:ln w="1260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21360" y="4052880"/>
            <a:ext cx="1152720" cy="832320"/>
          </a:xfrm>
          <a:custGeom>
            <a:avLst/>
            <a:gdLst/>
            <a:ahLst/>
            <a:rect l="0" t="0" r="r" b="b"/>
            <a:pathLst>
              <a:path fill="none" w="3202" h="2312">
                <a:moveTo>
                  <a:pt x="0" y="0"/>
                </a:moveTo>
                <a:lnTo>
                  <a:pt x="985" y="2312"/>
                </a:lnTo>
                <a:lnTo>
                  <a:pt x="1971" y="2312"/>
                </a:lnTo>
                <a:lnTo>
                  <a:pt x="3202" y="0"/>
                </a:lnTo>
              </a:path>
            </a:pathLst>
          </a:custGeom>
          <a:ln w="1260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234040" y="4299120"/>
            <a:ext cx="89208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264440" y="4322880"/>
            <a:ext cx="9032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265720" y="2712960"/>
            <a:ext cx="5335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402240" y="2716200"/>
            <a:ext cx="5335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326280" y="1913040"/>
            <a:ext cx="5335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352600" y="4275000"/>
            <a:ext cx="9907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IPC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773840" y="2522520"/>
            <a:ext cx="3808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155080" y="2217600"/>
            <a:ext cx="3808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68480" y="1989000"/>
            <a:ext cx="0" cy="652680"/>
          </a:xfrm>
          <a:prstGeom prst="line">
            <a:avLst/>
          </a:prstGeom>
          <a:ln w="12600">
            <a:solidFill>
              <a:srgbClr val="e2b4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71880" y="1432080"/>
            <a:ext cx="1262160" cy="6969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171520" y="1432080"/>
            <a:ext cx="126216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85640" y="30114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05000" y="228600"/>
            <a:ext cx="2933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5040" y="180972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8120" y="228600"/>
            <a:ext cx="30481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81280" y="1743120"/>
            <a:ext cx="59245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LAN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971800" y="228600"/>
            <a:ext cx="32004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71440" y="177156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14720" y="228600"/>
            <a:ext cx="29145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09880" y="228600"/>
            <a:ext cx="5124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2160" y="174312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