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 txBox="1"/>
          <p:nvPr/>
        </p:nvSpPr>
        <p:spPr>
          <a:xfrm>
            <a:off x="380880" y="1255680"/>
            <a:ext cx="838188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High-Performance Applications Windows NT</a:t>
            </a:r>
            <a:r>
              <a:rPr b="1" lang="en-US" sz="3600" spc="-1" strike="noStrike" baseline="50000">
                <a:solidFill>
                  <a:srgbClr val="f6bf69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 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John Vert</a:t>
            </a:r>
            <a:br>
              <a:rPr sz="36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oftware Design Engineer</a:t>
            </a:r>
            <a:br>
              <a:rPr sz="36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dows NT</a:t>
            </a:r>
            <a:br>
              <a:rPr sz="36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Bypassing The I/O Completion Port Notific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882720" y="1920960"/>
            <a:ext cx="737856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y a valid hEvent in OVERLAPPED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the low bit of hEv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l overlapped I/O mechanism (GetOverlappedResult(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notification to I/O completion 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OP3SRV - Simple Serv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33920" y="1523880"/>
            <a:ext cx="1981080" cy="990720"/>
          </a:xfrm>
          <a:prstGeom prst="rect">
            <a:avLst/>
          </a:prstGeom>
          <a:gradFill rotWithShape="0">
            <a:gsLst>
              <a:gs pos="0">
                <a:srgbClr val="9234db"/>
              </a:gs>
              <a:gs pos="100000">
                <a:srgbClr val="2b0f4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733920" y="1674720"/>
            <a:ext cx="19810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/O completion 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31840" y="1817640"/>
            <a:ext cx="126216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14520" y="1990800"/>
            <a:ext cx="2206440" cy="3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47880" bIns="-47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889280" y="1744560"/>
            <a:ext cx="17780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QueuedCompletionStat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1676520"/>
            <a:ext cx="190512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1828800"/>
            <a:ext cx="190512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15000" y="1981080"/>
            <a:ext cx="190512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2133720"/>
            <a:ext cx="190512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15000" y="2286000"/>
            <a:ext cx="190512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927760" y="1440000"/>
            <a:ext cx="15382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IoCompletion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20120" y="1447920"/>
            <a:ext cx="1371600" cy="1143000"/>
          </a:xfrm>
          <a:prstGeom prst="rect">
            <a:avLst/>
          </a:prstGeom>
          <a:gradFill rotWithShape="0">
            <a:gsLst>
              <a:gs pos="0">
                <a:srgbClr val="9234db"/>
              </a:gs>
              <a:gs pos="100000">
                <a:srgbClr val="2b0f4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680240" y="1622520"/>
            <a:ext cx="123516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connections via “accept()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24280" y="251460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33920" y="3048120"/>
            <a:ext cx="1981080" cy="762120"/>
          </a:xfrm>
          <a:prstGeom prst="rect">
            <a:avLst/>
          </a:prstGeom>
          <a:gradFill rotWithShape="0">
            <a:gsLst>
              <a:gs pos="0">
                <a:srgbClr val="9234db"/>
              </a:gs>
              <a:gs pos="100000">
                <a:srgbClr val="2b0f4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733920" y="3230640"/>
            <a:ext cx="1981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867280" y="4334040"/>
            <a:ext cx="1762200" cy="838080"/>
          </a:xfrm>
          <a:prstGeom prst="rect">
            <a:avLst/>
          </a:prstGeom>
          <a:gradFill rotWithShape="0">
            <a:gsLst>
              <a:gs pos="0">
                <a:srgbClr val="9234db"/>
              </a:gs>
              <a:gs pos="100000">
                <a:srgbClr val="2b0f4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ous re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client v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d()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733920" y="5486400"/>
            <a:ext cx="1981080" cy="762120"/>
          </a:xfrm>
          <a:prstGeom prst="rect">
            <a:avLst/>
          </a:prstGeom>
          <a:gradFill rotWithShape="0">
            <a:gsLst>
              <a:gs pos="0">
                <a:srgbClr val="9234db"/>
              </a:gs>
              <a:gs pos="100000">
                <a:srgbClr val="2b0f4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hronou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File from 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a “ReadFile()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1600200" y="5867280"/>
            <a:ext cx="21337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609560" y="1981080"/>
            <a:ext cx="0" cy="38862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76920" y="2743200"/>
            <a:ext cx="2171880" cy="181440"/>
          </a:xfrm>
          <a:custGeom>
            <a:avLst/>
            <a:gdLst/>
            <a:ahLst/>
            <a:rect l="0" t="0" r="r" b="b"/>
            <a:pathLst>
              <a:path fill="none" w="6033" h="504">
                <a:moveTo>
                  <a:pt x="6033" y="504"/>
                </a:moveTo>
                <a:lnTo>
                  <a:pt x="6033" y="504"/>
                </a:lnTo>
                <a:lnTo>
                  <a:pt x="6033" y="504"/>
                </a:lnTo>
                <a:cubicBezTo>
                  <a:pt x="6033" y="416"/>
                  <a:pt x="5754" y="329"/>
                  <a:pt x="5225" y="252"/>
                </a:cubicBezTo>
                <a:cubicBezTo>
                  <a:pt x="4695" y="175"/>
                  <a:pt x="3934" y="112"/>
                  <a:pt x="3016" y="68"/>
                </a:cubicBezTo>
                <a:cubicBezTo>
                  <a:pt x="2099" y="23"/>
                  <a:pt x="1059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7051680" y="2836800"/>
            <a:ext cx="173664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nable threa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ottled b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wCon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4114800"/>
            <a:ext cx="4038840" cy="228960"/>
          </a:xfrm>
          <a:custGeom>
            <a:avLst/>
            <a:gdLst/>
            <a:ahLst/>
            <a:rect l="0" t="0" r="r" b="b"/>
            <a:pathLst>
              <a:path fill="none" w="11219" h="636">
                <a:moveTo>
                  <a:pt x="0" y="636"/>
                </a:moveTo>
                <a:lnTo>
                  <a:pt x="0" y="0"/>
                </a:lnTo>
                <a:lnTo>
                  <a:pt x="11219" y="0"/>
                </a:lnTo>
                <a:lnTo>
                  <a:pt x="11219" y="636"/>
                </a:lnTo>
              </a:path>
            </a:pathLst>
          </a:cu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3809880"/>
            <a:ext cx="0" cy="1676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5181480"/>
            <a:ext cx="1143360" cy="686160"/>
          </a:xfrm>
          <a:custGeom>
            <a:avLst/>
            <a:gdLst/>
            <a:ahLst/>
            <a:rect l="0" t="0" r="r" b="b"/>
            <a:pathLst>
              <a:path fill="none" w="3176" h="1906">
                <a:moveTo>
                  <a:pt x="3176" y="0"/>
                </a:moveTo>
                <a:lnTo>
                  <a:pt x="3176" y="1906"/>
                </a:lnTo>
                <a:lnTo>
                  <a:pt x="0" y="1906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71360" y="1666800"/>
            <a:ext cx="1371600" cy="685800"/>
          </a:xfrm>
          <a:prstGeom prst="rect">
            <a:avLst/>
          </a:prstGeom>
          <a:gradFill rotWithShape="0">
            <a:gsLst>
              <a:gs pos="0">
                <a:srgbClr val="9234db"/>
              </a:gs>
              <a:gs pos="100000">
                <a:srgbClr val="2b0f4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819520" y="4991040"/>
            <a:ext cx="0" cy="838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933560" y="4334040"/>
            <a:ext cx="2028960" cy="838080"/>
          </a:xfrm>
          <a:prstGeom prst="rect">
            <a:avLst/>
          </a:prstGeom>
          <a:gradFill rotWithShape="0">
            <a:gsLst>
              <a:gs pos="0">
                <a:srgbClr val="9234db"/>
              </a:gs>
              <a:gs pos="100000">
                <a:srgbClr val="2b0f4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hronous re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client v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mitFile()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UNBUFCOPY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1038240"/>
            <a:ext cx="8686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ting I/O in a separate thr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171440" y="2066760"/>
            <a:ext cx="1971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Th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410000" y="2771640"/>
            <a:ext cx="1457280" cy="619200"/>
          </a:xfrm>
          <a:prstGeom prst="rect">
            <a:avLst/>
          </a:prstGeom>
          <a:gradFill rotWithShape="0">
            <a:gsLst>
              <a:gs pos="0">
                <a:srgbClr val="9234db"/>
              </a:gs>
              <a:gs pos="100000">
                <a:srgbClr val="2b0f4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2610000"/>
            <a:ext cx="0" cy="257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71880" y="2876400"/>
            <a:ext cx="94284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171880" y="3181320"/>
            <a:ext cx="914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486160" y="4314960"/>
            <a:ext cx="1486080" cy="752400"/>
          </a:xfrm>
          <a:prstGeom prst="rect">
            <a:avLst/>
          </a:prstGeom>
          <a:gradFill rotWithShape="0">
            <a:gsLst>
              <a:gs pos="0">
                <a:srgbClr val="9234db"/>
              </a:gs>
              <a:gs pos="100000">
                <a:srgbClr val="2b0f4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62160" y="3200400"/>
            <a:ext cx="0" cy="666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71880" y="3886200"/>
            <a:ext cx="1066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228840" y="3876840"/>
            <a:ext cx="972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67000" y="5095800"/>
            <a:ext cx="0" cy="552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724040" y="5657760"/>
            <a:ext cx="15429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714680" y="2619360"/>
            <a:ext cx="0" cy="302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232000" y="2556000"/>
            <a:ext cx="8650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241720" y="3546360"/>
            <a:ext cx="24163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QueuedCompletionSta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562800" y="2076480"/>
            <a:ext cx="1971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Th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143680" y="2305080"/>
            <a:ext cx="1409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143680" y="2305080"/>
            <a:ext cx="0" cy="476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432320" y="1994040"/>
            <a:ext cx="24163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QueuedCompletionSta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172120" y="3429000"/>
            <a:ext cx="0" cy="390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72120" y="3828960"/>
            <a:ext cx="2314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486560" y="3819600"/>
            <a:ext cx="0" cy="704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5952960" y="4524480"/>
            <a:ext cx="153360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72040" y="4829040"/>
            <a:ext cx="1514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8163000" y="2543040"/>
            <a:ext cx="0" cy="3114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184800" y="4222800"/>
            <a:ext cx="914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496280" y="4829040"/>
            <a:ext cx="0" cy="838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496280" y="5657760"/>
            <a:ext cx="6570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105000" y="2771640"/>
            <a:ext cx="819000" cy="638280"/>
          </a:xfrm>
          <a:prstGeom prst="rect">
            <a:avLst/>
          </a:prstGeom>
          <a:gradFill rotWithShape="0">
            <a:gsLst>
              <a:gs pos="0">
                <a:srgbClr val="114ffb"/>
              </a:gs>
              <a:gs pos="100000">
                <a:srgbClr val="05174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33720" y="3095640"/>
            <a:ext cx="466920" cy="0"/>
          </a:xfrm>
          <a:prstGeom prst="line">
            <a:avLst/>
          </a:prstGeom>
          <a:ln w="12600">
            <a:solidFill>
              <a:srgbClr val="f6bf6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43560" y="4362480"/>
            <a:ext cx="1362240" cy="647640"/>
          </a:xfrm>
          <a:prstGeom prst="rect">
            <a:avLst/>
          </a:prstGeom>
          <a:gradFill rotWithShape="0">
            <a:gsLst>
              <a:gs pos="0">
                <a:srgbClr val="114ffb"/>
              </a:gs>
              <a:gs pos="100000">
                <a:srgbClr val="05174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010040" y="4676760"/>
            <a:ext cx="466560" cy="0"/>
          </a:xfrm>
          <a:prstGeom prst="line">
            <a:avLst/>
          </a:prstGeom>
          <a:ln w="12600">
            <a:solidFill>
              <a:srgbClr val="f6bf6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UNBUFCOPY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838840" y="2533680"/>
            <a:ext cx="2114640" cy="1905120"/>
          </a:xfrm>
          <a:prstGeom prst="rect">
            <a:avLst/>
          </a:prstGeom>
          <a:gradFill rotWithShape="0">
            <a:gsLst>
              <a:gs pos="0">
                <a:srgbClr val="9234db"/>
              </a:gs>
              <a:gs pos="100000">
                <a:srgbClr val="2b0f4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095640" y="1838160"/>
            <a:ext cx="38671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981840" y="1838160"/>
            <a:ext cx="0" cy="695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962000" y="1251000"/>
            <a:ext cx="1047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443480" y="1517760"/>
            <a:ext cx="24163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QueuedCompletionSta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038480" y="2581200"/>
            <a:ext cx="1333440" cy="638280"/>
          </a:xfrm>
          <a:prstGeom prst="rect">
            <a:avLst/>
          </a:prstGeom>
          <a:gradFill rotWithShape="0">
            <a:gsLst>
              <a:gs pos="0">
                <a:srgbClr val="114ffb"/>
              </a:gs>
              <a:gs pos="100000">
                <a:srgbClr val="05174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006800" y="3714840"/>
            <a:ext cx="1393920" cy="647640"/>
          </a:xfrm>
          <a:prstGeom prst="rect">
            <a:avLst/>
          </a:prstGeom>
          <a:gradFill rotWithShape="0">
            <a:gsLst>
              <a:gs pos="0">
                <a:srgbClr val="114ffb"/>
              </a:gs>
              <a:gs pos="100000">
                <a:srgbClr val="05174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72280" y="2895480"/>
            <a:ext cx="466560" cy="0"/>
          </a:xfrm>
          <a:prstGeom prst="line">
            <a:avLst/>
          </a:prstGeom>
          <a:ln w="12600">
            <a:solidFill>
              <a:srgbClr val="f6bf6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1000" y="4019400"/>
            <a:ext cx="466920" cy="0"/>
          </a:xfrm>
          <a:prstGeom prst="line">
            <a:avLst/>
          </a:prstGeom>
          <a:ln w="12600">
            <a:solidFill>
              <a:srgbClr val="f6bf6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33760" y="4162320"/>
            <a:ext cx="2772000" cy="857520"/>
          </a:xfrm>
          <a:custGeom>
            <a:avLst/>
            <a:gdLst/>
            <a:ahLst/>
            <a:rect l="0" t="0" r="r" b="b"/>
            <a:pathLst>
              <a:path fill="none" w="7700" h="2382">
                <a:moveTo>
                  <a:pt x="7700" y="793"/>
                </a:moveTo>
                <a:lnTo>
                  <a:pt x="7700" y="2382"/>
                </a:lnTo>
                <a:lnTo>
                  <a:pt x="0" y="2382"/>
                </a:lnTo>
                <a:lnTo>
                  <a:pt x="0" y="0"/>
                </a:lnTo>
                <a:lnTo>
                  <a:pt x="1296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548160" y="4694400"/>
            <a:ext cx="2583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 completed - Write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6160" y="3067200"/>
            <a:ext cx="5038920" cy="2657880"/>
          </a:xfrm>
          <a:custGeom>
            <a:avLst/>
            <a:gdLst/>
            <a:ahLst/>
            <a:rect l="0" t="0" r="r" b="b"/>
            <a:pathLst>
              <a:path fill="none" w="13997" h="7383">
                <a:moveTo>
                  <a:pt x="13997" y="3811"/>
                </a:moveTo>
                <a:lnTo>
                  <a:pt x="13997" y="7383"/>
                </a:lnTo>
                <a:lnTo>
                  <a:pt x="0" y="7383"/>
                </a:lnTo>
                <a:lnTo>
                  <a:pt x="0" y="0"/>
                </a:lnTo>
                <a:lnTo>
                  <a:pt x="4312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300560" y="5361120"/>
            <a:ext cx="2583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completed - Read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05000" y="2057400"/>
            <a:ext cx="885960" cy="1848240"/>
          </a:xfrm>
          <a:custGeom>
            <a:avLst/>
            <a:gdLst/>
            <a:ahLst/>
            <a:rect l="0" t="0" r="r" b="b"/>
            <a:pathLst>
              <a:path fill="none" w="2461" h="5134">
                <a:moveTo>
                  <a:pt x="2461" y="5134"/>
                </a:moveTo>
                <a:lnTo>
                  <a:pt x="0" y="5134"/>
                </a:lnTo>
                <a:lnTo>
                  <a:pt x="26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076480"/>
            <a:ext cx="486000" cy="667080"/>
          </a:xfrm>
          <a:custGeom>
            <a:avLst/>
            <a:gdLst/>
            <a:ahLst/>
            <a:rect l="0" t="0" r="r" b="b"/>
            <a:pathLst>
              <a:path fill="none" w="1350" h="1853">
                <a:moveTo>
                  <a:pt x="1350" y="1853"/>
                </a:moveTo>
                <a:lnTo>
                  <a:pt x="0" y="1853"/>
                </a:ln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High-Performance</a:t>
            </a:r>
            <a:br>
              <a:rPr sz="4800"/>
            </a:b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rver Applic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041480" y="1844640"/>
            <a:ext cx="70610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buse threads; avoid saturating the system with too many runnable 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overlapped I/O to service multiple clients with a single thread and keep the disks bu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I/O completion ports to reduce the runnable threads while keeping the CPUs bu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Crucial Featu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2247840" y="1920960"/>
            <a:ext cx="464832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lapped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/O completion 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rocesses Or Thread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90720" y="1523880"/>
            <a:ext cx="3505320" cy="25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vate multiple address sp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ss required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648320" y="1523880"/>
            <a:ext cx="3505320" cy="25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d single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st IPC and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How Many Thread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679840" y="2073240"/>
            <a:ext cx="378468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th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per cl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st righ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ingle Thread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90720" y="1523880"/>
            <a:ext cx="3505320" cy="17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(no lo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s on any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48320" y="1523880"/>
            <a:ext cx="350532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wb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MP bene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cli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Thread Per Cli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09480" y="1523880"/>
            <a:ext cx="350532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SM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267080" y="1523880"/>
            <a:ext cx="4267080" cy="25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gs down with too many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ssive scheduler 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s are not fre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Just Righ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90720" y="1506600"/>
            <a:ext cx="716292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 thread per processor runn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overlapped I/O to support multiple clients on a single thread (WaitForMultipleObjec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fficult to balance variable load across 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oiding too many runnable threads is tric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I/O Completion Po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015920" y="1844640"/>
            <a:ext cx="711216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synchronization point for multiple file handles or so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cally throttles runnable threads down to match C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vents excessive context swit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apts to variable lo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I/O Completion Po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444840" y="2048040"/>
            <a:ext cx="3905280" cy="4159080"/>
          </a:xfrm>
          <a:prstGeom prst="rect">
            <a:avLst/>
          </a:prstGeom>
          <a:gradFill rotWithShape="0">
            <a:gsLst>
              <a:gs pos="0">
                <a:srgbClr val="618ffd"/>
              </a:gs>
              <a:gs pos="100000">
                <a:srgbClr val="5780e3"/>
              </a:gs>
            </a:gsLst>
            <a:path path="rect">
              <a:fillToRect l="100000" t="100000" r="0" b="0"/>
            </a:path>
          </a:gradFill>
          <a:ln w="25560">
            <a:solidFill>
              <a:srgbClr val="618ffd"/>
            </a:solidFill>
            <a:round/>
          </a:ln>
          <a:effectLst>
            <a:outerShdw dist="0" dir="0" blurRad="0" rotWithShape="0">
              <a:srgbClr val="618ffd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/O Completion 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14240" y="1523880"/>
            <a:ext cx="7636320" cy="1873440"/>
          </a:xfrm>
          <a:custGeom>
            <a:avLst/>
            <a:gdLst/>
            <a:ahLst/>
            <a:rect l="0" t="0" r="r" b="b"/>
            <a:pathLst>
              <a:path fill="none" w="21212" h="5204">
                <a:moveTo>
                  <a:pt x="0" y="3378"/>
                </a:moveTo>
                <a:lnTo>
                  <a:pt x="0" y="0"/>
                </a:lnTo>
                <a:lnTo>
                  <a:pt x="21212" y="0"/>
                </a:lnTo>
                <a:lnTo>
                  <a:pt x="21212" y="5204"/>
                </a:lnTo>
              </a:path>
            </a:pathLst>
          </a:custGeom>
          <a:ln w="76320">
            <a:solidFill>
              <a:srgbClr val="8cf4ea"/>
            </a:solidFill>
            <a:round/>
            <a:tailEnd len="med" type="triangle" w="med"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79360" y="2603520"/>
            <a:ext cx="831960" cy="2835360"/>
          </a:xfrm>
          <a:prstGeom prst="rect">
            <a:avLst/>
          </a:prstGeom>
          <a:gradFill rotWithShape="0">
            <a:gsLst>
              <a:gs pos="0">
                <a:srgbClr val="618ffd"/>
              </a:gs>
              <a:gs pos="100000">
                <a:srgbClr val="5780e3"/>
              </a:gs>
            </a:gsLst>
            <a:path path="rect">
              <a:fillToRect l="100000" t="100000" r="0" b="0"/>
            </a:path>
          </a:gradFill>
          <a:ln w="25560">
            <a:solidFill>
              <a:srgbClr val="8cf4ea"/>
            </a:solidFill>
            <a:round/>
          </a:ln>
          <a:effectLst>
            <a:outerShdw dist="0" dir="0" blurRad="0" rotWithShape="0">
              <a:srgbClr val="333333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413160" y="1066680"/>
            <a:ext cx="2317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lapped I/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619280" y="4264200"/>
            <a:ext cx="18730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ted I/O Pa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1095480" y="4584600"/>
            <a:ext cx="2676600" cy="0"/>
          </a:xfrm>
          <a:prstGeom prst="line">
            <a:avLst/>
          </a:prstGeom>
          <a:ln w="76320">
            <a:solidFill>
              <a:srgbClr val="8cf4e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093680" y="3079800"/>
            <a:ext cx="24163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QueuedCompletionSta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705120" y="2835360"/>
            <a:ext cx="1200240" cy="2752560"/>
          </a:xfrm>
          <a:prstGeom prst="rect">
            <a:avLst/>
          </a:prstGeom>
          <a:gradFill rotWithShape="0">
            <a:gsLst>
              <a:gs pos="0">
                <a:srgbClr val="618ffd"/>
              </a:gs>
              <a:gs pos="100000">
                <a:srgbClr val="5780e3"/>
              </a:gs>
            </a:gsLst>
            <a:path path="rect">
              <a:fillToRect l="100000" t="100000" r="0" b="0"/>
            </a:path>
          </a:gradFill>
          <a:ln w="25560">
            <a:solidFill>
              <a:srgbClr val="8cf4ea"/>
            </a:solidFill>
            <a:round/>
          </a:ln>
          <a:effectLst>
            <a:outerShdw dist="0" dir="0" blurRad="0" rotWithShape="0">
              <a:srgbClr val="333333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FO queue of blocked worker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11320" y="3432240"/>
            <a:ext cx="2635200" cy="0"/>
          </a:xfrm>
          <a:prstGeom prst="line">
            <a:avLst/>
          </a:prstGeom>
          <a:ln w="76320">
            <a:solidFill>
              <a:srgbClr val="8cf4e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4905360" y="4216320"/>
            <a:ext cx="1104840" cy="0"/>
          </a:xfrm>
          <a:prstGeom prst="line">
            <a:avLst/>
          </a:prstGeom>
          <a:ln w="76320">
            <a:solidFill>
              <a:srgbClr val="8cf4e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826240" y="2844720"/>
            <a:ext cx="1285920" cy="2752560"/>
          </a:xfrm>
          <a:prstGeom prst="rect">
            <a:avLst/>
          </a:prstGeom>
          <a:gradFill rotWithShape="0">
            <a:gsLst>
              <a:gs pos="0">
                <a:srgbClr val="618ffd"/>
              </a:gs>
              <a:gs pos="100000">
                <a:srgbClr val="5780e3"/>
              </a:gs>
            </a:gsLst>
            <a:path path="rect">
              <a:fillToRect l="100000" t="100000" r="0" b="0"/>
            </a:path>
          </a:gradFill>
          <a:ln w="25560">
            <a:solidFill>
              <a:srgbClr val="8cf4ea"/>
            </a:solidFill>
            <a:round/>
          </a:ln>
          <a:effectLst>
            <a:outerShdw dist="0" dir="0" blurRad="0" rotWithShape="0">
              <a:srgbClr val="333333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FO queue of completed I/O pac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112160" y="4254480"/>
            <a:ext cx="777600" cy="0"/>
          </a:xfrm>
          <a:prstGeom prst="line">
            <a:avLst/>
          </a:prstGeom>
          <a:ln w="76320">
            <a:solidFill>
              <a:srgbClr val="8cf4e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826400" y="3460680"/>
            <a:ext cx="1127160" cy="1606680"/>
          </a:xfrm>
          <a:prstGeom prst="rect">
            <a:avLst/>
          </a:prstGeom>
          <a:gradFill rotWithShape="0">
            <a:gsLst>
              <a:gs pos="0">
                <a:srgbClr val="618ffd"/>
              </a:gs>
              <a:gs pos="100000">
                <a:srgbClr val="5780e3"/>
              </a:gs>
            </a:gsLst>
            <a:path path="rect">
              <a:fillToRect l="100000" t="100000" r="0" b="0"/>
            </a:path>
          </a:gradFill>
          <a:ln w="25560">
            <a:solidFill>
              <a:srgbClr val="8cf4ea"/>
            </a:solidFill>
            <a:round/>
          </a:ln>
          <a:effectLst>
            <a:outerShdw dist="0" dir="0" blurRad="0" rotWithShape="0">
              <a:srgbClr val="333333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T I/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Vert</dc:creator>
  <dc:description/>
  <dc:language>en-US</dc:language>
  <cp:lastModifiedBy>Tomi Poutanen</cp:lastModifiedBy>
  <cp:revision>0</cp:revision>
  <dc:subject/>
  <dc:title>High-Performance Applications Windows NT™   John Vert Software Design Engineer Windows NT Microsoft Corporation</dc:title>
</cp:coreProperties>
</file>