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3A037D-1116-4584-8B9C-D0DAE4C88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25400" y="148752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Analysis Tool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za Baghai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Performance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33240" y="192888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800" y="1685880"/>
            <a:ext cx="84456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ampling prof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e picture of how time is spent in your application at the func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call tree for each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sures functions within one or more EXEs and/or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recompile of C /C++ code (manual changes needed for ASM fun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ymbol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22200" y="230040"/>
            <a:ext cx="8578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87960" y="1554120"/>
            <a:ext cx="1019160" cy="825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87960" y="1554120"/>
            <a:ext cx="10191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81560" y="4900680"/>
            <a:ext cx="101772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81560" y="4900680"/>
            <a:ext cx="1017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d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74800" y="3014640"/>
            <a:ext cx="101772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2674800" y="3014640"/>
            <a:ext cx="101772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b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9800" y="4879800"/>
            <a:ext cx="101916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09800" y="4879800"/>
            <a:ext cx="10191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05520" y="3059280"/>
            <a:ext cx="1019160" cy="82404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05520" y="3059280"/>
            <a:ext cx="101916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15120" y="4879800"/>
            <a:ext cx="1019160" cy="8269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215120" y="4879800"/>
            <a:ext cx="101916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f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81560" y="2273400"/>
            <a:ext cx="933120" cy="847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484360" y="3800520"/>
            <a:ext cx="403200" cy="1100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0" y="3821040"/>
            <a:ext cx="528840" cy="1079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37200" y="2316240"/>
            <a:ext cx="1060560" cy="847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4760" y="3800520"/>
            <a:ext cx="701640" cy="1120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13320" y="502776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65160" y="5027760"/>
            <a:ext cx="99864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684600" y="1158840"/>
            <a:ext cx="10717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22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013520" y="3184560"/>
            <a:ext cx="10000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975040" y="2300400"/>
            <a:ext cx="12081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5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256520" y="394668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6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606840" y="398952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580000" y="221616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3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035080" y="4011480"/>
            <a:ext cx="100188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722160" indent="-722160">
              <a:lnSpc>
                <a:spcPct val="90000"/>
              </a:lnSpc>
              <a:spcBef>
                <a:spcPts val="720"/>
              </a:spcBef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69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097600" y="129384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11640" y="3367080"/>
            <a:ext cx="8128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410600" y="573264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746520" y="3240000"/>
            <a:ext cx="57960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31840" y="5756400"/>
            <a:ext cx="88884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3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654360" y="5729400"/>
            <a:ext cx="719280" cy="4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1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81280" y="2995560"/>
            <a:ext cx="942840" cy="54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%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89080" y="230040"/>
            <a:ext cx="8645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How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2120" y="1638360"/>
            <a:ext cx="823896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your application with -Gh, -Z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.LI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h inserts a call to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beginning of each function c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 patches calls into DLLs to go through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defined in CAP.LIB to handle function tim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all to </a:t>
            </a:r>
            <a:r>
              <a:rPr b="1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s to be manually inserted for ASM fun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3880" y="230040"/>
            <a:ext cx="8515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.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60440" y="1754280"/>
            <a:ext cx="47023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EXE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IMPORT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APP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CALLER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NAME LENGTH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78000" y="230040"/>
            <a:ext cx="84675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dump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50800" y="1928880"/>
            <a:ext cx="8121600" cy="35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filer dump fac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profiling data and restart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p profiling and dump the data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CA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/dump can also be done from your appl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30120" y="230040"/>
            <a:ext cx="85629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427040" y="1749600"/>
            <a:ext cx="636912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dep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/DLL name:  routine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utine + callees)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/c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outine - callees)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/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74600" y="230040"/>
            <a:ext cx="88740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apView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32040" y="1928880"/>
            <a:ext cx="7359480" cy="24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visual form of C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for viewing data specially when there are 100s-1000s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function time data summary and percentage of total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39560" y="1928880"/>
            <a:ext cx="83440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all Attributed Profiler (CAP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32 API lo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2880" y="1928880"/>
            <a:ext cx="813744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s every single Win32 API and its parameters/return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WAP technology (Same Win32 DLLs except CRTDLL.DL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used to install logger D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collected as API calls are made (very disk intens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30480" y="1289160"/>
            <a:ext cx="6762600" cy="52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 beyond understanding static structure of your application; learn about its dynamic behavi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 Profiler (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Attributed Profiler (C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Lo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I/O and Synchronization Win32 API Prof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’s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Mo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File I/O and Synchronization Profi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12920" y="1976400"/>
            <a:ext cx="83977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File I/O and Synchronization APIs in KERNEL32.DLL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ia FERNEL32.D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WAP technology; application gets converted to call FERNEL32.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API calls and collects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, mutex, and semapho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fernel32 MY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955800" y="1928880"/>
            <a:ext cx="73119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ile I/O And Synchronization Profiler 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ebugger</a:t>
            </a: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wt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Com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03160" y="1928880"/>
            <a:ext cx="761688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ces calls in your program; shows number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ves call trace similar to CAP without timing info; slower but no recomp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Mon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0440" y="1976400"/>
            <a:ext cx="83026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y to use console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% CPU, CPU time, and memory information on each runn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shows memory usage for the file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d every five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4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Mon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39640" y="1574640"/>
            <a:ext cx="814392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Mem Usage:</a:t>
            </a:r>
            <a:r>
              <a:rPr b="1" lang="en-US" sz="28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of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Mem Diff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to your working set (+/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Page Faults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page faults taken by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Flts Diff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faults taken during the last sampling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Commit Charg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 of committed memory used by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Usage NonP/Pag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unt of kernel memory your application being charg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Pri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priority of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Thd Cnt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threads in you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33240" y="19764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Mon Utility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orking Set Tuner (WS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6640" y="1976400"/>
            <a:ext cx="808992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linker rearrange functions’ or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s number of code pag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%-50% savings on code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very good/realistic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works similar to CAP; requires recompile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How does it wo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4000" y="1733400"/>
            <a:ext cx="85755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 DLL called every time a function is cal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bit is set for every function called during the specified time interval (1000 ms defaul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eps a history of function references over scenario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s which functions are used concurrently 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 packing list for the linker to pack functions optimally into p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Function Reference Pat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16160" y="1749600"/>
            <a:ext cx="6591240" cy="46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tu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1:  0011111000000011100000000001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2:  00000000000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3:  000111000011000000000000001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4:  0000110000110000000000000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5:  00000000000000000011111111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u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1:  00111110000000111000000000011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3:  0001110000110000110000000011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4:  0000110000110000000000000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5:  00000000000000000011111111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2:  000000000000000000000000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609560" y="1976400"/>
            <a:ext cx="6004080" cy="35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exist in c:\wst direc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EXE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APP.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PATCH IMPORT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used - leave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TIME INTERVAL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ST.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00040" y="1542960"/>
            <a:ext cx="8223120" cy="25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AM requirement; improve application load time; even improve spe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Set Tuner (WST)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Address Dump (vadump) ut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er dump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90680" y="1976400"/>
            <a:ext cx="824220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your application with -Gh, -Z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.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Gh inserts a call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_penter()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beginning of each function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up WST.INI in c:\w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your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dump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clear/dump WST data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33440" y="230040"/>
            <a:ext cx="83566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sing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sing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70000" y="1793880"/>
            <a:ext cx="868356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c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tility to concatenate multiple data files (if multiple scenarios are r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cat  Module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n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un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tility to create the packing list 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uleName.pr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tune  /o  ModuleName.w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build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mpile with -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 with -order@ModuleName.pr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33240" y="1976400"/>
            <a:ext cx="795672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er (WST)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De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876240" y="1976400"/>
            <a:ext cx="747072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rmines the nature of each page inside your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ws working set of your application as i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86 tool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s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69960" y="1976400"/>
            <a:ext cx="7883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vadump -p pid -wo -m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tatically watch the working set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 pid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your application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o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atch working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m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display symbols within the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 by page dump of the contents of your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25680" y="1771560"/>
            <a:ext cx="6172200" cy="472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1c1000 WINFILE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19) WinMain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19) ResizeControl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53c) InitPopupMenus@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bf9) FrameWndProc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1c2000 WINFILE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bf9) FrameWndProc@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38c) InitMenu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16c) LoadBitmaps@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StaticCode And Dat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405      1620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Dynamic Data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72        288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Page Table Pages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11          44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70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Working Set                    488      1952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87520" y="1797120"/>
            <a:ext cx="804852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vadump -p pid -w -c -r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ynamically watch the working set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p pid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your application process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watch working se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c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show code faults faulting in new code (static code/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 show working set (silent otherwi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ctrl&gt;c terminates vadump and creates a histogram showing most page fa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vadump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ut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411200" y="169560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dump -p 142 -w -c -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ToCharA@8+16 : 0x02205b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ToCharA@8+16 : 0x77d84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Shell_NotifyIcon@8+6 : Shell_NotifyIcon@8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_forcdecpt+45 : _forcdecpt+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GetDateFormatW@24 : GetDateFormatW@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lInitUnicodeString@8+1b : 0x002634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Calendar@8+66 : 0x0026d3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50000"/>
              </a:lnSpc>
              <a:spcBef>
                <a:spcPts val="24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, OemToCharA@8+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_forcdecpt+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Calendar@8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DateFormatW@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Shell_NotifyIcon@8+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65000"/>
              </a:lnSpc>
              <a:spcBef>
                <a:spcPts val="47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GetCalendar@8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orking Set Tuning Tools</a:t>
            </a:r>
            <a:br>
              <a:rPr sz="1800"/>
            </a:br>
            <a:r>
              <a:rPr b="1" i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link -d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06520" y="1976400"/>
            <a:ext cx="8210520" cy="38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link -dump -sum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a summary of the sizes of different pieces of your EXE/D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text</a:t>
            </a:r>
            <a:r>
              <a:rPr b="1" i="1" lang="en-U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code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bs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ze of zero initialized static data                  ( int MyArray[512]  ;  adds 2048 bytes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bs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dat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ize of initialized static data                        ( int i = 10  ;  adds 4 bytes t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data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e1e64f"/>
                </a:solidFill>
                <a:latin typeface="Times New Roman"/>
                <a:ea typeface="Times New Roman"/>
              </a:rPr>
              <a:t>link -dump -map</a:t>
            </a:r>
            <a:r>
              <a:rPr b="1" i="1" lang="en-US" sz="3200" spc="-1" strike="noStrike">
                <a:solidFill>
                  <a:srgbClr val="f5b553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more detailed 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2560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Analysis Too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3680" y="1533600"/>
            <a:ext cx="82962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erformance Monitor for bottleneck detection and monitoring of your own application cou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ofilers/Logger to better understand dynamic behavior of your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orking Set Tuner to reduce your RAM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vadump to better understand nature of each page in your application working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erformance Mo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2920" y="1711440"/>
            <a:ext cx="83977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 bottleneck detec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monitor your own application counters (more detailed information in tomorrow’s Performance Monitoring pres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y it before using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erformance Mo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165320" y="1928880"/>
            <a:ext cx="68929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y getting the broad pic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total processo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user, % kernel, and % idl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or queu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ges/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physical disk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% Server total bytes/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rformance Tuning Tools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in32 API Profiler (WAP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36680" y="1670040"/>
            <a:ext cx="835020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cepts the calls from the application to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recompil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files the six main Win32 D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.DLL (ZERNEL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.DLL (ZSER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.DLL (ZDI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PI32.DLL (ZDVAPI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DLL.DLL (ZRTDLL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32.DLL (ZLE32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t disable chksum checking to run W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52560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27080"/>
            <a:ext cx="6080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343240" y="2287440"/>
            <a:ext cx="1646280" cy="493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09680" y="3328920"/>
            <a:ext cx="54000" cy="354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714840" y="2278080"/>
            <a:ext cx="523800" cy="655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3489480"/>
            <a:ext cx="0" cy="282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4920" y="2297160"/>
            <a:ext cx="485640" cy="560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91280" y="3476520"/>
            <a:ext cx="4680" cy="333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24600" y="2286000"/>
            <a:ext cx="1104840" cy="476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447920" y="2116080"/>
            <a:ext cx="2458800" cy="246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61800" y="3289320"/>
            <a:ext cx="919080" cy="56520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td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26120" y="3668760"/>
            <a:ext cx="1419120" cy="56052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p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95320" y="2890800"/>
            <a:ext cx="34920" cy="385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05440" y="3281400"/>
            <a:ext cx="14400" cy="376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87400" y="3740040"/>
            <a:ext cx="919080" cy="648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11600" y="3778200"/>
            <a:ext cx="1181160" cy="64836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25960" y="3790800"/>
            <a:ext cx="920880" cy="56520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d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93760" y="231300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rtd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39800" y="2782800"/>
            <a:ext cx="12924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ser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044880" y="29433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11600" y="2901960"/>
            <a:ext cx="1292400" cy="54756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nel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046920" y="272556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vapi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710160" y="1771560"/>
            <a:ext cx="1542960" cy="648360"/>
          </a:xfrm>
          <a:prstGeom prst="rect">
            <a:avLst/>
          </a:prstGeom>
          <a:gradFill rotWithShape="0">
            <a:gsLst>
              <a:gs pos="0">
                <a:srgbClr val="0b37af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96080" y="3021120"/>
            <a:ext cx="1104840" cy="541440"/>
          </a:xfrm>
          <a:prstGeom prst="rect">
            <a:avLst/>
          </a:prstGeom>
          <a:gradFill rotWithShape="0">
            <a:gsLst>
              <a:gs pos="0">
                <a:srgbClr val="ae3f80"/>
              </a:gs>
              <a:gs pos="100000">
                <a:srgbClr val="f95ab7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76880" y="2190600"/>
            <a:ext cx="2095560" cy="133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361280" y="2154240"/>
            <a:ext cx="1290600" cy="546120"/>
          </a:xfrm>
          <a:prstGeom prst="rect">
            <a:avLst/>
          </a:prstGeom>
          <a:gradFill rotWithShape="0">
            <a:gsLst>
              <a:gs pos="0">
                <a:srgbClr val="3a5597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le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268596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1800"/>
            </a:br>
            <a:r>
              <a:rPr b="1" lang="en-US" sz="36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rofiling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403280" y="1928880"/>
            <a:ext cx="6416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parate ASCII data files for each DLL profi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mber of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tal API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time per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rst call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imu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s reported in micro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25600" y="23004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API Profiler (WAP)</a:t>
            </a:r>
            <a:br>
              <a:rPr sz="1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t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08000" y="1546200"/>
            <a:ext cx="7207200" cy="50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ares applications for profiling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in32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nel32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undo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7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cv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MYAPP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f32d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ear and/or dump data at any time          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WAP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dumped upon application exit        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END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1360" y="5581800"/>
            <a:ext cx="807732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0120" indent="-600120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za Baghai</dc:creator>
  <dc:description/>
  <dc:language>en-US</dc:language>
  <cp:lastModifiedBy>Tomi Poutanen</cp:lastModifiedBy>
  <cp:revision>0</cp:revision>
  <dc:subject/>
  <dc:title>Performance Analysis Tools   Reza Baghai Software Design Engineer Windows NT Performance Microsoft Corporation</dc:title>
</cp:coreProperties>
</file>