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541520"/>
            <a:ext cx="868680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veloping Message-Enabled Server Applications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arry White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API Development Lead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PI Fea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90720" y="1420920"/>
            <a:ext cx="71629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de multiple providers from client application and from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er common 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t APIs serve different aud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C/simple MAPI for non-workgroup ISVs and corporate 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MAPI for workgroup ISV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85640" y="2318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ommon Mail Calls (CMC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41440" y="1469880"/>
            <a:ext cx="626112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-enablement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 reduce obstacles to  mail-enabling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ing/receiving IP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ing/receiving custom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UI provided by M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16-bit and 32-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MC Support By Microsof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300320" y="1420920"/>
            <a:ext cx="654516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to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a developer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Workgroups 3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avail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Windows 95 (16-bit/32-b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16-bit/32-b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Macintos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UNI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xtended MAPI Appl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844640" y="1420920"/>
            <a:ext cx="54547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mail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s of workflow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les processors/inbox man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xtended M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055960" y="1420920"/>
            <a:ext cx="50338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ori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base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Store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 Book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85640" y="2318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bject-Orien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47840" y="1469880"/>
            <a:ext cx="825012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OLE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supported represent messaging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interfaces provide poly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implementation is hidden by the open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MAPIPr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74680" y="1420920"/>
            <a:ext cx="679464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sitory for arbitrary and named pieces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Props(),SetProps(),GetPropLis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is ty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/date, LONG, and binar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an be multi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an be nested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Property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MAPIT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380960" y="1414440"/>
            <a:ext cx="63831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pos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kmarks, SeekRow(), and SeekRowApprox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only the data you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Columns() and GetRow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restriction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rict() and FindRow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support for multivalue and categorized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ntryI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789200" y="1420920"/>
            <a:ext cx="556740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ccated object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Entry() reconstit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promi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rison API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n mostly i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MAPIContain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344680" y="1420920"/>
            <a:ext cx="445464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metaphor for a container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ContentsTable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HierarchyTable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f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Entry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85760" y="1700280"/>
            <a:ext cx="69724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is a messaging architecture in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at applications use to access diverse messaging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MAPIContainer Illust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72000" y="4411800"/>
            <a:ext cx="1303200" cy="324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672000" y="4411800"/>
            <a:ext cx="130320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72000" y="4732200"/>
            <a:ext cx="1303200" cy="324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672000" y="4732200"/>
            <a:ext cx="130320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19400" y="5056200"/>
            <a:ext cx="1303200" cy="324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019400" y="5056200"/>
            <a:ext cx="130320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27640" y="5702400"/>
            <a:ext cx="1303200" cy="324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427640" y="5702400"/>
            <a:ext cx="130320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72000" y="6026040"/>
            <a:ext cx="1303200" cy="324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672000" y="6026040"/>
            <a:ext cx="130320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19400" y="5378400"/>
            <a:ext cx="1303200" cy="324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019400" y="5378400"/>
            <a:ext cx="130320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73040" y="17542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73040" y="221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73040" y="2211480"/>
            <a:ext cx="0" cy="2361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73040" y="457344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446880" y="5165640"/>
            <a:ext cx="1982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erarchy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437080" y="3873600"/>
            <a:ext cx="1336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90680" y="2049480"/>
            <a:ext cx="1303200" cy="324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290680" y="2049480"/>
            <a:ext cx="130320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90680" y="2373480"/>
            <a:ext cx="1303200" cy="324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290680" y="2373480"/>
            <a:ext cx="130320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90680" y="2697120"/>
            <a:ext cx="1303200" cy="324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290680" y="2697120"/>
            <a:ext cx="130320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90680" y="3021120"/>
            <a:ext cx="1303200" cy="324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290680" y="3021120"/>
            <a:ext cx="130320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90680" y="3344760"/>
            <a:ext cx="1303200" cy="324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290680" y="3344760"/>
            <a:ext cx="130320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90680" y="3668760"/>
            <a:ext cx="1303200" cy="324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290680" y="3668760"/>
            <a:ext cx="130320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417920" y="2803680"/>
            <a:ext cx="1982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s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408480" y="1511280"/>
            <a:ext cx="1336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16040" y="1420920"/>
            <a:ext cx="1303200" cy="324000"/>
          </a:xfrm>
          <a:prstGeom prst="rect">
            <a:avLst/>
          </a:prstGeom>
          <a:gradFill rotWithShape="0">
            <a:gsLst>
              <a:gs pos="0">
                <a:srgbClr val="a456e0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85640" y="2253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bject Dependency Tre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2200" y="2598840"/>
            <a:ext cx="0" cy="788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5440" y="1635120"/>
            <a:ext cx="2278080" cy="1138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638440" y="1722600"/>
            <a:ext cx="1490760" cy="96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89160" y="1285920"/>
            <a:ext cx="3051000" cy="4716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89160" y="1285920"/>
            <a:ext cx="30510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Se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849320" y="3475080"/>
            <a:ext cx="263520" cy="876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00320" y="4264200"/>
            <a:ext cx="876240" cy="787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814480" y="5051520"/>
            <a:ext cx="525600" cy="614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81880" y="2685960"/>
            <a:ext cx="0" cy="789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98440" y="2470320"/>
            <a:ext cx="3139920" cy="3938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98440" y="2470320"/>
            <a:ext cx="31399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gStores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7640" y="3200400"/>
            <a:ext cx="2003400" cy="4874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47640" y="3200400"/>
            <a:ext cx="200340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St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68440" y="4027320"/>
            <a:ext cx="1314360" cy="4748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468440" y="4027320"/>
            <a:ext cx="131436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31840" y="4705200"/>
            <a:ext cx="1590840" cy="4478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031840" y="4705200"/>
            <a:ext cx="1590840" cy="4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35120" y="5353200"/>
            <a:ext cx="2233440" cy="4478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535120" y="5353200"/>
            <a:ext cx="2233440" cy="4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ach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05640" y="2452680"/>
            <a:ext cx="3139920" cy="392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705640" y="2452680"/>
            <a:ext cx="313992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 Bo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6143760" y="3562200"/>
            <a:ext cx="438120" cy="140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6318360" y="3387600"/>
            <a:ext cx="1052280" cy="876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05640" y="3267000"/>
            <a:ext cx="1903320" cy="4874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705640" y="3267000"/>
            <a:ext cx="19033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Contai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299280" y="4707000"/>
            <a:ext cx="1816200" cy="4492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299280" y="4707000"/>
            <a:ext cx="18162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 u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473880" y="4057560"/>
            <a:ext cx="1590840" cy="446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473880" y="4057560"/>
            <a:ext cx="159084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 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MAPISe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313000" y="1420920"/>
            <a:ext cx="45194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MsgStoresTable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AddressBook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tatusTable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allocation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Entry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ff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essage St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1514520" y="1420920"/>
            <a:ext cx="611676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of MAPI univer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stores (copy betwe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arch f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erarchical f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MAPIFol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150920" y="1420920"/>
            <a:ext cx="6842160" cy="33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container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s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erarchy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/Delete/Move/Copy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/Delete/Move/Copy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SearchCriteria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Mess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654200" y="1420920"/>
            <a:ext cx="583740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property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ject and delivery tim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AttachmentTable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/DeleteAttach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ModifyRecipientTable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mitMessage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rtSubmit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Atta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776240" y="1420920"/>
            <a:ext cx="559116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property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achment content can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olute binary 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I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ddress Bo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684440" y="1420920"/>
            <a:ext cx="5776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ction of possible message recip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hierarchy (ca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viewed as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Address Book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al Address Book (PAB) ships as part of M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243000" y="228600"/>
            <a:ext cx="8658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ddress Book Common Dialog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417680" y="1414440"/>
            <a:ext cx="630864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(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 recipients for a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ain personal Address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lveName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rify ambiguous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ails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details about a recip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1825560"/>
              </a:tabLst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ddress Book Metho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346480" y="1420920"/>
            <a:ext cx="445284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Entry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reEntryIDs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/GetSearchPath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/GetDefaultPAB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49200" y="228600"/>
            <a:ext cx="8445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essaging Goals For Window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538280" y="1469880"/>
            <a:ext cx="60674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applications from messag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t:  reduced application development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t:  increased user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se rich messaging services in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t:  support emerging workgroup application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1996920"/>
              </a:tabLst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ABContain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305000" y="1420920"/>
            <a:ext cx="653580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contain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/copy/delet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 restrictions sup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biguous name resolution (AN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-in sear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ail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t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Exchange Cli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909720" y="1420920"/>
            <a:ext cx="732636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-compliant IPM (e-mail)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enough for day-to-day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Windows for Workgroups-based client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in Windows 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0" y="246240"/>
            <a:ext cx="91184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ustom Message Form Handl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150920" y="1414440"/>
            <a:ext cx="684216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 Mail-based al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 you to make server application-specific message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 UI is registered in D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ociated with Messag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UI launched when user clicks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API Service Provid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50800" y="1420920"/>
            <a:ext cx="6242040" cy="25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Store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 document hierarchies in standard Windows vie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 Book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 view on directory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263520" y="228600"/>
            <a:ext cx="8618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Using MAPI From 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90720" y="1969920"/>
            <a:ext cx="7162920" cy="45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ent MAPI spooler implementation doesn’t allow for management of messaging applications in multiple security con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version 1.0, limited to messaging services that implement rich store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ilWorks, Lotus Note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Microsof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chang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90720" y="1995480"/>
            <a:ext cx="71629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Initialize with MAPI_NT_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Logon with MAPI_NT_SERVICE, MAPI_NO_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 1.0, reimplementation of the MAPI Spooler as a service will allow access to all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263520" y="228600"/>
            <a:ext cx="8618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Using MAPI From 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pplication Develo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765440" y="1420920"/>
            <a:ext cx="56149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and 32-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C/simple M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M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t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, Visual C++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Basi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CMC and simple MA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macro langu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API Timel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80960" y="1420920"/>
            <a:ext cx="547056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80 service provider developers working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beta SDK: 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betas with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95 (all platfor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ships when Windows 95 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 of Windows 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-on for Windows 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-on for Windows 3.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6010200" y="1673280"/>
            <a:ext cx="2638440" cy="2008080"/>
            <a:chOff x="6010200" y="1673280"/>
            <a:chExt cx="2638440" cy="2008080"/>
          </a:xfrm>
        </p:grpSpPr>
        <p:pic>
          <p:nvPicPr>
            <p:cNvPr id="334" name="" descr=""/>
            <p:cNvPicPr/>
            <p:nvPr/>
          </p:nvPicPr>
          <p:blipFill>
            <a:blip r:embed="rId1"/>
            <a:stretch/>
          </p:blipFill>
          <p:spPr>
            <a:xfrm>
              <a:off x="6010200" y="1673280"/>
              <a:ext cx="2638440" cy="20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 txBox="1"/>
            <p:nvPr/>
          </p:nvSpPr>
          <p:spPr>
            <a:xfrm>
              <a:off x="6799320" y="1736640"/>
              <a:ext cx="914400" cy="253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199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veloper Sup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06320" y="1420920"/>
            <a:ext cx="77310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C is available on CompuServe and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specs on CompuServe and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 (go WIN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.microsoft.com /developr/devtools/m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DN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SDK on MSDN Level 2 in Ap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mail:  mapi@microsof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grating Multiple Back En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51040" y="4716360"/>
            <a:ext cx="74437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enario:  multiple messaging systems exist with gateways connect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s:  consistent user interface on deskt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054320" y="4010040"/>
            <a:ext cx="103500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22200" indent="-322200">
              <a:lnSpc>
                <a:spcPct val="109000"/>
              </a:lnSpc>
              <a:spcAft>
                <a:spcPts val="132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22440" y="1900080"/>
            <a:ext cx="0" cy="419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22440" y="2649600"/>
            <a:ext cx="0" cy="7189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35880" y="2079720"/>
            <a:ext cx="0" cy="12952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35880" y="1698480"/>
            <a:ext cx="0" cy="6271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954600" y="3584520"/>
            <a:ext cx="1225440" cy="222480"/>
            <a:chOff x="3954600" y="3584520"/>
            <a:chExt cx="1225440" cy="222480"/>
          </a:xfrm>
        </p:grpSpPr>
        <p:sp>
          <p:nvSpPr>
            <p:cNvPr id="165" name=""/>
            <p:cNvSpPr/>
            <p:nvPr/>
          </p:nvSpPr>
          <p:spPr>
            <a:xfrm>
              <a:off x="3954600" y="3807000"/>
              <a:ext cx="536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60960" y="3584520"/>
              <a:ext cx="230040" cy="222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60960" y="3584520"/>
              <a:ext cx="919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 txBox="1"/>
          <p:nvPr/>
        </p:nvSpPr>
        <p:spPr>
          <a:xfrm>
            <a:off x="798480" y="1465200"/>
            <a:ext cx="3228840" cy="48888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f47e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322200" indent="-32220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-based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395360" y="2281320"/>
            <a:ext cx="1989000" cy="48888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f47e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322200" indent="-32220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60400" y="3338640"/>
            <a:ext cx="3133800" cy="85392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f47e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322200" indent="-32220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service provider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151600" y="3338640"/>
            <a:ext cx="3133800" cy="85392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f47e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322200" indent="-32220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service provider 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684760" y="2281320"/>
            <a:ext cx="1989000" cy="48888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f47e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322200" indent="-32220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018040" y="1465200"/>
            <a:ext cx="3228840" cy="48888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f47e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322200" indent="-32220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-based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2600" y="227160"/>
            <a:ext cx="91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tegrating Services 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t The Deskt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04840" y="5167440"/>
            <a:ext cx="868536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2520" indent="-452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enario:  multiple services exist that user accesses for different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s:  integrate access to these services at the cli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12640" y="1641600"/>
            <a:ext cx="8118360" cy="3471840"/>
            <a:chOff x="512640" y="1641600"/>
            <a:chExt cx="8118360" cy="3471840"/>
          </a:xfrm>
        </p:grpSpPr>
        <p:sp>
          <p:nvSpPr>
            <p:cNvPr id="177" name=""/>
            <p:cNvSpPr/>
            <p:nvPr/>
          </p:nvSpPr>
          <p:spPr>
            <a:xfrm>
              <a:off x="4154400" y="1998720"/>
              <a:ext cx="0" cy="609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1236600" y="2951280"/>
              <a:ext cx="2917800" cy="1172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240000" y="2951280"/>
              <a:ext cx="914400" cy="1143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54400" y="2951280"/>
              <a:ext cx="1219320" cy="1143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54400" y="2951280"/>
              <a:ext cx="3313080" cy="1189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6278400" y="4583160"/>
              <a:ext cx="2352600" cy="53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6360" indent="-36360"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or example, MCI, AT&amp;T, CompuServe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3179880" y="2611440"/>
              <a:ext cx="1882800" cy="41904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0f47e1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22200" indent="-322200" algn="ctr">
                <a:lnSpc>
                  <a:spcPct val="100000"/>
                </a:lnSpc>
                <a:spcAft>
                  <a:spcPts val="1199"/>
                </a:spcAf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512640" y="4105440"/>
              <a:ext cx="1501920" cy="41904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0f47e1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22200" indent="-322200" algn="ctr">
                <a:lnSpc>
                  <a:spcPct val="100000"/>
                </a:lnSpc>
                <a:spcAft>
                  <a:spcPts val="1199"/>
                </a:spcAf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2494080" y="4105440"/>
              <a:ext cx="1501920" cy="41904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0f47e1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22200" indent="-322200" algn="ctr">
                <a:lnSpc>
                  <a:spcPct val="100000"/>
                </a:lnSpc>
                <a:spcAft>
                  <a:spcPts val="1199"/>
                </a:spcAf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o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4627440" y="4105440"/>
              <a:ext cx="1501920" cy="41904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0f47e1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22200" indent="-322200" algn="ctr">
                <a:lnSpc>
                  <a:spcPct val="100000"/>
                </a:lnSpc>
                <a:spcAft>
                  <a:spcPts val="1199"/>
                </a:spcAf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-m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6669000" y="4105440"/>
              <a:ext cx="1501920" cy="41904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0f47e1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22200" indent="-322200" algn="ctr">
                <a:lnSpc>
                  <a:spcPct val="100000"/>
                </a:lnSpc>
                <a:spcAft>
                  <a:spcPts val="1199"/>
                </a:spcAf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syn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2544840" y="1641600"/>
              <a:ext cx="3216240" cy="47628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0f47e1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22200" indent="-322200" algn="ctr">
                <a:lnSpc>
                  <a:spcPct val="100000"/>
                </a:lnSpc>
                <a:spcAft>
                  <a:spcPts val="1199"/>
                </a:spcAf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dows-based cl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er Application Opportun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42880" y="1995480"/>
            <a:ext cx="625788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lk data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 trig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standard note or custom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control/LAN ex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LAN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ore Server Application Opportun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62160" y="1995480"/>
            <a:ext cx="662004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mail enab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s as “forwarding age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se your data to MAPI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Messaging Compon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127160" y="1995480"/>
            <a:ext cx="689148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S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sub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-provided e-mail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s for value-add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API Open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923000" y="4376880"/>
            <a:ext cx="1825560" cy="776160"/>
          </a:xfrm>
          <a:prstGeom prst="rect">
            <a:avLst/>
          </a:prstGeom>
          <a:gradFill rotWithShape="0">
            <a:gsLst>
              <a:gs pos="0">
                <a:srgbClr val="cb7c02"/>
              </a:gs>
              <a:gs pos="100000">
                <a:srgbClr val="fe9b0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739960" y="4389480"/>
            <a:ext cx="1590840" cy="771480"/>
          </a:xfrm>
          <a:prstGeom prst="rect">
            <a:avLst/>
          </a:prstGeom>
          <a:gradFill rotWithShape="0">
            <a:gsLst>
              <a:gs pos="0">
                <a:srgbClr val="cb7c02"/>
              </a:gs>
              <a:gs pos="100000">
                <a:srgbClr val="fe9b0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B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8200" y="4389480"/>
            <a:ext cx="1590840" cy="771480"/>
          </a:xfrm>
          <a:prstGeom prst="rect">
            <a:avLst/>
          </a:prstGeom>
          <a:gradFill rotWithShape="0">
            <a:gsLst>
              <a:gs pos="0">
                <a:srgbClr val="cb7c02"/>
              </a:gs>
              <a:gs pos="100000">
                <a:srgbClr val="fe9b0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00040" y="3200400"/>
            <a:ext cx="2133720" cy="533520"/>
          </a:xfrm>
          <a:prstGeom prst="rect">
            <a:avLst/>
          </a:prstGeom>
          <a:gradFill rotWithShape="0">
            <a:gsLst>
              <a:gs pos="0">
                <a:srgbClr val="cb7c02"/>
              </a:gs>
              <a:gs pos="100000">
                <a:srgbClr val="fe9b0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M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19440" y="1628640"/>
            <a:ext cx="1590840" cy="770040"/>
          </a:xfrm>
          <a:prstGeom prst="roundRect">
            <a:avLst/>
          </a:prstGeom>
          <a:gradFill rotWithShape="0">
            <a:gsLst>
              <a:gs pos="0">
                <a:srgbClr val="0f47e1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67120" y="1914480"/>
            <a:ext cx="1647720" cy="770040"/>
          </a:xfrm>
          <a:prstGeom prst="roundRect">
            <a:avLst/>
          </a:prstGeom>
          <a:gradFill rotWithShape="0">
            <a:gsLst>
              <a:gs pos="0">
                <a:srgbClr val="0f47e1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195720" y="2200320"/>
            <a:ext cx="1647720" cy="770040"/>
          </a:xfrm>
          <a:prstGeom prst="rect">
            <a:avLst/>
          </a:prstGeom>
          <a:gradFill rotWithShape="0">
            <a:gsLst>
              <a:gs pos="0">
                <a:srgbClr val="0f47e1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96800" y="3852720"/>
            <a:ext cx="6632640" cy="41436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a456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67000" y="2185920"/>
            <a:ext cx="1273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09800" y="1635120"/>
            <a:ext cx="61920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38400" y="1920960"/>
            <a:ext cx="61920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71480" y="5016600"/>
            <a:ext cx="1647720" cy="771480"/>
          </a:xfrm>
          <a:prstGeom prst="rect">
            <a:avLst/>
          </a:prstGeom>
          <a:gradFill rotWithShape="0">
            <a:gsLst>
              <a:gs pos="0">
                <a:srgbClr val="cb7c02"/>
              </a:gs>
              <a:gs pos="100000">
                <a:srgbClr val="fe9b0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e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973240" y="5016600"/>
            <a:ext cx="1647720" cy="771480"/>
          </a:xfrm>
          <a:prstGeom prst="rect">
            <a:avLst/>
          </a:prstGeom>
          <a:gradFill rotWithShape="0">
            <a:gsLst>
              <a:gs pos="0">
                <a:srgbClr val="cb7c02"/>
              </a:gs>
              <a:gs pos="100000">
                <a:srgbClr val="fe9b0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k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059440" y="1590840"/>
            <a:ext cx="18129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-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310520" y="4703760"/>
            <a:ext cx="1338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156280" y="4992840"/>
            <a:ext cx="1806480" cy="795240"/>
          </a:xfrm>
          <a:prstGeom prst="rect">
            <a:avLst/>
          </a:prstGeom>
          <a:gradFill rotWithShape="0">
            <a:gsLst>
              <a:gs pos="0">
                <a:srgbClr val="cb7c02"/>
              </a:gs>
              <a:gs pos="100000">
                <a:srgbClr val="fe9b0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95360" y="5913360"/>
            <a:ext cx="6629400" cy="42876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a456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709720" y="3200400"/>
            <a:ext cx="2209680" cy="533520"/>
          </a:xfrm>
          <a:prstGeom prst="rect">
            <a:avLst/>
          </a:prstGeom>
          <a:gradFill rotWithShape="0">
            <a:gsLst>
              <a:gs pos="0">
                <a:srgbClr val="cb7c02"/>
              </a:gs>
              <a:gs pos="100000">
                <a:srgbClr val="fe9b0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995720" y="3200400"/>
            <a:ext cx="2133720" cy="533520"/>
          </a:xfrm>
          <a:prstGeom prst="rect">
            <a:avLst/>
          </a:prstGeom>
          <a:gradFill rotWithShape="0">
            <a:gsLst>
              <a:gs pos="0">
                <a:srgbClr val="cb7c02"/>
              </a:gs>
              <a:gs pos="100000">
                <a:srgbClr val="fe9b0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M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65080" y="3252960"/>
            <a:ext cx="1568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08480" y="3252960"/>
            <a:ext cx="18478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arry White, subbed for Kaufman</dc:creator>
  <dc:description/>
  <dc:language>en-US</dc:language>
  <cp:lastModifiedBy>shannon wheeler</cp:lastModifiedBy>
  <cp:revision>0</cp:revision>
  <dc:subject/>
  <dc:title>logo slide</dc:title>
</cp:coreProperties>
</file>