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371056-CED6-46EF-A0B2-3112295C3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1482840"/>
            <a:ext cx="7772400" cy="37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rvice Administration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Tom Payne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Network Development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RPC API - Advantages Over Registry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01720" y="2063880"/>
            <a:ext cx="754056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at of data not expo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can be protected from corru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ioning can be built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direct - changes can be reflected immedi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for large amounts 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esigning Your Interface: Version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17520" y="1762200"/>
            <a:ext cx="850896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add info to API without changing prototype.  Makes updating ea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level and downlevel compat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wnlevel admin tool continues to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level admin tool can be sm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HORT YourSvcGetInfo( CHAR *Server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HORT Level, VOID *Buffer, USHORT BufSiz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esigning Your Interface: Performance Consider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57120" y="1952640"/>
            <a:ext cx="8429760" cy="36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ons on multiple parameters of a single object with one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other handy use of info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ons on multiple objects with one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, adding members to a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ware Open-Get-Set-Clos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 much network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esigning Your Interface: Performance Consider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19200" y="1984320"/>
            <a:ext cx="79056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um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 info levels with appropriate amount of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-side sorting (store sor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ow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need to detect slow links and modify UPI (reduce information flow).  For example, AS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504800" y="228600"/>
            <a:ext cx="613404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Administration AP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146320" y="1968480"/>
            <a:ext cx="485136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Log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Controller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SA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76240" y="1733400"/>
            <a:ext cx="7391520" cy="2286000"/>
          </a:xfrm>
          <a:prstGeom prst="ellipse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4480" y="4248000"/>
            <a:ext cx="8915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667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4364b1"/>
              </a:gs>
              <a:gs pos="100000">
                <a:srgbClr val="618ffd"/>
              </a:gs>
            </a:gsLst>
            <a:lin ang="0"/>
          </a:gradFill>
          <a:ln w="3816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476440" y="4629240"/>
            <a:ext cx="2514600" cy="76212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543120" y="5619600"/>
            <a:ext cx="2438280" cy="76212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5245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28880" y="2495520"/>
            <a:ext cx="1828800" cy="609480"/>
          </a:xfrm>
          <a:prstGeom prst="rect">
            <a:avLst/>
          </a:prstGeom>
          <a:gradFill rotWithShape="0">
            <a:gsLst>
              <a:gs pos="0">
                <a:srgbClr val="4364b1"/>
              </a:gs>
              <a:gs pos="100000">
                <a:srgbClr val="618ffd"/>
              </a:gs>
            </a:gsLst>
            <a:lin ang="0"/>
          </a:gradFill>
          <a:ln w="3816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76440" y="196200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771720" y="295272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838760" y="188604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, LSA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952560" y="3105000"/>
            <a:ext cx="838080" cy="1371600"/>
          </a:xfrm>
          <a:prstGeom prst="line">
            <a:avLst/>
          </a:prstGeom>
          <a:ln w="381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38560" y="2571840"/>
            <a:ext cx="533520" cy="205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62440" y="3562200"/>
            <a:ext cx="381240" cy="205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00880" y="2495520"/>
            <a:ext cx="761760" cy="1981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95760" y="539100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1790640" y="5010120"/>
            <a:ext cx="190512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0640" y="49338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91040" y="501012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1247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905440" y="272412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log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19840" y="3333600"/>
            <a:ext cx="1067040" cy="114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981760" y="5543640"/>
            <a:ext cx="1828800" cy="45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600880" y="5543640"/>
            <a:ext cx="53316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rvice Administration Environ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Registry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1482840"/>
            <a:ext cx="770904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ipulate data in the Registry, both locally and remo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ful for static service configuration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ry Editor</a:t>
            </a:r>
            <a:r>
              <a:rPr b="1" lang="en-US" sz="3200" spc="-1" strike="noStrike">
                <a:solidFill>
                  <a:srgbClr val="bc37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a useful adjunct for your administration tool for seldom used configuration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rvice Administration Environ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76240" y="1733400"/>
            <a:ext cx="7391520" cy="2286000"/>
          </a:xfrm>
          <a:prstGeom prst="ellipse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4480" y="4248000"/>
            <a:ext cx="8915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667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476440" y="4629240"/>
            <a:ext cx="2514600" cy="76212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43120" y="5619600"/>
            <a:ext cx="2438280" cy="76212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5245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28880" y="249552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476440" y="196200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771720" y="295272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838760" y="188604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, LSA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952560" y="3105000"/>
            <a:ext cx="838080" cy="1371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38560" y="2571840"/>
            <a:ext cx="533520" cy="205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62440" y="3562200"/>
            <a:ext cx="381240" cy="205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00880" y="2495520"/>
            <a:ext cx="761760" cy="1981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95760" y="539100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1790640" y="5010120"/>
            <a:ext cx="190512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0640" y="49338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91040" y="501012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1247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4364b1"/>
              </a:gs>
              <a:gs pos="100000">
                <a:srgbClr val="618ffd"/>
              </a:gs>
            </a:gsLst>
            <a:lin ang="0"/>
          </a:gradFill>
          <a:ln w="3816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905440" y="2724120"/>
            <a:ext cx="1828800" cy="609480"/>
          </a:xfrm>
          <a:prstGeom prst="rect">
            <a:avLst/>
          </a:prstGeom>
          <a:gradFill rotWithShape="0">
            <a:gsLst>
              <a:gs pos="0">
                <a:srgbClr val="4364b1"/>
              </a:gs>
              <a:gs pos="100000">
                <a:srgbClr val="618ffd"/>
              </a:gs>
            </a:gsLst>
            <a:lin ang="0"/>
          </a:gradFill>
          <a:ln w="3816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log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19840" y="3333600"/>
            <a:ext cx="1067040" cy="1143000"/>
          </a:xfrm>
          <a:prstGeom prst="line">
            <a:avLst/>
          </a:prstGeom>
          <a:ln w="381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5981760" y="5543640"/>
            <a:ext cx="1828800" cy="45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600880" y="5543640"/>
            <a:ext cx="53316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Log Event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468440" y="1482840"/>
            <a:ext cx="6207120" cy="433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ortEvent() called by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 for unattende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vent Viewer</a:t>
            </a:r>
            <a:r>
              <a:rPr b="1" lang="en-US" sz="3200" spc="-1" strike="noStrike">
                <a:solidFill>
                  <a:srgbClr val="bc37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 tool for diagno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 text friendly for users/administrators of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text can be loc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rvice Administration Environ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76240" y="1733400"/>
            <a:ext cx="7391520" cy="2286000"/>
          </a:xfrm>
          <a:prstGeom prst="ellipse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4480" y="4248000"/>
            <a:ext cx="8915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667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476440" y="4629240"/>
            <a:ext cx="2514600" cy="762120"/>
          </a:xfrm>
          <a:prstGeom prst="rect">
            <a:avLst/>
          </a:prstGeom>
          <a:gradFill rotWithShape="0">
            <a:gsLst>
              <a:gs pos="0">
                <a:srgbClr val="4364b1"/>
              </a:gs>
              <a:gs pos="100000">
                <a:srgbClr val="618ffd"/>
              </a:gs>
            </a:gsLst>
            <a:lin ang="0"/>
          </a:gradFill>
          <a:ln w="3816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543120" y="5619600"/>
            <a:ext cx="2438280" cy="76212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5245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28880" y="249552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476440" y="1962000"/>
            <a:ext cx="1828800" cy="609480"/>
          </a:xfrm>
          <a:prstGeom prst="rect">
            <a:avLst/>
          </a:prstGeom>
          <a:gradFill rotWithShape="0">
            <a:gsLst>
              <a:gs pos="0">
                <a:srgbClr val="4364b1"/>
              </a:gs>
              <a:gs pos="100000">
                <a:srgbClr val="618ffd"/>
              </a:gs>
            </a:gsLst>
            <a:lin ang="0"/>
          </a:gradFill>
          <a:ln w="3816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771720" y="295272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838760" y="188604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, LSA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952560" y="3105000"/>
            <a:ext cx="838080" cy="1371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38560" y="2571840"/>
            <a:ext cx="533520" cy="2057400"/>
          </a:xfrm>
          <a:prstGeom prst="line">
            <a:avLst/>
          </a:prstGeom>
          <a:ln w="381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62440" y="3562200"/>
            <a:ext cx="381240" cy="205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600880" y="2495520"/>
            <a:ext cx="761760" cy="1981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95760" y="539100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1790640" y="5010120"/>
            <a:ext cx="190512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90640" y="49338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91040" y="501012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1247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905440" y="272412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log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19840" y="3333600"/>
            <a:ext cx="1067040" cy="114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981760" y="5543640"/>
            <a:ext cx="1828800" cy="45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600880" y="5543640"/>
            <a:ext cx="53316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rvice Administr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54160" y="1482840"/>
            <a:ext cx="863604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y piece of overall distributed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ployment costs heavily weighted toward management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administration is not just a good G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ccessful product will prompt ISVs and corporate developers to develop their own GUI.  It is difficult to foresee all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rvice Controller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746280" y="1482840"/>
            <a:ext cx="76518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 administration of Windows NT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, Stop, Pause,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ion,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er Manager</a:t>
            </a:r>
            <a:r>
              <a:rPr b="1" lang="en-US" sz="3200" spc="-1" strike="noStrike">
                <a:solidFill>
                  <a:srgbClr val="bc37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rvices Applet</a:t>
            </a:r>
            <a:r>
              <a:rPr b="1" lang="en-US" sz="3200" spc="-1" strike="noStrike">
                <a:solidFill>
                  <a:srgbClr val="bc37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ervice Controller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rvice Controller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87520" y="1482840"/>
            <a:ext cx="796932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ervice(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s service in reg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specify account in which service r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/SetServiceObjectSecurity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es who can control the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/ChangeServiceConfig(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s configuratio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rvice Controller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42920" y="1482840"/>
            <a:ext cx="705816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Service(),ControlService(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, stop, pause, conti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create own control codes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ServiceStatus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status of service as reported to Service Contro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use ControlService() to get latest info for running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187280" y="228600"/>
            <a:ext cx="67690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Example:  Service Controller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03360" y="1905120"/>
            <a:ext cx="7937640" cy="23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 your service if not already started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to see if it is ru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 in parameters in StartService() - could (should - parameters passed are not persisted) use Registry inst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rvice Administration Environ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76240" y="1733400"/>
            <a:ext cx="7391520" cy="2286000"/>
          </a:xfrm>
          <a:prstGeom prst="ellipse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4480" y="4248000"/>
            <a:ext cx="8915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667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476440" y="4629240"/>
            <a:ext cx="2514600" cy="76212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543120" y="5619600"/>
            <a:ext cx="2438280" cy="76212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5245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4364b1"/>
              </a:gs>
              <a:gs pos="100000">
                <a:srgbClr val="618ffd"/>
              </a:gs>
            </a:gsLst>
            <a:lin ang="0"/>
          </a:gradFill>
          <a:ln w="3816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028880" y="249552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476440" y="196200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771720" y="295272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838760" y="1886040"/>
            <a:ext cx="1828800" cy="609480"/>
          </a:xfrm>
          <a:prstGeom prst="rect">
            <a:avLst/>
          </a:prstGeom>
          <a:gradFill rotWithShape="0">
            <a:gsLst>
              <a:gs pos="0">
                <a:srgbClr val="4364b1"/>
              </a:gs>
              <a:gs pos="100000">
                <a:srgbClr val="618ffd"/>
              </a:gs>
            </a:gsLst>
            <a:lin ang="0"/>
          </a:gradFill>
          <a:ln w="38160">
            <a:solidFill>
              <a:srgbClr val="fafd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, LSA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952560" y="3105000"/>
            <a:ext cx="838080" cy="1371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38560" y="2571840"/>
            <a:ext cx="533520" cy="205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62440" y="3562200"/>
            <a:ext cx="381240" cy="205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00880" y="2495520"/>
            <a:ext cx="761760" cy="1981080"/>
          </a:xfrm>
          <a:prstGeom prst="line">
            <a:avLst/>
          </a:prstGeom>
          <a:ln w="381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95760" y="539100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1790640" y="5010120"/>
            <a:ext cx="190512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90640" y="49338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991040" y="501012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1247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905440" y="272412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log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19840" y="3333600"/>
            <a:ext cx="1067040" cy="114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981760" y="5543640"/>
            <a:ext cx="1828800" cy="45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600880" y="5543640"/>
            <a:ext cx="53316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Net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055520" y="1482840"/>
            <a:ext cx="703260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and group mani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User*, NetGroup*, NetLocalGroup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Net APIs for Windows NT 3.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ed fo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LocalGroupAddMembers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LocalGroupRemoveMembers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QueryDisplayInformation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GetDisplayInformationIndex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Examp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622520" y="1482840"/>
            <a:ext cx="589932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user and local group and add user to local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LSA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511280" y="1482840"/>
            <a:ext cx="612144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security 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 system security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ain relation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ret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in Windows NT 3.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LSA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103400" y="1482840"/>
            <a:ext cx="6937200" cy="47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saOpenPolicy() - Open the LSA locally or remo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saQuery/SetInformationPolicy() - Sets information such as domain 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ret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to store user/password information for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saCreateSecret(), LsaOpenSecret(), LsaSetSecret(), LsaQuerySecre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LSA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85840" y="1482840"/>
            <a:ext cx="857268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saLookupNames/Sids() - translates between account names and security 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righ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s the actions a user account can per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saEnumerateAccountsWithUser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saEnumerateAccountRights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saAdd/RemoveAccountRights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rvice Administr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01720" y="1482840"/>
            <a:ext cx="754056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 on a great administrative programming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nk sim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 programming interface e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ering your service also means administering the environment in which it r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LSA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047600" y="1482840"/>
            <a:ext cx="704844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do I set up my service to run in an account and give the account the right to run as a serv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Future Administration Interfa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039680" y="1952640"/>
            <a:ext cx="706428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, DCOM platform-independent interfaces for commonly used directory service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Automation - scripting from Visual Basic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other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rite A Great Remotely Manageable Serv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015920" y="1920960"/>
            <a:ext cx="7112160" cy="33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 admin API e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RPC for platform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nk about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ze Windows NT fac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, LSA, Service Controller 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lo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rvice Administration Environ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76240" y="1733400"/>
            <a:ext cx="7391520" cy="2286000"/>
          </a:xfrm>
          <a:prstGeom prst="ellipse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4480" y="4248000"/>
            <a:ext cx="8915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667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476440" y="4629240"/>
            <a:ext cx="2514600" cy="76212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543120" y="5619600"/>
            <a:ext cx="2438280" cy="76212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5245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28880" y="249552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476440" y="196200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ice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771720" y="295272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838760" y="188604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, LSA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952560" y="3105000"/>
            <a:ext cx="838080" cy="1371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38560" y="2571840"/>
            <a:ext cx="533520" cy="205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62440" y="3562200"/>
            <a:ext cx="381240" cy="205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00880" y="2495520"/>
            <a:ext cx="761760" cy="1981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95760" y="539100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1790640" y="5010120"/>
            <a:ext cx="190512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0640" y="493380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91040" y="5010120"/>
            <a:ext cx="533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7124760" y="4476600"/>
            <a:ext cx="1523880" cy="1066680"/>
          </a:xfrm>
          <a:prstGeom prst="rect">
            <a:avLst/>
          </a:prstGeom>
          <a:gradFill rotWithShape="0">
            <a:gsLst>
              <a:gs pos="0">
                <a:srgbClr val="662499"/>
              </a:gs>
              <a:gs pos="100000">
                <a:srgbClr val="9234db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905440" y="2724120"/>
            <a:ext cx="1828800" cy="609480"/>
          </a:xfrm>
          <a:prstGeom prst="rect">
            <a:avLst/>
          </a:prstGeom>
          <a:gradFill rotWithShape="0">
            <a:gsLst>
              <a:gs pos="0">
                <a:srgbClr val="00695f"/>
              </a:gs>
              <a:gs pos="100000">
                <a:srgbClr val="00968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log 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19840" y="3333600"/>
            <a:ext cx="1067040" cy="1143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981760" y="5543640"/>
            <a:ext cx="1828800" cy="45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600880" y="5543640"/>
            <a:ext cx="53316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rvice Administr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39640" y="1482840"/>
            <a:ext cx="806436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osing a remote administration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Windows N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dministration APIs (Service Controller, Net, LSA, Eventlo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hoosing A Remote Administration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590840" y="2000160"/>
            <a:ext cx="59626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y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own IPC (over Winsock or named pip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Remote Registry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146240" y="1482840"/>
            <a:ext cx="685152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- No API interface to devel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uld store static data in reg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 known good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RegNotifyChangeKey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Your Own (Non-RPC)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90480" y="1482840"/>
            <a:ext cx="776304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do your own security, marsh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worry about transport specif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Use RPC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06480" y="1177920"/>
            <a:ext cx="7331040" cy="53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protocols/multiple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operability with other OSF DCE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- it’s (almost free!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- RpcBindingSetAuth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- RpcServerRegisterAuth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publish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t-in vers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llent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om Payne</dc:creator>
  <dc:description/>
  <dc:language>en-US</dc:language>
  <cp:lastModifiedBy>Tomi Poutanen</cp:lastModifiedBy>
  <cp:revision>0</cp:revision>
  <dc:subject/>
  <dc:title>Service Administration</dc:title>
</cp:coreProperties>
</file>