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 txBox="1"/>
          <p:nvPr/>
        </p:nvSpPr>
        <p:spPr>
          <a:xfrm>
            <a:off x="1014480" y="727200"/>
            <a:ext cx="711684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rting NLMs To Windows NT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™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Kevin Ferguson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kferg@mobileware.com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enior Architec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search And Development</a:t>
            </a:r>
            <a:br>
              <a:rPr sz="3600"/>
            </a:br>
            <a:r>
              <a:rPr b="1" lang="en-US" sz="36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obileWare Corp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IO API - Net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765000" y="1077840"/>
            <a:ext cx="7615080" cy="54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OAcquirePort() requires that three parameters be specified to identify a particular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ar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O requires periodic polling of the ports.  There is no way to be notified when an event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primitives cover the basic comm functionality which makes it 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590400" y="1225440"/>
            <a:ext cx="796284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 is the same for Windows 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 is used to open the port by specifying the por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040">
              <a:lnSpc>
                <a:spcPct val="8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 hPort = CreateFile( “\\\\.\\COM1”, GENERIC_READ | GENERIC_WRITE, 0, NULL, OPEN_EXISTING, 0, NULL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 port names do not have to be named COMx.  They could be defined by the user via the registry or some third- party adapter’s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 port names can be enumerated from the registry under the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RDWARE\DEVICEMAP\SERIALCOMM key in HKEY_LOCAL_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9840" y="230040"/>
            <a:ext cx="90057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Comm API -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50760" y="1168560"/>
            <a:ext cx="9043920" cy="52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hough a polling architecture can be used, it is not recommended because it is a CPU-intens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provides APIs that allow a thread to be notified about certain comm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CommMask() allows you to specify which events to be monitored for a specific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CommEvent() allows a thread to be notified that an event has occurred for the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 and WriteFile() are used to read and writ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6320" y="230040"/>
            <a:ext cx="8991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Comm API -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4000" y="228600"/>
            <a:ext cx="90378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32 Comm API -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359000" y="1521000"/>
            <a:ext cx="64263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ed I/O can be used for asynchronous reading, writing, and waiting for comm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model allows one thread to handle one or more comm devices while still being able to wait for the signaling of other Windows NT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rting MobileWare To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817640" y="1982880"/>
            <a:ext cx="5510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Btrieve to O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rial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IO to Win32 Comm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I to Windows Sockets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AN Connectivity - Net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38080" y="1935000"/>
            <a:ext cx="74674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used the TLI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I is common on UNIX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latforms but not on many PC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PIs are complete and 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5680" y="230040"/>
            <a:ext cx="89740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LAN Connectivity -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063800"/>
            <a:ext cx="777384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used WinSock 1.1 for our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LI and sockets are similar enough that it made the port fairly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kets differ slightly from BSD sockets due to extra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AStartup() and WSACleanup() are called at startup and exit of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WSAxxx() functions exist for socket management, event notific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dFile() and WriteFile() can be used on STREAM sockets.  This also means that overlapped I/O can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rting MobileWare To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817640" y="1982880"/>
            <a:ext cx="5510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Btrieve to O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rial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IO to Win32 Comm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LAN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TLI to Windows Sockets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Unico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158840"/>
            <a:ext cx="716292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string manipulation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#include “tchar.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processor definitions _UNI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ve strings to resourc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is 2 bytes per character (unsigned short rather than by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culation of string size is different due to character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ngth=_tcslen(pstring)*sizeof(TCHAR)+sizeof(TCH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60560" y="230040"/>
            <a:ext cx="7024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eatures Of Windows N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719360" y="1768320"/>
            <a:ext cx="570564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ebugging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Interesting tid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Ag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2025720" y="1765440"/>
            <a:ext cx="509256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bileWar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ting MobileWare to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 of Windows 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09760" y="1082520"/>
            <a:ext cx="6324480" cy="55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med p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found in 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NamedPipe() creates a named pipe for the serve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() is used to open the pipe from a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n be transferred using ReadFile() and WriteFile() or TransactNamedPip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ed I/O can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pes can be closed using CloseHandl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3880" y="1158840"/>
            <a:ext cx="789768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ory-mapped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found in 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method supported in Windows NT for sharing memory between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FileMapping() returns a handle to a file-mapping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pViewOfFile() maps the object into the caller’s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MapViewOfFile() unmaps the object from the caller’s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) closes the file-mapping ob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09640" y="1692360"/>
            <a:ext cx="57261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ebugging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Interesting tid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93840" y="230040"/>
            <a:ext cx="8356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eatures Of Windows N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52440" y="1082520"/>
            <a:ext cx="844056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s are available in both operating systems:  BeginThread() in NetWare and CreateThread() in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creation is basically the s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PI in NetWare allows one thread to terminate another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rminateThread() in Windows NT fills this gap but has some side effects which should be considered before making th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stack is not freed when the thread terminates except when the process ex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are not notified that the thread is ter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80960" y="1082520"/>
            <a:ext cx="818352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2800" indent="-442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’s ThreadSwitch() call is not necessary in Windows NT since Windows NT is preemptive.  Sleep(0) can be used in Windows NT to give up the remainder of the thread’s times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WaitForSingleObject() allows a thread to wait for another thread to terminate.  There is no comparable function in 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are’s Library API provides functions to get and set data area pointers for the current N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ly, thread-local storage in Windows NT provides data storage but goes a step further to provide storage on a per-thread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5840" y="1616040"/>
            <a:ext cx="731196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eduling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iority in NetWare is more restrictive than in Windows 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Priority Classes in Windows 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_PRIORITY_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LE _PRIORITY_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RMAL _PRIORITY_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AL_TIME _PRIORITY_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Threa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9240" y="1235160"/>
            <a:ext cx="870732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 priorities within the process priorit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_PRIORITY_ABOVE_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_PRIORITY_ BELOW_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_PRIORITY_ HIGH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_PRIORITY_ I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_PRIORITY_ LO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_PRIORITY_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READ_PRIORITY_ TIME_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Synchro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117440" y="1311120"/>
            <a:ext cx="69105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NetWare and Windows NT offer semaphores and critical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, however, provides two other useful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tForSingleObject() and WaitForMultipleObjects() are used to wait for objects to be sign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Ev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52640" y="1082520"/>
            <a:ext cx="70390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for signaling that an “event” has occu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ts are signaled when the SetEvent() function is called and reset by ResetEvent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ual-Reset events require that ResetEvent() be called to put the state in a non-signale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-Reset events are automatically reset when a thread has been released due to th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Ev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76320" y="1387440"/>
            <a:ext cx="719136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Event() creates a named or unnamed event object as either a manual-reset or auto-reset event.  It can also set the initial state to non-signaled or sign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 are used to wait for an event to be signa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oseHandle() closes an open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MobileWare Over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4680" y="1163520"/>
            <a:ext cx="80550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42800" indent="-442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obileWare product is a client-server, mobile network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bileWare allows a mobile user to send/receive e-mail, fax, do file transfers and remote pr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communications are over analog cellular, phone line, or local area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bileWare is a series of NLMs on NetWar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bileWare uses key O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697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697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6972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Mutex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74840" y="1158840"/>
            <a:ext cx="819468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ful when sharing a resource between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one thread can “own” the mutex at a time.  When the mutex is not owned by a thread, it is in the non-signale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texes are similar to semaphores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hread that owns the mutex will not block on succeeding wait function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maphores can allow more than one thread access to the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Windows NT Mutex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66880" y="1692360"/>
            <a:ext cx="561168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Mutex() is called to create a mutex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</a:t>
            </a:r>
            <a:r>
              <a:rPr b="1" lang="en-US" sz="3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ai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ctions are used to wait for ownership of the mu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Mutex() is called to release the mut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eatures Of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01720" y="1920960"/>
            <a:ext cx="5740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ing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Interesting tid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Debugging Ti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09840" y="1463760"/>
            <a:ext cx="612468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FC TRACE()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tputDebugString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-in-time” 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DebugBreak() to invoke the debug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ing system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Service to Interact with Desktop” check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Features Of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701720" y="1844640"/>
            <a:ext cx="5740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Interprocess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ebugging 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ing tid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Interesting Tidb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80" y="1068480"/>
            <a:ext cx="9013680" cy="42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named pipes between services may require you to add your pipe nam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KEY_LOCAL_MACHINE\SYSTEM\CurrentControlSet\Services\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manServer\Parameters\NullSessionPipes (REG_MULTI_SZ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security fo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_ATTRIBUTES structure should be initialized and passed to </a:t>
            </a:r>
            <a:r>
              <a:rPr b="1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e object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s when creating objects that are used between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ynamic stack al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93640" y="2481120"/>
            <a:ext cx="795672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Questions And Answ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577880" y="230040"/>
            <a:ext cx="598788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rting MobileWare To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62200" y="1906560"/>
            <a:ext cx="562140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trieve to O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Serial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AIO to Win32</a:t>
            </a:r>
            <a:r>
              <a:rPr b="1" lang="en-US" sz="2800" spc="-1" strike="noStrike" baseline="30000">
                <a:solidFill>
                  <a:srgbClr val="676767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Comm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LAN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TLI to Windows</a:t>
            </a:r>
            <a:r>
              <a:rPr b="1" lang="en-US" sz="2800" spc="-1" strike="noStrike" baseline="30000">
                <a:solidFill>
                  <a:srgbClr val="676767"/>
                </a:solidFill>
                <a:latin typeface="Times New Roman"/>
                <a:ea typeface="Times New Roman"/>
              </a:rPr>
              <a:t>®</a:t>
            </a:r>
            <a:r>
              <a:rPr b="1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 Sockets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Btrieve</a:t>
            </a:r>
            <a:r>
              <a:rPr b="1" lang="en-US" sz="3600" spc="-1" strike="noStrike" baseline="50000">
                <a:solidFill>
                  <a:srgbClr val="f6bf69"/>
                </a:solidFill>
                <a:latin typeface="Times New Roman"/>
                <a:ea typeface="Times New Roman"/>
              </a:rPr>
              <a:t>®</a:t>
            </a: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 - NetW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0160" y="1406520"/>
            <a:ext cx="74833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btrvID() API is what we used for all databas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ce we needed access to the database from a client, BREQUEST.EXE was used to access databases local to a server using the same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API is proprietary and could not be ported to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DBC -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8000" y="1047600"/>
            <a:ext cx="838980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database port was mostly a re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FC classes made the work a lot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DataSources() used to enumerate all data sources in order to check for data source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ConfigDataSource() to create data source specifying name, ODBC driver, and additional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Tables() to enumerate all tables for given data source and verify necessary tables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85000"/>
              </a:lnSpc>
              <a:spcBef>
                <a:spcPts val="601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ABLE” and “CREATE INDEX” SQL statements used to create required tables for data source and the associated ind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DBC -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52400" y="1077840"/>
            <a:ext cx="7640640" cy="52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cordset derived classes used to manipulate each table’s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strFilter set with SQL “WHERE” clause to retrieve sub-set of table’s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New(), Delete(), Edit(), and Update() used to operate on individual records within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r’s thread ID is mapped to a CRecordset pointer to maintain currency between the single process service and the multiple process/thread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300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ODBC -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54000" y="1106640"/>
            <a:ext cx="723600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 number of ODBC driver vendors to choos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ized interface (MFC and S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 applications can view/modify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ious levels of SQL supported among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trade-offs due to robustness of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3004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rting MobileWare To Windows 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17640" y="1835280"/>
            <a:ext cx="5510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Btrieve to OD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ial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O to Win32 Comm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LAN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TLI to Windows Sockets 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6bf69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676767"/>
                </a:solidFill>
                <a:latin typeface="Times New Roman"/>
                <a:ea typeface="Times New Roman"/>
              </a:rPr>
              <a:t>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evin Fergusen</dc:creator>
  <dc:description/>
  <dc:language>en-US</dc:language>
  <cp:lastModifiedBy>shannon wheeler</cp:lastModifiedBy>
  <cp:revision>0</cp:revision>
  <dc:subject/>
  <dc:title>Porting NLMs To Windows NT™   Kevin Ferguson kferg@mobileware.com Senior Architect Research And Development MobileWare Corporation</dc:title>
</cp:coreProperties>
</file>