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1212840" y="941400"/>
            <a:ext cx="671832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NMP Extensions 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teve Rosato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velopment Manag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Manageme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63520" y="228600"/>
            <a:ext cx="8618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 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nmpExtensionIn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18288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 Time Difference for possible later r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Event if Trap support is des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 what portion of Namespace this Extension Agent wil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 if properly initi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63520" y="228600"/>
            <a:ext cx="8618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 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nmpExtensionInit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33320" y="1917720"/>
            <a:ext cx="767700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Ag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 OID of View to b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True if you have more views to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ble Agent Serv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ble Agent looks for this entry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, it will call it repeatedly until False is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263520" y="228600"/>
            <a:ext cx="8618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 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dible Agent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1720" y="1468440"/>
            <a:ext cx="1996920" cy="6001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0440" y="1477800"/>
            <a:ext cx="207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809640" y="1609560"/>
            <a:ext cx="1450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 S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1520" y="315288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43080" y="2400480"/>
            <a:ext cx="2003400" cy="895320"/>
          </a:xfrm>
          <a:prstGeom prst="round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962000" y="3581280"/>
            <a:ext cx="1924200" cy="6415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SNM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P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581200" y="4567320"/>
            <a:ext cx="1971720" cy="6415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276720" y="5629320"/>
            <a:ext cx="1971720" cy="6415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. Agent to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38360" y="527688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66920" y="210492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81360" y="421956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43440" y="4371840"/>
            <a:ext cx="142920" cy="155736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86240" y="5815080"/>
            <a:ext cx="571680" cy="1285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414680" y="1467000"/>
            <a:ext cx="1984320" cy="684360"/>
            <a:chOff x="4414680" y="1467000"/>
            <a:chExt cx="1984320" cy="684360"/>
          </a:xfrm>
        </p:grpSpPr>
        <p:sp>
          <p:nvSpPr>
            <p:cNvPr id="193" name=""/>
            <p:cNvSpPr txBox="1"/>
            <p:nvPr/>
          </p:nvSpPr>
          <p:spPr>
            <a:xfrm>
              <a:off x="4495680" y="1509840"/>
              <a:ext cx="18223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nd Off to 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4680" y="146700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4365720" y="4314960"/>
            <a:ext cx="1521000" cy="1429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67160" y="3143160"/>
            <a:ext cx="128520" cy="121428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86040" y="3024360"/>
            <a:ext cx="819000" cy="1094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86040" y="1876320"/>
            <a:ext cx="123840" cy="123840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00440" y="1828800"/>
            <a:ext cx="643320" cy="200520"/>
          </a:xfrm>
          <a:custGeom>
            <a:avLst/>
            <a:gdLst/>
            <a:ahLst/>
            <a:rect l="0" t="0" r="r" b="b"/>
            <a:pathLst>
              <a:path w="1787" h="557">
                <a:moveTo>
                  <a:pt x="0" y="186"/>
                </a:moveTo>
                <a:lnTo>
                  <a:pt x="0" y="371"/>
                </a:lnTo>
                <a:lnTo>
                  <a:pt x="1251" y="371"/>
                </a:lnTo>
                <a:lnTo>
                  <a:pt x="1251" y="557"/>
                </a:lnTo>
                <a:lnTo>
                  <a:pt x="1787" y="278"/>
                </a:lnTo>
                <a:lnTo>
                  <a:pt x="1251" y="0"/>
                </a:lnTo>
                <a:lnTo>
                  <a:pt x="1251" y="186"/>
                </a:lnTo>
                <a:lnTo>
                  <a:pt x="0" y="186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67160" y="214776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981680" y="2519280"/>
            <a:ext cx="2013120" cy="684360"/>
            <a:chOff x="4981680" y="2519280"/>
            <a:chExt cx="2013120" cy="684360"/>
          </a:xfrm>
        </p:grpSpPr>
        <p:sp>
          <p:nvSpPr>
            <p:cNvPr id="202" name=""/>
            <p:cNvSpPr txBox="1"/>
            <p:nvPr/>
          </p:nvSpPr>
          <p:spPr>
            <a:xfrm>
              <a:off x="4981680" y="2562120"/>
              <a:ext cx="2013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ixup Error 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d Error 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95720" y="251928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243080" y="2476440"/>
            <a:ext cx="1984320" cy="684360"/>
            <a:chOff x="1243080" y="2476440"/>
            <a:chExt cx="1984320" cy="684360"/>
          </a:xfrm>
        </p:grpSpPr>
        <p:sp>
          <p:nvSpPr>
            <p:cNvPr id="205" name=""/>
            <p:cNvSpPr txBox="1"/>
            <p:nvPr/>
          </p:nvSpPr>
          <p:spPr>
            <a:xfrm>
              <a:off x="1577880" y="2519280"/>
              <a:ext cx="13143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itializ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t. Ag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43080" y="247644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5919840" y="321480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691240" y="3571920"/>
            <a:ext cx="1984320" cy="684360"/>
            <a:chOff x="5691240" y="3571920"/>
            <a:chExt cx="1984320" cy="684360"/>
          </a:xfrm>
        </p:grpSpPr>
        <p:sp>
          <p:nvSpPr>
            <p:cNvPr id="209" name=""/>
            <p:cNvSpPr txBox="1"/>
            <p:nvPr/>
          </p:nvSpPr>
          <p:spPr>
            <a:xfrm>
              <a:off x="5727600" y="3614760"/>
              <a:ext cx="191124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turn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91240" y="357192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562800" y="4253040"/>
            <a:ext cx="109440" cy="227160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24160" y="6415200"/>
            <a:ext cx="5181480" cy="1094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324080" y="3800520"/>
            <a:ext cx="114480" cy="27338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38120" y="3747960"/>
            <a:ext cx="643320" cy="200520"/>
          </a:xfrm>
          <a:custGeom>
            <a:avLst/>
            <a:gdLst/>
            <a:ahLst/>
            <a:rect l="0" t="0" r="r" b="b"/>
            <a:pathLst>
              <a:path w="1787" h="557">
                <a:moveTo>
                  <a:pt x="0" y="186"/>
                </a:moveTo>
                <a:lnTo>
                  <a:pt x="0" y="371"/>
                </a:lnTo>
                <a:lnTo>
                  <a:pt x="1251" y="371"/>
                </a:lnTo>
                <a:lnTo>
                  <a:pt x="1251" y="557"/>
                </a:lnTo>
                <a:lnTo>
                  <a:pt x="1787" y="278"/>
                </a:lnTo>
                <a:lnTo>
                  <a:pt x="1251" y="0"/>
                </a:lnTo>
                <a:lnTo>
                  <a:pt x="1251" y="186"/>
                </a:lnTo>
                <a:lnTo>
                  <a:pt x="0" y="186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69800" y="2454120"/>
            <a:ext cx="700560" cy="244440"/>
            <a:chOff x="469800" y="2454120"/>
            <a:chExt cx="700560" cy="244440"/>
          </a:xfrm>
        </p:grpSpPr>
        <p:sp>
          <p:nvSpPr>
            <p:cNvPr id="216" name=""/>
            <p:cNvSpPr/>
            <p:nvPr/>
          </p:nvSpPr>
          <p:spPr>
            <a:xfrm>
              <a:off x="469800" y="2471760"/>
              <a:ext cx="700560" cy="200520"/>
            </a:xfrm>
            <a:custGeom>
              <a:avLst/>
              <a:gdLst/>
              <a:ahLst/>
              <a:rect l="0" t="0" r="r" b="b"/>
              <a:pathLst>
                <a:path w="1946" h="557">
                  <a:moveTo>
                    <a:pt x="1946" y="0"/>
                  </a:moveTo>
                  <a:lnTo>
                    <a:pt x="1946" y="557"/>
                  </a:lnTo>
                  <a:lnTo>
                    <a:pt x="584" y="557"/>
                  </a:lnTo>
                  <a:lnTo>
                    <a:pt x="0" y="278"/>
                  </a:lnTo>
                  <a:lnTo>
                    <a:pt x="584" y="0"/>
                  </a:lnTo>
                  <a:lnTo>
                    <a:pt x="1946" y="0"/>
                  </a:lnTo>
                  <a:close/>
                </a:path>
              </a:pathLst>
            </a:custGeom>
            <a:solidFill>
              <a:srgbClr val="7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584280" y="2454120"/>
              <a:ext cx="247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637080" y="1473120"/>
            <a:ext cx="700560" cy="244440"/>
            <a:chOff x="3637080" y="1473120"/>
            <a:chExt cx="700560" cy="244440"/>
          </a:xfrm>
        </p:grpSpPr>
        <p:sp>
          <p:nvSpPr>
            <p:cNvPr id="219" name=""/>
            <p:cNvSpPr/>
            <p:nvPr/>
          </p:nvSpPr>
          <p:spPr>
            <a:xfrm>
              <a:off x="3637080" y="1490760"/>
              <a:ext cx="700560" cy="200520"/>
            </a:xfrm>
            <a:custGeom>
              <a:avLst/>
              <a:gdLst/>
              <a:ahLst/>
              <a:rect l="0" t="0" r="r" b="b"/>
              <a:pathLst>
                <a:path w="1946" h="557">
                  <a:moveTo>
                    <a:pt x="1946" y="0"/>
                  </a:moveTo>
                  <a:lnTo>
                    <a:pt x="1946" y="557"/>
                  </a:lnTo>
                  <a:lnTo>
                    <a:pt x="584" y="557"/>
                  </a:lnTo>
                  <a:lnTo>
                    <a:pt x="0" y="278"/>
                  </a:lnTo>
                  <a:lnTo>
                    <a:pt x="584" y="0"/>
                  </a:lnTo>
                  <a:lnTo>
                    <a:pt x="1946" y="0"/>
                  </a:lnTo>
                  <a:close/>
                </a:path>
              </a:pathLst>
            </a:custGeom>
            <a:solidFill>
              <a:srgbClr val="7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3751200" y="1473120"/>
              <a:ext cx="247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12720" y="1630440"/>
            <a:ext cx="207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10400" y="5238720"/>
            <a:ext cx="2571840" cy="1191960"/>
            <a:chOff x="6710400" y="5238720"/>
            <a:chExt cx="2571840" cy="1191960"/>
          </a:xfrm>
        </p:grpSpPr>
        <p:sp>
          <p:nvSpPr>
            <p:cNvPr id="223" name=""/>
            <p:cNvSpPr/>
            <p:nvPr/>
          </p:nvSpPr>
          <p:spPr>
            <a:xfrm>
              <a:off x="6719760" y="5238720"/>
              <a:ext cx="700560" cy="200520"/>
            </a:xfrm>
            <a:custGeom>
              <a:avLst/>
              <a:gdLst/>
              <a:ahLst/>
              <a:rect l="0" t="0" r="r" b="b"/>
              <a:pathLst>
                <a:path w="1946" h="557">
                  <a:moveTo>
                    <a:pt x="1946" y="0"/>
                  </a:moveTo>
                  <a:lnTo>
                    <a:pt x="1946" y="557"/>
                  </a:lnTo>
                  <a:lnTo>
                    <a:pt x="584" y="557"/>
                  </a:lnTo>
                  <a:lnTo>
                    <a:pt x="0" y="278"/>
                  </a:lnTo>
                  <a:lnTo>
                    <a:pt x="584" y="0"/>
                  </a:lnTo>
                  <a:lnTo>
                    <a:pt x="1946" y="0"/>
                  </a:lnTo>
                  <a:close/>
                </a:path>
              </a:pathLst>
            </a:custGeom>
            <a:solidFill>
              <a:srgbClr val="7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6710400" y="5514840"/>
              <a:ext cx="257184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SnmpExtensionI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SnmpExtensionQue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63520" y="228600"/>
            <a:ext cx="8618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 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ead, Validate, Call Ext.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19160" y="1989000"/>
            <a:ext cx="7105680" cy="29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 from either IPX or IP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Validation is just check of community and permitted mana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may include MD5 Auth. and DES Decryp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dible Agent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1720" y="1468440"/>
            <a:ext cx="1996920" cy="6001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0440" y="1477800"/>
            <a:ext cx="207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09640" y="160956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 S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71520" y="315288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43080" y="2400480"/>
            <a:ext cx="2003400" cy="895320"/>
          </a:xfrm>
          <a:prstGeom prst="round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962000" y="3538440"/>
            <a:ext cx="1984320" cy="684360"/>
            <a:chOff x="1962000" y="3538440"/>
            <a:chExt cx="1984320" cy="684360"/>
          </a:xfrm>
        </p:grpSpPr>
        <p:sp>
          <p:nvSpPr>
            <p:cNvPr id="234" name=""/>
            <p:cNvSpPr txBox="1"/>
            <p:nvPr/>
          </p:nvSpPr>
          <p:spPr>
            <a:xfrm>
              <a:off x="2205000" y="3581280"/>
              <a:ext cx="1498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ad SNM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quest P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62000" y="353844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590920" y="4572000"/>
            <a:ext cx="1984320" cy="684360"/>
            <a:chOff x="2590920" y="4572000"/>
            <a:chExt cx="1984320" cy="684360"/>
          </a:xfrm>
        </p:grpSpPr>
        <p:sp>
          <p:nvSpPr>
            <p:cNvPr id="237" name=""/>
            <p:cNvSpPr txBox="1"/>
            <p:nvPr/>
          </p:nvSpPr>
          <p:spPr>
            <a:xfrm>
              <a:off x="2827440" y="4614840"/>
              <a:ext cx="15112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ck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457200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262320" y="5643720"/>
            <a:ext cx="1984320" cy="684360"/>
            <a:chOff x="3262320" y="5643720"/>
            <a:chExt cx="1984320" cy="684360"/>
          </a:xfrm>
        </p:grpSpPr>
        <p:sp>
          <p:nvSpPr>
            <p:cNvPr id="240" name=""/>
            <p:cNvSpPr txBox="1"/>
            <p:nvPr/>
          </p:nvSpPr>
          <p:spPr>
            <a:xfrm>
              <a:off x="3286080" y="5686560"/>
              <a:ext cx="19368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termi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t. Agent to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62320" y="564372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438360" y="527688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366920" y="210492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81360" y="421956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43440" y="4371840"/>
            <a:ext cx="142920" cy="155736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86240" y="5815080"/>
            <a:ext cx="571680" cy="1285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390920" y="1509840"/>
            <a:ext cx="2028960" cy="6415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and Off to 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65720" y="4314960"/>
            <a:ext cx="1521000" cy="1429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67160" y="3143160"/>
            <a:ext cx="128520" cy="121428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86040" y="3024360"/>
            <a:ext cx="819000" cy="1094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686040" y="1876320"/>
            <a:ext cx="123840" cy="123840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00440" y="1828800"/>
            <a:ext cx="643320" cy="200520"/>
          </a:xfrm>
          <a:custGeom>
            <a:avLst/>
            <a:gdLst/>
            <a:ahLst/>
            <a:rect l="0" t="0" r="r" b="b"/>
            <a:pathLst>
              <a:path w="1787" h="557">
                <a:moveTo>
                  <a:pt x="0" y="186"/>
                </a:moveTo>
                <a:lnTo>
                  <a:pt x="0" y="371"/>
                </a:lnTo>
                <a:lnTo>
                  <a:pt x="1251" y="371"/>
                </a:lnTo>
                <a:lnTo>
                  <a:pt x="1251" y="557"/>
                </a:lnTo>
                <a:lnTo>
                  <a:pt x="1787" y="278"/>
                </a:lnTo>
                <a:lnTo>
                  <a:pt x="1251" y="0"/>
                </a:lnTo>
                <a:lnTo>
                  <a:pt x="1251" y="186"/>
                </a:lnTo>
                <a:lnTo>
                  <a:pt x="0" y="186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67160" y="214776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981680" y="2519280"/>
            <a:ext cx="2013120" cy="684360"/>
            <a:chOff x="4981680" y="2519280"/>
            <a:chExt cx="2013120" cy="684360"/>
          </a:xfrm>
        </p:grpSpPr>
        <p:sp>
          <p:nvSpPr>
            <p:cNvPr id="255" name=""/>
            <p:cNvSpPr txBox="1"/>
            <p:nvPr/>
          </p:nvSpPr>
          <p:spPr>
            <a:xfrm>
              <a:off x="4981680" y="2562120"/>
              <a:ext cx="2013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ixup Error 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d Error 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95720" y="251928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243080" y="2476440"/>
            <a:ext cx="1984320" cy="684360"/>
            <a:chOff x="1243080" y="2476440"/>
            <a:chExt cx="1984320" cy="684360"/>
          </a:xfrm>
        </p:grpSpPr>
        <p:sp>
          <p:nvSpPr>
            <p:cNvPr id="258" name=""/>
            <p:cNvSpPr txBox="1"/>
            <p:nvPr/>
          </p:nvSpPr>
          <p:spPr>
            <a:xfrm>
              <a:off x="1577880" y="2519280"/>
              <a:ext cx="13143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itializ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t. Ag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43080" y="247644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919840" y="321480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5691240" y="3571920"/>
            <a:ext cx="1984320" cy="684360"/>
            <a:chOff x="5691240" y="3571920"/>
            <a:chExt cx="1984320" cy="684360"/>
          </a:xfrm>
        </p:grpSpPr>
        <p:sp>
          <p:nvSpPr>
            <p:cNvPr id="262" name=""/>
            <p:cNvSpPr txBox="1"/>
            <p:nvPr/>
          </p:nvSpPr>
          <p:spPr>
            <a:xfrm>
              <a:off x="5727600" y="3614760"/>
              <a:ext cx="191124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turn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91240" y="357192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562800" y="4253040"/>
            <a:ext cx="109440" cy="227160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24160" y="6415200"/>
            <a:ext cx="5181480" cy="1094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24080" y="3800520"/>
            <a:ext cx="114480" cy="27338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38120" y="3747960"/>
            <a:ext cx="643320" cy="200520"/>
          </a:xfrm>
          <a:custGeom>
            <a:avLst/>
            <a:gdLst/>
            <a:ahLst/>
            <a:rect l="0" t="0" r="r" b="b"/>
            <a:pathLst>
              <a:path w="1787" h="557">
                <a:moveTo>
                  <a:pt x="0" y="186"/>
                </a:moveTo>
                <a:lnTo>
                  <a:pt x="0" y="371"/>
                </a:lnTo>
                <a:lnTo>
                  <a:pt x="1251" y="371"/>
                </a:lnTo>
                <a:lnTo>
                  <a:pt x="1251" y="557"/>
                </a:lnTo>
                <a:lnTo>
                  <a:pt x="1787" y="278"/>
                </a:lnTo>
                <a:lnTo>
                  <a:pt x="1251" y="0"/>
                </a:lnTo>
                <a:lnTo>
                  <a:pt x="1251" y="186"/>
                </a:lnTo>
                <a:lnTo>
                  <a:pt x="0" y="186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69800" y="2454120"/>
            <a:ext cx="700560" cy="244440"/>
            <a:chOff x="469800" y="2454120"/>
            <a:chExt cx="700560" cy="244440"/>
          </a:xfrm>
        </p:grpSpPr>
        <p:sp>
          <p:nvSpPr>
            <p:cNvPr id="269" name=""/>
            <p:cNvSpPr/>
            <p:nvPr/>
          </p:nvSpPr>
          <p:spPr>
            <a:xfrm>
              <a:off x="469800" y="2471760"/>
              <a:ext cx="700560" cy="200520"/>
            </a:xfrm>
            <a:custGeom>
              <a:avLst/>
              <a:gdLst/>
              <a:ahLst/>
              <a:rect l="0" t="0" r="r" b="b"/>
              <a:pathLst>
                <a:path w="1946" h="557">
                  <a:moveTo>
                    <a:pt x="1946" y="0"/>
                  </a:moveTo>
                  <a:lnTo>
                    <a:pt x="1946" y="557"/>
                  </a:lnTo>
                  <a:lnTo>
                    <a:pt x="584" y="557"/>
                  </a:lnTo>
                  <a:lnTo>
                    <a:pt x="0" y="278"/>
                  </a:lnTo>
                  <a:lnTo>
                    <a:pt x="584" y="0"/>
                  </a:lnTo>
                  <a:lnTo>
                    <a:pt x="1946" y="0"/>
                  </a:lnTo>
                  <a:close/>
                </a:path>
              </a:pathLst>
            </a:custGeom>
            <a:solidFill>
              <a:srgbClr val="7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584280" y="2454120"/>
              <a:ext cx="247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637080" y="1473120"/>
            <a:ext cx="700560" cy="244440"/>
            <a:chOff x="3637080" y="1473120"/>
            <a:chExt cx="700560" cy="244440"/>
          </a:xfrm>
        </p:grpSpPr>
        <p:sp>
          <p:nvSpPr>
            <p:cNvPr id="272" name=""/>
            <p:cNvSpPr/>
            <p:nvPr/>
          </p:nvSpPr>
          <p:spPr>
            <a:xfrm>
              <a:off x="3637080" y="1490760"/>
              <a:ext cx="700560" cy="200520"/>
            </a:xfrm>
            <a:custGeom>
              <a:avLst/>
              <a:gdLst/>
              <a:ahLst/>
              <a:rect l="0" t="0" r="r" b="b"/>
              <a:pathLst>
                <a:path w="1946" h="557">
                  <a:moveTo>
                    <a:pt x="1946" y="0"/>
                  </a:moveTo>
                  <a:lnTo>
                    <a:pt x="1946" y="557"/>
                  </a:lnTo>
                  <a:lnTo>
                    <a:pt x="584" y="557"/>
                  </a:lnTo>
                  <a:lnTo>
                    <a:pt x="0" y="278"/>
                  </a:lnTo>
                  <a:lnTo>
                    <a:pt x="584" y="0"/>
                  </a:lnTo>
                  <a:lnTo>
                    <a:pt x="1946" y="0"/>
                  </a:lnTo>
                  <a:close/>
                </a:path>
              </a:pathLst>
            </a:custGeom>
            <a:solidFill>
              <a:srgbClr val="7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3751200" y="1473120"/>
              <a:ext cx="247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612720" y="1630440"/>
            <a:ext cx="207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710400" y="5038560"/>
            <a:ext cx="2571840" cy="1192320"/>
            <a:chOff x="6710400" y="5038560"/>
            <a:chExt cx="2571840" cy="1192320"/>
          </a:xfrm>
        </p:grpSpPr>
        <p:sp>
          <p:nvSpPr>
            <p:cNvPr id="276" name=""/>
            <p:cNvSpPr/>
            <p:nvPr/>
          </p:nvSpPr>
          <p:spPr>
            <a:xfrm>
              <a:off x="6719760" y="5038560"/>
              <a:ext cx="700560" cy="200520"/>
            </a:xfrm>
            <a:custGeom>
              <a:avLst/>
              <a:gdLst/>
              <a:ahLst/>
              <a:rect l="0" t="0" r="r" b="b"/>
              <a:pathLst>
                <a:path w="1946" h="557">
                  <a:moveTo>
                    <a:pt x="1946" y="0"/>
                  </a:moveTo>
                  <a:lnTo>
                    <a:pt x="1946" y="557"/>
                  </a:lnTo>
                  <a:lnTo>
                    <a:pt x="584" y="557"/>
                  </a:lnTo>
                  <a:lnTo>
                    <a:pt x="0" y="278"/>
                  </a:lnTo>
                  <a:lnTo>
                    <a:pt x="584" y="0"/>
                  </a:lnTo>
                  <a:lnTo>
                    <a:pt x="1946" y="0"/>
                  </a:lnTo>
                  <a:close/>
                </a:path>
              </a:pathLst>
            </a:custGeom>
            <a:solidFill>
              <a:srgbClr val="7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6710400" y="5315040"/>
              <a:ext cx="257184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SnmpExtensionI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SnmpExtensionQue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nmpExtensionQu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54120" y="1752480"/>
            <a:ext cx="7835760" cy="37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lve OID to specific managed object as quickly/efficiently as poss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exact match, carry out requested operation and set errorStatus to SNMP_ERRORSTATUS_NO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t exact match, set errorStatus  to SNMP_ERRORSTATUS_NOSUCH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771480" y="1824120"/>
            <a:ext cx="760104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Next, return next managed object in your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t in your vie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 the requested OID to point to first managed object beyond your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errorStatus to SNMP_ERRORSTATUS_NO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nmpExtensionQu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dible Agent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1720" y="1468440"/>
            <a:ext cx="1996920" cy="6001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0440" y="1477800"/>
            <a:ext cx="207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09640" y="1609560"/>
            <a:ext cx="1514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 S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71520" y="315288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43080" y="2400480"/>
            <a:ext cx="2003400" cy="895320"/>
          </a:xfrm>
          <a:prstGeom prst="round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962000" y="3538440"/>
            <a:ext cx="1984320" cy="684360"/>
            <a:chOff x="1962000" y="3538440"/>
            <a:chExt cx="1984320" cy="684360"/>
          </a:xfrm>
        </p:grpSpPr>
        <p:sp>
          <p:nvSpPr>
            <p:cNvPr id="289" name=""/>
            <p:cNvSpPr txBox="1"/>
            <p:nvPr/>
          </p:nvSpPr>
          <p:spPr>
            <a:xfrm>
              <a:off x="2205000" y="3581280"/>
              <a:ext cx="1498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ad SNM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quest P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62000" y="353844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590920" y="4572000"/>
            <a:ext cx="1984320" cy="684360"/>
            <a:chOff x="2590920" y="4572000"/>
            <a:chExt cx="1984320" cy="684360"/>
          </a:xfrm>
        </p:grpSpPr>
        <p:sp>
          <p:nvSpPr>
            <p:cNvPr id="292" name=""/>
            <p:cNvSpPr txBox="1"/>
            <p:nvPr/>
          </p:nvSpPr>
          <p:spPr>
            <a:xfrm>
              <a:off x="2827440" y="4614840"/>
              <a:ext cx="15112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ck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90920" y="457200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3262320" y="5643720"/>
            <a:ext cx="1984320" cy="684360"/>
            <a:chOff x="3262320" y="5643720"/>
            <a:chExt cx="1984320" cy="684360"/>
          </a:xfrm>
        </p:grpSpPr>
        <p:sp>
          <p:nvSpPr>
            <p:cNvPr id="295" name=""/>
            <p:cNvSpPr txBox="1"/>
            <p:nvPr/>
          </p:nvSpPr>
          <p:spPr>
            <a:xfrm>
              <a:off x="3286080" y="5686560"/>
              <a:ext cx="19368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termi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t. Agent to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62320" y="564372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438360" y="527688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366920" y="210492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781360" y="421956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43440" y="4371840"/>
            <a:ext cx="142920" cy="155736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86240" y="5815080"/>
            <a:ext cx="571680" cy="1285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390920" y="1509840"/>
            <a:ext cx="2028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 Off to 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65720" y="4314960"/>
            <a:ext cx="1521000" cy="1429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67160" y="3143160"/>
            <a:ext cx="128520" cy="121428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86040" y="3024360"/>
            <a:ext cx="819000" cy="1094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686040" y="1876320"/>
            <a:ext cx="123840" cy="123840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00440" y="1828800"/>
            <a:ext cx="643320" cy="200520"/>
          </a:xfrm>
          <a:custGeom>
            <a:avLst/>
            <a:gdLst/>
            <a:ahLst/>
            <a:rect l="0" t="0" r="r" b="b"/>
            <a:pathLst>
              <a:path w="1787" h="557">
                <a:moveTo>
                  <a:pt x="0" y="186"/>
                </a:moveTo>
                <a:lnTo>
                  <a:pt x="0" y="371"/>
                </a:lnTo>
                <a:lnTo>
                  <a:pt x="1251" y="371"/>
                </a:lnTo>
                <a:lnTo>
                  <a:pt x="1251" y="557"/>
                </a:lnTo>
                <a:lnTo>
                  <a:pt x="1787" y="278"/>
                </a:lnTo>
                <a:lnTo>
                  <a:pt x="1251" y="0"/>
                </a:lnTo>
                <a:lnTo>
                  <a:pt x="1251" y="186"/>
                </a:lnTo>
                <a:lnTo>
                  <a:pt x="0" y="186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67160" y="214776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971960" y="2514600"/>
            <a:ext cx="2013120" cy="6415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ixup Error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Error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405320" y="1461960"/>
            <a:ext cx="1984320" cy="6382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43080" y="2476440"/>
            <a:ext cx="1984320" cy="684360"/>
            <a:chOff x="1243080" y="2476440"/>
            <a:chExt cx="1984320" cy="684360"/>
          </a:xfrm>
        </p:grpSpPr>
        <p:sp>
          <p:nvSpPr>
            <p:cNvPr id="312" name=""/>
            <p:cNvSpPr txBox="1"/>
            <p:nvPr/>
          </p:nvSpPr>
          <p:spPr>
            <a:xfrm>
              <a:off x="1577880" y="2519280"/>
              <a:ext cx="13143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itializ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t. Ag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43080" y="247644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919840" y="321480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705640" y="3576600"/>
            <a:ext cx="1971720" cy="6415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turn Respon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62800" y="4253040"/>
            <a:ext cx="109440" cy="227160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24160" y="6415200"/>
            <a:ext cx="5181480" cy="1094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324080" y="3800520"/>
            <a:ext cx="114480" cy="27338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38120" y="3747960"/>
            <a:ext cx="643320" cy="200520"/>
          </a:xfrm>
          <a:custGeom>
            <a:avLst/>
            <a:gdLst/>
            <a:ahLst/>
            <a:rect l="0" t="0" r="r" b="b"/>
            <a:pathLst>
              <a:path w="1787" h="557">
                <a:moveTo>
                  <a:pt x="0" y="186"/>
                </a:moveTo>
                <a:lnTo>
                  <a:pt x="0" y="371"/>
                </a:lnTo>
                <a:lnTo>
                  <a:pt x="1251" y="371"/>
                </a:lnTo>
                <a:lnTo>
                  <a:pt x="1251" y="557"/>
                </a:lnTo>
                <a:lnTo>
                  <a:pt x="1787" y="278"/>
                </a:lnTo>
                <a:lnTo>
                  <a:pt x="1251" y="0"/>
                </a:lnTo>
                <a:lnTo>
                  <a:pt x="1251" y="186"/>
                </a:lnTo>
                <a:lnTo>
                  <a:pt x="0" y="186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6665760" y="5238720"/>
            <a:ext cx="2571840" cy="1191960"/>
            <a:chOff x="6665760" y="5238720"/>
            <a:chExt cx="2571840" cy="1191960"/>
          </a:xfrm>
        </p:grpSpPr>
        <p:sp>
          <p:nvSpPr>
            <p:cNvPr id="321" name=""/>
            <p:cNvSpPr/>
            <p:nvPr/>
          </p:nvSpPr>
          <p:spPr>
            <a:xfrm>
              <a:off x="6675480" y="5238720"/>
              <a:ext cx="700560" cy="200520"/>
            </a:xfrm>
            <a:custGeom>
              <a:avLst/>
              <a:gdLst/>
              <a:ahLst/>
              <a:rect l="0" t="0" r="r" b="b"/>
              <a:pathLst>
                <a:path w="1946" h="557">
                  <a:moveTo>
                    <a:pt x="1946" y="0"/>
                  </a:moveTo>
                  <a:lnTo>
                    <a:pt x="1946" y="557"/>
                  </a:lnTo>
                  <a:lnTo>
                    <a:pt x="584" y="557"/>
                  </a:lnTo>
                  <a:lnTo>
                    <a:pt x="0" y="278"/>
                  </a:lnTo>
                  <a:lnTo>
                    <a:pt x="584" y="0"/>
                  </a:lnTo>
                  <a:lnTo>
                    <a:pt x="1946" y="0"/>
                  </a:lnTo>
                  <a:close/>
                </a:path>
              </a:pathLst>
            </a:custGeom>
            <a:solidFill>
              <a:srgbClr val="7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 txBox="1"/>
            <p:nvPr/>
          </p:nvSpPr>
          <p:spPr>
            <a:xfrm>
              <a:off x="6665760" y="5514840"/>
              <a:ext cx="257184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SnmpExtensionI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SnmpExtensionQue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469800" y="2454120"/>
            <a:ext cx="700560" cy="244440"/>
            <a:chOff x="469800" y="2454120"/>
            <a:chExt cx="700560" cy="244440"/>
          </a:xfrm>
        </p:grpSpPr>
        <p:sp>
          <p:nvSpPr>
            <p:cNvPr id="324" name=""/>
            <p:cNvSpPr/>
            <p:nvPr/>
          </p:nvSpPr>
          <p:spPr>
            <a:xfrm>
              <a:off x="469800" y="2471760"/>
              <a:ext cx="700560" cy="200520"/>
            </a:xfrm>
            <a:custGeom>
              <a:avLst/>
              <a:gdLst/>
              <a:ahLst/>
              <a:rect l="0" t="0" r="r" b="b"/>
              <a:pathLst>
                <a:path w="1946" h="557">
                  <a:moveTo>
                    <a:pt x="1946" y="0"/>
                  </a:moveTo>
                  <a:lnTo>
                    <a:pt x="1946" y="557"/>
                  </a:lnTo>
                  <a:lnTo>
                    <a:pt x="584" y="557"/>
                  </a:lnTo>
                  <a:lnTo>
                    <a:pt x="0" y="278"/>
                  </a:lnTo>
                  <a:lnTo>
                    <a:pt x="584" y="0"/>
                  </a:lnTo>
                  <a:lnTo>
                    <a:pt x="1946" y="0"/>
                  </a:lnTo>
                  <a:close/>
                </a:path>
              </a:pathLst>
            </a:custGeom>
            <a:solidFill>
              <a:srgbClr val="7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584280" y="2454120"/>
              <a:ext cx="247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637080" y="1473120"/>
            <a:ext cx="700560" cy="244440"/>
            <a:chOff x="3637080" y="1473120"/>
            <a:chExt cx="700560" cy="244440"/>
          </a:xfrm>
        </p:grpSpPr>
        <p:sp>
          <p:nvSpPr>
            <p:cNvPr id="327" name=""/>
            <p:cNvSpPr/>
            <p:nvPr/>
          </p:nvSpPr>
          <p:spPr>
            <a:xfrm>
              <a:off x="3637080" y="1490760"/>
              <a:ext cx="700560" cy="200520"/>
            </a:xfrm>
            <a:custGeom>
              <a:avLst/>
              <a:gdLst/>
              <a:ahLst/>
              <a:rect l="0" t="0" r="r" b="b"/>
              <a:pathLst>
                <a:path w="1946" h="557">
                  <a:moveTo>
                    <a:pt x="1946" y="0"/>
                  </a:moveTo>
                  <a:lnTo>
                    <a:pt x="1946" y="557"/>
                  </a:lnTo>
                  <a:lnTo>
                    <a:pt x="584" y="557"/>
                  </a:lnTo>
                  <a:lnTo>
                    <a:pt x="0" y="278"/>
                  </a:lnTo>
                  <a:lnTo>
                    <a:pt x="584" y="0"/>
                  </a:lnTo>
                  <a:lnTo>
                    <a:pt x="1946" y="0"/>
                  </a:lnTo>
                  <a:close/>
                </a:path>
              </a:pathLst>
            </a:custGeom>
            <a:solidFill>
              <a:srgbClr val="7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3751200" y="1473120"/>
              <a:ext cx="247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612720" y="1630440"/>
            <a:ext cx="207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1765440"/>
            <a:ext cx="591516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Tr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81200" y="1562040"/>
            <a:ext cx="7581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ble Agent notifies EA via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s of gen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Monitors some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rPr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checked at Quer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 passed back to EA owned by some oth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 spent processing Traps should be kept to a minimum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nmpExtensionTr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81160" y="1874880"/>
            <a:ext cx="67816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 Trap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t automatic, reset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more Traps to send or dynamic memory to be freed return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wise return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1009800" y="1549440"/>
            <a:ext cx="7124760" cy="51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y instrument with SNM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ology (brief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Extendible Agen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Agen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ep through the Extendibl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 at how Extension Agents inte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station util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65240" y="228600"/>
            <a:ext cx="88138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 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Today’s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47840" y="1536840"/>
            <a:ext cx="8308800" cy="95580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 Manager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195640" y="2943360"/>
            <a:ext cx="6477120" cy="79056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NMPUtil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51600" y="2620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169" y="0"/>
                </a:moveTo>
                <a:lnTo>
                  <a:pt x="679" y="0"/>
                </a:lnTo>
                <a:lnTo>
                  <a:pt x="679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169" y="593"/>
                </a:lnTo>
                <a:lnTo>
                  <a:pt x="169" y="0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29000" y="25909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169" y="848"/>
                </a:moveTo>
                <a:lnTo>
                  <a:pt x="679" y="848"/>
                </a:lnTo>
                <a:lnTo>
                  <a:pt x="679" y="254"/>
                </a:lnTo>
                <a:lnTo>
                  <a:pt x="848" y="254"/>
                </a:lnTo>
                <a:lnTo>
                  <a:pt x="424" y="0"/>
                </a:lnTo>
                <a:lnTo>
                  <a:pt x="0" y="254"/>
                </a:lnTo>
                <a:lnTo>
                  <a:pt x="169" y="254"/>
                </a:lnTo>
                <a:lnTo>
                  <a:pt x="169" y="848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07880" y="5713560"/>
            <a:ext cx="8388360" cy="8002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7fff00"/>
                </a:solidFill>
                <a:latin typeface="Times New Roman"/>
                <a:ea typeface="Times New Roman"/>
              </a:rPr>
              <a:t>WinS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Manager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47560" y="4208400"/>
            <a:ext cx="8109000" cy="96840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GMT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92160" y="2503440"/>
            <a:ext cx="400320" cy="1643400"/>
            <a:chOff x="992160" y="2503440"/>
            <a:chExt cx="400320" cy="1643400"/>
          </a:xfrm>
        </p:grpSpPr>
        <p:sp>
          <p:nvSpPr>
            <p:cNvPr id="343" name=""/>
            <p:cNvSpPr/>
            <p:nvPr/>
          </p:nvSpPr>
          <p:spPr>
            <a:xfrm>
              <a:off x="992160" y="3255840"/>
              <a:ext cx="400320" cy="891000"/>
            </a:xfrm>
            <a:custGeom>
              <a:avLst/>
              <a:gdLst/>
              <a:ahLst/>
              <a:rect l="0" t="0" r="r" b="b"/>
              <a:pathLst>
                <a:path w="1112" h="2475">
                  <a:moveTo>
                    <a:pt x="370" y="0"/>
                  </a:moveTo>
                  <a:lnTo>
                    <a:pt x="741" y="0"/>
                  </a:lnTo>
                  <a:lnTo>
                    <a:pt x="741" y="1732"/>
                  </a:lnTo>
                  <a:lnTo>
                    <a:pt x="1112" y="1732"/>
                  </a:lnTo>
                  <a:lnTo>
                    <a:pt x="555" y="2475"/>
                  </a:lnTo>
                  <a:lnTo>
                    <a:pt x="0" y="1732"/>
                  </a:lnTo>
                  <a:lnTo>
                    <a:pt x="370" y="1732"/>
                  </a:lnTo>
                  <a:lnTo>
                    <a:pt x="370" y="0"/>
                  </a:lnTo>
                  <a:close/>
                </a:path>
              </a:pathLst>
            </a:custGeom>
            <a:solidFill>
              <a:srgbClr val="9234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92160" y="2503440"/>
              <a:ext cx="400320" cy="736920"/>
            </a:xfrm>
            <a:custGeom>
              <a:avLst/>
              <a:gdLst/>
              <a:ahLst/>
              <a:rect l="0" t="0" r="r" b="b"/>
              <a:pathLst>
                <a:path w="1112" h="2047">
                  <a:moveTo>
                    <a:pt x="370" y="2047"/>
                  </a:moveTo>
                  <a:lnTo>
                    <a:pt x="741" y="2047"/>
                  </a:lnTo>
                  <a:lnTo>
                    <a:pt x="741" y="613"/>
                  </a:lnTo>
                  <a:lnTo>
                    <a:pt x="1112" y="613"/>
                  </a:lnTo>
                  <a:lnTo>
                    <a:pt x="555" y="0"/>
                  </a:lnTo>
                  <a:lnTo>
                    <a:pt x="0" y="613"/>
                  </a:lnTo>
                  <a:lnTo>
                    <a:pt x="370" y="613"/>
                  </a:lnTo>
                  <a:lnTo>
                    <a:pt x="370" y="2047"/>
                  </a:lnTo>
                  <a:close/>
                </a:path>
              </a:pathLst>
            </a:custGeom>
            <a:solidFill>
              <a:srgbClr val="9234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138720" y="5254560"/>
            <a:ext cx="430560" cy="384480"/>
          </a:xfrm>
          <a:custGeom>
            <a:avLst/>
            <a:gdLst/>
            <a:ahLst/>
            <a:rect l="0" t="0" r="r" b="b"/>
            <a:pathLst>
              <a:path w="1196" h="1068">
                <a:moveTo>
                  <a:pt x="239" y="0"/>
                </a:moveTo>
                <a:lnTo>
                  <a:pt x="957" y="0"/>
                </a:lnTo>
                <a:lnTo>
                  <a:pt x="957" y="748"/>
                </a:lnTo>
                <a:lnTo>
                  <a:pt x="1196" y="748"/>
                </a:lnTo>
                <a:lnTo>
                  <a:pt x="597" y="1068"/>
                </a:lnTo>
                <a:lnTo>
                  <a:pt x="0" y="748"/>
                </a:lnTo>
                <a:lnTo>
                  <a:pt x="239" y="748"/>
                </a:lnTo>
                <a:lnTo>
                  <a:pt x="239" y="0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04960" y="5267160"/>
            <a:ext cx="430560" cy="384480"/>
          </a:xfrm>
          <a:custGeom>
            <a:avLst/>
            <a:gdLst/>
            <a:ahLst/>
            <a:rect l="0" t="0" r="r" b="b"/>
            <a:pathLst>
              <a:path w="1196" h="1068">
                <a:moveTo>
                  <a:pt x="239" y="1068"/>
                </a:moveTo>
                <a:lnTo>
                  <a:pt x="957" y="1068"/>
                </a:lnTo>
                <a:lnTo>
                  <a:pt x="957" y="320"/>
                </a:lnTo>
                <a:lnTo>
                  <a:pt x="1196" y="320"/>
                </a:lnTo>
                <a:lnTo>
                  <a:pt x="597" y="0"/>
                </a:lnTo>
                <a:lnTo>
                  <a:pt x="0" y="320"/>
                </a:lnTo>
                <a:lnTo>
                  <a:pt x="239" y="320"/>
                </a:lnTo>
                <a:lnTo>
                  <a:pt x="239" y="1068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1765440"/>
            <a:ext cx="534816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Manager 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95360" y="1562040"/>
            <a:ext cx="815328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APIs reside in MGMTAPI.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MTAPI.DLL creates thread to receive Trap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API may allocate m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free allocated memory us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_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Oid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VarBindList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VarBind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1765440"/>
            <a:ext cx="534816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Manager API</a:t>
            </a:r>
            <a:r>
              <a:rPr b="1" lang="en-US" sz="36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990720" y="1562040"/>
            <a:ext cx="7162920" cy="46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ption of the Manager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MgrOpen - Opens comm channel with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MgrClose - Closes comm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MgrRequest - Passes provided VarBindList to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MgrStrToOid* - Converts string to OID str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MgrOidToStr* - Converts OID struct to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27080" y="6357960"/>
            <a:ext cx="5103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- May allocate memory and require caller to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1765440"/>
            <a:ext cx="534816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Manager API</a:t>
            </a:r>
            <a:r>
              <a:rPr b="1" lang="en-US" sz="36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743040" y="1562040"/>
            <a:ext cx="7658280" cy="194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ption of the Manager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MgrTrapListen - Gives management application a Trap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MgrGetTrap* - Retrieves Trap inf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27080" y="6357960"/>
            <a:ext cx="491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May allocate memory and require caller to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571680" y="1562040"/>
            <a:ext cx="800100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y API reside in SNMP.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y APIs may allocate memory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ways free allocated memory using Appropriate SNMP AP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ption of the Utilit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OidCpy* - Makes copy of 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OidAppend* - Adds to the end of an 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OidNCmp - Compare 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tility A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7080" y="6357960"/>
            <a:ext cx="491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May allocate memory and require caller to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1263600" y="1333440"/>
            <a:ext cx="661680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ption of the Utilit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OidCmp - Compare 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OidFree - Free memory allocated to store 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an OI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39840" y="228600"/>
            <a:ext cx="84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96800" y="4164120"/>
            <a:ext cx="35766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 id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 *id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AsnObjectIdentifi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6818400" y="4178160"/>
            <a:ext cx="1828800" cy="1886040"/>
            <a:chOff x="6818400" y="4178160"/>
            <a:chExt cx="1828800" cy="1886040"/>
          </a:xfrm>
        </p:grpSpPr>
        <p:grpSp>
          <p:nvGrpSpPr>
            <p:cNvPr id="365" name=""/>
            <p:cNvGrpSpPr/>
            <p:nvPr/>
          </p:nvGrpSpPr>
          <p:grpSpPr>
            <a:xfrm>
              <a:off x="6818400" y="4178160"/>
              <a:ext cx="1828800" cy="942840"/>
              <a:chOff x="6818400" y="4178160"/>
              <a:chExt cx="1828800" cy="942840"/>
            </a:xfrm>
          </p:grpSpPr>
          <p:sp>
            <p:nvSpPr>
              <p:cNvPr id="366" name=""/>
              <p:cNvSpPr/>
              <p:nvPr/>
            </p:nvSpPr>
            <p:spPr>
              <a:xfrm>
                <a:off x="6818400" y="4178160"/>
                <a:ext cx="1828800" cy="466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818400" y="4654440"/>
                <a:ext cx="1828800" cy="466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6818400" y="5121360"/>
              <a:ext cx="1828800" cy="942840"/>
              <a:chOff x="6818400" y="5121360"/>
              <a:chExt cx="1828800" cy="942840"/>
            </a:xfrm>
          </p:grpSpPr>
          <p:sp>
            <p:nvSpPr>
              <p:cNvPr id="369" name=""/>
              <p:cNvSpPr/>
              <p:nvPr/>
            </p:nvSpPr>
            <p:spPr>
              <a:xfrm>
                <a:off x="6818400" y="5121360"/>
                <a:ext cx="1828800" cy="466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818400" y="5597640"/>
                <a:ext cx="1828800" cy="466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4087800" y="4197240"/>
            <a:ext cx="1844640" cy="942840"/>
            <a:chOff x="4087800" y="4197240"/>
            <a:chExt cx="1844640" cy="942840"/>
          </a:xfrm>
        </p:grpSpPr>
        <p:grpSp>
          <p:nvGrpSpPr>
            <p:cNvPr id="372" name=""/>
            <p:cNvGrpSpPr/>
            <p:nvPr/>
          </p:nvGrpSpPr>
          <p:grpSpPr>
            <a:xfrm>
              <a:off x="4103640" y="4197240"/>
              <a:ext cx="1828800" cy="942840"/>
              <a:chOff x="4103640" y="4197240"/>
              <a:chExt cx="1828800" cy="942840"/>
            </a:xfrm>
          </p:grpSpPr>
          <p:sp>
            <p:nvSpPr>
              <p:cNvPr id="373" name=""/>
              <p:cNvSpPr/>
              <p:nvPr/>
            </p:nvSpPr>
            <p:spPr>
              <a:xfrm>
                <a:off x="4103640" y="4197240"/>
                <a:ext cx="1828800" cy="466560"/>
              </a:xfrm>
              <a:prstGeom prst="rect">
                <a:avLst/>
              </a:prstGeom>
              <a:solidFill>
                <a:srgbClr val="9234db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103640" y="4673520"/>
                <a:ext cx="1828800" cy="466560"/>
              </a:xfrm>
              <a:prstGeom prst="rect">
                <a:avLst/>
              </a:prstGeom>
              <a:solidFill>
                <a:srgbClr val="9234db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5" name=""/>
            <p:cNvSpPr txBox="1"/>
            <p:nvPr/>
          </p:nvSpPr>
          <p:spPr>
            <a:xfrm>
              <a:off x="4087800" y="4268880"/>
              <a:ext cx="1432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Length =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722840" y="4273560"/>
            <a:ext cx="2076840" cy="800280"/>
            <a:chOff x="4722840" y="4273560"/>
            <a:chExt cx="2076840" cy="800280"/>
          </a:xfrm>
        </p:grpSpPr>
        <p:sp>
          <p:nvSpPr>
            <p:cNvPr id="377" name=""/>
            <p:cNvSpPr/>
            <p:nvPr/>
          </p:nvSpPr>
          <p:spPr>
            <a:xfrm>
              <a:off x="4722840" y="4788000"/>
              <a:ext cx="295200" cy="285840"/>
            </a:xfrm>
            <a:prstGeom prst="ellipse">
              <a:avLst/>
            </a:prstGeom>
            <a:solidFill>
              <a:srgbClr val="f5b5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18040" y="4892760"/>
              <a:ext cx="1324080" cy="85680"/>
            </a:xfrm>
            <a:prstGeom prst="rect">
              <a:avLst/>
            </a:prstGeom>
            <a:solidFill>
              <a:srgbClr val="f5b553"/>
            </a:solidFill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65800" y="4325760"/>
              <a:ext cx="76320" cy="647640"/>
            </a:xfrm>
            <a:prstGeom prst="rect">
              <a:avLst/>
            </a:prstGeom>
            <a:solidFill>
              <a:srgbClr val="f5b5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65800" y="4273560"/>
              <a:ext cx="533880" cy="181440"/>
            </a:xfrm>
            <a:custGeom>
              <a:avLst/>
              <a:gdLst/>
              <a:ahLst/>
              <a:rect l="0" t="0" r="r" b="b"/>
              <a:pathLst>
                <a:path w="1483" h="504">
                  <a:moveTo>
                    <a:pt x="0" y="168"/>
                  </a:moveTo>
                  <a:lnTo>
                    <a:pt x="0" y="335"/>
                  </a:lnTo>
                  <a:lnTo>
                    <a:pt x="1038" y="335"/>
                  </a:lnTo>
                  <a:lnTo>
                    <a:pt x="1038" y="504"/>
                  </a:lnTo>
                  <a:lnTo>
                    <a:pt x="1483" y="252"/>
                  </a:lnTo>
                  <a:lnTo>
                    <a:pt x="1038" y="0"/>
                  </a:lnTo>
                  <a:lnTo>
                    <a:pt x="1038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5b5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 txBox="1"/>
          <p:nvPr/>
        </p:nvSpPr>
        <p:spPr>
          <a:xfrm>
            <a:off x="7564320" y="424980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583400" y="468792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574040" y="515448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583400" y="56498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087800" y="47070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7360" y="1562040"/>
            <a:ext cx="836928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ption of the Utilit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VarBindListCpy* - Duplicates a VarBind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VarBindCpy* - Duplicates a VarB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VarBindListFree - Free mem allocated for VarBind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VarBindFree - Free mem alloc’d for VarB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PrintAsnAny - Print ASNAny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39840" y="228600"/>
            <a:ext cx="84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27080" y="6357960"/>
            <a:ext cx="4913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May allocate memory and require caller to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1619280" y="1282680"/>
            <a:ext cx="590544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ption of the Utilit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a VarBin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282600" y="228600"/>
            <a:ext cx="8580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89080" y="3033720"/>
            <a:ext cx="280656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struct vb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ObjectName   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ObjectSyntax va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RFC1157VarBi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838920" y="3133800"/>
            <a:ext cx="1828800" cy="1885680"/>
            <a:chOff x="6838920" y="3133800"/>
            <a:chExt cx="1828800" cy="1885680"/>
          </a:xfrm>
        </p:grpSpPr>
        <p:grpSp>
          <p:nvGrpSpPr>
            <p:cNvPr id="393" name=""/>
            <p:cNvGrpSpPr/>
            <p:nvPr/>
          </p:nvGrpSpPr>
          <p:grpSpPr>
            <a:xfrm>
              <a:off x="6838920" y="3133800"/>
              <a:ext cx="1828800" cy="942840"/>
              <a:chOff x="6838920" y="3133800"/>
              <a:chExt cx="1828800" cy="942840"/>
            </a:xfrm>
          </p:grpSpPr>
          <p:sp>
            <p:nvSpPr>
              <p:cNvPr id="394" name=""/>
              <p:cNvSpPr/>
              <p:nvPr/>
            </p:nvSpPr>
            <p:spPr>
              <a:xfrm>
                <a:off x="6838920" y="3133800"/>
                <a:ext cx="1828800" cy="466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38920" y="3610080"/>
                <a:ext cx="1828800" cy="466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838920" y="4076640"/>
              <a:ext cx="1828800" cy="942840"/>
              <a:chOff x="6838920" y="4076640"/>
              <a:chExt cx="1828800" cy="942840"/>
            </a:xfrm>
          </p:grpSpPr>
          <p:sp>
            <p:nvSpPr>
              <p:cNvPr id="397" name=""/>
              <p:cNvSpPr/>
              <p:nvPr/>
            </p:nvSpPr>
            <p:spPr>
              <a:xfrm>
                <a:off x="6838920" y="4076640"/>
                <a:ext cx="1828800" cy="466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838920" y="4552920"/>
                <a:ext cx="1828800" cy="4665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99" name=""/>
          <p:cNvGrpSpPr/>
          <p:nvPr/>
        </p:nvGrpSpPr>
        <p:grpSpPr>
          <a:xfrm>
            <a:off x="5210280" y="3228840"/>
            <a:ext cx="1592640" cy="819360"/>
            <a:chOff x="5210280" y="3228840"/>
            <a:chExt cx="1592640" cy="819360"/>
          </a:xfrm>
        </p:grpSpPr>
        <p:sp>
          <p:nvSpPr>
            <p:cNvPr id="400" name=""/>
            <p:cNvSpPr/>
            <p:nvPr/>
          </p:nvSpPr>
          <p:spPr>
            <a:xfrm>
              <a:off x="5210280" y="3762360"/>
              <a:ext cx="285840" cy="285840"/>
            </a:xfrm>
            <a:prstGeom prst="ellipse">
              <a:avLst/>
            </a:prstGeom>
            <a:solidFill>
              <a:srgbClr val="f5b5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95760" y="3848040"/>
              <a:ext cx="824040" cy="85680"/>
            </a:xfrm>
            <a:prstGeom prst="rect">
              <a:avLst/>
            </a:prstGeom>
            <a:solidFill>
              <a:srgbClr val="f5b553"/>
            </a:solidFill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3281400"/>
              <a:ext cx="73080" cy="647640"/>
            </a:xfrm>
            <a:prstGeom prst="rect">
              <a:avLst/>
            </a:prstGeom>
            <a:solidFill>
              <a:srgbClr val="f5b5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3228840"/>
              <a:ext cx="516240" cy="181440"/>
            </a:xfrm>
            <a:custGeom>
              <a:avLst/>
              <a:gdLst/>
              <a:ahLst/>
              <a:rect l="0" t="0" r="r" b="b"/>
              <a:pathLst>
                <a:path w="1434" h="504">
                  <a:moveTo>
                    <a:pt x="0" y="168"/>
                  </a:moveTo>
                  <a:lnTo>
                    <a:pt x="0" y="335"/>
                  </a:lnTo>
                  <a:lnTo>
                    <a:pt x="1004" y="335"/>
                  </a:lnTo>
                  <a:lnTo>
                    <a:pt x="1004" y="504"/>
                  </a:lnTo>
                  <a:lnTo>
                    <a:pt x="1434" y="252"/>
                  </a:lnTo>
                  <a:lnTo>
                    <a:pt x="1004" y="0"/>
                  </a:lnTo>
                  <a:lnTo>
                    <a:pt x="1004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5b5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556400" y="3195720"/>
            <a:ext cx="317520" cy="1766880"/>
            <a:chOff x="7556400" y="3195720"/>
            <a:chExt cx="317520" cy="1766880"/>
          </a:xfrm>
        </p:grpSpPr>
        <p:sp>
          <p:nvSpPr>
            <p:cNvPr id="405" name=""/>
            <p:cNvSpPr txBox="1"/>
            <p:nvPr/>
          </p:nvSpPr>
          <p:spPr>
            <a:xfrm>
              <a:off x="7556400" y="319572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 txBox="1"/>
            <p:nvPr/>
          </p:nvSpPr>
          <p:spPr>
            <a:xfrm>
              <a:off x="7575480" y="363384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>
              <a:off x="7566120" y="410040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 txBox="1"/>
            <p:nvPr/>
          </p:nvSpPr>
          <p:spPr>
            <a:xfrm>
              <a:off x="7575480" y="459576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875040" y="3152880"/>
            <a:ext cx="2087640" cy="2057400"/>
            <a:chOff x="3875040" y="3152880"/>
            <a:chExt cx="2087640" cy="2057400"/>
          </a:xfrm>
        </p:grpSpPr>
        <p:sp>
          <p:nvSpPr>
            <p:cNvPr id="410" name=""/>
            <p:cNvSpPr txBox="1"/>
            <p:nvPr/>
          </p:nvSpPr>
          <p:spPr>
            <a:xfrm>
              <a:off x="3875040" y="3152880"/>
              <a:ext cx="2085840" cy="47628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me.idLength =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 txBox="1"/>
            <p:nvPr/>
          </p:nvSpPr>
          <p:spPr>
            <a:xfrm>
              <a:off x="3875040" y="3629160"/>
              <a:ext cx="2085840" cy="4665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me.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 txBox="1"/>
            <p:nvPr/>
          </p:nvSpPr>
          <p:spPr>
            <a:xfrm>
              <a:off x="3876840" y="4095720"/>
              <a:ext cx="2085840" cy="55260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alue.asnType  =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nGuag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3876840" y="4648320"/>
              <a:ext cx="2085840" cy="561960"/>
            </a:xfrm>
            <a:prstGeom prst="rect">
              <a:avLst/>
            </a:prstGeom>
            <a:solidFill>
              <a:srgbClr val="9234db"/>
            </a:solidFill>
            <a:ln w="12600">
              <a:solidFill>
                <a:srgbClr val="ffffff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alue.asnValue = 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39840" y="228600"/>
            <a:ext cx="84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298440" y="1519200"/>
            <a:ext cx="273060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FC1157VarBind *li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           l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RFC1157VarBindLi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829560" y="1504800"/>
            <a:ext cx="1828800" cy="942840"/>
            <a:chOff x="6829560" y="1504800"/>
            <a:chExt cx="1828800" cy="942840"/>
          </a:xfrm>
        </p:grpSpPr>
        <p:sp>
          <p:nvSpPr>
            <p:cNvPr id="417" name=""/>
            <p:cNvSpPr/>
            <p:nvPr/>
          </p:nvSpPr>
          <p:spPr>
            <a:xfrm>
              <a:off x="6829560" y="1504800"/>
              <a:ext cx="1828800" cy="46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29560" y="1981080"/>
              <a:ext cx="1828800" cy="46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829560" y="2448000"/>
            <a:ext cx="1828800" cy="942840"/>
            <a:chOff x="6829560" y="2448000"/>
            <a:chExt cx="1828800" cy="942840"/>
          </a:xfrm>
        </p:grpSpPr>
        <p:sp>
          <p:nvSpPr>
            <p:cNvPr id="420" name=""/>
            <p:cNvSpPr/>
            <p:nvPr/>
          </p:nvSpPr>
          <p:spPr>
            <a:xfrm>
              <a:off x="6829560" y="2448000"/>
              <a:ext cx="1828800" cy="46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29560" y="2924280"/>
              <a:ext cx="1828800" cy="46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114800" y="1523880"/>
            <a:ext cx="1828800" cy="942840"/>
            <a:chOff x="4114800" y="1523880"/>
            <a:chExt cx="1828800" cy="942840"/>
          </a:xfrm>
        </p:grpSpPr>
        <p:sp>
          <p:nvSpPr>
            <p:cNvPr id="423" name=""/>
            <p:cNvSpPr/>
            <p:nvPr/>
          </p:nvSpPr>
          <p:spPr>
            <a:xfrm>
              <a:off x="4114800" y="1523880"/>
              <a:ext cx="1828800" cy="46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14800" y="2000160"/>
              <a:ext cx="1828800" cy="46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"/>
          <p:cNvSpPr txBox="1"/>
          <p:nvPr/>
        </p:nvSpPr>
        <p:spPr>
          <a:xfrm>
            <a:off x="4098960" y="1595520"/>
            <a:ext cx="1432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ngth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734000" y="2114640"/>
            <a:ext cx="1619280" cy="285840"/>
            <a:chOff x="4734000" y="2114640"/>
            <a:chExt cx="1619280" cy="285840"/>
          </a:xfrm>
        </p:grpSpPr>
        <p:sp>
          <p:nvSpPr>
            <p:cNvPr id="427" name=""/>
            <p:cNvSpPr/>
            <p:nvPr/>
          </p:nvSpPr>
          <p:spPr>
            <a:xfrm>
              <a:off x="4734000" y="2114640"/>
              <a:ext cx="295200" cy="28584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29200" y="2219400"/>
              <a:ext cx="1324080" cy="85680"/>
            </a:xfrm>
            <a:prstGeom prst="rect">
              <a:avLst/>
            </a:prstGeom>
            <a:solidFill>
              <a:srgbClr val="f6bf69"/>
            </a:solidFill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276960" y="1652760"/>
            <a:ext cx="76320" cy="64764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76960" y="1600200"/>
            <a:ext cx="533880" cy="181440"/>
          </a:xfrm>
          <a:custGeom>
            <a:avLst/>
            <a:gdLst/>
            <a:ahLst/>
            <a:rect l="0" t="0" r="r" b="b"/>
            <a:pathLst>
              <a:path w="1483" h="504">
                <a:moveTo>
                  <a:pt x="0" y="168"/>
                </a:moveTo>
                <a:lnTo>
                  <a:pt x="0" y="335"/>
                </a:lnTo>
                <a:lnTo>
                  <a:pt x="1038" y="335"/>
                </a:lnTo>
                <a:lnTo>
                  <a:pt x="1038" y="504"/>
                </a:lnTo>
                <a:lnTo>
                  <a:pt x="1483" y="252"/>
                </a:lnTo>
                <a:lnTo>
                  <a:pt x="1038" y="0"/>
                </a:lnTo>
                <a:lnTo>
                  <a:pt x="1038" y="168"/>
                </a:lnTo>
                <a:lnTo>
                  <a:pt x="0" y="168"/>
                </a:lnTo>
                <a:close/>
              </a:path>
            </a:pathLst>
          </a:cu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575480" y="1576440"/>
            <a:ext cx="29844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7594560" y="2014560"/>
            <a:ext cx="29844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7585200" y="2481120"/>
            <a:ext cx="29844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7594560" y="2976480"/>
            <a:ext cx="29844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098960" y="203364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24280" y="3073320"/>
            <a:ext cx="295200" cy="285840"/>
          </a:xfrm>
          <a:prstGeom prst="ellipse">
            <a:avLst/>
          </a:prstGeom>
          <a:solidFill>
            <a:srgbClr val="f5b55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6877080" y="3673440"/>
            <a:ext cx="1828800" cy="942840"/>
            <a:chOff x="6877080" y="3673440"/>
            <a:chExt cx="1828800" cy="942840"/>
          </a:xfrm>
        </p:grpSpPr>
        <p:sp>
          <p:nvSpPr>
            <p:cNvPr id="438" name=""/>
            <p:cNvSpPr/>
            <p:nvPr/>
          </p:nvSpPr>
          <p:spPr>
            <a:xfrm>
              <a:off x="6877080" y="3673440"/>
              <a:ext cx="1828800" cy="46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77080" y="4149720"/>
              <a:ext cx="1828800" cy="46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877080" y="4616280"/>
            <a:ext cx="1828800" cy="466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623000" y="3745080"/>
            <a:ext cx="29844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642080" y="4183200"/>
            <a:ext cx="29844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632720" y="4649760"/>
            <a:ext cx="298440" cy="366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6896160" y="5521320"/>
            <a:ext cx="1828800" cy="1028880"/>
            <a:chOff x="6896160" y="5521320"/>
            <a:chExt cx="1828800" cy="1028880"/>
          </a:xfrm>
        </p:grpSpPr>
        <p:grpSp>
          <p:nvGrpSpPr>
            <p:cNvPr id="445" name=""/>
            <p:cNvGrpSpPr/>
            <p:nvPr/>
          </p:nvGrpSpPr>
          <p:grpSpPr>
            <a:xfrm>
              <a:off x="6896160" y="5521320"/>
              <a:ext cx="1828800" cy="974880"/>
              <a:chOff x="6896160" y="5521320"/>
              <a:chExt cx="1828800" cy="974880"/>
            </a:xfrm>
          </p:grpSpPr>
          <p:sp>
            <p:nvSpPr>
              <p:cNvPr id="446" name=""/>
              <p:cNvSpPr/>
              <p:nvPr/>
            </p:nvSpPr>
            <p:spPr>
              <a:xfrm>
                <a:off x="6896160" y="5521320"/>
                <a:ext cx="1828800" cy="482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896160" y="6013440"/>
                <a:ext cx="1828800" cy="482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 txBox="1"/>
            <p:nvPr/>
          </p:nvSpPr>
          <p:spPr>
            <a:xfrm>
              <a:off x="7642080" y="568800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7651800" y="6183360"/>
              <a:ext cx="298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257480" y="4073400"/>
            <a:ext cx="1828800" cy="974880"/>
            <a:chOff x="1257480" y="4073400"/>
            <a:chExt cx="1828800" cy="974880"/>
          </a:xfrm>
        </p:grpSpPr>
        <p:sp>
          <p:nvSpPr>
            <p:cNvPr id="451" name=""/>
            <p:cNvSpPr/>
            <p:nvPr/>
          </p:nvSpPr>
          <p:spPr>
            <a:xfrm>
              <a:off x="1257480" y="4073400"/>
              <a:ext cx="1828800" cy="48276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57480" y="4565520"/>
              <a:ext cx="1828800" cy="48276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 txBox="1"/>
          <p:nvPr/>
        </p:nvSpPr>
        <p:spPr>
          <a:xfrm>
            <a:off x="1365120" y="415440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346040" y="4630680"/>
            <a:ext cx="83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62160" y="4210200"/>
            <a:ext cx="295200" cy="285840"/>
          </a:xfrm>
          <a:prstGeom prst="ellipse">
            <a:avLst/>
          </a:pr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457360" y="4314960"/>
            <a:ext cx="1152360" cy="666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524400" y="1781280"/>
            <a:ext cx="85680" cy="258588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524400" y="1676520"/>
            <a:ext cx="533880" cy="181440"/>
          </a:xfrm>
          <a:custGeom>
            <a:avLst/>
            <a:gdLst/>
            <a:ahLst/>
            <a:rect l="0" t="0" r="r" b="b"/>
            <a:pathLst>
              <a:path w="1483" h="504">
                <a:moveTo>
                  <a:pt x="0" y="168"/>
                </a:moveTo>
                <a:lnTo>
                  <a:pt x="0" y="335"/>
                </a:lnTo>
                <a:lnTo>
                  <a:pt x="1038" y="335"/>
                </a:lnTo>
                <a:lnTo>
                  <a:pt x="1038" y="504"/>
                </a:lnTo>
                <a:lnTo>
                  <a:pt x="1483" y="252"/>
                </a:lnTo>
                <a:lnTo>
                  <a:pt x="1038" y="0"/>
                </a:lnTo>
                <a:lnTo>
                  <a:pt x="1038" y="168"/>
                </a:lnTo>
                <a:lnTo>
                  <a:pt x="0" y="168"/>
                </a:lnTo>
                <a:close/>
              </a:path>
            </a:pathLst>
          </a:cu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4114800" y="2478240"/>
            <a:ext cx="1828800" cy="933120"/>
            <a:chOff x="4114800" y="2478240"/>
            <a:chExt cx="1828800" cy="933120"/>
          </a:xfrm>
        </p:grpSpPr>
        <p:sp>
          <p:nvSpPr>
            <p:cNvPr id="460" name=""/>
            <p:cNvSpPr/>
            <p:nvPr/>
          </p:nvSpPr>
          <p:spPr>
            <a:xfrm>
              <a:off x="4114800" y="2478240"/>
              <a:ext cx="1828800" cy="46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14800" y="2944800"/>
              <a:ext cx="1828800" cy="46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6286680" y="3778200"/>
            <a:ext cx="533880" cy="181440"/>
          </a:xfrm>
          <a:custGeom>
            <a:avLst/>
            <a:gdLst/>
            <a:ahLst/>
            <a:rect l="0" t="0" r="r" b="b"/>
            <a:pathLst>
              <a:path w="1483" h="504">
                <a:moveTo>
                  <a:pt x="0" y="168"/>
                </a:moveTo>
                <a:lnTo>
                  <a:pt x="0" y="335"/>
                </a:lnTo>
                <a:lnTo>
                  <a:pt x="1038" y="335"/>
                </a:lnTo>
                <a:lnTo>
                  <a:pt x="1038" y="504"/>
                </a:lnTo>
                <a:lnTo>
                  <a:pt x="1483" y="252"/>
                </a:lnTo>
                <a:lnTo>
                  <a:pt x="1038" y="0"/>
                </a:lnTo>
                <a:lnTo>
                  <a:pt x="1038" y="168"/>
                </a:lnTo>
                <a:lnTo>
                  <a:pt x="0" y="168"/>
                </a:lnTo>
                <a:close/>
              </a:path>
            </a:pathLst>
          </a:cu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286680" y="3824280"/>
            <a:ext cx="85680" cy="39528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4122720" y="2519280"/>
            <a:ext cx="1677960" cy="824040"/>
            <a:chOff x="4122720" y="2519280"/>
            <a:chExt cx="1677960" cy="824040"/>
          </a:xfrm>
        </p:grpSpPr>
        <p:sp>
          <p:nvSpPr>
            <p:cNvPr id="465" name=""/>
            <p:cNvSpPr txBox="1"/>
            <p:nvPr/>
          </p:nvSpPr>
          <p:spPr>
            <a:xfrm>
              <a:off x="4122720" y="2519280"/>
              <a:ext cx="1587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alue.asnTyp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4137120" y="2976480"/>
              <a:ext cx="16635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alue.asn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081320" y="3487680"/>
            <a:ext cx="1863720" cy="1876320"/>
            <a:chOff x="4081320" y="3487680"/>
            <a:chExt cx="1863720" cy="1876320"/>
          </a:xfrm>
        </p:grpSpPr>
        <p:grpSp>
          <p:nvGrpSpPr>
            <p:cNvPr id="468" name=""/>
            <p:cNvGrpSpPr/>
            <p:nvPr/>
          </p:nvGrpSpPr>
          <p:grpSpPr>
            <a:xfrm>
              <a:off x="4081320" y="3487680"/>
              <a:ext cx="1863720" cy="1876320"/>
              <a:chOff x="4081320" y="3487680"/>
              <a:chExt cx="1863720" cy="1876320"/>
            </a:xfrm>
          </p:grpSpPr>
          <p:grpSp>
            <p:nvGrpSpPr>
              <p:cNvPr id="469" name=""/>
              <p:cNvGrpSpPr/>
              <p:nvPr/>
            </p:nvGrpSpPr>
            <p:grpSpPr>
              <a:xfrm>
                <a:off x="4081320" y="3487680"/>
                <a:ext cx="1863720" cy="942840"/>
                <a:chOff x="4081320" y="3487680"/>
                <a:chExt cx="1863720" cy="942840"/>
              </a:xfrm>
            </p:grpSpPr>
            <p:grpSp>
              <p:nvGrpSpPr>
                <p:cNvPr id="470" name=""/>
                <p:cNvGrpSpPr/>
                <p:nvPr/>
              </p:nvGrpSpPr>
              <p:grpSpPr>
                <a:xfrm>
                  <a:off x="4116240" y="3487680"/>
                  <a:ext cx="1828800" cy="942840"/>
                  <a:chOff x="4116240" y="3487680"/>
                  <a:chExt cx="1828800" cy="942840"/>
                </a:xfrm>
              </p:grpSpPr>
              <p:sp>
                <p:nvSpPr>
                  <p:cNvPr id="471" name=""/>
                  <p:cNvSpPr/>
                  <p:nvPr/>
                </p:nvSpPr>
                <p:spPr>
                  <a:xfrm>
                    <a:off x="4116240" y="3487680"/>
                    <a:ext cx="1828800" cy="4665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4116240" y="3963960"/>
                    <a:ext cx="1828800" cy="466560"/>
                  </a:xfrm>
                  <a:prstGeom prst="rect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3" name=""/>
                <p:cNvSpPr txBox="1"/>
                <p:nvPr/>
              </p:nvSpPr>
              <p:spPr>
                <a:xfrm>
                  <a:off x="4100400" y="3530520"/>
                  <a:ext cx="143208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dLength = 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 txBox="1"/>
                <p:nvPr/>
              </p:nvSpPr>
              <p:spPr>
                <a:xfrm>
                  <a:off x="4081320" y="4025880"/>
                  <a:ext cx="46368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id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4116240" y="4430880"/>
                <a:ext cx="1828800" cy="933120"/>
                <a:chOff x="4116240" y="4430880"/>
                <a:chExt cx="1828800" cy="9331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4116240" y="4430880"/>
                  <a:ext cx="1828800" cy="4665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116240" y="4897440"/>
                  <a:ext cx="1828800" cy="466560"/>
                </a:xfrm>
                <a:prstGeom prst="rect">
                  <a:avLst/>
                </a:prstGeom>
                <a:solidFill>
                  <a:srgbClr val="000000"/>
                </a:solidFill>
                <a:ln w="12600">
                  <a:solidFill>
                    <a:srgbClr val="ffffff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8" name=""/>
            <p:cNvGrpSpPr/>
            <p:nvPr/>
          </p:nvGrpSpPr>
          <p:grpSpPr>
            <a:xfrm>
              <a:off x="4122720" y="4471920"/>
              <a:ext cx="1677960" cy="824040"/>
              <a:chOff x="4122720" y="4471920"/>
              <a:chExt cx="1677960" cy="824040"/>
            </a:xfrm>
          </p:grpSpPr>
          <p:sp>
            <p:nvSpPr>
              <p:cNvPr id="479" name=""/>
              <p:cNvSpPr txBox="1"/>
              <p:nvPr/>
            </p:nvSpPr>
            <p:spPr>
              <a:xfrm>
                <a:off x="4122720" y="4471920"/>
                <a:ext cx="15876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value.asnTyp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 txBox="1"/>
              <p:nvPr/>
            </p:nvSpPr>
            <p:spPr>
              <a:xfrm>
                <a:off x="4137120" y="4929120"/>
                <a:ext cx="166356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value.asnValu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4753080" y="4038480"/>
            <a:ext cx="1619280" cy="285840"/>
            <a:chOff x="4753080" y="4038480"/>
            <a:chExt cx="1619280" cy="285840"/>
          </a:xfrm>
        </p:grpSpPr>
        <p:sp>
          <p:nvSpPr>
            <p:cNvPr id="482" name=""/>
            <p:cNvSpPr/>
            <p:nvPr/>
          </p:nvSpPr>
          <p:spPr>
            <a:xfrm>
              <a:off x="4753080" y="4038480"/>
              <a:ext cx="295200" cy="28584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048280" y="4143240"/>
              <a:ext cx="1324080" cy="85680"/>
            </a:xfrm>
            <a:prstGeom prst="rect">
              <a:avLst/>
            </a:prstGeom>
            <a:solidFill>
              <a:srgbClr val="f6bf69"/>
            </a:solidFill>
            <a:ln w="0">
              <a:noFill/>
            </a:ln>
          </p:spPr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4114800" y="5911920"/>
            <a:ext cx="1828800" cy="466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94280" y="5978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114800" y="6378480"/>
            <a:ext cx="1828800" cy="466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098960" y="5445000"/>
            <a:ext cx="1844640" cy="498600"/>
            <a:chOff x="4098960" y="5445000"/>
            <a:chExt cx="1844640" cy="498600"/>
          </a:xfrm>
        </p:grpSpPr>
        <p:sp>
          <p:nvSpPr>
            <p:cNvPr id="488" name=""/>
            <p:cNvSpPr/>
            <p:nvPr/>
          </p:nvSpPr>
          <p:spPr>
            <a:xfrm>
              <a:off x="4114800" y="5445000"/>
              <a:ext cx="1828800" cy="46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 txBox="1"/>
            <p:nvPr/>
          </p:nvSpPr>
          <p:spPr>
            <a:xfrm>
              <a:off x="4098960" y="5576760"/>
              <a:ext cx="14320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dLength =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686120" y="5683320"/>
            <a:ext cx="2124720" cy="603360"/>
            <a:chOff x="4686120" y="5683320"/>
            <a:chExt cx="2124720" cy="603360"/>
          </a:xfrm>
        </p:grpSpPr>
        <p:sp>
          <p:nvSpPr>
            <p:cNvPr id="491" name=""/>
            <p:cNvSpPr/>
            <p:nvPr/>
          </p:nvSpPr>
          <p:spPr>
            <a:xfrm>
              <a:off x="6276960" y="5683320"/>
              <a:ext cx="533880" cy="181440"/>
            </a:xfrm>
            <a:custGeom>
              <a:avLst/>
              <a:gdLst/>
              <a:ahLst/>
              <a:rect l="0" t="0" r="r" b="b"/>
              <a:pathLst>
                <a:path w="1483" h="504">
                  <a:moveTo>
                    <a:pt x="0" y="168"/>
                  </a:moveTo>
                  <a:lnTo>
                    <a:pt x="0" y="335"/>
                  </a:lnTo>
                  <a:lnTo>
                    <a:pt x="1038" y="335"/>
                  </a:lnTo>
                  <a:lnTo>
                    <a:pt x="1038" y="504"/>
                  </a:lnTo>
                  <a:lnTo>
                    <a:pt x="1483" y="252"/>
                  </a:lnTo>
                  <a:lnTo>
                    <a:pt x="1038" y="0"/>
                  </a:lnTo>
                  <a:lnTo>
                    <a:pt x="1038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6bf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4686120" y="6000840"/>
              <a:ext cx="1619640" cy="285840"/>
              <a:chOff x="4686120" y="6000840"/>
              <a:chExt cx="1619640" cy="285840"/>
            </a:xfrm>
          </p:grpSpPr>
          <p:sp>
            <p:nvSpPr>
              <p:cNvPr id="493" name=""/>
              <p:cNvSpPr/>
              <p:nvPr/>
            </p:nvSpPr>
            <p:spPr>
              <a:xfrm>
                <a:off x="4686120" y="6000840"/>
                <a:ext cx="295200" cy="285840"/>
              </a:xfrm>
              <a:prstGeom prst="ellipse">
                <a:avLst/>
              </a:prstGeom>
              <a:solidFill>
                <a:srgbClr val="f6bf6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981680" y="6105600"/>
                <a:ext cx="1324080" cy="85680"/>
              </a:xfrm>
              <a:prstGeom prst="rect">
                <a:avLst/>
              </a:prstGeom>
              <a:solidFill>
                <a:srgbClr val="f6bf69"/>
              </a:solidFill>
              <a:ln w="0">
                <a:noFill/>
              </a:ln>
            </p:spPr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6257880" y="5729400"/>
              <a:ext cx="85680" cy="461880"/>
            </a:xfrm>
            <a:prstGeom prst="rect">
              <a:avLst/>
            </a:prstGeom>
            <a:solidFill>
              <a:srgbClr val="f6bf6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 txBox="1"/>
          <p:nvPr/>
        </p:nvSpPr>
        <p:spPr>
          <a:xfrm>
            <a:off x="4098960" y="6453360"/>
            <a:ext cx="1587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e.asn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460520" y="973080"/>
            <a:ext cx="45403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800280" indent="-34308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a VarBindL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39840" y="228600"/>
            <a:ext cx="84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790560" y="1996920"/>
            <a:ext cx="1828800" cy="1470240"/>
            <a:chOff x="790560" y="1996920"/>
            <a:chExt cx="1828800" cy="1470240"/>
          </a:xfrm>
        </p:grpSpPr>
        <p:sp>
          <p:nvSpPr>
            <p:cNvPr id="500" name=""/>
            <p:cNvSpPr/>
            <p:nvPr/>
          </p:nvSpPr>
          <p:spPr>
            <a:xfrm>
              <a:off x="790560" y="1996920"/>
              <a:ext cx="1828800" cy="48276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0560" y="2489040"/>
              <a:ext cx="1828800" cy="48276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90560" y="2984400"/>
              <a:ext cx="1828800" cy="48276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 txBox="1"/>
          <p:nvPr/>
        </p:nvSpPr>
        <p:spPr>
          <a:xfrm>
            <a:off x="765000" y="2119320"/>
            <a:ext cx="857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784080" y="2585880"/>
            <a:ext cx="1266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 =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03160" y="3062160"/>
            <a:ext cx="1901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=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24040" y="2124000"/>
            <a:ext cx="276120" cy="276120"/>
          </a:xfrm>
          <a:prstGeom prst="ellipse">
            <a:avLst/>
          </a:pr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981080" y="2219400"/>
            <a:ext cx="1695600" cy="9540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666960" y="2171520"/>
            <a:ext cx="581400" cy="190800"/>
          </a:xfrm>
          <a:custGeom>
            <a:avLst/>
            <a:gdLst/>
            <a:ahLst/>
            <a:rect l="0" t="0" r="r" b="b"/>
            <a:pathLst>
              <a:path w="1615" h="530">
                <a:moveTo>
                  <a:pt x="0" y="176"/>
                </a:moveTo>
                <a:lnTo>
                  <a:pt x="0" y="353"/>
                </a:lnTo>
                <a:lnTo>
                  <a:pt x="1130" y="353"/>
                </a:lnTo>
                <a:lnTo>
                  <a:pt x="1130" y="530"/>
                </a:lnTo>
                <a:lnTo>
                  <a:pt x="1615" y="264"/>
                </a:lnTo>
                <a:lnTo>
                  <a:pt x="1130" y="0"/>
                </a:lnTo>
                <a:lnTo>
                  <a:pt x="1130" y="176"/>
                </a:lnTo>
                <a:lnTo>
                  <a:pt x="0" y="176"/>
                </a:lnTo>
                <a:close/>
              </a:path>
            </a:pathLst>
          </a:cu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276800" y="2066760"/>
            <a:ext cx="4276800" cy="4096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DEFGHIJKLMNOPQRSTUVWXY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69800" y="3751200"/>
            <a:ext cx="8375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SN Types that use AsnOctet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384200" y="4481640"/>
            <a:ext cx="60357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Sequenc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IP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DisplayStri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Opa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518000" y="2998800"/>
            <a:ext cx="4497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806480" y="957240"/>
            <a:ext cx="48625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a AsnOctetSt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39680" y="1549440"/>
            <a:ext cx="886464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: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work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ge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 -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age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formatio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e: Collection of related manag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ent: Software that implements/manipulates managed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ble Agent:  Agent Software that can be easily updated to support new MI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Agent: Software that implements instrumentation for a MIB(s) that works with an extendibl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 Station: Software used to communicate with Agent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DU -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toco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t: A data object exchanged between SNMP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ID -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jec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d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ifier: Unique ID assigned to a managed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: A branch/sub-branch of the OID namespace associated with a 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Bind: A request object for a single managed object, consisting of an OID, a Variable Type and a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BindList: A collection of VarBind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Termi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39840" y="228600"/>
            <a:ext cx="84661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5189400" y="2336760"/>
            <a:ext cx="358776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asnTyp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Integer             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OctetString       str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ObjectIdentifier  obj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Sequence          seque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IPAddress         addr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Counter             coun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Gauge                gau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Timeticks          tick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nOpaque              arbitrar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asnVal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AsnAn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990720" y="1041480"/>
            <a:ext cx="716292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ption of the Utilit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5b553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UtilPrintAsnAny - Print ASN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765000" y="2371680"/>
            <a:ext cx="4635360" cy="39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long           Asn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struc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*strea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NT  lengt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OL dynami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                     AsnOctetStr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AsnOctetString AsnSeque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AsnSequence    AsnImplicitSequen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AsnOctetString AsnIPAddre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AsnOctetString AsnDisplayString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DWORD          AsnCoun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DWORD          AsnGaug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DWORD          AsnTimetick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def AsnOctetString AsnOpaq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87360" y="1714680"/>
            <a:ext cx="836928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es MIB OID to name mappings in MIB.B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.BIN in conjunction with MGMTAPI.DLL allows Management applications to reference variable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IB.BIN can be created by recompiling old MIBS with new MIBS for which you want to ad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MIB comp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MIB comp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1871640" y="1593720"/>
            <a:ext cx="509256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: mibcc [-?] [-e] [-l] [-n] [-o] [-t] -[w] [files...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CC compiles the specified SNMP MIB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?      u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eX     stop after X Errors. (default =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l      do not print Lo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n      print each Node as it is ad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file  output file name.  (default = mib.b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t      print the mib Tree when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X     set Warning level.  (1=errors,2=warn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442800" y="1562040"/>
            <a:ext cx="1017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t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285840" y="4735440"/>
            <a:ext cx="1620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709640" y="4761000"/>
            <a:ext cx="71499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bcc -o.\mib.bin smi.mib mib_ii.mib lmmib2.mib wins.mib dhcp.m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43000" y="228600"/>
            <a:ext cx="8658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247680" y="1349280"/>
            <a:ext cx="86486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NMP to make your application easily manageable in a heterogeneous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dvantage of a wide selection of Management St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Windows NT SNMP Extendible Agent to quickly build SNMP instrumentation into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Windows NT SNMP MGMTAPI and utilities to build SNMP Management 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hy instrument with SNM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17520" y="1849320"/>
            <a:ext cx="8508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 your application/services administer-able from many existing SNMP management stations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your application/services to compete in heterogeneous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large corporation won’t even consider a network application/services unless instrumented via SN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ble, prove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0120" y="1357200"/>
            <a:ext cx="8156520" cy="671400"/>
          </a:xfrm>
          <a:prstGeom prst="rect">
            <a:avLst/>
          </a:prstGeom>
          <a:gradFill rotWithShape="0">
            <a:gsLst>
              <a:gs pos="0">
                <a:srgbClr val="832ec5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NMP Extendible Ag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67240" y="2502000"/>
            <a:ext cx="2627280" cy="1165320"/>
          </a:xfrm>
          <a:prstGeom prst="rect">
            <a:avLst/>
          </a:prstGeom>
          <a:gradFill rotWithShape="0">
            <a:gsLst>
              <a:gs pos="0">
                <a:srgbClr val="832ec5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8120" y="2625840"/>
            <a:ext cx="2627280" cy="1122480"/>
          </a:xfrm>
          <a:prstGeom prst="rect">
            <a:avLst/>
          </a:prstGeom>
          <a:gradFill rotWithShape="0">
            <a:gsLst>
              <a:gs pos="0">
                <a:srgbClr val="832ec5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40120" y="2765520"/>
            <a:ext cx="2627280" cy="1184400"/>
          </a:xfrm>
          <a:prstGeom prst="rect">
            <a:avLst/>
          </a:prstGeom>
          <a:gradFill rotWithShape="0">
            <a:gsLst>
              <a:gs pos="0">
                <a:srgbClr val="832ec5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88000" y="2901960"/>
            <a:ext cx="2627280" cy="1212840"/>
          </a:xfrm>
          <a:prstGeom prst="rect">
            <a:avLst/>
          </a:prstGeom>
          <a:gradFill rotWithShape="0">
            <a:gsLst>
              <a:gs pos="0">
                <a:srgbClr val="832ec5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49560" y="2987640"/>
            <a:ext cx="3619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on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4648320"/>
            <a:ext cx="5257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33720" y="4467240"/>
            <a:ext cx="6477120" cy="790560"/>
          </a:xfrm>
          <a:prstGeom prst="rect">
            <a:avLst/>
          </a:prstGeom>
          <a:gradFill rotWithShape="0">
            <a:gsLst>
              <a:gs pos="0">
                <a:srgbClr val="832ec5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NMPUtilAP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169" y="848"/>
                </a:moveTo>
                <a:lnTo>
                  <a:pt x="679" y="848"/>
                </a:lnTo>
                <a:lnTo>
                  <a:pt x="679" y="254"/>
                </a:lnTo>
                <a:lnTo>
                  <a:pt x="848" y="254"/>
                </a:lnTo>
                <a:lnTo>
                  <a:pt x="424" y="0"/>
                </a:lnTo>
                <a:lnTo>
                  <a:pt x="0" y="254"/>
                </a:lnTo>
                <a:lnTo>
                  <a:pt x="169" y="254"/>
                </a:lnTo>
                <a:lnTo>
                  <a:pt x="169" y="848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9920" y="2133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169" y="0"/>
                </a:moveTo>
                <a:lnTo>
                  <a:pt x="679" y="0"/>
                </a:lnTo>
                <a:lnTo>
                  <a:pt x="679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169" y="593"/>
                </a:lnTo>
                <a:lnTo>
                  <a:pt x="169" y="0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414504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169" y="0"/>
                </a:moveTo>
                <a:lnTo>
                  <a:pt x="679" y="0"/>
                </a:lnTo>
                <a:lnTo>
                  <a:pt x="679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169" y="593"/>
                </a:lnTo>
                <a:lnTo>
                  <a:pt x="169" y="0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67080" y="4114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169" y="848"/>
                </a:moveTo>
                <a:lnTo>
                  <a:pt x="679" y="848"/>
                </a:lnTo>
                <a:lnTo>
                  <a:pt x="679" y="255"/>
                </a:lnTo>
                <a:lnTo>
                  <a:pt x="848" y="255"/>
                </a:lnTo>
                <a:lnTo>
                  <a:pt x="424" y="0"/>
                </a:lnTo>
                <a:lnTo>
                  <a:pt x="0" y="255"/>
                </a:lnTo>
                <a:lnTo>
                  <a:pt x="169" y="255"/>
                </a:lnTo>
                <a:lnTo>
                  <a:pt x="169" y="848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07880" y="5532480"/>
            <a:ext cx="8574120" cy="800280"/>
          </a:xfrm>
          <a:prstGeom prst="rect">
            <a:avLst/>
          </a:prstGeom>
          <a:gradFill rotWithShape="0">
            <a:gsLst>
              <a:gs pos="0">
                <a:srgbClr val="832ec5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7fff00"/>
                </a:solidFill>
                <a:latin typeface="Times New Roman"/>
                <a:ea typeface="Times New Roman"/>
              </a:rPr>
              <a:t>WinS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4200" y="228600"/>
            <a:ext cx="81756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tendible Agen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313000" y="2062080"/>
            <a:ext cx="506880" cy="2367360"/>
            <a:chOff x="2313000" y="2062080"/>
            <a:chExt cx="506880" cy="2367360"/>
          </a:xfrm>
        </p:grpSpPr>
        <p:sp>
          <p:nvSpPr>
            <p:cNvPr id="60" name=""/>
            <p:cNvSpPr/>
            <p:nvPr/>
          </p:nvSpPr>
          <p:spPr>
            <a:xfrm>
              <a:off x="2313000" y="3108240"/>
              <a:ext cx="506880" cy="1321200"/>
            </a:xfrm>
            <a:custGeom>
              <a:avLst/>
              <a:gdLst/>
              <a:ahLst/>
              <a:rect l="0" t="0" r="r" b="b"/>
              <a:pathLst>
                <a:path w="1408" h="3670">
                  <a:moveTo>
                    <a:pt x="469" y="0"/>
                  </a:moveTo>
                  <a:lnTo>
                    <a:pt x="937" y="0"/>
                  </a:lnTo>
                  <a:lnTo>
                    <a:pt x="937" y="2569"/>
                  </a:lnTo>
                  <a:lnTo>
                    <a:pt x="1408" y="2569"/>
                  </a:lnTo>
                  <a:lnTo>
                    <a:pt x="704" y="3670"/>
                  </a:lnTo>
                  <a:lnTo>
                    <a:pt x="0" y="2569"/>
                  </a:lnTo>
                  <a:lnTo>
                    <a:pt x="469" y="2569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9234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28840" y="2062080"/>
              <a:ext cx="471960" cy="1213200"/>
            </a:xfrm>
            <a:custGeom>
              <a:avLst/>
              <a:gdLst/>
              <a:ahLst/>
              <a:rect l="0" t="0" r="r" b="b"/>
              <a:pathLst>
                <a:path w="1311" h="3370">
                  <a:moveTo>
                    <a:pt x="437" y="3370"/>
                  </a:moveTo>
                  <a:lnTo>
                    <a:pt x="873" y="3370"/>
                  </a:lnTo>
                  <a:lnTo>
                    <a:pt x="873" y="1010"/>
                  </a:lnTo>
                  <a:lnTo>
                    <a:pt x="1311" y="1010"/>
                  </a:lnTo>
                  <a:lnTo>
                    <a:pt x="655" y="0"/>
                  </a:lnTo>
                  <a:lnTo>
                    <a:pt x="0" y="1010"/>
                  </a:lnTo>
                  <a:lnTo>
                    <a:pt x="437" y="1010"/>
                  </a:lnTo>
                  <a:lnTo>
                    <a:pt x="437" y="3370"/>
                  </a:lnTo>
                  <a:close/>
                </a:path>
              </a:pathLst>
            </a:custGeom>
            <a:solidFill>
              <a:srgbClr val="9234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843120" y="1968480"/>
            <a:ext cx="560880" cy="3580200"/>
            <a:chOff x="843120" y="1968480"/>
            <a:chExt cx="560880" cy="3580200"/>
          </a:xfrm>
        </p:grpSpPr>
        <p:sp>
          <p:nvSpPr>
            <p:cNvPr id="63" name=""/>
            <p:cNvSpPr/>
            <p:nvPr/>
          </p:nvSpPr>
          <p:spPr>
            <a:xfrm>
              <a:off x="843120" y="4227480"/>
              <a:ext cx="560880" cy="1321200"/>
            </a:xfrm>
            <a:custGeom>
              <a:avLst/>
              <a:gdLst/>
              <a:ahLst/>
              <a:rect l="0" t="0" r="r" b="b"/>
              <a:pathLst>
                <a:path w="1558" h="3670">
                  <a:moveTo>
                    <a:pt x="519" y="0"/>
                  </a:moveTo>
                  <a:lnTo>
                    <a:pt x="1037" y="0"/>
                  </a:lnTo>
                  <a:lnTo>
                    <a:pt x="1037" y="2569"/>
                  </a:lnTo>
                  <a:lnTo>
                    <a:pt x="1558" y="2569"/>
                  </a:lnTo>
                  <a:lnTo>
                    <a:pt x="779" y="3670"/>
                  </a:lnTo>
                  <a:lnTo>
                    <a:pt x="0" y="2569"/>
                  </a:lnTo>
                  <a:lnTo>
                    <a:pt x="519" y="2569"/>
                  </a:lnTo>
                  <a:lnTo>
                    <a:pt x="519" y="0"/>
                  </a:lnTo>
                  <a:close/>
                </a:path>
              </a:pathLst>
            </a:custGeom>
            <a:solidFill>
              <a:srgbClr val="9234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52480" y="1968480"/>
              <a:ext cx="538560" cy="1213200"/>
            </a:xfrm>
            <a:custGeom>
              <a:avLst/>
              <a:gdLst/>
              <a:ahLst/>
              <a:rect l="0" t="0" r="r" b="b"/>
              <a:pathLst>
                <a:path w="1496" h="3370">
                  <a:moveTo>
                    <a:pt x="498" y="3370"/>
                  </a:moveTo>
                  <a:lnTo>
                    <a:pt x="996" y="3370"/>
                  </a:lnTo>
                  <a:lnTo>
                    <a:pt x="996" y="1010"/>
                  </a:lnTo>
                  <a:lnTo>
                    <a:pt x="1496" y="1010"/>
                  </a:lnTo>
                  <a:lnTo>
                    <a:pt x="748" y="0"/>
                  </a:lnTo>
                  <a:lnTo>
                    <a:pt x="0" y="1010"/>
                  </a:lnTo>
                  <a:lnTo>
                    <a:pt x="498" y="1010"/>
                  </a:lnTo>
                  <a:lnTo>
                    <a:pt x="498" y="3370"/>
                  </a:lnTo>
                  <a:close/>
                </a:path>
              </a:pathLst>
            </a:custGeom>
            <a:solidFill>
              <a:srgbClr val="9234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92160" y="3182760"/>
              <a:ext cx="262080" cy="1044720"/>
            </a:xfrm>
            <a:prstGeom prst="rect">
              <a:avLst/>
            </a:prstGeom>
            <a:solidFill>
              <a:srgbClr val="9234d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1111320" y="1795320"/>
            <a:ext cx="692136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s IP and IPX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ingle Extension Agent to support multiple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Tr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dible Agent Service (E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dible Agent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1720" y="1468440"/>
            <a:ext cx="1996920" cy="600120"/>
          </a:xfrm>
          <a:prstGeom prst="round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0440" y="1477800"/>
            <a:ext cx="207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46280" y="1562040"/>
            <a:ext cx="1539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gnal S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71520" y="315288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43080" y="2400480"/>
            <a:ext cx="2003400" cy="895320"/>
          </a:xfrm>
          <a:prstGeom prst="round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962000" y="3538440"/>
            <a:ext cx="1984320" cy="684360"/>
            <a:chOff x="1962000" y="3538440"/>
            <a:chExt cx="1984320" cy="684360"/>
          </a:xfrm>
        </p:grpSpPr>
        <p:sp>
          <p:nvSpPr>
            <p:cNvPr id="75" name=""/>
            <p:cNvSpPr txBox="1"/>
            <p:nvPr/>
          </p:nvSpPr>
          <p:spPr>
            <a:xfrm>
              <a:off x="2205000" y="3581280"/>
              <a:ext cx="1498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ad SNM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quest P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62000" y="353844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590920" y="4572000"/>
            <a:ext cx="1984320" cy="684360"/>
            <a:chOff x="2590920" y="4572000"/>
            <a:chExt cx="1984320" cy="684360"/>
          </a:xfrm>
        </p:grpSpPr>
        <p:sp>
          <p:nvSpPr>
            <p:cNvPr id="78" name=""/>
            <p:cNvSpPr txBox="1"/>
            <p:nvPr/>
          </p:nvSpPr>
          <p:spPr>
            <a:xfrm>
              <a:off x="2827440" y="4614840"/>
              <a:ext cx="15112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ck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457200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262320" y="5643720"/>
            <a:ext cx="1984320" cy="684360"/>
            <a:chOff x="3262320" y="5643720"/>
            <a:chExt cx="1984320" cy="684360"/>
          </a:xfrm>
        </p:grpSpPr>
        <p:sp>
          <p:nvSpPr>
            <p:cNvPr id="81" name=""/>
            <p:cNvSpPr txBox="1"/>
            <p:nvPr/>
          </p:nvSpPr>
          <p:spPr>
            <a:xfrm>
              <a:off x="3286080" y="5686560"/>
              <a:ext cx="19368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termi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t. Agent to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62320" y="564372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38360" y="527688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66920" y="210492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81360" y="421956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43440" y="4371840"/>
            <a:ext cx="142920" cy="155736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86240" y="5815080"/>
            <a:ext cx="571680" cy="1285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4414680" y="1467000"/>
            <a:ext cx="1984320" cy="684360"/>
            <a:chOff x="4414680" y="1467000"/>
            <a:chExt cx="1984320" cy="684360"/>
          </a:xfrm>
        </p:grpSpPr>
        <p:sp>
          <p:nvSpPr>
            <p:cNvPr id="89" name=""/>
            <p:cNvSpPr txBox="1"/>
            <p:nvPr/>
          </p:nvSpPr>
          <p:spPr>
            <a:xfrm>
              <a:off x="4495680" y="1509840"/>
              <a:ext cx="18223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nd Off to 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14680" y="146700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4365720" y="4314960"/>
            <a:ext cx="1521000" cy="1429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67160" y="3143160"/>
            <a:ext cx="128520" cy="121428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86040" y="3024360"/>
            <a:ext cx="819000" cy="1094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86040" y="1876320"/>
            <a:ext cx="123840" cy="123840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00440" y="1824120"/>
            <a:ext cx="643320" cy="200160"/>
          </a:xfrm>
          <a:custGeom>
            <a:avLst/>
            <a:gdLst/>
            <a:ahLst/>
            <a:rect l="0" t="0" r="r" b="b"/>
            <a:pathLst>
              <a:path w="1787" h="556">
                <a:moveTo>
                  <a:pt x="0" y="185"/>
                </a:moveTo>
                <a:lnTo>
                  <a:pt x="0" y="371"/>
                </a:lnTo>
                <a:lnTo>
                  <a:pt x="1251" y="371"/>
                </a:lnTo>
                <a:lnTo>
                  <a:pt x="1251" y="556"/>
                </a:lnTo>
                <a:lnTo>
                  <a:pt x="1787" y="277"/>
                </a:lnTo>
                <a:lnTo>
                  <a:pt x="1251" y="0"/>
                </a:lnTo>
                <a:lnTo>
                  <a:pt x="1251" y="185"/>
                </a:lnTo>
                <a:lnTo>
                  <a:pt x="0" y="185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67160" y="214776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981680" y="2519280"/>
            <a:ext cx="2013120" cy="684360"/>
            <a:chOff x="4981680" y="2519280"/>
            <a:chExt cx="2013120" cy="684360"/>
          </a:xfrm>
        </p:grpSpPr>
        <p:sp>
          <p:nvSpPr>
            <p:cNvPr id="98" name=""/>
            <p:cNvSpPr txBox="1"/>
            <p:nvPr/>
          </p:nvSpPr>
          <p:spPr>
            <a:xfrm>
              <a:off x="4981680" y="2562120"/>
              <a:ext cx="2013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ixup Error 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d Error 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95720" y="251928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243080" y="2476440"/>
            <a:ext cx="1984320" cy="684360"/>
            <a:chOff x="1243080" y="2476440"/>
            <a:chExt cx="1984320" cy="684360"/>
          </a:xfrm>
        </p:grpSpPr>
        <p:sp>
          <p:nvSpPr>
            <p:cNvPr id="101" name=""/>
            <p:cNvSpPr txBox="1"/>
            <p:nvPr/>
          </p:nvSpPr>
          <p:spPr>
            <a:xfrm>
              <a:off x="1577880" y="2519280"/>
              <a:ext cx="131436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itializ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t. Ag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43080" y="247644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919840" y="321480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691240" y="3571920"/>
            <a:ext cx="1984320" cy="684360"/>
            <a:chOff x="5691240" y="3571920"/>
            <a:chExt cx="1984320" cy="684360"/>
          </a:xfrm>
        </p:grpSpPr>
        <p:sp>
          <p:nvSpPr>
            <p:cNvPr id="105" name=""/>
            <p:cNvSpPr txBox="1"/>
            <p:nvPr/>
          </p:nvSpPr>
          <p:spPr>
            <a:xfrm>
              <a:off x="5727600" y="3614760"/>
              <a:ext cx="191124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turn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91240" y="357192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6562800" y="4253040"/>
            <a:ext cx="109440" cy="227160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24160" y="6415200"/>
            <a:ext cx="5181480" cy="1094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24080" y="3800520"/>
            <a:ext cx="114480" cy="27338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8120" y="3747960"/>
            <a:ext cx="643320" cy="200520"/>
          </a:xfrm>
          <a:custGeom>
            <a:avLst/>
            <a:gdLst/>
            <a:ahLst/>
            <a:rect l="0" t="0" r="r" b="b"/>
            <a:pathLst>
              <a:path w="1787" h="557">
                <a:moveTo>
                  <a:pt x="0" y="186"/>
                </a:moveTo>
                <a:lnTo>
                  <a:pt x="0" y="371"/>
                </a:lnTo>
                <a:lnTo>
                  <a:pt x="1251" y="371"/>
                </a:lnTo>
                <a:lnTo>
                  <a:pt x="1251" y="557"/>
                </a:lnTo>
                <a:lnTo>
                  <a:pt x="1787" y="278"/>
                </a:lnTo>
                <a:lnTo>
                  <a:pt x="1251" y="0"/>
                </a:lnTo>
                <a:lnTo>
                  <a:pt x="1251" y="186"/>
                </a:lnTo>
                <a:lnTo>
                  <a:pt x="0" y="186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65920" y="5238720"/>
            <a:ext cx="700560" cy="200520"/>
          </a:xfrm>
          <a:custGeom>
            <a:avLst/>
            <a:gdLst/>
            <a:ahLst/>
            <a:rect l="0" t="0" r="r" b="b"/>
            <a:pathLst>
              <a:path w="1946" h="557">
                <a:moveTo>
                  <a:pt x="1946" y="0"/>
                </a:moveTo>
                <a:lnTo>
                  <a:pt x="1946" y="557"/>
                </a:lnTo>
                <a:lnTo>
                  <a:pt x="584" y="557"/>
                </a:lnTo>
                <a:lnTo>
                  <a:pt x="0" y="278"/>
                </a:lnTo>
                <a:lnTo>
                  <a:pt x="584" y="0"/>
                </a:lnTo>
                <a:lnTo>
                  <a:pt x="1946" y="0"/>
                </a:lnTo>
                <a:close/>
              </a:path>
            </a:pathLst>
          </a:custGeom>
          <a:solidFill>
            <a:srgbClr val="7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580160" y="5162400"/>
            <a:ext cx="1473120" cy="14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t O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 IS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prov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469800" y="2454120"/>
            <a:ext cx="700560" cy="244440"/>
            <a:chOff x="469800" y="2454120"/>
            <a:chExt cx="700560" cy="244440"/>
          </a:xfrm>
        </p:grpSpPr>
        <p:sp>
          <p:nvSpPr>
            <p:cNvPr id="114" name=""/>
            <p:cNvSpPr/>
            <p:nvPr/>
          </p:nvSpPr>
          <p:spPr>
            <a:xfrm>
              <a:off x="469800" y="2471760"/>
              <a:ext cx="700560" cy="200520"/>
            </a:xfrm>
            <a:custGeom>
              <a:avLst/>
              <a:gdLst/>
              <a:ahLst/>
              <a:rect l="0" t="0" r="r" b="b"/>
              <a:pathLst>
                <a:path w="1946" h="557">
                  <a:moveTo>
                    <a:pt x="1946" y="0"/>
                  </a:moveTo>
                  <a:lnTo>
                    <a:pt x="1946" y="557"/>
                  </a:lnTo>
                  <a:lnTo>
                    <a:pt x="584" y="557"/>
                  </a:lnTo>
                  <a:lnTo>
                    <a:pt x="0" y="278"/>
                  </a:lnTo>
                  <a:lnTo>
                    <a:pt x="584" y="0"/>
                  </a:lnTo>
                  <a:lnTo>
                    <a:pt x="1946" y="0"/>
                  </a:lnTo>
                  <a:close/>
                </a:path>
              </a:pathLst>
            </a:custGeom>
            <a:solidFill>
              <a:srgbClr val="7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584280" y="2454120"/>
              <a:ext cx="247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637080" y="1487520"/>
            <a:ext cx="700560" cy="205200"/>
          </a:xfrm>
          <a:custGeom>
            <a:avLst/>
            <a:gdLst/>
            <a:ahLst/>
            <a:rect l="0" t="0" r="r" b="b"/>
            <a:pathLst>
              <a:path w="1946" h="570">
                <a:moveTo>
                  <a:pt x="1946" y="0"/>
                </a:moveTo>
                <a:lnTo>
                  <a:pt x="1946" y="570"/>
                </a:lnTo>
                <a:lnTo>
                  <a:pt x="584" y="570"/>
                </a:lnTo>
                <a:lnTo>
                  <a:pt x="0" y="285"/>
                </a:lnTo>
                <a:lnTo>
                  <a:pt x="584" y="0"/>
                </a:lnTo>
                <a:lnTo>
                  <a:pt x="1946" y="0"/>
                </a:lnTo>
                <a:close/>
              </a:path>
            </a:pathLst>
          </a:custGeom>
          <a:solidFill>
            <a:srgbClr val="7fff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751200" y="1473120"/>
            <a:ext cx="2476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2720" y="1630440"/>
            <a:ext cx="207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dible Agent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57160" y="2070000"/>
            <a:ext cx="7429680" cy="21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MP.EXE can be run as an EX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 debugging via wndb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WINDBG SNM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breakpoints in source for your 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39840" y="228600"/>
            <a:ext cx="84661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SNMP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tendible Agent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1720" y="1468440"/>
            <a:ext cx="1996920" cy="6001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0440" y="1477800"/>
            <a:ext cx="207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09640" y="1609560"/>
            <a:ext cx="1463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gnal S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71520" y="315288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00240" y="2448000"/>
            <a:ext cx="1990800" cy="676440"/>
          </a:xfrm>
          <a:prstGeom prst="round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00240" y="2462040"/>
            <a:ext cx="1984320" cy="646560"/>
            <a:chOff x="1200240" y="2462040"/>
            <a:chExt cx="1984320" cy="646560"/>
          </a:xfrm>
        </p:grpSpPr>
        <p:sp>
          <p:nvSpPr>
            <p:cNvPr id="128" name=""/>
            <p:cNvSpPr txBox="1"/>
            <p:nvPr/>
          </p:nvSpPr>
          <p:spPr>
            <a:xfrm>
              <a:off x="1522440" y="2467080"/>
              <a:ext cx="132084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Initializ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Ext. Agen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00240" y="2462040"/>
              <a:ext cx="1984320" cy="638280"/>
            </a:xfrm>
            <a:prstGeom prst="round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590920" y="4572000"/>
            <a:ext cx="1984320" cy="684360"/>
            <a:chOff x="2590920" y="4572000"/>
            <a:chExt cx="1984320" cy="684360"/>
          </a:xfrm>
        </p:grpSpPr>
        <p:sp>
          <p:nvSpPr>
            <p:cNvPr id="131" name=""/>
            <p:cNvSpPr txBox="1"/>
            <p:nvPr/>
          </p:nvSpPr>
          <p:spPr>
            <a:xfrm>
              <a:off x="2827440" y="4614840"/>
              <a:ext cx="15112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ck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iv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457200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262320" y="5643720"/>
            <a:ext cx="1984320" cy="684360"/>
            <a:chOff x="3262320" y="5643720"/>
            <a:chExt cx="1984320" cy="684360"/>
          </a:xfrm>
        </p:grpSpPr>
        <p:sp>
          <p:nvSpPr>
            <p:cNvPr id="134" name=""/>
            <p:cNvSpPr txBox="1"/>
            <p:nvPr/>
          </p:nvSpPr>
          <p:spPr>
            <a:xfrm>
              <a:off x="3286080" y="5686560"/>
              <a:ext cx="19368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termin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t. Agent to C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62320" y="564372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438360" y="527688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6920" y="210492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81360" y="421956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43440" y="4371840"/>
            <a:ext cx="142920" cy="155736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86240" y="5815080"/>
            <a:ext cx="571680" cy="1285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414680" y="1467000"/>
            <a:ext cx="1984320" cy="684360"/>
            <a:chOff x="4414680" y="1467000"/>
            <a:chExt cx="1984320" cy="684360"/>
          </a:xfrm>
        </p:grpSpPr>
        <p:sp>
          <p:nvSpPr>
            <p:cNvPr id="142" name=""/>
            <p:cNvSpPr txBox="1"/>
            <p:nvPr/>
          </p:nvSpPr>
          <p:spPr>
            <a:xfrm>
              <a:off x="4495680" y="1509840"/>
              <a:ext cx="18223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nd Off to Ex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14680" y="146700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365720" y="4314960"/>
            <a:ext cx="1521000" cy="14292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67160" y="3143160"/>
            <a:ext cx="128520" cy="121428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86040" y="3024360"/>
            <a:ext cx="819000" cy="1094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86040" y="1876320"/>
            <a:ext cx="123840" cy="123840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00440" y="1828800"/>
            <a:ext cx="643320" cy="200520"/>
          </a:xfrm>
          <a:custGeom>
            <a:avLst/>
            <a:gdLst/>
            <a:ahLst/>
            <a:rect l="0" t="0" r="r" b="b"/>
            <a:pathLst>
              <a:path w="1787" h="557">
                <a:moveTo>
                  <a:pt x="0" y="186"/>
                </a:moveTo>
                <a:lnTo>
                  <a:pt x="0" y="371"/>
                </a:lnTo>
                <a:lnTo>
                  <a:pt x="1251" y="371"/>
                </a:lnTo>
                <a:lnTo>
                  <a:pt x="1251" y="557"/>
                </a:lnTo>
                <a:lnTo>
                  <a:pt x="1787" y="278"/>
                </a:lnTo>
                <a:lnTo>
                  <a:pt x="1251" y="0"/>
                </a:lnTo>
                <a:lnTo>
                  <a:pt x="1251" y="186"/>
                </a:lnTo>
                <a:lnTo>
                  <a:pt x="0" y="186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67160" y="214776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981680" y="2519280"/>
            <a:ext cx="2013120" cy="684360"/>
            <a:chOff x="4981680" y="2519280"/>
            <a:chExt cx="2013120" cy="684360"/>
          </a:xfrm>
        </p:grpSpPr>
        <p:sp>
          <p:nvSpPr>
            <p:cNvPr id="151" name=""/>
            <p:cNvSpPr txBox="1"/>
            <p:nvPr/>
          </p:nvSpPr>
          <p:spPr>
            <a:xfrm>
              <a:off x="4981680" y="2562120"/>
              <a:ext cx="201312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ixup Error Va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d Error Inde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95720" y="251928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919840" y="3214800"/>
            <a:ext cx="174960" cy="314640"/>
          </a:xfrm>
          <a:custGeom>
            <a:avLst/>
            <a:gdLst/>
            <a:ahLst/>
            <a:rect l="0" t="0" r="r" b="b"/>
            <a:pathLst>
              <a:path w="486" h="874">
                <a:moveTo>
                  <a:pt x="161" y="0"/>
                </a:moveTo>
                <a:lnTo>
                  <a:pt x="324" y="0"/>
                </a:lnTo>
                <a:lnTo>
                  <a:pt x="324" y="612"/>
                </a:lnTo>
                <a:lnTo>
                  <a:pt x="486" y="612"/>
                </a:lnTo>
                <a:lnTo>
                  <a:pt x="242" y="874"/>
                </a:lnTo>
                <a:lnTo>
                  <a:pt x="0" y="612"/>
                </a:lnTo>
                <a:lnTo>
                  <a:pt x="161" y="612"/>
                </a:lnTo>
                <a:lnTo>
                  <a:pt x="161" y="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5691240" y="3571920"/>
            <a:ext cx="1984320" cy="684360"/>
            <a:chOff x="5691240" y="3571920"/>
            <a:chExt cx="1984320" cy="684360"/>
          </a:xfrm>
        </p:grpSpPr>
        <p:sp>
          <p:nvSpPr>
            <p:cNvPr id="155" name=""/>
            <p:cNvSpPr txBox="1"/>
            <p:nvPr/>
          </p:nvSpPr>
          <p:spPr>
            <a:xfrm>
              <a:off x="5727600" y="3614760"/>
              <a:ext cx="191124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turn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91240" y="357192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562800" y="4253040"/>
            <a:ext cx="109440" cy="227160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24160" y="6415200"/>
            <a:ext cx="5181480" cy="1094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24080" y="3800520"/>
            <a:ext cx="114480" cy="2733840"/>
          </a:xfrm>
          <a:prstGeom prst="rect">
            <a:avLst/>
          </a:pr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8120" y="3747960"/>
            <a:ext cx="643320" cy="200520"/>
          </a:xfrm>
          <a:custGeom>
            <a:avLst/>
            <a:gdLst/>
            <a:ahLst/>
            <a:rect l="0" t="0" r="r" b="b"/>
            <a:pathLst>
              <a:path w="1787" h="557">
                <a:moveTo>
                  <a:pt x="0" y="186"/>
                </a:moveTo>
                <a:lnTo>
                  <a:pt x="0" y="371"/>
                </a:lnTo>
                <a:lnTo>
                  <a:pt x="1251" y="371"/>
                </a:lnTo>
                <a:lnTo>
                  <a:pt x="1251" y="557"/>
                </a:lnTo>
                <a:lnTo>
                  <a:pt x="1787" y="278"/>
                </a:lnTo>
                <a:lnTo>
                  <a:pt x="1251" y="0"/>
                </a:lnTo>
                <a:lnTo>
                  <a:pt x="1251" y="186"/>
                </a:lnTo>
                <a:lnTo>
                  <a:pt x="0" y="186"/>
                </a:lnTo>
                <a:close/>
              </a:path>
            </a:pathLst>
          </a:custGeom>
          <a:solidFill>
            <a:srgbClr val="9234d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469800" y="2454120"/>
            <a:ext cx="700560" cy="244440"/>
            <a:chOff x="469800" y="2454120"/>
            <a:chExt cx="700560" cy="244440"/>
          </a:xfrm>
        </p:grpSpPr>
        <p:sp>
          <p:nvSpPr>
            <p:cNvPr id="162" name=""/>
            <p:cNvSpPr/>
            <p:nvPr/>
          </p:nvSpPr>
          <p:spPr>
            <a:xfrm>
              <a:off x="469800" y="2471760"/>
              <a:ext cx="700560" cy="200520"/>
            </a:xfrm>
            <a:custGeom>
              <a:avLst/>
              <a:gdLst/>
              <a:ahLst/>
              <a:rect l="0" t="0" r="r" b="b"/>
              <a:pathLst>
                <a:path w="1946" h="557">
                  <a:moveTo>
                    <a:pt x="1946" y="0"/>
                  </a:moveTo>
                  <a:lnTo>
                    <a:pt x="1946" y="557"/>
                  </a:lnTo>
                  <a:lnTo>
                    <a:pt x="584" y="557"/>
                  </a:lnTo>
                  <a:lnTo>
                    <a:pt x="0" y="278"/>
                  </a:lnTo>
                  <a:lnTo>
                    <a:pt x="584" y="0"/>
                  </a:lnTo>
                  <a:lnTo>
                    <a:pt x="1946" y="0"/>
                  </a:lnTo>
                  <a:close/>
                </a:path>
              </a:pathLst>
            </a:custGeom>
            <a:solidFill>
              <a:srgbClr val="7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584280" y="2454120"/>
              <a:ext cx="247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12720" y="1630440"/>
            <a:ext cx="20764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19240" y="3510000"/>
            <a:ext cx="1984320" cy="684360"/>
            <a:chOff x="2019240" y="3510000"/>
            <a:chExt cx="1984320" cy="684360"/>
          </a:xfrm>
        </p:grpSpPr>
        <p:sp>
          <p:nvSpPr>
            <p:cNvPr id="166" name=""/>
            <p:cNvSpPr txBox="1"/>
            <p:nvPr/>
          </p:nvSpPr>
          <p:spPr>
            <a:xfrm>
              <a:off x="2262240" y="3552840"/>
              <a:ext cx="14986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ad SNM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quest P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19240" y="3510000"/>
              <a:ext cx="1984320" cy="638280"/>
            </a:xfrm>
            <a:prstGeom prst="roundRect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710400" y="4857840"/>
            <a:ext cx="2571840" cy="1191960"/>
            <a:chOff x="6710400" y="4857840"/>
            <a:chExt cx="2571840" cy="1191960"/>
          </a:xfrm>
        </p:grpSpPr>
        <p:sp>
          <p:nvSpPr>
            <p:cNvPr id="169" name=""/>
            <p:cNvSpPr/>
            <p:nvPr/>
          </p:nvSpPr>
          <p:spPr>
            <a:xfrm>
              <a:off x="6719760" y="4857840"/>
              <a:ext cx="700560" cy="200520"/>
            </a:xfrm>
            <a:custGeom>
              <a:avLst/>
              <a:gdLst/>
              <a:ahLst/>
              <a:rect l="0" t="0" r="r" b="b"/>
              <a:pathLst>
                <a:path w="1946" h="557">
                  <a:moveTo>
                    <a:pt x="1946" y="0"/>
                  </a:moveTo>
                  <a:lnTo>
                    <a:pt x="1946" y="557"/>
                  </a:lnTo>
                  <a:lnTo>
                    <a:pt x="584" y="557"/>
                  </a:lnTo>
                  <a:lnTo>
                    <a:pt x="0" y="278"/>
                  </a:lnTo>
                  <a:lnTo>
                    <a:pt x="584" y="0"/>
                  </a:lnTo>
                  <a:lnTo>
                    <a:pt x="1946" y="0"/>
                  </a:lnTo>
                  <a:close/>
                </a:path>
              </a:pathLst>
            </a:custGeom>
            <a:solidFill>
              <a:srgbClr val="7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6710400" y="5133960"/>
              <a:ext cx="257184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.SnmpExtensionIn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.SnmpExtensionQue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32040" y="1487520"/>
            <a:ext cx="700560" cy="244440"/>
            <a:chOff x="3632040" y="1487520"/>
            <a:chExt cx="700560" cy="244440"/>
          </a:xfrm>
        </p:grpSpPr>
        <p:sp>
          <p:nvSpPr>
            <p:cNvPr id="172" name=""/>
            <p:cNvSpPr/>
            <p:nvPr/>
          </p:nvSpPr>
          <p:spPr>
            <a:xfrm>
              <a:off x="3632040" y="1504800"/>
              <a:ext cx="700560" cy="200520"/>
            </a:xfrm>
            <a:custGeom>
              <a:avLst/>
              <a:gdLst/>
              <a:ahLst/>
              <a:rect l="0" t="0" r="r" b="b"/>
              <a:pathLst>
                <a:path w="1946" h="557">
                  <a:moveTo>
                    <a:pt x="1946" y="0"/>
                  </a:moveTo>
                  <a:lnTo>
                    <a:pt x="1946" y="557"/>
                  </a:lnTo>
                  <a:lnTo>
                    <a:pt x="584" y="557"/>
                  </a:lnTo>
                  <a:lnTo>
                    <a:pt x="0" y="278"/>
                  </a:lnTo>
                  <a:lnTo>
                    <a:pt x="584" y="0"/>
                  </a:lnTo>
                  <a:lnTo>
                    <a:pt x="1946" y="0"/>
                  </a:lnTo>
                  <a:close/>
                </a:path>
              </a:pathLst>
            </a:custGeom>
            <a:solidFill>
              <a:srgbClr val="7fff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3746520" y="1487520"/>
              <a:ext cx="2476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333333"/>
                  </a:solidFill>
                  <a:latin typeface="Times New Roman"/>
                  <a:ea typeface="Times New Roman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car Newkerk</dc:creator>
  <dc:description>Use for the NT Server PDF 1/18/95</dc:description>
  <dc:language>en-US</dc:language>
  <cp:lastModifiedBy>Tomi Poutanen</cp:lastModifiedBy>
  <cp:revision>0</cp:revision>
  <dc:subject>Microsoft Systems Management Server</dc:subject>
  <dc:title>Software Installation Using SMS</dc:title>
</cp:coreProperties>
</file>