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685800" y="979560"/>
            <a:ext cx="777240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cure Windows NT</a:t>
            </a:r>
            <a:r>
              <a:rPr b="1" lang="en-US" sz="3600" spc="-1" strike="noStrike" baseline="50000">
                <a:solidFill>
                  <a:srgbClr val="f6bf69"/>
                </a:solidFill>
                <a:latin typeface="Times New Roman"/>
                <a:ea typeface="Times New Roman"/>
              </a:rPr>
              <a:t>™</a:t>
            </a: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Services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ichard Ward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etwork Development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Establishing Credenti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7840" y="1600200"/>
            <a:ext cx="878832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Provider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n be alerted during logon and password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ful for secondary redirectors, such as Client Services for NetWare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ndy for other security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Network Provider DLL must impl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PLogonNotify, NPPassword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’d in NPAPI.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Validating A Us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08200" y="1600200"/>
            <a:ext cx="572760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Win3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User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sonateLoggedOnUser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ProcessAsUser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Validating A Us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52600" y="1600200"/>
            <a:ext cx="8039160" cy="35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User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s plain text name, domain, pass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 can be default value “.” indicating use domain of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a token for that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sonateLoggedOnUser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s the token returned from LogonUser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Validating A Us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314360" y="1600200"/>
            <a:ext cx="6515280" cy="28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ProcessAsUser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 like CreateProcess(), but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s a token from Logon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created runs on different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kto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an that of logged on user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 if they are the same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Validating A Us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90720" y="1600200"/>
            <a:ext cx="7162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ting it all toge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397160" y="2628720"/>
            <a:ext cx="1498680" cy="546120"/>
          </a:xfrm>
          <a:prstGeom prst="rect">
            <a:avLst/>
          </a:pr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62120" y="283680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854680" y="2590920"/>
            <a:ext cx="1498680" cy="546120"/>
          </a:xfrm>
          <a:prstGeom prst="rect">
            <a:avLst/>
          </a:pr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93640" y="3565440"/>
            <a:ext cx="35701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 Client sends usernam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861080" y="4022640"/>
            <a:ext cx="30193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Server thread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onUser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93640" y="478476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Client makes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861080" y="5089680"/>
            <a:ext cx="41893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 Server thread ca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sonateLoggedOn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861080" y="6004080"/>
            <a:ext cx="35784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 Server thread attem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67080" y="3962520"/>
            <a:ext cx="609840" cy="152640"/>
          </a:xfrm>
          <a:custGeom>
            <a:avLst/>
            <a:gdLst/>
            <a:ahLst/>
            <a:rect l="0" t="0" r="r" b="b"/>
            <a:pathLst>
              <a:path w="1694" h="424">
                <a:moveTo>
                  <a:pt x="0" y="140"/>
                </a:moveTo>
                <a:lnTo>
                  <a:pt x="0" y="282"/>
                </a:lnTo>
                <a:lnTo>
                  <a:pt x="1186" y="282"/>
                </a:lnTo>
                <a:lnTo>
                  <a:pt x="1186" y="424"/>
                </a:lnTo>
                <a:lnTo>
                  <a:pt x="1694" y="211"/>
                </a:lnTo>
                <a:lnTo>
                  <a:pt x="1186" y="0"/>
                </a:lnTo>
                <a:lnTo>
                  <a:pt x="1186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28920" y="4572000"/>
            <a:ext cx="686160" cy="152640"/>
          </a:xfrm>
          <a:custGeom>
            <a:avLst/>
            <a:gdLst/>
            <a:ahLst/>
            <a:rect l="0" t="0" r="r" b="b"/>
            <a:pathLst>
              <a:path w="1906" h="424">
                <a:moveTo>
                  <a:pt x="1906" y="140"/>
                </a:moveTo>
                <a:lnTo>
                  <a:pt x="1906" y="282"/>
                </a:lnTo>
                <a:lnTo>
                  <a:pt x="571" y="282"/>
                </a:lnTo>
                <a:lnTo>
                  <a:pt x="571" y="424"/>
                </a:lnTo>
                <a:lnTo>
                  <a:pt x="0" y="211"/>
                </a:lnTo>
                <a:lnTo>
                  <a:pt x="571" y="0"/>
                </a:lnTo>
                <a:lnTo>
                  <a:pt x="571" y="140"/>
                </a:lnTo>
                <a:lnTo>
                  <a:pt x="1906" y="140"/>
                </a:lnTo>
                <a:close/>
              </a:path>
            </a:pathLst>
          </a:cu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5181480"/>
            <a:ext cx="609840" cy="152640"/>
          </a:xfrm>
          <a:custGeom>
            <a:avLst/>
            <a:gdLst/>
            <a:ahLst/>
            <a:rect l="0" t="0" r="r" b="b"/>
            <a:pathLst>
              <a:path w="1694" h="424">
                <a:moveTo>
                  <a:pt x="0" y="140"/>
                </a:moveTo>
                <a:lnTo>
                  <a:pt x="0" y="282"/>
                </a:lnTo>
                <a:lnTo>
                  <a:pt x="1186" y="282"/>
                </a:lnTo>
                <a:lnTo>
                  <a:pt x="1186" y="424"/>
                </a:lnTo>
                <a:lnTo>
                  <a:pt x="1694" y="211"/>
                </a:lnTo>
                <a:lnTo>
                  <a:pt x="1186" y="0"/>
                </a:lnTo>
                <a:lnTo>
                  <a:pt x="1186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cure RP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55520" y="1600200"/>
            <a:ext cx="883296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est way to go if creating a new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Runtime will handle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Runtime has support for packet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Runtime has support for packet 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cure RP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30120" y="1600200"/>
            <a:ext cx="8483760" cy="30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r application needs on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y RPC_AUTHN_WINNT as security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y what level of packet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you are only using named pipes as your transport, you don’t even need the security service ru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cure RP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90720" y="1600200"/>
            <a:ext cx="7162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ting it all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397160" y="2628720"/>
            <a:ext cx="1498680" cy="546120"/>
          </a:xfrm>
          <a:prstGeom prst="rect">
            <a:avLst/>
          </a:pr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62120" y="283680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854680" y="2590920"/>
            <a:ext cx="1498680" cy="546120"/>
          </a:xfrm>
          <a:prstGeom prst="rect">
            <a:avLst/>
          </a:pr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397160" y="3162240"/>
            <a:ext cx="1498680" cy="546120"/>
          </a:xfrm>
          <a:prstGeom prst="rect">
            <a:avLst/>
          </a:pr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854680" y="3124080"/>
            <a:ext cx="1498680" cy="546120"/>
          </a:xfrm>
          <a:prstGeom prst="rect">
            <a:avLst/>
          </a:pr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60200" y="3992400"/>
            <a:ext cx="441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 Client calls RpcBindingSetAuth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36440" y="4373640"/>
            <a:ext cx="2949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Client makes RPC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0" y="4754520"/>
            <a:ext cx="37450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Server code receives call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Run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0" y="5516640"/>
            <a:ext cx="3865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 Server calls RpcImpersonate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0" y="5897520"/>
            <a:ext cx="36417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 Server handles client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0" y="6278400"/>
            <a:ext cx="3873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 Server calls RpcRevertToSelf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curity Support Provi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41200" y="1600200"/>
            <a:ext cx="8661240" cy="25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rived from Generic Security Service API (GSSAPI), RFC 1508, 15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applications to treat security opaqu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used to bring forward other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curity Support Provi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79320" y="1600200"/>
            <a:ext cx="7785000" cy="23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credentials and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dentials are data that allow you to authenticate, for example, a pass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xts are the security relevant data for an active session, for example, a session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curity And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994040" y="1600200"/>
            <a:ext cx="515628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on Windows 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to d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curity Support Provi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92280" y="1600200"/>
            <a:ext cx="7759800" cy="28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dential mani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dentials are created outside of this API, for example, through LogonUser(), or a Network Provider during lo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quireCredentialsHandle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eCredentialsHandle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curity Support Provi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41520" y="1600200"/>
            <a:ext cx="7861320" cy="36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xt mani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xts are created relative to a cred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eSecurityContex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ptSecurityContex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SecurityContex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sonateSecurityContex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rtSecurityContext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curity Support Provi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447920" y="1600200"/>
            <a:ext cx="624852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good from an active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Signature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ifySignature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curity Support Provi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720" y="1600200"/>
            <a:ext cx="7162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ting it all toge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523880" y="2590920"/>
            <a:ext cx="1447920" cy="609480"/>
          </a:xfrm>
          <a:prstGeom prst="rect">
            <a:avLst/>
          </a:pr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5880" y="2590920"/>
            <a:ext cx="1447920" cy="609480"/>
          </a:xfrm>
          <a:prstGeom prst="rect">
            <a:avLst/>
          </a:pr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31640" y="3459240"/>
            <a:ext cx="42418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Client calls Enumerate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determine which package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495680" y="4068720"/>
            <a:ext cx="46101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Server calls EnumeratePack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determine which package(s)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395440" y="5211720"/>
            <a:ext cx="435276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Client and server negotiate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age in whatever method the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col requ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curity Support Provi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720" y="1600200"/>
            <a:ext cx="7162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ting it all toge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523880" y="2590920"/>
            <a:ext cx="1447920" cy="609480"/>
          </a:xfrm>
          <a:prstGeom prst="rect">
            <a:avLst/>
          </a:pr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5880" y="2590920"/>
            <a:ext cx="1447920" cy="609480"/>
          </a:xfrm>
          <a:prstGeom prst="rect">
            <a:avLst/>
          </a:pr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12760" y="3535200"/>
            <a:ext cx="4106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 Calls AcquireCredentialHandl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08040" y="483084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861080" y="3535200"/>
            <a:ext cx="4106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 Calls AcquireCredentialHandl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12760" y="3916440"/>
            <a:ext cx="4149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Calls InitializeSecurityContex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sends returned blob to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861080" y="4221000"/>
            <a:ext cx="407196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Calls AcceptSecurityContex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client blob, sends reply bl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 to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2760" y="4983120"/>
            <a:ext cx="40086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 Calls InitializeSecurityContex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ain, and optionally recei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other blob for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861080" y="5516640"/>
            <a:ext cx="38592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 Calls AcceptSecurityContext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another blob from client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y for client requ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19720" y="4419720"/>
            <a:ext cx="305280" cy="152640"/>
          </a:xfrm>
          <a:custGeom>
            <a:avLst/>
            <a:gdLst/>
            <a:ahLst/>
            <a:rect l="0" t="0" r="r" b="b"/>
            <a:pathLst>
              <a:path w="848" h="424">
                <a:moveTo>
                  <a:pt x="0" y="140"/>
                </a:moveTo>
                <a:lnTo>
                  <a:pt x="0" y="282"/>
                </a:lnTo>
                <a:lnTo>
                  <a:pt x="593" y="282"/>
                </a:lnTo>
                <a:lnTo>
                  <a:pt x="593" y="424"/>
                </a:lnTo>
                <a:lnTo>
                  <a:pt x="848" y="211"/>
                </a:lnTo>
                <a:lnTo>
                  <a:pt x="593" y="0"/>
                </a:lnTo>
                <a:lnTo>
                  <a:pt x="593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9720" y="5181480"/>
            <a:ext cx="305280" cy="152640"/>
          </a:xfrm>
          <a:custGeom>
            <a:avLst/>
            <a:gdLst/>
            <a:ahLst/>
            <a:rect l="0" t="0" r="r" b="b"/>
            <a:pathLst>
              <a:path w="848" h="424">
                <a:moveTo>
                  <a:pt x="848" y="140"/>
                </a:moveTo>
                <a:lnTo>
                  <a:pt x="848" y="282"/>
                </a:lnTo>
                <a:lnTo>
                  <a:pt x="255" y="282"/>
                </a:lnTo>
                <a:lnTo>
                  <a:pt x="255" y="424"/>
                </a:lnTo>
                <a:lnTo>
                  <a:pt x="0" y="211"/>
                </a:lnTo>
                <a:lnTo>
                  <a:pt x="255" y="0"/>
                </a:lnTo>
                <a:lnTo>
                  <a:pt x="255" y="140"/>
                </a:lnTo>
                <a:lnTo>
                  <a:pt x="848" y="140"/>
                </a:lnTo>
                <a:close/>
              </a:path>
            </a:pathLst>
          </a:cu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81560" y="5943600"/>
            <a:ext cx="381240" cy="152640"/>
          </a:xfrm>
          <a:custGeom>
            <a:avLst/>
            <a:gdLst/>
            <a:ahLst/>
            <a:rect l="0" t="0" r="r" b="b"/>
            <a:pathLst>
              <a:path w="1059" h="424">
                <a:moveTo>
                  <a:pt x="0" y="140"/>
                </a:moveTo>
                <a:lnTo>
                  <a:pt x="0" y="282"/>
                </a:lnTo>
                <a:lnTo>
                  <a:pt x="741" y="282"/>
                </a:lnTo>
                <a:lnTo>
                  <a:pt x="741" y="424"/>
                </a:lnTo>
                <a:lnTo>
                  <a:pt x="1059" y="211"/>
                </a:lnTo>
                <a:lnTo>
                  <a:pt x="741" y="0"/>
                </a:lnTo>
                <a:lnTo>
                  <a:pt x="741" y="140"/>
                </a:lnTo>
                <a:lnTo>
                  <a:pt x="0" y="140"/>
                </a:lnTo>
                <a:close/>
              </a:path>
            </a:pathLst>
          </a:cu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curity Support Provi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90720" y="1600200"/>
            <a:ext cx="7162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ting it all toge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523880" y="2590920"/>
            <a:ext cx="1447920" cy="609480"/>
          </a:xfrm>
          <a:prstGeom prst="rect">
            <a:avLst/>
          </a:pr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95880" y="2590920"/>
            <a:ext cx="1447920" cy="609480"/>
          </a:xfrm>
          <a:prstGeom prst="rect">
            <a:avLst/>
          </a:pr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65040" y="3611520"/>
            <a:ext cx="3703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 Client sends request to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708440" y="3840120"/>
            <a:ext cx="36338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Server cal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sonateSecurity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708440" y="4602240"/>
            <a:ext cx="3152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Server performs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708440" y="4983120"/>
            <a:ext cx="4324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 Server calls RevertSecurity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708440" y="5364000"/>
            <a:ext cx="4086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 Server sends reply back to cli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3886200"/>
            <a:ext cx="305280" cy="228960"/>
          </a:xfrm>
          <a:custGeom>
            <a:avLst/>
            <a:gdLst/>
            <a:ahLst/>
            <a:rect l="0" t="0" r="r" b="b"/>
            <a:pathLst>
              <a:path w="848" h="636">
                <a:moveTo>
                  <a:pt x="0" y="211"/>
                </a:moveTo>
                <a:lnTo>
                  <a:pt x="0" y="423"/>
                </a:lnTo>
                <a:lnTo>
                  <a:pt x="593" y="423"/>
                </a:lnTo>
                <a:lnTo>
                  <a:pt x="593" y="636"/>
                </a:lnTo>
                <a:lnTo>
                  <a:pt x="848" y="317"/>
                </a:lnTo>
                <a:lnTo>
                  <a:pt x="593" y="0"/>
                </a:lnTo>
                <a:lnTo>
                  <a:pt x="593" y="211"/>
                </a:lnTo>
                <a:lnTo>
                  <a:pt x="0" y="211"/>
                </a:lnTo>
                <a:close/>
              </a:path>
            </a:pathLst>
          </a:cu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5791320"/>
            <a:ext cx="305280" cy="228960"/>
          </a:xfrm>
          <a:custGeom>
            <a:avLst/>
            <a:gdLst/>
            <a:ahLst/>
            <a:rect l="0" t="0" r="r" b="b"/>
            <a:pathLst>
              <a:path w="848" h="636">
                <a:moveTo>
                  <a:pt x="848" y="211"/>
                </a:moveTo>
                <a:lnTo>
                  <a:pt x="848" y="423"/>
                </a:lnTo>
                <a:lnTo>
                  <a:pt x="255" y="423"/>
                </a:lnTo>
                <a:lnTo>
                  <a:pt x="255" y="636"/>
                </a:lnTo>
                <a:lnTo>
                  <a:pt x="0" y="317"/>
                </a:lnTo>
                <a:lnTo>
                  <a:pt x="255" y="0"/>
                </a:lnTo>
                <a:lnTo>
                  <a:pt x="255" y="211"/>
                </a:lnTo>
                <a:lnTo>
                  <a:pt x="848" y="211"/>
                </a:lnTo>
                <a:close/>
              </a:path>
            </a:pathLst>
          </a:cu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curity Support Provi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90720" y="1600200"/>
            <a:ext cx="7162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ting it all toge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23880" y="2590920"/>
            <a:ext cx="1447920" cy="609480"/>
          </a:xfrm>
          <a:prstGeom prst="rect">
            <a:avLst/>
          </a:pr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095880" y="2590920"/>
            <a:ext cx="1447920" cy="609480"/>
          </a:xfrm>
          <a:prstGeom prst="rect">
            <a:avLst/>
          </a:prstGeom>
          <a:solidFill>
            <a:srgbClr val="9234db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89080" y="3459240"/>
            <a:ext cx="417024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 Client generates message, cal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Signature(), then sends b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e and signature to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724280" y="4297320"/>
            <a:ext cx="40784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Server calls VerifySignature()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message and sig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724280" y="5059440"/>
            <a:ext cx="417024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Server generates reply, cal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Signature(), then sends b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y and signature to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89080" y="5668920"/>
            <a:ext cx="40863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 Client calls VerifySignature()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reply and sign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cure Windows NT Service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Real services don’t use setuid(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24000" y="1905120"/>
            <a:ext cx="84963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CLs to protect your objects or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enticate clients before allowing any access.  Many methods are available.  Do not simply assume a client’s 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sonate clients before accessing an object.  Allows the system to keep a meaningful audit log, and protects against inadvertent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01800" y="1600200"/>
            <a:ext cx="7340760" cy="38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retionary ac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Control List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at determine access to a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types can be generic, (for example, Read, Write) or object-spe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limited to one user or one group; up to 64K of IDs/access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model - passive versus 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curity Mod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49160" y="1600200"/>
            <a:ext cx="7645320" cy="32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wn and protect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s may use access control on existing objects, for example, files, or create their own, for example, a mail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cess objects through Servers.  They never get direct access to the object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curity Mod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84280" y="1600200"/>
            <a:ext cx="79754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s do not actively determine access rights, they attempt the access while imperson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s follow this patte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sonat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object (which may succeed or fa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er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30400" y="1600200"/>
            <a:ext cx="688356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damental security “uni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esents a user and related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e for each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hread may impersonate a to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17480" y="1600200"/>
            <a:ext cx="770904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descri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esents access control for a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cates the owner of an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s the Discretionary Access Control List (DACL) for an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90720" y="1600200"/>
            <a:ext cx="7162920" cy="33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so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le of least privile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the thread to appear as a client to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thread in a process can impersonate a different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ould always RevertToSelf when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How To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01800" y="1600200"/>
            <a:ext cx="73407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ish credentials during lo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idate a user and pass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ke secure RPC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e otherwise unsecure trans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hard Ward</dc:creator>
  <dc:description/>
  <dc:language>en-US</dc:language>
  <cp:lastModifiedBy>shannon wheeler</cp:lastModifiedBy>
  <cp:revision>0</cp:revision>
  <dc:subject/>
  <dc:title>Secure Windows NT™ Services   Richard Ward Software Design Engineer Network Development Microsoft Corporation</dc:title>
</cp:coreProperties>
</file>