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2093760" y="4541760"/>
            <a:ext cx="49561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ob Muglia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irecto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usiness Systems 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852640" y="638280"/>
            <a:ext cx="34383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Windows NT?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Application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92440" y="2158920"/>
            <a:ext cx="626112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00+ softwar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ndreds of develop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uilding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Microsoft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ckOffice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acle, MobileWare, R3, and m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6200" y="3133800"/>
            <a:ext cx="1951200" cy="97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880" y="1515960"/>
            <a:ext cx="774720" cy="94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050840" y="2496960"/>
            <a:ext cx="1425600" cy="461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9080" y="4792680"/>
            <a:ext cx="1949400" cy="458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6560" y="4262400"/>
            <a:ext cx="187164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23960" y="228600"/>
            <a:ext cx="76960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Windows NT? 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ice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7360" y="1574640"/>
            <a:ext cx="83692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ing model for distribute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rver supports applications without addition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s included:  RPC, Winsock, SPX, named pipes, NetB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dial-in access licensed sepa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desktop (regardless of how many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1120" y="228600"/>
            <a:ext cx="886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:  Road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14600" y="1076400"/>
            <a:ext cx="89532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00680" y="1044720"/>
            <a:ext cx="89532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19880" y="1076400"/>
            <a:ext cx="895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98840" y="2135160"/>
            <a:ext cx="1873080" cy="2890800"/>
          </a:xfrm>
          <a:prstGeom prst="rect">
            <a:avLst/>
          </a:prstGeom>
          <a:gradFill rotWithShape="0">
            <a:gsLst>
              <a:gs pos="0">
                <a:srgbClr val="7429af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919191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rks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er 3.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25360" y="2098800"/>
            <a:ext cx="1873080" cy="2914560"/>
          </a:xfrm>
          <a:prstGeom prst="rect">
            <a:avLst/>
          </a:prstGeom>
          <a:gradFill rotWithShape="0">
            <a:gsLst>
              <a:gs pos="0">
                <a:srgbClr val="7429af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919191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 NT</a:t>
            </a:r>
            <a:r>
              <a:rPr b="1" lang="en-US" sz="20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rks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er 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43600" y="2146320"/>
            <a:ext cx="1905120" cy="2882880"/>
          </a:xfrm>
          <a:prstGeom prst="rect">
            <a:avLst/>
          </a:prstGeom>
          <a:gradFill rotWithShape="0">
            <a:gsLst>
              <a:gs pos="0">
                <a:srgbClr val="7429af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919191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rks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i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i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52400" y="4114800"/>
            <a:ext cx="7620480" cy="1929240"/>
            <a:chOff x="752400" y="4114800"/>
            <a:chExt cx="7620480" cy="1929240"/>
          </a:xfrm>
        </p:grpSpPr>
        <p:sp>
          <p:nvSpPr>
            <p:cNvPr id="107" name=""/>
            <p:cNvSpPr/>
            <p:nvPr/>
          </p:nvSpPr>
          <p:spPr>
            <a:xfrm>
              <a:off x="752400" y="4626000"/>
              <a:ext cx="6553080" cy="903240"/>
            </a:xfrm>
            <a:prstGeom prst="rect">
              <a:avLst/>
            </a:prstGeom>
            <a:gradFill rotWithShape="0">
              <a:gsLst>
                <a:gs pos="0">
                  <a:srgbClr val="2b0f41"/>
                </a:gs>
                <a:gs pos="100000">
                  <a:srgbClr val="9234db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91440" y="4114800"/>
              <a:ext cx="1081440" cy="1929240"/>
            </a:xfrm>
            <a:custGeom>
              <a:avLst/>
              <a:gdLst/>
              <a:ahLst/>
              <a:rect l="0" t="0" r="r" b="b"/>
              <a:pathLst>
                <a:path w="3004" h="5359">
                  <a:moveTo>
                    <a:pt x="0" y="0"/>
                  </a:moveTo>
                  <a:lnTo>
                    <a:pt x="0" y="5359"/>
                  </a:lnTo>
                  <a:lnTo>
                    <a:pt x="3004" y="26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34db"/>
                </a:gs>
                <a:gs pos="100000">
                  <a:srgbClr val="e9d6f7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3.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1301760"/>
            <a:ext cx="7045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63640" y="1341360"/>
            <a:ext cx="741672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:  H1 19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Powe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MCIA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 controls, dialogs, and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ssed NT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OLE (Apartmen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</a:t>
            </a:r>
            <a:r>
              <a:rPr b="1" i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“Cair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5360" y="1252440"/>
            <a:ext cx="815328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 release of Windows NT Workstation and Windows NT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OLE file system (O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and property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ied filesystem and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am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, security, free thread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user interface with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and performanc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71440" y="228600"/>
            <a:ext cx="8601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BackOffice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grate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14760" y="1889280"/>
            <a:ext cx="1735200" cy="211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77120" y="1889280"/>
            <a:ext cx="1735200" cy="2112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603600" y="4233960"/>
            <a:ext cx="1746360" cy="2135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9480" y="1889280"/>
            <a:ext cx="1735200" cy="211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543040" y="1879560"/>
            <a:ext cx="17319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28600"/>
            <a:ext cx="83818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mmon Microsoft BackOffice Functiona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752480"/>
            <a:ext cx="8381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and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remot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Model for single-user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transport and client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clients of MS-DOS, Windows, and Macintos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46320" y="228600"/>
            <a:ext cx="6651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Makes A Great Server Appl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60520" y="1951200"/>
            <a:ext cx="62229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in32-bas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76360" y="2079720"/>
            <a:ext cx="7159680" cy="287352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2560" y="5603760"/>
            <a:ext cx="7921800" cy="63504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200" y="1746360"/>
            <a:ext cx="9067680" cy="455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85640" y="177840"/>
            <a:ext cx="817236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e New World Voyage...</a:t>
            </a:r>
            <a:br>
              <a:rPr sz="1800"/>
            </a:br>
            <a:r>
              <a:rPr b="1" lang="en-US" sz="28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mplementation of client-server, open systems, interconnected LANs, and distributed applications...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35600" y="6302520"/>
            <a:ext cx="4130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The Computing Strategy Report June 19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rester Research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58840" y="1682640"/>
            <a:ext cx="7159680" cy="312732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786c"/>
              </a:gs>
            </a:gsLst>
            <a:path path="rect">
              <a:fillToRect l="100000" t="0" r="0" b="10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0080" y="5445000"/>
            <a:ext cx="8001000" cy="63504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 Reaches Critical Ma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35600" y="6302520"/>
            <a:ext cx="4130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The Computing Strategy Report June 19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rester Research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5840" y="1317600"/>
            <a:ext cx="8731080" cy="4991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87560" y="1454040"/>
            <a:ext cx="2427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ed units, in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mentum Of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11240" y="1392120"/>
            <a:ext cx="71215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4 Merisel Hot List Award for the #1 selling 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of Fortune 500 companies either evaluating or deploying Windows NT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-six OEMs sh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,000 Solution Provi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 Microsoft Authorized Technical Education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9760" y="3782880"/>
            <a:ext cx="440064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wards:  Windows NT Ser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4600" y="1506600"/>
            <a:ext cx="82551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Magazi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or’s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Week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t’s Ch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ges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SL’s Product Ch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Computing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or’s Ch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agazi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ard of Excel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ommunication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Products Aw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Windows NT?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ngineered OS</a:t>
            </a: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06400" y="1793880"/>
            <a:ext cx="75312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“microkernel”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, preemption, async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, scaleable,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 APIs, DCE RP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API for client and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94360" y="2884320"/>
            <a:ext cx="1994040" cy="1535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95160" y="2147760"/>
            <a:ext cx="616284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platform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H1 ’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00+ hardwar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800+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GUI, API, Tools, etc.  across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Windows NT?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ardware co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77160" y="4889520"/>
            <a:ext cx="1290600" cy="68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86400" y="1735200"/>
            <a:ext cx="1270080" cy="126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924600" y="1461960"/>
            <a:ext cx="2079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23960" y="228600"/>
            <a:ext cx="76960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Windows NT?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701720"/>
            <a:ext cx="838188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/SPX (NetWare), SNA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, OS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existing management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DMTF, OpenView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jor client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acintos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/2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, RPC, 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86240" y="5029200"/>
            <a:ext cx="1379520" cy="1168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51160" y="3279600"/>
            <a:ext cx="6480" cy="110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760" y="1574640"/>
            <a:ext cx="4195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rver 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, Comm, and applic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91040" y="4206960"/>
            <a:ext cx="11714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58680" y="4392720"/>
            <a:ext cx="7755120" cy="7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22800" y="1574640"/>
            <a:ext cx="3527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2.x/3.x/4.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 servic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083360" y="3186000"/>
            <a:ext cx="80964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059600" y="3424320"/>
            <a:ext cx="1131840" cy="29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835760" y="2820960"/>
            <a:ext cx="1057320" cy="54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937640" y="3459240"/>
            <a:ext cx="809640" cy="673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29000" y="6122880"/>
            <a:ext cx="1676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60440" y="2925720"/>
            <a:ext cx="1225440" cy="1330560"/>
            <a:chOff x="460440" y="2925720"/>
            <a:chExt cx="1225440" cy="1330560"/>
          </a:xfrm>
        </p:grpSpPr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628560" y="2925720"/>
              <a:ext cx="105732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460440" y="3583080"/>
              <a:ext cx="80964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1581120" y="3214800"/>
            <a:ext cx="6714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19320" y="3710160"/>
            <a:ext cx="1185840" cy="328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400068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95720" y="44006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23960" y="5105520"/>
            <a:ext cx="25146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X or V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778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ile and print service for Ne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802480" y="2859120"/>
            <a:ext cx="1660680" cy="12812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208240" y="2871720"/>
            <a:ext cx="1660680" cy="1281240"/>
            <a:chOff x="2208240" y="2871720"/>
            <a:chExt cx="1660680" cy="1281240"/>
          </a:xfrm>
        </p:grpSpPr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2208240" y="2871720"/>
              <a:ext cx="166068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3071880" y="3068640"/>
              <a:ext cx="379440" cy="44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Muglia</dc:creator>
  <dc:description/>
  <dc:language>en-US</dc:language>
  <cp:lastModifiedBy>Tomi Poutanen</cp:lastModifiedBy>
  <cp:revision>0</cp:revision>
  <dc:subject/>
  <dc:title>Bob Muglia Director Business Systems  Microsoft Corporation</dc:title>
</cp:coreProperties>
</file>