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979560"/>
            <a:ext cx="77724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And Debugging Win32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ice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ichard Ward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Network Develop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563840"/>
            <a:ext cx="7162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t sec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, it needs to authenticate clients as they connect to protect access to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it run as LocalSystem or does it get logged in as a special ac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76240" y="1563840"/>
            <a:ext cx="73915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it dependent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many threads will it take to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for listening on a port, as many as needed to handle each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than forking off a copy of the process to handle a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27040" y="1563840"/>
            <a:ext cx="808992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this service auto start?  Can this service pause?  Who should be able to start and stop this ser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 start?  Yes.  Pause?  No.  Only admins may stop, but anyone can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is service be combined with other services in one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SMTP server could be added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760" y="1563840"/>
            <a:ext cx="839484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vents does it gene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al:  User Connect, User Dis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ning:  Network failure (socket disconnect), User Authentication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:  Servic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level of logging be adju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ggingLevel parameter.  By default, only error messages are gene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563840"/>
            <a:ext cx="716292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it need to interact with the user on the user’s deskto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, it is strictly a network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563840"/>
            <a:ext cx="716292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is it inst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mall installer application will create the service entry for the service controller and update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0400" y="1563840"/>
            <a:ext cx="7962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like any other user-mode application with a few tw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tarted by the service controller, it must call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trl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wait for a specific service to be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service must call, as soon as possible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ServiceCtrl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33480" y="1563840"/>
            <a:ext cx="72770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trlDispatch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s to the Service Controller, and sets up a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Service Controller with a table of service names and entr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Service Controller to start any service in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must be done in 30 seconds, or the Service Controller will kill you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563840"/>
            <a:ext cx="716292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Ma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ction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ServiceCtrlHandl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et a function that will respond to Service Controller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its status with the Service Controller through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rvice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the rest of the service (open ports, etc.).  This can be done with other threads,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8120" y="1563840"/>
            <a:ext cx="826776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ter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ters should be kept in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, \System\CurrentControlSet\Services, contains al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service has a key, for example, Pop3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 each service is a Parameter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420920" y="1563840"/>
            <a:ext cx="63039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ing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and debugging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77800" y="1563840"/>
            <a:ext cx="798840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Parameters key in the Regi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he key via RegOpen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individual parameters via RegQueryValue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individual parameters via RegSetValue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tored can be DWORDs, strings, or binar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06400" y="1563840"/>
            <a:ext cx="75312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.mc file with you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MC compiler (in SDK) to compile into a resource file and head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RC compiler to add the message resource to an object to be linked into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49200" y="1563840"/>
            <a:ext cx="84456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nerate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RegisterEventSource() during 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ReportEvent() to generate th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DeregisterEventSource() when shutting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stall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19360" y="1563840"/>
            <a:ext cx="570564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est way is to use the CreateService()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ervice to started as soon as the API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Service Controller, so is remotable to other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ther method is directly modifying th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stall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8840" y="1563840"/>
            <a:ext cx="62866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ing through th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will not be available until the machine is re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assign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use an account for logging the service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stall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563840"/>
            <a:ext cx="7162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ing through the Regi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 HKEY_LOCAL_MACHINE, in the key \System\CurrentControlSet\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, add a key for your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he following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= REG_DWORD &lt;Service Typ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= REG_DWORD &lt;Service Star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Path = REG_EXPAND_SZ &lt;Path to your service ex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stall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563840"/>
            <a:ext cx="71326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ing through th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Control = REG_DWORD &lt;Service Error Typ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Name = REG_SZ Local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Name = REG_SZ &lt;Friendly Display 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= REG_SZ &lt;Group 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OnService = REG_MULTI_SZ &lt;Service Depended Upon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stall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1360" y="1563840"/>
            <a:ext cx="880128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up EventLo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documented in Win32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 Registry key for your event source under EventLog service, for example, Pop3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path to your executable for messag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unn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62040" y="1563840"/>
            <a:ext cx="6019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official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Control Panel Ap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 start</a:t>
            </a:r>
            <a:r>
              <a:rPr b="1" lang="en-US" sz="28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ffici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.EX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ol, available in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bugg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3840" y="1563840"/>
            <a:ext cx="8356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e to the time-out on process startup, it can be helpful to write your service so it can be started without the Servic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a method for dumping tracing information vi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Debug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27320" y="1563840"/>
            <a:ext cx="64897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and controlled by the Servic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the Registry for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the EventLog to notify administrators of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bugg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1800" y="1461960"/>
            <a:ext cx="8420040" cy="30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it is 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edt3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dd the name of your service under “Software\Microsoft\Windows NT\CurrentVersion\Image File Executable Options” as a key, for example,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P3SRV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 value called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bug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add your favorite debugger, for example,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 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bugg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563840"/>
            <a:ext cx="716292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f it is ru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LIST.EXE</a:t>
            </a:r>
            <a:r>
              <a:rPr b="1" lang="en-US" sz="28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VIEW.EXE</a:t>
            </a:r>
            <a:r>
              <a:rPr b="1" lang="en-US" sz="28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the process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sd, windbg, and msvc can all debug a running process via the “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p pi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bugg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1480" y="1563840"/>
            <a:ext cx="81406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e in the debug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0 will usually be in the call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CtrlDispa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hreads can be listed with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~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your ow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Extensi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you to dump your own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types and helpers available 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sdexts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bugg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563840"/>
            <a:ext cx="716292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the kernel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 -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use the kernel debugger (a serial interface to another mach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t a breakpoint, every process is suspended (useful for debugging startup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services that don’t have desktop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L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4400" y="1563840"/>
            <a:ext cx="677700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reinstall service if it is configured to be logged on, and the password of the account it uses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.EX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ol will do almost everything you can do to a service, and is very handy fo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Great Win32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52600" y="1563840"/>
            <a:ext cx="803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your service to take advantage of Service Controller, Event Log,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your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y administrators of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yourself administr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instead of multipl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idate different services into one process to conserve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The Service Controll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30120" y="1563840"/>
            <a:ext cx="84837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started independently of user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ed as dependencies are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start and stop services via Server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run as local system, or logged onto a specific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services can live in on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The Regis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76200" y="1563840"/>
            <a:ext cx="6593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tring, integer, and binary data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than individual .rc files, or mysterious files in /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can view through common tool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EDT32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storage model similar to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to being used by S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The EventL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6920" y="1563840"/>
            <a:ext cx="875016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storage area for system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able through Event Viewer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data can be associated with event, not just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 each event is based on localized resourc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00280" y="1563840"/>
            <a:ext cx="754524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ervices in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ervices such as FT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 such as the Spoo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ervices such as Netlo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tes f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that listen on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0280" y="1563840"/>
            <a:ext cx="75438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service:  POP3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n from RFC14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ource code available in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existing public domain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A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98680" y="1563840"/>
            <a:ext cx="61466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 it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 Office server for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parameters does it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director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rigger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onnecting on a 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Ward</dc:creator>
  <dc:description/>
  <dc:language>en-US</dc:language>
  <cp:lastModifiedBy>Tomi Poutanen</cp:lastModifiedBy>
  <cp:revision>0</cp:revision>
  <dc:subject/>
  <dc:title>Writing And Debugging Win32® Services   Richard Ward Software Design Engineer Windows NT Network Development Microsoft Corporation</dc:title>
</cp:coreProperties>
</file>