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593640" y="10368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NA Server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or 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603360" y="2941560"/>
            <a:ext cx="7939080" cy="3351240"/>
            <a:chOff x="603360" y="2941560"/>
            <a:chExt cx="7939080" cy="3351240"/>
          </a:xfrm>
        </p:grpSpPr>
        <p:sp>
          <p:nvSpPr>
            <p:cNvPr id="40" name=""/>
            <p:cNvSpPr txBox="1"/>
            <p:nvPr/>
          </p:nvSpPr>
          <p:spPr>
            <a:xfrm>
              <a:off x="3902040" y="3581280"/>
              <a:ext cx="4640400" cy="206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f6bf69"/>
                  </a:solidFill>
                  <a:latin typeface="Times New Roman"/>
                  <a:ea typeface="Times New Roman"/>
                </a:rPr>
                <a:t>Gordon Mangione</a:t>
              </a:r>
              <a:br>
                <a:rPr sz="3600"/>
              </a:br>
              <a:r>
                <a:rPr b="1" lang="en-US" sz="3600" spc="-1" strike="noStrike">
                  <a:solidFill>
                    <a:srgbClr val="f6bf69"/>
                  </a:solidFill>
                  <a:latin typeface="Times New Roman"/>
                  <a:ea typeface="Times New Roman"/>
                </a:rPr>
                <a:t>Development Manager</a:t>
              </a:r>
              <a:br>
                <a:rPr sz="3600"/>
              </a:br>
              <a:r>
                <a:rPr b="1" lang="en-US" sz="3600" spc="-1" strike="noStrike">
                  <a:solidFill>
                    <a:srgbClr val="f6bf69"/>
                  </a:solidFill>
                  <a:latin typeface="Times New Roman"/>
                  <a:ea typeface="Times New Roman"/>
                </a:rPr>
                <a:t>SNA Connectivity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f6bf69"/>
                  </a:solidFill>
                  <a:latin typeface="Times New Roman"/>
                  <a:ea typeface="Times New Roman"/>
                </a:rPr>
                <a:t>Microsoft Corpora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" name="" descr=""/>
            <p:cNvPicPr/>
            <p:nvPr/>
          </p:nvPicPr>
          <p:blipFill>
            <a:blip r:embed="rId1"/>
            <a:stretch/>
          </p:blipFill>
          <p:spPr>
            <a:xfrm>
              <a:off x="603360" y="2941560"/>
              <a:ext cx="2813040" cy="335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ing Client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049400" y="1920960"/>
            <a:ext cx="7047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 of thi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transport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 LUs based on LAN user ac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ing support built into all SNA Server client and serve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 Security provided by SNA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LAN protocol used for 3270 and APPC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NA Server APPC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122480" y="1413000"/>
            <a:ext cx="689940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important APIs have been added to help develop APPC appl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ppcConfig:  Use to retrieve the Remote LU Aliases available for a given Local LU an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AppcReturnCode:  Converts the primary and secondary return codes for a VCB to a printable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AsyncAPPCEx:  Any APPC verb can be issued asynchronously. Application notified via Set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ransaction Program Termi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1204920" y="1865160"/>
            <a:ext cx="673416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king TPs (clients) issue:  [MC_]ALLO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kable TPs (servers) issue: RECEIVE_ALLO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ued versus non-que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or started versus Auto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ervice versus Win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plication (new in SNA Server 2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vokable T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87240" y="1413000"/>
            <a:ext cx="77691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PSETUP is included in both binary and source code as part of the S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shrink-wrapped applications strongly recommend you incorporate TPSETUP into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alls the TP as either a Windows NT service or adds Reg keys under Sn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Base advertises your TP to all SNA Servers in the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trategies For Advertising Your T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28560" y="1733400"/>
            <a:ext cx="78026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ed TPs must specify a TP name with an option Local LU a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e strategies for registering T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 TP name for each 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046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Databas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TP name; local LU alias u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046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  SW Distribution; Remote C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TP Name; Local LU alias unspecif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046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t backup and load balanced info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outing Of APPC Attach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5960" y="1413000"/>
            <a:ext cx="7912080" cy="51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an incoming ATTACH is receiv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a local TP can handle the reques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376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so, it queues the ATTACH against the TP and starts it if necessar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330200" indent="-376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t, can one of its sponsor client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3430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so, the attach is routed to the client over its sponsor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3430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t, can any other server or cl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87560" indent="-311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so, directs the ATTACH to that server or the clients sponsor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87560" indent="-311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ot, reject the ATTACH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ltithreaded APPC Ser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38120" y="1413000"/>
            <a:ext cx="8269200" cy="50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TP as a non-queued Windows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Receive_Allocate thread with multiple conversation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Receive_Allocates complete, signal the least taxed conversation thread to pickup the conver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sation thread manages upto 62 conversations using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inAsyncAPPCEx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onversation and shutdown events bring the total to 64 events per conversation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PC Sample Co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55560" y="1413000"/>
            <a:ext cx="7832880" cy="42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er SDK included on every 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C sampl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382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NG and multithreaded A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382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and multithreaded send/receive 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3268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Ps used to stress 10,000 session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382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MOTE:  remote console over AP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3268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ll duplex using two half duplex con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5400" indent="-3268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_TP_PROPERTIE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retrieve a “Logical Unit of Work” to bind both con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UA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049400" y="1413000"/>
            <a:ext cx="704700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I (Request Unit Interface) an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 (Session Level Interface) are asynchronous b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ndows NT Event handles in place of OS/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maph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conversations can be handled on a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LuaReturnCode: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Converts the return codes for a VCB to a printable str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UA Sample Co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230480" y="1413000"/>
            <a:ext cx="668484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I3270 and SLI3270 are simple LUA applications that print the 3270 streams from a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N3270 Server is an example of a server application that handles multiple RUI and TCP/IP Sockets per thre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131840" y="1413000"/>
            <a:ext cx="688176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er architectural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ments in SNA Server 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ing APPC and LUA serv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 over S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race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990720" y="218916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cal tool for setting up t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online control of tra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es stored in trac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e messages and API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detailed information on the exact sequence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race each individual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4124160" y="985680"/>
            <a:ext cx="94284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ception Hand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2560" y="1413000"/>
            <a:ext cx="77803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SNA Server components and interfaces are enveloped in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uctured exception handling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n exception occurs, handler launches collects information specific to the components that caused the ex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ption is handed off to Dr. Watson for additi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View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Alert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74800" y="3805200"/>
            <a:ext cx="7516800" cy="2898720"/>
          </a:xfrm>
          <a:prstGeom prst="roundRect">
            <a:avLst/>
          </a:prstGeom>
          <a:gradFill rotWithShape="0">
            <a:gsLst>
              <a:gs pos="0">
                <a:srgbClr val="909090"/>
              </a:gs>
              <a:gs pos="100000">
                <a:srgbClr val="cecece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724280" y="4916520"/>
            <a:ext cx="3581280" cy="619200"/>
          </a:xfrm>
          <a:prstGeom prst="round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135080" y="4905360"/>
            <a:ext cx="2595600" cy="620640"/>
          </a:xfrm>
          <a:prstGeom prst="roundRect">
            <a:avLst/>
          </a:prstGeom>
          <a:solidFill>
            <a:srgbClr val="0105b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324240" y="3860640"/>
            <a:ext cx="2395440" cy="878040"/>
          </a:xfrm>
          <a:prstGeom prst="roundRect">
            <a:avLst/>
          </a:prstGeom>
          <a:solidFill>
            <a:srgbClr val="3365f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2682720" y="4552920"/>
            <a:ext cx="650880" cy="3700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3592440" y="3941640"/>
            <a:ext cx="1911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er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265400" y="5060880"/>
            <a:ext cx="235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View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387600" y="431784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624120" y="4317840"/>
            <a:ext cx="1860480" cy="3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7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erMS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097000" y="5781600"/>
            <a:ext cx="1189080" cy="817920"/>
            <a:chOff x="2097000" y="5781600"/>
            <a:chExt cx="1189080" cy="817920"/>
          </a:xfrm>
        </p:grpSpPr>
        <p:sp>
          <p:nvSpPr>
            <p:cNvPr id="572" name=""/>
            <p:cNvSpPr/>
            <p:nvPr/>
          </p:nvSpPr>
          <p:spPr>
            <a:xfrm>
              <a:off x="2116080" y="5918040"/>
              <a:ext cx="1151280" cy="681480"/>
            </a:xfrm>
            <a:custGeom>
              <a:avLst/>
              <a:gdLst/>
              <a:ahLst/>
              <a:rect l="0" t="0" r="r" b="b"/>
              <a:pathLst>
                <a:path w="3198" h="1893">
                  <a:moveTo>
                    <a:pt x="3198" y="21"/>
                  </a:moveTo>
                  <a:lnTo>
                    <a:pt x="3198" y="1562"/>
                  </a:lnTo>
                  <a:lnTo>
                    <a:pt x="3147" y="1621"/>
                  </a:lnTo>
                  <a:lnTo>
                    <a:pt x="3071" y="1674"/>
                  </a:lnTo>
                  <a:lnTo>
                    <a:pt x="2957" y="1722"/>
                  </a:lnTo>
                  <a:lnTo>
                    <a:pt x="2806" y="1770"/>
                  </a:lnTo>
                  <a:lnTo>
                    <a:pt x="2604" y="1813"/>
                  </a:lnTo>
                  <a:lnTo>
                    <a:pt x="2389" y="1845"/>
                  </a:lnTo>
                  <a:lnTo>
                    <a:pt x="2161" y="1867"/>
                  </a:lnTo>
                  <a:lnTo>
                    <a:pt x="1947" y="1883"/>
                  </a:lnTo>
                  <a:lnTo>
                    <a:pt x="1744" y="1893"/>
                  </a:lnTo>
                  <a:lnTo>
                    <a:pt x="1529" y="1893"/>
                  </a:lnTo>
                  <a:lnTo>
                    <a:pt x="1276" y="1883"/>
                  </a:lnTo>
                  <a:lnTo>
                    <a:pt x="1061" y="1872"/>
                  </a:lnTo>
                  <a:lnTo>
                    <a:pt x="834" y="1851"/>
                  </a:lnTo>
                  <a:lnTo>
                    <a:pt x="619" y="1818"/>
                  </a:lnTo>
                  <a:lnTo>
                    <a:pt x="454" y="1786"/>
                  </a:lnTo>
                  <a:lnTo>
                    <a:pt x="290" y="1744"/>
                  </a:lnTo>
                  <a:lnTo>
                    <a:pt x="164" y="1696"/>
                  </a:lnTo>
                  <a:lnTo>
                    <a:pt x="101" y="1663"/>
                  </a:lnTo>
                  <a:lnTo>
                    <a:pt x="37" y="1615"/>
                  </a:lnTo>
                  <a:lnTo>
                    <a:pt x="0" y="1557"/>
                  </a:lnTo>
                  <a:lnTo>
                    <a:pt x="0" y="0"/>
                  </a:lnTo>
                  <a:lnTo>
                    <a:pt x="3198" y="21"/>
                  </a:lnTo>
                  <a:close/>
                </a:path>
              </a:pathLst>
            </a:cu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97000" y="5781600"/>
              <a:ext cx="1189080" cy="262080"/>
            </a:xfrm>
            <a:prstGeom prst="ellipse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 txBox="1"/>
          <p:nvPr/>
        </p:nvSpPr>
        <p:spPr>
          <a:xfrm>
            <a:off x="2343240" y="6002280"/>
            <a:ext cx="7556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276720" y="5276880"/>
            <a:ext cx="1733400" cy="81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 flipV="1">
            <a:off x="3733920" y="5295960"/>
            <a:ext cx="954000" cy="46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43200" y="556272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19520" y="5529240"/>
            <a:ext cx="1284120" cy="10303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5835600" y="5468760"/>
            <a:ext cx="1371600" cy="10890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7250040" y="5486400"/>
            <a:ext cx="1076400" cy="1087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285920" y="3895560"/>
            <a:ext cx="1757520" cy="523800"/>
          </a:xfrm>
          <a:prstGeom prst="round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33333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246320" y="3849840"/>
            <a:ext cx="1913040" cy="6602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MVT Conf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155600" y="1440000"/>
            <a:ext cx="1404720" cy="1749600"/>
            <a:chOff x="1155600" y="1440000"/>
            <a:chExt cx="1404720" cy="1749600"/>
          </a:xfrm>
        </p:grpSpPr>
        <p:sp>
          <p:nvSpPr>
            <p:cNvPr id="584" name=""/>
            <p:cNvSpPr/>
            <p:nvPr/>
          </p:nvSpPr>
          <p:spPr>
            <a:xfrm>
              <a:off x="1155600" y="1440000"/>
              <a:ext cx="1312920" cy="1749600"/>
            </a:xfrm>
            <a:prstGeom prst="roundRect">
              <a:avLst/>
            </a:prstGeom>
            <a:solidFill>
              <a:srgbClr val="0105b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 txBox="1"/>
            <p:nvPr/>
          </p:nvSpPr>
          <p:spPr>
            <a:xfrm>
              <a:off x="1284120" y="1558800"/>
              <a:ext cx="1276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BM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®</a:t>
              </a: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hos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30200" y="2006640"/>
              <a:ext cx="942840" cy="839880"/>
            </a:xfrm>
            <a:prstGeom prst="round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 txBox="1"/>
            <p:nvPr/>
          </p:nvSpPr>
          <p:spPr>
            <a:xfrm>
              <a:off x="1330200" y="2147760"/>
              <a:ext cx="1022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Vie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2125800" y="4562640"/>
            <a:ext cx="7920" cy="466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514600" y="1981080"/>
            <a:ext cx="1600560" cy="914760"/>
          </a:xfrm>
          <a:custGeom>
            <a:avLst/>
            <a:gdLst/>
            <a:ahLst/>
            <a:rect l="0" t="0" r="r" b="b"/>
            <a:pathLst>
              <a:path w="4446" h="2541">
                <a:moveTo>
                  <a:pt x="4446" y="845"/>
                </a:moveTo>
                <a:lnTo>
                  <a:pt x="4446" y="1692"/>
                </a:lnTo>
                <a:lnTo>
                  <a:pt x="1333" y="1692"/>
                </a:lnTo>
                <a:lnTo>
                  <a:pt x="1333" y="2541"/>
                </a:lnTo>
                <a:lnTo>
                  <a:pt x="0" y="1271"/>
                </a:lnTo>
                <a:lnTo>
                  <a:pt x="1333" y="0"/>
                </a:lnTo>
                <a:lnTo>
                  <a:pt x="1333" y="845"/>
                </a:lnTo>
                <a:lnTo>
                  <a:pt x="4446" y="845"/>
                </a:lnTo>
                <a:close/>
              </a:path>
            </a:pathLst>
          </a:custGeom>
          <a:solidFill>
            <a:srgbClr val="ef91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2209680"/>
            <a:ext cx="1162080" cy="1600200"/>
          </a:xfrm>
          <a:prstGeom prst="rect">
            <a:avLst/>
          </a:prstGeom>
          <a:solidFill>
            <a:srgbClr val="ef91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098960" y="2414520"/>
            <a:ext cx="1238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248520" y="3809880"/>
            <a:ext cx="1676520" cy="990720"/>
          </a:xfrm>
          <a:prstGeom prst="ellipse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308640" y="4014720"/>
            <a:ext cx="1600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Not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714840" y="4324320"/>
            <a:ext cx="2572200" cy="795600"/>
          </a:xfrm>
          <a:custGeom>
            <a:avLst/>
            <a:gdLst/>
            <a:ahLst/>
            <a:rect l="0" t="0" r="r" b="b"/>
            <a:pathLst>
              <a:path fill="none" w="7145" h="2210">
                <a:moveTo>
                  <a:pt x="0" y="2210"/>
                </a:moveTo>
                <a:lnTo>
                  <a:pt x="0" y="2210"/>
                </a:lnTo>
                <a:cubicBezTo>
                  <a:pt x="1254" y="2210"/>
                  <a:pt x="2486" y="2108"/>
                  <a:pt x="3573" y="1914"/>
                </a:cubicBezTo>
                <a:cubicBezTo>
                  <a:pt x="4659" y="1720"/>
                  <a:pt x="5561" y="1441"/>
                  <a:pt x="6188" y="1105"/>
                </a:cubicBezTo>
                <a:cubicBezTo>
                  <a:pt x="6815" y="769"/>
                  <a:pt x="7145" y="388"/>
                  <a:pt x="7145" y="0"/>
                </a:cubicBezTo>
              </a:path>
            </a:pathLst>
          </a:custGeom>
          <a:ln w="76320">
            <a:solidFill>
              <a:srgbClr val="333333"/>
            </a:solidFill>
            <a:round/>
            <a:headEnd len="med" type="triangle" w="med"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249120" y="230040"/>
            <a:ext cx="8645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View Run Command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1062000" y="1227240"/>
            <a:ext cx="7020000" cy="5294160"/>
            <a:chOff x="1062000" y="1227240"/>
            <a:chExt cx="7020000" cy="5294160"/>
          </a:xfrm>
        </p:grpSpPr>
        <p:sp>
          <p:nvSpPr>
            <p:cNvPr id="598" name=""/>
            <p:cNvSpPr/>
            <p:nvPr/>
          </p:nvSpPr>
          <p:spPr>
            <a:xfrm>
              <a:off x="1062000" y="3292560"/>
              <a:ext cx="7020000" cy="3228840"/>
            </a:xfrm>
            <a:prstGeom prst="roundRect">
              <a:avLst/>
            </a:prstGeom>
            <a:solidFill>
              <a:srgbClr val="cecece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894040" y="5851440"/>
              <a:ext cx="18432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 txBox="1"/>
            <p:nvPr/>
          </p:nvSpPr>
          <p:spPr>
            <a:xfrm>
              <a:off x="1911240" y="4357800"/>
              <a:ext cx="1635120" cy="14493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dow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m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343560" y="5183280"/>
              <a:ext cx="85680" cy="114480"/>
            </a:xfrm>
            <a:prstGeom prst="ellipse">
              <a:avLst/>
            </a:prstGeom>
            <a:gradFill rotWithShape="0">
              <a:gsLst>
                <a:gs pos="0">
                  <a:srgbClr val="b0001c"/>
                </a:gs>
                <a:gs pos="50000">
                  <a:srgbClr val="fc0128"/>
                </a:gs>
                <a:gs pos="100000">
                  <a:srgbClr val="b0001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48440" y="5183280"/>
              <a:ext cx="85680" cy="114480"/>
            </a:xfrm>
            <a:prstGeom prst="ellipse">
              <a:avLst/>
            </a:prstGeom>
            <a:gradFill rotWithShape="0">
              <a:gsLst>
                <a:gs pos="0">
                  <a:srgbClr val="b0001c"/>
                </a:gs>
                <a:gs pos="50000">
                  <a:srgbClr val="fc0128"/>
                </a:gs>
                <a:gs pos="100000">
                  <a:srgbClr val="b0001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72160" y="5183280"/>
              <a:ext cx="85680" cy="114480"/>
            </a:xfrm>
            <a:prstGeom prst="ellipse">
              <a:avLst/>
            </a:prstGeom>
            <a:gradFill rotWithShape="0">
              <a:gsLst>
                <a:gs pos="0">
                  <a:srgbClr val="b0001c"/>
                </a:gs>
                <a:gs pos="50000">
                  <a:srgbClr val="fc0128"/>
                </a:gs>
                <a:gs pos="100000">
                  <a:srgbClr val="b0001c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3600360" y="3863880"/>
              <a:ext cx="1185840" cy="542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 txBox="1"/>
            <p:nvPr/>
          </p:nvSpPr>
          <p:spPr>
            <a:xfrm>
              <a:off x="3624120" y="4362480"/>
              <a:ext cx="1174680" cy="14493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ird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s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76560" y="5987880"/>
              <a:ext cx="5619600" cy="35244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33333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>
              <a:off x="4838760" y="5983200"/>
              <a:ext cx="22669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tView Run 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>
              <a:off x="2454120" y="5983200"/>
              <a:ext cx="174636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Receive_NMV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 txBox="1"/>
            <p:nvPr/>
          </p:nvSpPr>
          <p:spPr>
            <a:xfrm>
              <a:off x="4032360" y="2217600"/>
              <a:ext cx="1650960" cy="1098720"/>
            </a:xfrm>
            <a:prstGeom prst="rect">
              <a:avLst/>
            </a:prstGeom>
            <a:solidFill>
              <a:srgbClr val="ef9100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57720" y="1720800"/>
              <a:ext cx="2114640" cy="476280"/>
            </a:xfrm>
            <a:prstGeom prst="rect">
              <a:avLst/>
            </a:prstGeom>
            <a:solidFill>
              <a:srgbClr val="ef91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>
              <a:off x="1376280" y="3378240"/>
              <a:ext cx="6362640" cy="380880"/>
            </a:xfrm>
            <a:prstGeom prst="rect">
              <a:avLst/>
            </a:prstGeom>
            <a:solidFill>
              <a:srgbClr val="3365fb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NA Server N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14440" y="3797280"/>
              <a:ext cx="743400" cy="2267280"/>
            </a:xfrm>
            <a:custGeom>
              <a:avLst/>
              <a:gdLst/>
              <a:ahLst/>
              <a:rect l="0" t="0" r="r" b="b"/>
              <a:pathLst>
                <a:path fill="none" w="2065" h="6298">
                  <a:moveTo>
                    <a:pt x="0" y="0"/>
                  </a:moveTo>
                  <a:lnTo>
                    <a:pt x="0" y="0"/>
                  </a:lnTo>
                  <a:cubicBezTo>
                    <a:pt x="0" y="1106"/>
                    <a:pt x="95" y="2192"/>
                    <a:pt x="277" y="3149"/>
                  </a:cubicBezTo>
                  <a:cubicBezTo>
                    <a:pt x="458" y="4106"/>
                    <a:pt x="719" y="4901"/>
                    <a:pt x="1033" y="5454"/>
                  </a:cubicBezTo>
                  <a:cubicBezTo>
                    <a:pt x="1346" y="6007"/>
                    <a:pt x="1703" y="6298"/>
                    <a:pt x="2065" y="6298"/>
                  </a:cubicBezTo>
                </a:path>
              </a:pathLst>
            </a:custGeom>
            <a:ln w="38160">
              <a:solidFill>
                <a:srgbClr val="333333"/>
              </a:solidFill>
              <a:round/>
              <a:headEnd len="med" type="triangle" w="med"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4913280" y="3863880"/>
              <a:ext cx="1185840" cy="542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 txBox="1"/>
            <p:nvPr/>
          </p:nvSpPr>
          <p:spPr>
            <a:xfrm>
              <a:off x="6684840" y="3863880"/>
              <a:ext cx="1185840" cy="542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4883040" y="4362480"/>
              <a:ext cx="1244520" cy="14493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ird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s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6707160" y="4362480"/>
              <a:ext cx="1244520" cy="144936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hird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LLs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 txBox="1"/>
            <p:nvPr/>
          </p:nvSpPr>
          <p:spPr>
            <a:xfrm>
              <a:off x="2138400" y="3863880"/>
              <a:ext cx="1185840" cy="5428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MD</a:t>
              </a:r>
              <a:br>
                <a:rPr sz="1800"/>
              </a:b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rpre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" name=""/>
            <p:cNvGrpSpPr/>
            <p:nvPr/>
          </p:nvGrpSpPr>
          <p:grpSpPr>
            <a:xfrm>
              <a:off x="2008080" y="1227240"/>
              <a:ext cx="1312920" cy="1749600"/>
              <a:chOff x="2008080" y="1227240"/>
              <a:chExt cx="1312920" cy="1749600"/>
            </a:xfrm>
          </p:grpSpPr>
          <p:sp>
            <p:nvSpPr>
              <p:cNvPr id="619" name=""/>
              <p:cNvSpPr/>
              <p:nvPr/>
            </p:nvSpPr>
            <p:spPr>
              <a:xfrm>
                <a:off x="2008080" y="1227240"/>
                <a:ext cx="1312920" cy="1749600"/>
              </a:xfrm>
              <a:prstGeom prst="roundRect">
                <a:avLst/>
              </a:prstGeom>
              <a:solidFill>
                <a:srgbClr val="0105b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 txBox="1"/>
              <p:nvPr/>
            </p:nvSpPr>
            <p:spPr>
              <a:xfrm>
                <a:off x="2136600" y="1346040"/>
                <a:ext cx="116208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IBM host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182680" y="1793880"/>
                <a:ext cx="942840" cy="839880"/>
              </a:xfrm>
              <a:prstGeom prst="round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 txBox="1"/>
              <p:nvPr/>
            </p:nvSpPr>
            <p:spPr>
              <a:xfrm>
                <a:off x="2182680" y="1935000"/>
                <a:ext cx="1022400" cy="366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NetVie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28720" y="230040"/>
            <a:ext cx="74865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S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917640" y="1413000"/>
            <a:ext cx="73087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SNA API standard fo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API for Windows and Windows NT (16-bit and 32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iginally based on IBM OS/2 extend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extensions (both sync and async API suppor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orsed by 20 leading SNA vendors including IBM and Nov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Standardiz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809640" y="1413000"/>
            <a:ext cx="75247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w SNA + SNA applications market fo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SNA ISV has its own API flav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 Windows SNA APIs to fit specific environment for 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cal next step after Windows Sockets standardization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y part of Windows Open Services Architecture (WO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rticip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57200" y="1413000"/>
            <a:ext cx="8231400" cy="5045040"/>
            <a:chOff x="457200" y="1413000"/>
            <a:chExt cx="8231400" cy="5045040"/>
          </a:xfrm>
        </p:grpSpPr>
        <p:sp>
          <p:nvSpPr>
            <p:cNvPr id="629" name=""/>
            <p:cNvSpPr txBox="1"/>
            <p:nvPr/>
          </p:nvSpPr>
          <p:spPr>
            <a:xfrm>
              <a:off x="457200" y="1413000"/>
              <a:ext cx="3886200" cy="458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drew Corpora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ttachma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mputer Logic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ata Connectio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C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ase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icon Technolog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utureSof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B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CO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 txBox="1"/>
            <p:nvPr/>
          </p:nvSpPr>
          <p:spPr>
            <a:xfrm>
              <a:off x="5145120" y="1413000"/>
              <a:ext cx="3543480" cy="504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495360" indent="-49536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C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95360" indent="-49536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icrosof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95360" indent="-49536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lti Sof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95360" indent="-49536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C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95360" indent="-49536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95360" indent="-49536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ovel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95360" indent="-49536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livett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95360" indent="-49536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iemens-Nixdor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95360" indent="-49536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ystems Strateg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495360" indent="-495360">
                <a:lnSpc>
                  <a:spcPct val="65000"/>
                </a:lnSpc>
                <a:spcBef>
                  <a:spcPts val="720"/>
                </a:spcBef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all Dat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2162160" y="230040"/>
            <a:ext cx="4819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I Extens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461960" y="1413000"/>
            <a:ext cx="62215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Async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n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B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celBlocking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celAsync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BlockingH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hookBlockingH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sync API Suppo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990720" y="1413000"/>
            <a:ext cx="716292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message notification for non-blocking operation through the use of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Window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sync handle mapped to th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WND parameter added to WinAsync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XX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lavor of each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quired for Windows L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AS Over S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3971880" y="2263680"/>
            <a:ext cx="1305000" cy="1692360"/>
            <a:chOff x="3971880" y="2263680"/>
            <a:chExt cx="1305000" cy="1692360"/>
          </a:xfrm>
        </p:grpSpPr>
        <p:sp>
          <p:nvSpPr>
            <p:cNvPr id="637" name=""/>
            <p:cNvSpPr/>
            <p:nvPr/>
          </p:nvSpPr>
          <p:spPr>
            <a:xfrm>
              <a:off x="3971880" y="2263680"/>
              <a:ext cx="947880" cy="94932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4233960" y="3127320"/>
              <a:ext cx="685800" cy="8568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38640" y="3127320"/>
              <a:ext cx="1038240" cy="82872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"/>
          <p:cNvSpPr/>
          <p:nvPr/>
        </p:nvSpPr>
        <p:spPr>
          <a:xfrm flipV="1">
            <a:off x="5927760" y="2479680"/>
            <a:ext cx="825480" cy="9907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931080" y="2467080"/>
            <a:ext cx="546120" cy="990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976400" y="2212920"/>
            <a:ext cx="1700280" cy="1328760"/>
            <a:chOff x="1976400" y="2212920"/>
            <a:chExt cx="1700280" cy="1328760"/>
          </a:xfrm>
        </p:grpSpPr>
        <p:sp>
          <p:nvSpPr>
            <p:cNvPr id="643" name=""/>
            <p:cNvSpPr/>
            <p:nvPr/>
          </p:nvSpPr>
          <p:spPr>
            <a:xfrm>
              <a:off x="1976400" y="2627280"/>
              <a:ext cx="1700280" cy="60012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47880" y="3213000"/>
              <a:ext cx="0" cy="32868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3071880" y="2212920"/>
              <a:ext cx="561960" cy="44280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4343400" y="2079720"/>
            <a:ext cx="3086280" cy="1857240"/>
            <a:chOff x="4343400" y="2079720"/>
            <a:chExt cx="3086280" cy="1857240"/>
          </a:xfrm>
        </p:grpSpPr>
        <p:sp>
          <p:nvSpPr>
            <p:cNvPr id="647" name=""/>
            <p:cNvSpPr/>
            <p:nvPr/>
          </p:nvSpPr>
          <p:spPr>
            <a:xfrm>
              <a:off x="4343400" y="2079720"/>
              <a:ext cx="2233440" cy="101916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5934240" y="3008160"/>
              <a:ext cx="633240" cy="8604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19840" y="2998800"/>
              <a:ext cx="1509840" cy="93816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1347840" y="4227480"/>
            <a:ext cx="1657440" cy="824040"/>
            <a:chOff x="1347840" y="4227480"/>
            <a:chExt cx="1657440" cy="824040"/>
          </a:xfrm>
        </p:grpSpPr>
        <p:sp>
          <p:nvSpPr>
            <p:cNvPr id="651" name=""/>
            <p:cNvSpPr/>
            <p:nvPr/>
          </p:nvSpPr>
          <p:spPr>
            <a:xfrm>
              <a:off x="1347840" y="4627440"/>
              <a:ext cx="1657440" cy="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V="1">
              <a:off x="2690640" y="4227480"/>
              <a:ext cx="0" cy="39996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V="1">
              <a:off x="1671480" y="4637160"/>
              <a:ext cx="0" cy="41436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4314960" y="4294080"/>
            <a:ext cx="1657080" cy="824040"/>
            <a:chOff x="4314960" y="4294080"/>
            <a:chExt cx="1657080" cy="824040"/>
          </a:xfrm>
        </p:grpSpPr>
        <p:sp>
          <p:nvSpPr>
            <p:cNvPr id="655" name=""/>
            <p:cNvSpPr/>
            <p:nvPr/>
          </p:nvSpPr>
          <p:spPr>
            <a:xfrm>
              <a:off x="4314960" y="4694400"/>
              <a:ext cx="1657080" cy="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5657760" y="4294080"/>
              <a:ext cx="0" cy="40032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4638600" y="4703760"/>
              <a:ext cx="0" cy="41436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6510240" y="4317840"/>
            <a:ext cx="1657440" cy="824040"/>
            <a:chOff x="6510240" y="4317840"/>
            <a:chExt cx="1657440" cy="824040"/>
          </a:xfrm>
        </p:grpSpPr>
        <p:sp>
          <p:nvSpPr>
            <p:cNvPr id="659" name=""/>
            <p:cNvSpPr/>
            <p:nvPr/>
          </p:nvSpPr>
          <p:spPr>
            <a:xfrm>
              <a:off x="6510240" y="4718160"/>
              <a:ext cx="1657440" cy="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853400" y="4317840"/>
              <a:ext cx="0" cy="40032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834240" y="4727520"/>
              <a:ext cx="0" cy="414360"/>
            </a:xfrm>
            <a:prstGeom prst="line">
              <a:avLst/>
            </a:prstGeom>
            <a:ln w="255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1222200" y="4859280"/>
            <a:ext cx="930240" cy="833400"/>
            <a:chOff x="1222200" y="4859280"/>
            <a:chExt cx="930240" cy="833400"/>
          </a:xfrm>
        </p:grpSpPr>
        <p:pic>
          <p:nvPicPr>
            <p:cNvPr id="663" name="" descr=""/>
            <p:cNvPicPr/>
            <p:nvPr/>
          </p:nvPicPr>
          <p:blipFill>
            <a:blip r:embed="rId1"/>
            <a:stretch/>
          </p:blipFill>
          <p:spPr>
            <a:xfrm>
              <a:off x="1222200" y="4859280"/>
              <a:ext cx="93024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2"/>
            <a:stretch/>
          </p:blipFill>
          <p:spPr>
            <a:xfrm>
              <a:off x="1449360" y="4943520"/>
              <a:ext cx="476280" cy="33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7350120" y="3498840"/>
            <a:ext cx="733680" cy="973440"/>
            <a:chOff x="7350120" y="3498840"/>
            <a:chExt cx="733680" cy="973440"/>
          </a:xfrm>
        </p:grpSpPr>
        <p:sp>
          <p:nvSpPr>
            <p:cNvPr id="666" name=""/>
            <p:cNvSpPr/>
            <p:nvPr/>
          </p:nvSpPr>
          <p:spPr>
            <a:xfrm>
              <a:off x="7738920" y="3605040"/>
              <a:ext cx="316440" cy="867240"/>
            </a:xfrm>
            <a:custGeom>
              <a:avLst/>
              <a:gdLst/>
              <a:ahLst/>
              <a:rect l="0" t="0" r="r" b="b"/>
              <a:pathLst>
                <a:path w="879" h="2409">
                  <a:moveTo>
                    <a:pt x="879" y="0"/>
                  </a:moveTo>
                  <a:lnTo>
                    <a:pt x="879" y="2147"/>
                  </a:lnTo>
                  <a:lnTo>
                    <a:pt x="0" y="2409"/>
                  </a:lnTo>
                  <a:lnTo>
                    <a:pt x="0" y="93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350120" y="3498840"/>
              <a:ext cx="705240" cy="124200"/>
            </a:xfrm>
            <a:custGeom>
              <a:avLst/>
              <a:gdLst/>
              <a:ahLst/>
              <a:rect l="0" t="0" r="r" b="b"/>
              <a:pathLst>
                <a:path w="1959" h="345">
                  <a:moveTo>
                    <a:pt x="1959" y="257"/>
                  </a:moveTo>
                  <a:lnTo>
                    <a:pt x="912" y="0"/>
                  </a:lnTo>
                  <a:lnTo>
                    <a:pt x="0" y="82"/>
                  </a:lnTo>
                  <a:lnTo>
                    <a:pt x="1039" y="345"/>
                  </a:lnTo>
                  <a:lnTo>
                    <a:pt x="1959" y="25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350120" y="3533760"/>
              <a:ext cx="362160" cy="938520"/>
            </a:xfrm>
            <a:custGeom>
              <a:avLst/>
              <a:gdLst/>
              <a:ahLst/>
              <a:rect l="0" t="0" r="r" b="b"/>
              <a:pathLst>
                <a:path w="1006" h="2607">
                  <a:moveTo>
                    <a:pt x="1006" y="289"/>
                  </a:moveTo>
                  <a:lnTo>
                    <a:pt x="0" y="0"/>
                  </a:lnTo>
                  <a:lnTo>
                    <a:pt x="0" y="2148"/>
                  </a:lnTo>
                  <a:lnTo>
                    <a:pt x="1006" y="2607"/>
                  </a:lnTo>
                  <a:lnTo>
                    <a:pt x="1006" y="289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767720" y="400212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729" y="0"/>
                  </a:moveTo>
                  <a:lnTo>
                    <a:pt x="729" y="328"/>
                  </a:lnTo>
                  <a:lnTo>
                    <a:pt x="0" y="477"/>
                  </a:lnTo>
                  <a:lnTo>
                    <a:pt x="0" y="13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767720" y="3809880"/>
              <a:ext cx="262440" cy="168480"/>
            </a:xfrm>
            <a:custGeom>
              <a:avLst/>
              <a:gdLst/>
              <a:ahLst/>
              <a:rect l="0" t="0" r="r" b="b"/>
              <a:pathLst>
                <a:path w="729" h="468">
                  <a:moveTo>
                    <a:pt x="729" y="0"/>
                  </a:moveTo>
                  <a:lnTo>
                    <a:pt x="729" y="330"/>
                  </a:lnTo>
                  <a:lnTo>
                    <a:pt x="0" y="468"/>
                  </a:lnTo>
                  <a:lnTo>
                    <a:pt x="0" y="10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767720" y="3944880"/>
              <a:ext cx="275040" cy="47880"/>
            </a:xfrm>
            <a:custGeom>
              <a:avLst/>
              <a:gdLst/>
              <a:ahLst/>
              <a:rect l="0" t="0" r="r" b="b"/>
              <a:pathLst>
                <a:path w="764" h="133">
                  <a:moveTo>
                    <a:pt x="764" y="19"/>
                  </a:moveTo>
                  <a:lnTo>
                    <a:pt x="729" y="0"/>
                  </a:lnTo>
                  <a:lnTo>
                    <a:pt x="0" y="106"/>
                  </a:lnTo>
                  <a:lnTo>
                    <a:pt x="0" y="133"/>
                  </a:lnTo>
                  <a:lnTo>
                    <a:pt x="764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792920" y="3952800"/>
              <a:ext cx="278280" cy="60840"/>
            </a:xfrm>
            <a:custGeom>
              <a:avLst/>
              <a:gdLst/>
              <a:ahLst/>
              <a:rect l="0" t="0" r="r" b="b"/>
              <a:pathLst>
                <a:path w="773" h="169">
                  <a:moveTo>
                    <a:pt x="731" y="0"/>
                  </a:moveTo>
                  <a:lnTo>
                    <a:pt x="773" y="54"/>
                  </a:lnTo>
                  <a:lnTo>
                    <a:pt x="35" y="169"/>
                  </a:lnTo>
                  <a:lnTo>
                    <a:pt x="0" y="11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792920" y="3978360"/>
              <a:ext cx="278280" cy="54360"/>
            </a:xfrm>
            <a:custGeom>
              <a:avLst/>
              <a:gdLst/>
              <a:ahLst/>
              <a:rect l="0" t="0" r="r" b="b"/>
              <a:pathLst>
                <a:path w="773" h="151">
                  <a:moveTo>
                    <a:pt x="773" y="0"/>
                  </a:moveTo>
                  <a:lnTo>
                    <a:pt x="731" y="33"/>
                  </a:lnTo>
                  <a:lnTo>
                    <a:pt x="0" y="151"/>
                  </a:lnTo>
                  <a:lnTo>
                    <a:pt x="35" y="114"/>
                  </a:lnTo>
                  <a:lnTo>
                    <a:pt x="77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777080" y="4005360"/>
              <a:ext cx="16200" cy="27360"/>
            </a:xfrm>
            <a:custGeom>
              <a:avLst/>
              <a:gdLst/>
              <a:ahLst/>
              <a:rect l="0" t="0" r="r" b="b"/>
              <a:pathLst>
                <a:path w="45" h="76">
                  <a:moveTo>
                    <a:pt x="45" y="0"/>
                  </a:moveTo>
                  <a:lnTo>
                    <a:pt x="0" y="40"/>
                  </a:lnTo>
                  <a:lnTo>
                    <a:pt x="45" y="7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67720" y="4137120"/>
              <a:ext cx="275040" cy="52920"/>
            </a:xfrm>
            <a:custGeom>
              <a:avLst/>
              <a:gdLst/>
              <a:ahLst/>
              <a:rect l="0" t="0" r="r" b="b"/>
              <a:pathLst>
                <a:path w="764" h="147">
                  <a:moveTo>
                    <a:pt x="729" y="0"/>
                  </a:moveTo>
                  <a:lnTo>
                    <a:pt x="764" y="20"/>
                  </a:lnTo>
                  <a:lnTo>
                    <a:pt x="0" y="147"/>
                  </a:lnTo>
                  <a:lnTo>
                    <a:pt x="0" y="118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829640" y="3666960"/>
              <a:ext cx="135360" cy="41760"/>
            </a:xfrm>
            <a:custGeom>
              <a:avLst/>
              <a:gdLst/>
              <a:ahLst/>
              <a:rect l="0" t="0" r="r" b="b"/>
              <a:pathLst>
                <a:path w="376" h="116">
                  <a:moveTo>
                    <a:pt x="376" y="0"/>
                  </a:moveTo>
                  <a:lnTo>
                    <a:pt x="338" y="37"/>
                  </a:lnTo>
                  <a:lnTo>
                    <a:pt x="376" y="74"/>
                  </a:lnTo>
                  <a:lnTo>
                    <a:pt x="0" y="116"/>
                  </a:lnTo>
                  <a:lnTo>
                    <a:pt x="0" y="34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767720" y="3670200"/>
              <a:ext cx="275040" cy="36720"/>
            </a:xfrm>
            <a:custGeom>
              <a:avLst/>
              <a:gdLst/>
              <a:ahLst/>
              <a:rect l="0" t="0" r="r" b="b"/>
              <a:pathLst>
                <a:path w="764" h="102">
                  <a:moveTo>
                    <a:pt x="764" y="0"/>
                  </a:moveTo>
                  <a:lnTo>
                    <a:pt x="0" y="76"/>
                  </a:lnTo>
                  <a:lnTo>
                    <a:pt x="0" y="102"/>
                  </a:lnTo>
                  <a:lnTo>
                    <a:pt x="764" y="22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775640" y="3676680"/>
              <a:ext cx="254520" cy="25920"/>
            </a:xfrm>
            <a:custGeom>
              <a:avLst/>
              <a:gdLst/>
              <a:ahLst/>
              <a:rect l="0" t="0" r="r" b="b"/>
              <a:pathLst>
                <a:path w="707" h="72">
                  <a:moveTo>
                    <a:pt x="707" y="0"/>
                  </a:moveTo>
                  <a:lnTo>
                    <a:pt x="0" y="60"/>
                  </a:lnTo>
                  <a:lnTo>
                    <a:pt x="0" y="72"/>
                  </a:lnTo>
                  <a:lnTo>
                    <a:pt x="707" y="6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78720" y="4394160"/>
              <a:ext cx="9720" cy="39960"/>
            </a:xfrm>
            <a:custGeom>
              <a:avLst/>
              <a:gdLst/>
              <a:ahLst/>
              <a:rect l="0" t="0" r="r" b="b"/>
              <a:pathLst>
                <a:path w="27" h="111">
                  <a:moveTo>
                    <a:pt x="27" y="81"/>
                  </a:moveTo>
                  <a:lnTo>
                    <a:pt x="0" y="111"/>
                  </a:lnTo>
                  <a:lnTo>
                    <a:pt x="27" y="0"/>
                  </a:lnTo>
                  <a:lnTo>
                    <a:pt x="27" y="8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526160" y="43736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173" y="36"/>
                  </a:moveTo>
                  <a:lnTo>
                    <a:pt x="105" y="169"/>
                  </a:lnTo>
                  <a:lnTo>
                    <a:pt x="0" y="115"/>
                  </a:lnTo>
                  <a:lnTo>
                    <a:pt x="63" y="0"/>
                  </a:lnTo>
                  <a:lnTo>
                    <a:pt x="173" y="3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421400" y="4325760"/>
              <a:ext cx="8280" cy="36720"/>
            </a:xfrm>
            <a:custGeom>
              <a:avLst/>
              <a:gdLst/>
              <a:ahLst/>
              <a:rect l="0" t="0" r="r" b="b"/>
              <a:pathLst>
                <a:path w="23" h="102">
                  <a:moveTo>
                    <a:pt x="23" y="77"/>
                  </a:moveTo>
                  <a:lnTo>
                    <a:pt x="0" y="102"/>
                  </a:lnTo>
                  <a:lnTo>
                    <a:pt x="23" y="0"/>
                  </a:lnTo>
                  <a:lnTo>
                    <a:pt x="23" y="7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373880" y="4309920"/>
              <a:ext cx="55800" cy="52920"/>
            </a:xfrm>
            <a:custGeom>
              <a:avLst/>
              <a:gdLst/>
              <a:ahLst/>
              <a:rect l="0" t="0" r="r" b="b"/>
              <a:pathLst>
                <a:path w="155" h="147">
                  <a:moveTo>
                    <a:pt x="155" y="32"/>
                  </a:moveTo>
                  <a:lnTo>
                    <a:pt x="88" y="147"/>
                  </a:lnTo>
                  <a:lnTo>
                    <a:pt x="0" y="98"/>
                  </a:lnTo>
                  <a:lnTo>
                    <a:pt x="56" y="0"/>
                  </a:lnTo>
                  <a:lnTo>
                    <a:pt x="155" y="3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729560" y="4210200"/>
              <a:ext cx="325800" cy="86040"/>
            </a:xfrm>
            <a:custGeom>
              <a:avLst/>
              <a:gdLst/>
              <a:ahLst/>
              <a:rect l="0" t="0" r="r" b="b"/>
              <a:pathLst>
                <a:path w="905" h="239">
                  <a:moveTo>
                    <a:pt x="905" y="44"/>
                  </a:moveTo>
                  <a:lnTo>
                    <a:pt x="21" y="239"/>
                  </a:lnTo>
                  <a:lnTo>
                    <a:pt x="0" y="180"/>
                  </a:lnTo>
                  <a:lnTo>
                    <a:pt x="884" y="0"/>
                  </a:lnTo>
                  <a:lnTo>
                    <a:pt x="905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729560" y="4189320"/>
              <a:ext cx="325800" cy="82800"/>
            </a:xfrm>
            <a:custGeom>
              <a:avLst/>
              <a:gdLst/>
              <a:ahLst/>
              <a:rect l="0" t="0" r="r" b="b"/>
              <a:pathLst>
                <a:path w="905" h="230">
                  <a:moveTo>
                    <a:pt x="884" y="44"/>
                  </a:moveTo>
                  <a:lnTo>
                    <a:pt x="0" y="230"/>
                  </a:lnTo>
                  <a:lnTo>
                    <a:pt x="21" y="186"/>
                  </a:lnTo>
                  <a:lnTo>
                    <a:pt x="905" y="0"/>
                  </a:lnTo>
                  <a:lnTo>
                    <a:pt x="884" y="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729560" y="4249800"/>
              <a:ext cx="325800" cy="92520"/>
            </a:xfrm>
            <a:custGeom>
              <a:avLst/>
              <a:gdLst/>
              <a:ahLst/>
              <a:rect l="0" t="0" r="r" b="b"/>
              <a:pathLst>
                <a:path w="905" h="257">
                  <a:moveTo>
                    <a:pt x="905" y="51"/>
                  </a:moveTo>
                  <a:lnTo>
                    <a:pt x="21" y="257"/>
                  </a:lnTo>
                  <a:lnTo>
                    <a:pt x="0" y="201"/>
                  </a:lnTo>
                  <a:lnTo>
                    <a:pt x="884" y="0"/>
                  </a:lnTo>
                  <a:lnTo>
                    <a:pt x="905" y="5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729560" y="4230720"/>
              <a:ext cx="325800" cy="82800"/>
            </a:xfrm>
            <a:custGeom>
              <a:avLst/>
              <a:gdLst/>
              <a:ahLst/>
              <a:rect l="0" t="0" r="r" b="b"/>
              <a:pathLst>
                <a:path w="905" h="230">
                  <a:moveTo>
                    <a:pt x="884" y="41"/>
                  </a:moveTo>
                  <a:lnTo>
                    <a:pt x="0" y="230"/>
                  </a:lnTo>
                  <a:lnTo>
                    <a:pt x="21" y="189"/>
                  </a:lnTo>
                  <a:lnTo>
                    <a:pt x="905" y="0"/>
                  </a:lnTo>
                  <a:lnTo>
                    <a:pt x="884" y="4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29560" y="4294080"/>
              <a:ext cx="325800" cy="86040"/>
            </a:xfrm>
            <a:custGeom>
              <a:avLst/>
              <a:gdLst/>
              <a:ahLst/>
              <a:rect l="0" t="0" r="r" b="b"/>
              <a:pathLst>
                <a:path w="905" h="239">
                  <a:moveTo>
                    <a:pt x="905" y="35"/>
                  </a:moveTo>
                  <a:lnTo>
                    <a:pt x="21" y="239"/>
                  </a:lnTo>
                  <a:lnTo>
                    <a:pt x="0" y="180"/>
                  </a:lnTo>
                  <a:lnTo>
                    <a:pt x="884" y="0"/>
                  </a:lnTo>
                  <a:lnTo>
                    <a:pt x="905" y="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29560" y="4267080"/>
              <a:ext cx="325800" cy="90720"/>
            </a:xfrm>
            <a:custGeom>
              <a:avLst/>
              <a:gdLst/>
              <a:ahLst/>
              <a:rect l="0" t="0" r="r" b="b"/>
              <a:pathLst>
                <a:path w="905" h="252">
                  <a:moveTo>
                    <a:pt x="884" y="45"/>
                  </a:moveTo>
                  <a:lnTo>
                    <a:pt x="0" y="252"/>
                  </a:lnTo>
                  <a:lnTo>
                    <a:pt x="21" y="206"/>
                  </a:lnTo>
                  <a:lnTo>
                    <a:pt x="905" y="0"/>
                  </a:lnTo>
                  <a:lnTo>
                    <a:pt x="884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729560" y="4332240"/>
              <a:ext cx="325800" cy="89280"/>
            </a:xfrm>
            <a:custGeom>
              <a:avLst/>
              <a:gdLst/>
              <a:ahLst/>
              <a:rect l="0" t="0" r="r" b="b"/>
              <a:pathLst>
                <a:path w="905" h="248">
                  <a:moveTo>
                    <a:pt x="905" y="41"/>
                  </a:moveTo>
                  <a:lnTo>
                    <a:pt x="21" y="248"/>
                  </a:lnTo>
                  <a:lnTo>
                    <a:pt x="0" y="194"/>
                  </a:lnTo>
                  <a:lnTo>
                    <a:pt x="884" y="0"/>
                  </a:lnTo>
                  <a:lnTo>
                    <a:pt x="905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729560" y="4314960"/>
              <a:ext cx="325800" cy="84600"/>
            </a:xfrm>
            <a:custGeom>
              <a:avLst/>
              <a:gdLst/>
              <a:ahLst/>
              <a:rect l="0" t="0" r="r" b="b"/>
              <a:pathLst>
                <a:path w="905" h="235">
                  <a:moveTo>
                    <a:pt x="884" y="35"/>
                  </a:moveTo>
                  <a:lnTo>
                    <a:pt x="0" y="235"/>
                  </a:lnTo>
                  <a:lnTo>
                    <a:pt x="21" y="195"/>
                  </a:lnTo>
                  <a:lnTo>
                    <a:pt x="905" y="0"/>
                  </a:lnTo>
                  <a:lnTo>
                    <a:pt x="884" y="3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792920" y="3757680"/>
              <a:ext cx="278280" cy="49680"/>
            </a:xfrm>
            <a:custGeom>
              <a:avLst/>
              <a:gdLst/>
              <a:ahLst/>
              <a:rect l="0" t="0" r="r" b="b"/>
              <a:pathLst>
                <a:path w="773" h="138">
                  <a:moveTo>
                    <a:pt x="731" y="0"/>
                  </a:moveTo>
                  <a:lnTo>
                    <a:pt x="773" y="53"/>
                  </a:lnTo>
                  <a:lnTo>
                    <a:pt x="35" y="138"/>
                  </a:lnTo>
                  <a:lnTo>
                    <a:pt x="0" y="8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792920" y="3784680"/>
              <a:ext cx="278280" cy="39960"/>
            </a:xfrm>
            <a:custGeom>
              <a:avLst/>
              <a:gdLst/>
              <a:ahLst/>
              <a:rect l="0" t="0" r="r" b="b"/>
              <a:pathLst>
                <a:path w="773" h="111">
                  <a:moveTo>
                    <a:pt x="773" y="0"/>
                  </a:moveTo>
                  <a:lnTo>
                    <a:pt x="731" y="34"/>
                  </a:lnTo>
                  <a:lnTo>
                    <a:pt x="0" y="111"/>
                  </a:lnTo>
                  <a:lnTo>
                    <a:pt x="35" y="77"/>
                  </a:lnTo>
                  <a:lnTo>
                    <a:pt x="77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77080" y="3800520"/>
              <a:ext cx="16200" cy="24120"/>
            </a:xfrm>
            <a:custGeom>
              <a:avLst/>
              <a:gdLst/>
              <a:ahLst/>
              <a:rect l="0" t="0" r="r" b="b"/>
              <a:pathLst>
                <a:path w="45" h="67">
                  <a:moveTo>
                    <a:pt x="45" y="0"/>
                  </a:moveTo>
                  <a:lnTo>
                    <a:pt x="0" y="35"/>
                  </a:lnTo>
                  <a:lnTo>
                    <a:pt x="45" y="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50120" y="4106880"/>
              <a:ext cx="733680" cy="165600"/>
            </a:xfrm>
            <a:custGeom>
              <a:avLst/>
              <a:gdLst/>
              <a:ahLst/>
              <a:rect l="0" t="0" r="r" b="b"/>
              <a:pathLst>
                <a:path fill="none" w="2038" h="460">
                  <a:moveTo>
                    <a:pt x="2038" y="224"/>
                  </a:moveTo>
                  <a:lnTo>
                    <a:pt x="1066" y="46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50120" y="3676680"/>
              <a:ext cx="733680" cy="133560"/>
            </a:xfrm>
            <a:custGeom>
              <a:avLst/>
              <a:gdLst/>
              <a:ahLst/>
              <a:rect l="0" t="0" r="r" b="b"/>
              <a:pathLst>
                <a:path fill="none" w="2038" h="371">
                  <a:moveTo>
                    <a:pt x="2038" y="225"/>
                  </a:moveTo>
                  <a:lnTo>
                    <a:pt x="1081" y="37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245200" y="3517920"/>
            <a:ext cx="733680" cy="973440"/>
            <a:chOff x="5245200" y="3517920"/>
            <a:chExt cx="733680" cy="973440"/>
          </a:xfrm>
        </p:grpSpPr>
        <p:sp>
          <p:nvSpPr>
            <p:cNvPr id="697" name=""/>
            <p:cNvSpPr/>
            <p:nvPr/>
          </p:nvSpPr>
          <p:spPr>
            <a:xfrm>
              <a:off x="5634000" y="3624120"/>
              <a:ext cx="316440" cy="867240"/>
            </a:xfrm>
            <a:custGeom>
              <a:avLst/>
              <a:gdLst/>
              <a:ahLst/>
              <a:rect l="0" t="0" r="r" b="b"/>
              <a:pathLst>
                <a:path w="879" h="2409">
                  <a:moveTo>
                    <a:pt x="879" y="0"/>
                  </a:moveTo>
                  <a:lnTo>
                    <a:pt x="879" y="2147"/>
                  </a:lnTo>
                  <a:lnTo>
                    <a:pt x="0" y="2409"/>
                  </a:lnTo>
                  <a:lnTo>
                    <a:pt x="0" y="93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245200" y="3517920"/>
              <a:ext cx="705240" cy="124200"/>
            </a:xfrm>
            <a:custGeom>
              <a:avLst/>
              <a:gdLst/>
              <a:ahLst/>
              <a:rect l="0" t="0" r="r" b="b"/>
              <a:pathLst>
                <a:path w="1959" h="345">
                  <a:moveTo>
                    <a:pt x="1959" y="257"/>
                  </a:moveTo>
                  <a:lnTo>
                    <a:pt x="912" y="0"/>
                  </a:lnTo>
                  <a:lnTo>
                    <a:pt x="0" y="82"/>
                  </a:lnTo>
                  <a:lnTo>
                    <a:pt x="1039" y="345"/>
                  </a:lnTo>
                  <a:lnTo>
                    <a:pt x="1959" y="25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245200" y="3552840"/>
              <a:ext cx="362160" cy="938520"/>
            </a:xfrm>
            <a:custGeom>
              <a:avLst/>
              <a:gdLst/>
              <a:ahLst/>
              <a:rect l="0" t="0" r="r" b="b"/>
              <a:pathLst>
                <a:path w="1006" h="2607">
                  <a:moveTo>
                    <a:pt x="1006" y="289"/>
                  </a:moveTo>
                  <a:lnTo>
                    <a:pt x="0" y="0"/>
                  </a:lnTo>
                  <a:lnTo>
                    <a:pt x="0" y="2148"/>
                  </a:lnTo>
                  <a:lnTo>
                    <a:pt x="1006" y="2607"/>
                  </a:lnTo>
                  <a:lnTo>
                    <a:pt x="1006" y="289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62440" y="402120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729" y="0"/>
                  </a:moveTo>
                  <a:lnTo>
                    <a:pt x="729" y="328"/>
                  </a:lnTo>
                  <a:lnTo>
                    <a:pt x="0" y="477"/>
                  </a:lnTo>
                  <a:lnTo>
                    <a:pt x="0" y="13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62440" y="3828960"/>
              <a:ext cx="262440" cy="168480"/>
            </a:xfrm>
            <a:custGeom>
              <a:avLst/>
              <a:gdLst/>
              <a:ahLst/>
              <a:rect l="0" t="0" r="r" b="b"/>
              <a:pathLst>
                <a:path w="729" h="468">
                  <a:moveTo>
                    <a:pt x="729" y="0"/>
                  </a:moveTo>
                  <a:lnTo>
                    <a:pt x="729" y="330"/>
                  </a:lnTo>
                  <a:lnTo>
                    <a:pt x="0" y="468"/>
                  </a:lnTo>
                  <a:lnTo>
                    <a:pt x="0" y="10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62440" y="3963960"/>
              <a:ext cx="275040" cy="47880"/>
            </a:xfrm>
            <a:custGeom>
              <a:avLst/>
              <a:gdLst/>
              <a:ahLst/>
              <a:rect l="0" t="0" r="r" b="b"/>
              <a:pathLst>
                <a:path w="764" h="133">
                  <a:moveTo>
                    <a:pt x="764" y="19"/>
                  </a:moveTo>
                  <a:lnTo>
                    <a:pt x="729" y="0"/>
                  </a:lnTo>
                  <a:lnTo>
                    <a:pt x="0" y="106"/>
                  </a:lnTo>
                  <a:lnTo>
                    <a:pt x="0" y="133"/>
                  </a:lnTo>
                  <a:lnTo>
                    <a:pt x="764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688000" y="3971880"/>
              <a:ext cx="278280" cy="60840"/>
            </a:xfrm>
            <a:custGeom>
              <a:avLst/>
              <a:gdLst/>
              <a:ahLst/>
              <a:rect l="0" t="0" r="r" b="b"/>
              <a:pathLst>
                <a:path w="773" h="169">
                  <a:moveTo>
                    <a:pt x="731" y="0"/>
                  </a:moveTo>
                  <a:lnTo>
                    <a:pt x="773" y="54"/>
                  </a:lnTo>
                  <a:lnTo>
                    <a:pt x="35" y="169"/>
                  </a:lnTo>
                  <a:lnTo>
                    <a:pt x="0" y="11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688000" y="3997440"/>
              <a:ext cx="278280" cy="54360"/>
            </a:xfrm>
            <a:custGeom>
              <a:avLst/>
              <a:gdLst/>
              <a:ahLst/>
              <a:rect l="0" t="0" r="r" b="b"/>
              <a:pathLst>
                <a:path w="773" h="151">
                  <a:moveTo>
                    <a:pt x="773" y="0"/>
                  </a:moveTo>
                  <a:lnTo>
                    <a:pt x="731" y="33"/>
                  </a:lnTo>
                  <a:lnTo>
                    <a:pt x="0" y="151"/>
                  </a:lnTo>
                  <a:lnTo>
                    <a:pt x="35" y="114"/>
                  </a:lnTo>
                  <a:lnTo>
                    <a:pt x="77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672160" y="4024440"/>
              <a:ext cx="16200" cy="27360"/>
            </a:xfrm>
            <a:custGeom>
              <a:avLst/>
              <a:gdLst/>
              <a:ahLst/>
              <a:rect l="0" t="0" r="r" b="b"/>
              <a:pathLst>
                <a:path w="45" h="76">
                  <a:moveTo>
                    <a:pt x="45" y="0"/>
                  </a:moveTo>
                  <a:lnTo>
                    <a:pt x="0" y="40"/>
                  </a:lnTo>
                  <a:lnTo>
                    <a:pt x="45" y="7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662440" y="4156200"/>
              <a:ext cx="275040" cy="52920"/>
            </a:xfrm>
            <a:custGeom>
              <a:avLst/>
              <a:gdLst/>
              <a:ahLst/>
              <a:rect l="0" t="0" r="r" b="b"/>
              <a:pathLst>
                <a:path w="764" h="147">
                  <a:moveTo>
                    <a:pt x="729" y="0"/>
                  </a:moveTo>
                  <a:lnTo>
                    <a:pt x="764" y="20"/>
                  </a:lnTo>
                  <a:lnTo>
                    <a:pt x="0" y="147"/>
                  </a:lnTo>
                  <a:lnTo>
                    <a:pt x="0" y="118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24360" y="3686040"/>
              <a:ext cx="135360" cy="41760"/>
            </a:xfrm>
            <a:custGeom>
              <a:avLst/>
              <a:gdLst/>
              <a:ahLst/>
              <a:rect l="0" t="0" r="r" b="b"/>
              <a:pathLst>
                <a:path w="376" h="116">
                  <a:moveTo>
                    <a:pt x="376" y="0"/>
                  </a:moveTo>
                  <a:lnTo>
                    <a:pt x="338" y="37"/>
                  </a:lnTo>
                  <a:lnTo>
                    <a:pt x="376" y="74"/>
                  </a:lnTo>
                  <a:lnTo>
                    <a:pt x="0" y="116"/>
                  </a:lnTo>
                  <a:lnTo>
                    <a:pt x="0" y="34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662440" y="3689280"/>
              <a:ext cx="275040" cy="36720"/>
            </a:xfrm>
            <a:custGeom>
              <a:avLst/>
              <a:gdLst/>
              <a:ahLst/>
              <a:rect l="0" t="0" r="r" b="b"/>
              <a:pathLst>
                <a:path w="764" h="102">
                  <a:moveTo>
                    <a:pt x="764" y="0"/>
                  </a:moveTo>
                  <a:lnTo>
                    <a:pt x="0" y="76"/>
                  </a:lnTo>
                  <a:lnTo>
                    <a:pt x="0" y="102"/>
                  </a:lnTo>
                  <a:lnTo>
                    <a:pt x="764" y="22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670720" y="3695760"/>
              <a:ext cx="254520" cy="25920"/>
            </a:xfrm>
            <a:custGeom>
              <a:avLst/>
              <a:gdLst/>
              <a:ahLst/>
              <a:rect l="0" t="0" r="r" b="b"/>
              <a:pathLst>
                <a:path w="707" h="72">
                  <a:moveTo>
                    <a:pt x="707" y="0"/>
                  </a:moveTo>
                  <a:lnTo>
                    <a:pt x="0" y="60"/>
                  </a:lnTo>
                  <a:lnTo>
                    <a:pt x="0" y="72"/>
                  </a:lnTo>
                  <a:lnTo>
                    <a:pt x="707" y="6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73800" y="4413240"/>
              <a:ext cx="9720" cy="39960"/>
            </a:xfrm>
            <a:custGeom>
              <a:avLst/>
              <a:gdLst/>
              <a:ahLst/>
              <a:rect l="0" t="0" r="r" b="b"/>
              <a:pathLst>
                <a:path w="27" h="111">
                  <a:moveTo>
                    <a:pt x="27" y="81"/>
                  </a:moveTo>
                  <a:lnTo>
                    <a:pt x="0" y="111"/>
                  </a:lnTo>
                  <a:lnTo>
                    <a:pt x="27" y="0"/>
                  </a:lnTo>
                  <a:lnTo>
                    <a:pt x="27" y="8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421240" y="439272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173" y="36"/>
                  </a:moveTo>
                  <a:lnTo>
                    <a:pt x="105" y="169"/>
                  </a:lnTo>
                  <a:lnTo>
                    <a:pt x="0" y="115"/>
                  </a:lnTo>
                  <a:lnTo>
                    <a:pt x="63" y="0"/>
                  </a:lnTo>
                  <a:lnTo>
                    <a:pt x="173" y="3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316480" y="4344840"/>
              <a:ext cx="8280" cy="36720"/>
            </a:xfrm>
            <a:custGeom>
              <a:avLst/>
              <a:gdLst/>
              <a:ahLst/>
              <a:rect l="0" t="0" r="r" b="b"/>
              <a:pathLst>
                <a:path w="23" h="102">
                  <a:moveTo>
                    <a:pt x="23" y="77"/>
                  </a:moveTo>
                  <a:lnTo>
                    <a:pt x="0" y="102"/>
                  </a:lnTo>
                  <a:lnTo>
                    <a:pt x="23" y="0"/>
                  </a:lnTo>
                  <a:lnTo>
                    <a:pt x="23" y="7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268960" y="4329000"/>
              <a:ext cx="55800" cy="52920"/>
            </a:xfrm>
            <a:custGeom>
              <a:avLst/>
              <a:gdLst/>
              <a:ahLst/>
              <a:rect l="0" t="0" r="r" b="b"/>
              <a:pathLst>
                <a:path w="155" h="147">
                  <a:moveTo>
                    <a:pt x="155" y="32"/>
                  </a:moveTo>
                  <a:lnTo>
                    <a:pt x="88" y="147"/>
                  </a:lnTo>
                  <a:lnTo>
                    <a:pt x="0" y="98"/>
                  </a:lnTo>
                  <a:lnTo>
                    <a:pt x="56" y="0"/>
                  </a:lnTo>
                  <a:lnTo>
                    <a:pt x="155" y="3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624640" y="4228920"/>
              <a:ext cx="325800" cy="86040"/>
            </a:xfrm>
            <a:custGeom>
              <a:avLst/>
              <a:gdLst/>
              <a:ahLst/>
              <a:rect l="0" t="0" r="r" b="b"/>
              <a:pathLst>
                <a:path w="905" h="239">
                  <a:moveTo>
                    <a:pt x="905" y="44"/>
                  </a:moveTo>
                  <a:lnTo>
                    <a:pt x="21" y="239"/>
                  </a:lnTo>
                  <a:lnTo>
                    <a:pt x="0" y="180"/>
                  </a:lnTo>
                  <a:lnTo>
                    <a:pt x="884" y="0"/>
                  </a:lnTo>
                  <a:lnTo>
                    <a:pt x="905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624640" y="4208400"/>
              <a:ext cx="325800" cy="82800"/>
            </a:xfrm>
            <a:custGeom>
              <a:avLst/>
              <a:gdLst/>
              <a:ahLst/>
              <a:rect l="0" t="0" r="r" b="b"/>
              <a:pathLst>
                <a:path w="905" h="230">
                  <a:moveTo>
                    <a:pt x="884" y="44"/>
                  </a:moveTo>
                  <a:lnTo>
                    <a:pt x="0" y="230"/>
                  </a:lnTo>
                  <a:lnTo>
                    <a:pt x="21" y="186"/>
                  </a:lnTo>
                  <a:lnTo>
                    <a:pt x="905" y="0"/>
                  </a:lnTo>
                  <a:lnTo>
                    <a:pt x="884" y="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624640" y="4268880"/>
              <a:ext cx="325800" cy="92520"/>
            </a:xfrm>
            <a:custGeom>
              <a:avLst/>
              <a:gdLst/>
              <a:ahLst/>
              <a:rect l="0" t="0" r="r" b="b"/>
              <a:pathLst>
                <a:path w="905" h="257">
                  <a:moveTo>
                    <a:pt x="905" y="51"/>
                  </a:moveTo>
                  <a:lnTo>
                    <a:pt x="21" y="257"/>
                  </a:lnTo>
                  <a:lnTo>
                    <a:pt x="0" y="201"/>
                  </a:lnTo>
                  <a:lnTo>
                    <a:pt x="884" y="0"/>
                  </a:lnTo>
                  <a:lnTo>
                    <a:pt x="905" y="5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4640" y="4249800"/>
              <a:ext cx="325800" cy="82800"/>
            </a:xfrm>
            <a:custGeom>
              <a:avLst/>
              <a:gdLst/>
              <a:ahLst/>
              <a:rect l="0" t="0" r="r" b="b"/>
              <a:pathLst>
                <a:path w="905" h="230">
                  <a:moveTo>
                    <a:pt x="884" y="41"/>
                  </a:moveTo>
                  <a:lnTo>
                    <a:pt x="0" y="230"/>
                  </a:lnTo>
                  <a:lnTo>
                    <a:pt x="21" y="189"/>
                  </a:lnTo>
                  <a:lnTo>
                    <a:pt x="905" y="0"/>
                  </a:lnTo>
                  <a:lnTo>
                    <a:pt x="884" y="4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624640" y="4313160"/>
              <a:ext cx="325800" cy="86040"/>
            </a:xfrm>
            <a:custGeom>
              <a:avLst/>
              <a:gdLst/>
              <a:ahLst/>
              <a:rect l="0" t="0" r="r" b="b"/>
              <a:pathLst>
                <a:path w="905" h="239">
                  <a:moveTo>
                    <a:pt x="905" y="35"/>
                  </a:moveTo>
                  <a:lnTo>
                    <a:pt x="21" y="239"/>
                  </a:lnTo>
                  <a:lnTo>
                    <a:pt x="0" y="180"/>
                  </a:lnTo>
                  <a:lnTo>
                    <a:pt x="884" y="0"/>
                  </a:lnTo>
                  <a:lnTo>
                    <a:pt x="905" y="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624640" y="4286160"/>
              <a:ext cx="325800" cy="90720"/>
            </a:xfrm>
            <a:custGeom>
              <a:avLst/>
              <a:gdLst/>
              <a:ahLst/>
              <a:rect l="0" t="0" r="r" b="b"/>
              <a:pathLst>
                <a:path w="905" h="252">
                  <a:moveTo>
                    <a:pt x="884" y="45"/>
                  </a:moveTo>
                  <a:lnTo>
                    <a:pt x="0" y="252"/>
                  </a:lnTo>
                  <a:lnTo>
                    <a:pt x="21" y="206"/>
                  </a:lnTo>
                  <a:lnTo>
                    <a:pt x="905" y="0"/>
                  </a:lnTo>
                  <a:lnTo>
                    <a:pt x="884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624640" y="4351320"/>
              <a:ext cx="325800" cy="89280"/>
            </a:xfrm>
            <a:custGeom>
              <a:avLst/>
              <a:gdLst/>
              <a:ahLst/>
              <a:rect l="0" t="0" r="r" b="b"/>
              <a:pathLst>
                <a:path w="905" h="248">
                  <a:moveTo>
                    <a:pt x="905" y="41"/>
                  </a:moveTo>
                  <a:lnTo>
                    <a:pt x="21" y="248"/>
                  </a:lnTo>
                  <a:lnTo>
                    <a:pt x="0" y="194"/>
                  </a:lnTo>
                  <a:lnTo>
                    <a:pt x="884" y="0"/>
                  </a:lnTo>
                  <a:lnTo>
                    <a:pt x="905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624640" y="4334040"/>
              <a:ext cx="325800" cy="84600"/>
            </a:xfrm>
            <a:custGeom>
              <a:avLst/>
              <a:gdLst/>
              <a:ahLst/>
              <a:rect l="0" t="0" r="r" b="b"/>
              <a:pathLst>
                <a:path w="905" h="235">
                  <a:moveTo>
                    <a:pt x="884" y="35"/>
                  </a:moveTo>
                  <a:lnTo>
                    <a:pt x="0" y="235"/>
                  </a:lnTo>
                  <a:lnTo>
                    <a:pt x="21" y="195"/>
                  </a:lnTo>
                  <a:lnTo>
                    <a:pt x="905" y="0"/>
                  </a:lnTo>
                  <a:lnTo>
                    <a:pt x="884" y="3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88000" y="3776760"/>
              <a:ext cx="278280" cy="49680"/>
            </a:xfrm>
            <a:custGeom>
              <a:avLst/>
              <a:gdLst/>
              <a:ahLst/>
              <a:rect l="0" t="0" r="r" b="b"/>
              <a:pathLst>
                <a:path w="773" h="138">
                  <a:moveTo>
                    <a:pt x="731" y="0"/>
                  </a:moveTo>
                  <a:lnTo>
                    <a:pt x="773" y="53"/>
                  </a:lnTo>
                  <a:lnTo>
                    <a:pt x="35" y="138"/>
                  </a:lnTo>
                  <a:lnTo>
                    <a:pt x="0" y="8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688000" y="3803760"/>
              <a:ext cx="278280" cy="39960"/>
            </a:xfrm>
            <a:custGeom>
              <a:avLst/>
              <a:gdLst/>
              <a:ahLst/>
              <a:rect l="0" t="0" r="r" b="b"/>
              <a:pathLst>
                <a:path w="773" h="111">
                  <a:moveTo>
                    <a:pt x="773" y="0"/>
                  </a:moveTo>
                  <a:lnTo>
                    <a:pt x="731" y="34"/>
                  </a:lnTo>
                  <a:lnTo>
                    <a:pt x="0" y="111"/>
                  </a:lnTo>
                  <a:lnTo>
                    <a:pt x="35" y="77"/>
                  </a:lnTo>
                  <a:lnTo>
                    <a:pt x="77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672160" y="3819600"/>
              <a:ext cx="16200" cy="24120"/>
            </a:xfrm>
            <a:custGeom>
              <a:avLst/>
              <a:gdLst/>
              <a:ahLst/>
              <a:rect l="0" t="0" r="r" b="b"/>
              <a:pathLst>
                <a:path w="45" h="67">
                  <a:moveTo>
                    <a:pt x="45" y="0"/>
                  </a:moveTo>
                  <a:lnTo>
                    <a:pt x="0" y="35"/>
                  </a:lnTo>
                  <a:lnTo>
                    <a:pt x="45" y="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245200" y="4125960"/>
              <a:ext cx="733680" cy="165600"/>
            </a:xfrm>
            <a:custGeom>
              <a:avLst/>
              <a:gdLst/>
              <a:ahLst/>
              <a:rect l="0" t="0" r="r" b="b"/>
              <a:pathLst>
                <a:path fill="none" w="2038" h="460">
                  <a:moveTo>
                    <a:pt x="2038" y="224"/>
                  </a:moveTo>
                  <a:lnTo>
                    <a:pt x="1066" y="46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245200" y="3695760"/>
              <a:ext cx="733680" cy="133560"/>
            </a:xfrm>
            <a:custGeom>
              <a:avLst/>
              <a:gdLst/>
              <a:ahLst/>
              <a:rect l="0" t="0" r="r" b="b"/>
              <a:pathLst>
                <a:path fill="none" w="2038" h="371">
                  <a:moveTo>
                    <a:pt x="2038" y="225"/>
                  </a:moveTo>
                  <a:lnTo>
                    <a:pt x="1081" y="37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1266840" y="2492280"/>
            <a:ext cx="1003320" cy="1206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6554880" y="1685880"/>
            <a:ext cx="21319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 over SN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3462480" y="1432080"/>
            <a:ext cx="990720" cy="990720"/>
            <a:chOff x="3462480" y="1432080"/>
            <a:chExt cx="990720" cy="990720"/>
          </a:xfrm>
        </p:grpSpPr>
        <p:sp>
          <p:nvSpPr>
            <p:cNvPr id="730" name=""/>
            <p:cNvSpPr/>
            <p:nvPr/>
          </p:nvSpPr>
          <p:spPr>
            <a:xfrm>
              <a:off x="3462480" y="1432080"/>
              <a:ext cx="990720" cy="99072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33333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503520" y="1460520"/>
              <a:ext cx="382680" cy="88596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17920" y="1476360"/>
              <a:ext cx="36180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508200" y="1469880"/>
              <a:ext cx="366840" cy="131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517920" y="1476360"/>
              <a:ext cx="353880" cy="1252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517920" y="1630440"/>
              <a:ext cx="36180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08200" y="1623960"/>
              <a:ext cx="366840" cy="184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17920" y="1630440"/>
              <a:ext cx="353880" cy="1778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17920" y="1838160"/>
              <a:ext cx="361800" cy="18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08200" y="1832040"/>
              <a:ext cx="366840" cy="18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517920" y="1838160"/>
              <a:ext cx="353880" cy="1792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17920" y="2046240"/>
              <a:ext cx="36180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08200" y="2039760"/>
              <a:ext cx="366840" cy="281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517920" y="2046240"/>
              <a:ext cx="353880" cy="2746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29080" y="179712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29080" y="178452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29080" y="177156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29080" y="175896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529080" y="174636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529080" y="173340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529080" y="172080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3529080" y="1504800"/>
              <a:ext cx="155520" cy="76320"/>
              <a:chOff x="3529080" y="1504800"/>
              <a:chExt cx="155520" cy="76320"/>
            </a:xfrm>
          </p:grpSpPr>
          <p:sp>
            <p:nvSpPr>
              <p:cNvPr id="752" name=""/>
              <p:cNvSpPr/>
              <p:nvPr/>
            </p:nvSpPr>
            <p:spPr>
              <a:xfrm>
                <a:off x="3529080" y="158112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529080" y="156852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529080" y="155592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529080" y="154296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29080" y="153036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529080" y="151776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529080" y="150480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" name=""/>
            <p:cNvSpPr/>
            <p:nvPr/>
          </p:nvSpPr>
          <p:spPr>
            <a:xfrm>
              <a:off x="3529080" y="20048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529080" y="19922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529080" y="19796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529080" y="19670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529080" y="195408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529080" y="194148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29080" y="192888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529080" y="228600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529080" y="227340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529080" y="22604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529080" y="22478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29080" y="22352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529080" y="22226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529080" y="220968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26000" y="2065320"/>
              <a:ext cx="131760" cy="41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80808"/>
              </a:solidFill>
              <a:round/>
            </a:ln>
          </p:spPr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589200" y="1655640"/>
              <a:ext cx="268200" cy="41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80808"/>
              </a:solidFill>
              <a:round/>
            </a:ln>
          </p:spPr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54440" y="1488960"/>
              <a:ext cx="103320" cy="41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80808"/>
              </a:solidFill>
              <a:round/>
            </a:ln>
          </p:spPr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05280" y="1457280"/>
              <a:ext cx="60480" cy="185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8080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94240" y="1662120"/>
              <a:ext cx="49320" cy="6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94240" y="1662120"/>
              <a:ext cx="47520" cy="3240"/>
            </a:xfrm>
            <a:prstGeom prst="rect">
              <a:avLst/>
            </a:prstGeom>
            <a:solidFill>
              <a:srgbClr val="ea4563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3790800" y="2071800"/>
              <a:ext cx="6480" cy="6480"/>
              <a:chOff x="3790800" y="2071800"/>
              <a:chExt cx="6480" cy="6480"/>
            </a:xfrm>
          </p:grpSpPr>
          <p:sp>
            <p:nvSpPr>
              <p:cNvPr id="780" name=""/>
              <p:cNvSpPr/>
              <p:nvPr/>
            </p:nvSpPr>
            <p:spPr>
              <a:xfrm>
                <a:off x="3790800" y="2071800"/>
                <a:ext cx="648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790800" y="2071800"/>
                <a:ext cx="4680" cy="3240"/>
              </a:xfrm>
              <a:prstGeom prst="rect">
                <a:avLst/>
              </a:prstGeom>
              <a:solidFill>
                <a:srgbClr val="de1414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3594240" y="1681200"/>
              <a:ext cx="49320" cy="9360"/>
              <a:chOff x="3594240" y="1681200"/>
              <a:chExt cx="49320" cy="9360"/>
            </a:xfrm>
          </p:grpSpPr>
          <p:sp>
            <p:nvSpPr>
              <p:cNvPr id="783" name=""/>
              <p:cNvSpPr/>
              <p:nvPr/>
            </p:nvSpPr>
            <p:spPr>
              <a:xfrm>
                <a:off x="3594240" y="1681200"/>
                <a:ext cx="49320" cy="93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594240" y="1681200"/>
                <a:ext cx="46080" cy="6480"/>
              </a:xfrm>
              <a:prstGeom prst="rect">
                <a:avLst/>
              </a:prstGeom>
              <a:solidFill>
                <a:srgbClr val="006c61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3657600" y="1662120"/>
              <a:ext cx="11160" cy="6480"/>
              <a:chOff x="3657600" y="1662120"/>
              <a:chExt cx="11160" cy="6480"/>
            </a:xfrm>
          </p:grpSpPr>
          <p:sp>
            <p:nvSpPr>
              <p:cNvPr id="786" name=""/>
              <p:cNvSpPr/>
              <p:nvPr/>
            </p:nvSpPr>
            <p:spPr>
              <a:xfrm>
                <a:off x="3657600" y="166212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657600" y="1662120"/>
                <a:ext cx="9360" cy="3240"/>
              </a:xfrm>
              <a:prstGeom prst="rect">
                <a:avLst/>
              </a:prstGeom>
              <a:solidFill>
                <a:srgbClr val="de1414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"/>
            <p:cNvGrpSpPr/>
            <p:nvPr/>
          </p:nvGrpSpPr>
          <p:grpSpPr>
            <a:xfrm>
              <a:off x="3790800" y="2093760"/>
              <a:ext cx="6480" cy="6480"/>
              <a:chOff x="3790800" y="2093760"/>
              <a:chExt cx="6480" cy="6480"/>
            </a:xfrm>
          </p:grpSpPr>
          <p:sp>
            <p:nvSpPr>
              <p:cNvPr id="789" name=""/>
              <p:cNvSpPr/>
              <p:nvPr/>
            </p:nvSpPr>
            <p:spPr>
              <a:xfrm>
                <a:off x="3790800" y="2093760"/>
                <a:ext cx="648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90800" y="2093760"/>
                <a:ext cx="4680" cy="3240"/>
              </a:xfrm>
              <a:prstGeom prst="rect">
                <a:avLst/>
              </a:prstGeom>
              <a:solidFill>
                <a:srgbClr val="00b7a6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3657600" y="1684440"/>
              <a:ext cx="11160" cy="6480"/>
              <a:chOff x="3657600" y="1684440"/>
              <a:chExt cx="11160" cy="6480"/>
            </a:xfrm>
          </p:grpSpPr>
          <p:sp>
            <p:nvSpPr>
              <p:cNvPr id="792" name=""/>
              <p:cNvSpPr/>
              <p:nvPr/>
            </p:nvSpPr>
            <p:spPr>
              <a:xfrm>
                <a:off x="3657600" y="168444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57600" y="1684440"/>
                <a:ext cx="9360" cy="3240"/>
              </a:xfrm>
              <a:prstGeom prst="rect">
                <a:avLst/>
              </a:prstGeom>
              <a:solidFill>
                <a:srgbClr val="00b7a6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3741840" y="1662120"/>
              <a:ext cx="12600" cy="6480"/>
              <a:chOff x="3741840" y="1662120"/>
              <a:chExt cx="12600" cy="6480"/>
            </a:xfrm>
          </p:grpSpPr>
          <p:sp>
            <p:nvSpPr>
              <p:cNvPr id="795" name=""/>
              <p:cNvSpPr/>
              <p:nvPr/>
            </p:nvSpPr>
            <p:spPr>
              <a:xfrm>
                <a:off x="3741840" y="166212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741840" y="1662120"/>
                <a:ext cx="9360" cy="3240"/>
              </a:xfrm>
              <a:prstGeom prst="rect">
                <a:avLst/>
              </a:prstGeom>
              <a:solidFill>
                <a:srgbClr val="fbfe00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"/>
            <p:cNvGrpSpPr/>
            <p:nvPr/>
          </p:nvGrpSpPr>
          <p:grpSpPr>
            <a:xfrm>
              <a:off x="3741840" y="1684440"/>
              <a:ext cx="12600" cy="6480"/>
              <a:chOff x="3741840" y="1684440"/>
              <a:chExt cx="12600" cy="6480"/>
            </a:xfrm>
          </p:grpSpPr>
          <p:sp>
            <p:nvSpPr>
              <p:cNvPr id="798" name=""/>
              <p:cNvSpPr/>
              <p:nvPr/>
            </p:nvSpPr>
            <p:spPr>
              <a:xfrm>
                <a:off x="3741840" y="168444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741840" y="1684440"/>
                <a:ext cx="9360" cy="3240"/>
              </a:xfrm>
              <a:prstGeom prst="rect">
                <a:avLst/>
              </a:prstGeom>
              <a:solidFill>
                <a:srgbClr val="fbfe00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3770280" y="1662120"/>
              <a:ext cx="12600" cy="6480"/>
              <a:chOff x="3770280" y="1662120"/>
              <a:chExt cx="12600" cy="6480"/>
            </a:xfrm>
          </p:grpSpPr>
          <p:sp>
            <p:nvSpPr>
              <p:cNvPr id="801" name=""/>
              <p:cNvSpPr/>
              <p:nvPr/>
            </p:nvSpPr>
            <p:spPr>
              <a:xfrm>
                <a:off x="3770280" y="166212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770280" y="166212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3" name=""/>
            <p:cNvGrpSpPr/>
            <p:nvPr/>
          </p:nvGrpSpPr>
          <p:grpSpPr>
            <a:xfrm>
              <a:off x="3770280" y="1684440"/>
              <a:ext cx="12600" cy="6480"/>
              <a:chOff x="3770280" y="1684440"/>
              <a:chExt cx="12600" cy="6480"/>
            </a:xfrm>
          </p:grpSpPr>
          <p:sp>
            <p:nvSpPr>
              <p:cNvPr id="804" name=""/>
              <p:cNvSpPr/>
              <p:nvPr/>
            </p:nvSpPr>
            <p:spPr>
              <a:xfrm>
                <a:off x="3770280" y="168444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770280" y="168444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3798720" y="1495440"/>
              <a:ext cx="12600" cy="6480"/>
              <a:chOff x="3798720" y="1495440"/>
              <a:chExt cx="12600" cy="6480"/>
            </a:xfrm>
          </p:grpSpPr>
          <p:sp>
            <p:nvSpPr>
              <p:cNvPr id="807" name=""/>
              <p:cNvSpPr/>
              <p:nvPr/>
            </p:nvSpPr>
            <p:spPr>
              <a:xfrm>
                <a:off x="3798720" y="149544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798720" y="149544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9" name=""/>
            <p:cNvGrpSpPr/>
            <p:nvPr/>
          </p:nvGrpSpPr>
          <p:grpSpPr>
            <a:xfrm>
              <a:off x="3798720" y="1519200"/>
              <a:ext cx="12600" cy="4680"/>
              <a:chOff x="3798720" y="1519200"/>
              <a:chExt cx="12600" cy="4680"/>
            </a:xfrm>
          </p:grpSpPr>
          <p:sp>
            <p:nvSpPr>
              <p:cNvPr id="810" name=""/>
              <p:cNvSpPr/>
              <p:nvPr/>
            </p:nvSpPr>
            <p:spPr>
              <a:xfrm>
                <a:off x="3798720" y="1519200"/>
                <a:ext cx="12600" cy="4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798720" y="1519200"/>
                <a:ext cx="9360" cy="14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"/>
            <p:cNvGrpSpPr/>
            <p:nvPr/>
          </p:nvGrpSpPr>
          <p:grpSpPr>
            <a:xfrm>
              <a:off x="3714840" y="1662120"/>
              <a:ext cx="11160" cy="6480"/>
              <a:chOff x="3714840" y="1662120"/>
              <a:chExt cx="11160" cy="6480"/>
            </a:xfrm>
          </p:grpSpPr>
          <p:sp>
            <p:nvSpPr>
              <p:cNvPr id="813" name=""/>
              <p:cNvSpPr/>
              <p:nvPr/>
            </p:nvSpPr>
            <p:spPr>
              <a:xfrm>
                <a:off x="3714840" y="166212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14840" y="1662120"/>
                <a:ext cx="792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"/>
            <p:cNvGrpSpPr/>
            <p:nvPr/>
          </p:nvGrpSpPr>
          <p:grpSpPr>
            <a:xfrm>
              <a:off x="3714840" y="1684440"/>
              <a:ext cx="11160" cy="6480"/>
              <a:chOff x="3714840" y="1684440"/>
              <a:chExt cx="11160" cy="6480"/>
            </a:xfrm>
          </p:grpSpPr>
          <p:sp>
            <p:nvSpPr>
              <p:cNvPr id="816" name=""/>
              <p:cNvSpPr/>
              <p:nvPr/>
            </p:nvSpPr>
            <p:spPr>
              <a:xfrm>
                <a:off x="3714840" y="168444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14840" y="1684440"/>
                <a:ext cx="792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8" name=""/>
            <p:cNvSpPr/>
            <p:nvPr/>
          </p:nvSpPr>
          <p:spPr>
            <a:xfrm>
              <a:off x="3833640" y="1495440"/>
              <a:ext cx="11160" cy="255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838680" y="1492200"/>
              <a:ext cx="1440" cy="158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589200" y="1860480"/>
              <a:ext cx="268200" cy="41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594240" y="1866960"/>
              <a:ext cx="49320" cy="6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94240" y="1866960"/>
              <a:ext cx="47520" cy="3240"/>
            </a:xfrm>
            <a:prstGeom prst="rect">
              <a:avLst/>
            </a:prstGeom>
            <a:solidFill>
              <a:srgbClr val="ea4563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3594240" y="1886040"/>
              <a:ext cx="49320" cy="9360"/>
              <a:chOff x="3594240" y="1886040"/>
              <a:chExt cx="49320" cy="9360"/>
            </a:xfrm>
          </p:grpSpPr>
          <p:sp>
            <p:nvSpPr>
              <p:cNvPr id="824" name=""/>
              <p:cNvSpPr/>
              <p:nvPr/>
            </p:nvSpPr>
            <p:spPr>
              <a:xfrm>
                <a:off x="3594240" y="1886040"/>
                <a:ext cx="49320" cy="93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594240" y="1886040"/>
                <a:ext cx="46080" cy="4680"/>
              </a:xfrm>
              <a:prstGeom prst="rect">
                <a:avLst/>
              </a:prstGeom>
              <a:solidFill>
                <a:srgbClr val="006c61"/>
              </a:solidFill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3657600" y="1866960"/>
              <a:ext cx="11160" cy="6480"/>
              <a:chOff x="3657600" y="1866960"/>
              <a:chExt cx="11160" cy="6480"/>
            </a:xfrm>
          </p:grpSpPr>
          <p:sp>
            <p:nvSpPr>
              <p:cNvPr id="827" name=""/>
              <p:cNvSpPr/>
              <p:nvPr/>
            </p:nvSpPr>
            <p:spPr>
              <a:xfrm>
                <a:off x="3657600" y="186696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657600" y="1866960"/>
                <a:ext cx="9360" cy="3240"/>
              </a:xfrm>
              <a:prstGeom prst="rect">
                <a:avLst/>
              </a:prstGeom>
              <a:solidFill>
                <a:srgbClr val="de1414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9" name=""/>
            <p:cNvGrpSpPr/>
            <p:nvPr/>
          </p:nvGrpSpPr>
          <p:grpSpPr>
            <a:xfrm>
              <a:off x="3657600" y="1889280"/>
              <a:ext cx="11160" cy="6480"/>
              <a:chOff x="3657600" y="1889280"/>
              <a:chExt cx="11160" cy="6480"/>
            </a:xfrm>
          </p:grpSpPr>
          <p:sp>
            <p:nvSpPr>
              <p:cNvPr id="830" name=""/>
              <p:cNvSpPr/>
              <p:nvPr/>
            </p:nvSpPr>
            <p:spPr>
              <a:xfrm>
                <a:off x="3657600" y="188928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57600" y="1889280"/>
                <a:ext cx="9360" cy="3240"/>
              </a:xfrm>
              <a:prstGeom prst="rect">
                <a:avLst/>
              </a:prstGeom>
              <a:solidFill>
                <a:srgbClr val="00b7a6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3741840" y="1866960"/>
              <a:ext cx="12600" cy="6480"/>
              <a:chOff x="3741840" y="1866960"/>
              <a:chExt cx="12600" cy="6480"/>
            </a:xfrm>
          </p:grpSpPr>
          <p:sp>
            <p:nvSpPr>
              <p:cNvPr id="833" name=""/>
              <p:cNvSpPr/>
              <p:nvPr/>
            </p:nvSpPr>
            <p:spPr>
              <a:xfrm>
                <a:off x="3741840" y="186696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741840" y="1866960"/>
                <a:ext cx="9360" cy="3240"/>
              </a:xfrm>
              <a:prstGeom prst="rect">
                <a:avLst/>
              </a:prstGeom>
              <a:solidFill>
                <a:srgbClr val="fbfe00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3741840" y="1889280"/>
              <a:ext cx="12600" cy="6480"/>
              <a:chOff x="3741840" y="1889280"/>
              <a:chExt cx="12600" cy="6480"/>
            </a:xfrm>
          </p:grpSpPr>
          <p:sp>
            <p:nvSpPr>
              <p:cNvPr id="836" name=""/>
              <p:cNvSpPr/>
              <p:nvPr/>
            </p:nvSpPr>
            <p:spPr>
              <a:xfrm>
                <a:off x="3741840" y="188928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41840" y="1889280"/>
                <a:ext cx="9360" cy="3240"/>
              </a:xfrm>
              <a:prstGeom prst="rect">
                <a:avLst/>
              </a:prstGeom>
              <a:solidFill>
                <a:srgbClr val="fbfe00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3770280" y="1866960"/>
              <a:ext cx="12600" cy="6480"/>
              <a:chOff x="3770280" y="1866960"/>
              <a:chExt cx="12600" cy="6480"/>
            </a:xfrm>
          </p:grpSpPr>
          <p:sp>
            <p:nvSpPr>
              <p:cNvPr id="839" name=""/>
              <p:cNvSpPr/>
              <p:nvPr/>
            </p:nvSpPr>
            <p:spPr>
              <a:xfrm>
                <a:off x="3770280" y="186696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770280" y="186696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"/>
            <p:cNvGrpSpPr/>
            <p:nvPr/>
          </p:nvGrpSpPr>
          <p:grpSpPr>
            <a:xfrm>
              <a:off x="3770280" y="1889280"/>
              <a:ext cx="12600" cy="6480"/>
              <a:chOff x="3770280" y="1889280"/>
              <a:chExt cx="12600" cy="6480"/>
            </a:xfrm>
          </p:grpSpPr>
          <p:sp>
            <p:nvSpPr>
              <p:cNvPr id="842" name=""/>
              <p:cNvSpPr/>
              <p:nvPr/>
            </p:nvSpPr>
            <p:spPr>
              <a:xfrm>
                <a:off x="3770280" y="188928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70280" y="188928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3798720" y="1866960"/>
              <a:ext cx="12600" cy="6480"/>
              <a:chOff x="3798720" y="1866960"/>
              <a:chExt cx="12600" cy="6480"/>
            </a:xfrm>
          </p:grpSpPr>
          <p:sp>
            <p:nvSpPr>
              <p:cNvPr id="845" name=""/>
              <p:cNvSpPr/>
              <p:nvPr/>
            </p:nvSpPr>
            <p:spPr>
              <a:xfrm>
                <a:off x="3798720" y="186696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98720" y="186696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3798720" y="1889280"/>
              <a:ext cx="12600" cy="6480"/>
              <a:chOff x="3798720" y="1889280"/>
              <a:chExt cx="12600" cy="6480"/>
            </a:xfrm>
          </p:grpSpPr>
          <p:sp>
            <p:nvSpPr>
              <p:cNvPr id="848" name=""/>
              <p:cNvSpPr/>
              <p:nvPr/>
            </p:nvSpPr>
            <p:spPr>
              <a:xfrm>
                <a:off x="3798720" y="188928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798720" y="188928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0" name=""/>
            <p:cNvGrpSpPr/>
            <p:nvPr/>
          </p:nvGrpSpPr>
          <p:grpSpPr>
            <a:xfrm>
              <a:off x="3714840" y="1866960"/>
              <a:ext cx="11160" cy="6480"/>
              <a:chOff x="3714840" y="1866960"/>
              <a:chExt cx="11160" cy="6480"/>
            </a:xfrm>
          </p:grpSpPr>
          <p:sp>
            <p:nvSpPr>
              <p:cNvPr id="851" name=""/>
              <p:cNvSpPr/>
              <p:nvPr/>
            </p:nvSpPr>
            <p:spPr>
              <a:xfrm>
                <a:off x="3714840" y="186696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714840" y="1866960"/>
                <a:ext cx="792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"/>
            <p:cNvGrpSpPr/>
            <p:nvPr/>
          </p:nvGrpSpPr>
          <p:grpSpPr>
            <a:xfrm>
              <a:off x="3714840" y="1889280"/>
              <a:ext cx="11160" cy="6480"/>
              <a:chOff x="3714840" y="1889280"/>
              <a:chExt cx="11160" cy="6480"/>
            </a:xfrm>
          </p:grpSpPr>
          <p:sp>
            <p:nvSpPr>
              <p:cNvPr id="854" name=""/>
              <p:cNvSpPr/>
              <p:nvPr/>
            </p:nvSpPr>
            <p:spPr>
              <a:xfrm>
                <a:off x="3714840" y="188928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14840" y="1889280"/>
                <a:ext cx="792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3833640" y="1866960"/>
              <a:ext cx="11160" cy="255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38680" y="1863720"/>
              <a:ext cx="1440" cy="158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768840" y="1495440"/>
              <a:ext cx="11160" cy="6480"/>
              <a:chOff x="3768840" y="1495440"/>
              <a:chExt cx="11160" cy="6480"/>
            </a:xfrm>
          </p:grpSpPr>
          <p:sp>
            <p:nvSpPr>
              <p:cNvPr id="859" name=""/>
              <p:cNvSpPr/>
              <p:nvPr/>
            </p:nvSpPr>
            <p:spPr>
              <a:xfrm>
                <a:off x="3768840" y="149544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68840" y="1495440"/>
                <a:ext cx="7920" cy="3240"/>
              </a:xfrm>
              <a:prstGeom prst="rect">
                <a:avLst/>
              </a:prstGeom>
              <a:solidFill>
                <a:srgbClr val="de1414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3768840" y="1519200"/>
              <a:ext cx="11160" cy="4680"/>
              <a:chOff x="3768840" y="1519200"/>
              <a:chExt cx="11160" cy="4680"/>
            </a:xfrm>
          </p:grpSpPr>
          <p:sp>
            <p:nvSpPr>
              <p:cNvPr id="862" name=""/>
              <p:cNvSpPr/>
              <p:nvPr/>
            </p:nvSpPr>
            <p:spPr>
              <a:xfrm>
                <a:off x="3768840" y="1519200"/>
                <a:ext cx="11160" cy="4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768840" y="1519200"/>
                <a:ext cx="7920" cy="1440"/>
              </a:xfrm>
              <a:prstGeom prst="rect">
                <a:avLst/>
              </a:prstGeom>
              <a:solidFill>
                <a:srgbClr val="00b7a6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3833640" y="1662120"/>
              <a:ext cx="11160" cy="255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38680" y="1658880"/>
              <a:ext cx="1440" cy="158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33640" y="2071800"/>
              <a:ext cx="11160" cy="255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38680" y="2068560"/>
              <a:ext cx="1440" cy="158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8" name=""/>
            <p:cNvGrpSpPr/>
            <p:nvPr/>
          </p:nvGrpSpPr>
          <p:grpSpPr>
            <a:xfrm>
              <a:off x="3733920" y="2071800"/>
              <a:ext cx="12600" cy="6480"/>
              <a:chOff x="3733920" y="2071800"/>
              <a:chExt cx="12600" cy="6480"/>
            </a:xfrm>
          </p:grpSpPr>
          <p:sp>
            <p:nvSpPr>
              <p:cNvPr id="869" name=""/>
              <p:cNvSpPr/>
              <p:nvPr/>
            </p:nvSpPr>
            <p:spPr>
              <a:xfrm>
                <a:off x="3733920" y="207180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733920" y="207180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3733920" y="2093760"/>
              <a:ext cx="12600" cy="6480"/>
              <a:chOff x="3733920" y="2093760"/>
              <a:chExt cx="12600" cy="6480"/>
            </a:xfrm>
          </p:grpSpPr>
          <p:sp>
            <p:nvSpPr>
              <p:cNvPr id="872" name=""/>
              <p:cNvSpPr/>
              <p:nvPr/>
            </p:nvSpPr>
            <p:spPr>
              <a:xfrm>
                <a:off x="3733920" y="209376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733920" y="209376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4" name=""/>
            <p:cNvGrpSpPr/>
            <p:nvPr/>
          </p:nvGrpSpPr>
          <p:grpSpPr>
            <a:xfrm>
              <a:off x="3762360" y="2071800"/>
              <a:ext cx="12600" cy="6480"/>
              <a:chOff x="3762360" y="2071800"/>
              <a:chExt cx="12600" cy="6480"/>
            </a:xfrm>
          </p:grpSpPr>
          <p:sp>
            <p:nvSpPr>
              <p:cNvPr id="875" name=""/>
              <p:cNvSpPr/>
              <p:nvPr/>
            </p:nvSpPr>
            <p:spPr>
              <a:xfrm>
                <a:off x="3762360" y="207180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762360" y="207180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3762360" y="2093760"/>
              <a:ext cx="12600" cy="6480"/>
              <a:chOff x="3762360" y="2093760"/>
              <a:chExt cx="12600" cy="6480"/>
            </a:xfrm>
          </p:grpSpPr>
          <p:sp>
            <p:nvSpPr>
              <p:cNvPr id="878" name=""/>
              <p:cNvSpPr/>
              <p:nvPr/>
            </p:nvSpPr>
            <p:spPr>
              <a:xfrm>
                <a:off x="3762360" y="209376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762360" y="209376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0" name=""/>
            <p:cNvSpPr/>
            <p:nvPr/>
          </p:nvSpPr>
          <p:spPr>
            <a:xfrm>
              <a:off x="3944880" y="1473120"/>
              <a:ext cx="11160" cy="255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949560" y="1469880"/>
              <a:ext cx="1440" cy="158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3913200" y="1473120"/>
              <a:ext cx="12600" cy="6480"/>
              <a:chOff x="3913200" y="1473120"/>
              <a:chExt cx="12600" cy="6480"/>
            </a:xfrm>
          </p:grpSpPr>
          <p:sp>
            <p:nvSpPr>
              <p:cNvPr id="883" name=""/>
              <p:cNvSpPr/>
              <p:nvPr/>
            </p:nvSpPr>
            <p:spPr>
              <a:xfrm>
                <a:off x="3913200" y="147312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913200" y="147312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5" name=""/>
            <p:cNvGrpSpPr/>
            <p:nvPr/>
          </p:nvGrpSpPr>
          <p:grpSpPr>
            <a:xfrm>
              <a:off x="3913200" y="1495440"/>
              <a:ext cx="12600" cy="6480"/>
              <a:chOff x="3913200" y="1495440"/>
              <a:chExt cx="12600" cy="6480"/>
            </a:xfrm>
          </p:grpSpPr>
          <p:sp>
            <p:nvSpPr>
              <p:cNvPr id="886" name=""/>
              <p:cNvSpPr/>
              <p:nvPr/>
            </p:nvSpPr>
            <p:spPr>
              <a:xfrm>
                <a:off x="3913200" y="149544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913200" y="149544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3913200" y="1522440"/>
              <a:ext cx="12600" cy="4680"/>
              <a:chOff x="3913200" y="1522440"/>
              <a:chExt cx="12600" cy="4680"/>
            </a:xfrm>
          </p:grpSpPr>
          <p:sp>
            <p:nvSpPr>
              <p:cNvPr id="889" name=""/>
              <p:cNvSpPr/>
              <p:nvPr/>
            </p:nvSpPr>
            <p:spPr>
              <a:xfrm>
                <a:off x="3913200" y="1522440"/>
                <a:ext cx="12600" cy="4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913200" y="1522440"/>
                <a:ext cx="9360" cy="14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3913200" y="1544760"/>
              <a:ext cx="12600" cy="4680"/>
              <a:chOff x="3913200" y="1544760"/>
              <a:chExt cx="12600" cy="4680"/>
            </a:xfrm>
          </p:grpSpPr>
          <p:sp>
            <p:nvSpPr>
              <p:cNvPr id="892" name=""/>
              <p:cNvSpPr/>
              <p:nvPr/>
            </p:nvSpPr>
            <p:spPr>
              <a:xfrm>
                <a:off x="3913200" y="1544760"/>
                <a:ext cx="12600" cy="4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913200" y="154476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3916440" y="1620720"/>
              <a:ext cx="9360" cy="12600"/>
            </a:xfrm>
            <a:prstGeom prst="ellipse">
              <a:avLst/>
            </a:prstGeom>
            <a:solidFill>
              <a:srgbClr val="b760f9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913200" y="1617840"/>
              <a:ext cx="9360" cy="1260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60720" y="1460520"/>
              <a:ext cx="382680" cy="885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975120" y="1476360"/>
              <a:ext cx="361800" cy="135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965400" y="1469880"/>
              <a:ext cx="366840" cy="131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975120" y="1476360"/>
              <a:ext cx="353880" cy="1252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975120" y="1630440"/>
              <a:ext cx="361800" cy="18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965400" y="1623960"/>
              <a:ext cx="366840" cy="184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975120" y="1630440"/>
              <a:ext cx="353880" cy="1778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975120" y="1838160"/>
              <a:ext cx="361800" cy="189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965400" y="1832040"/>
              <a:ext cx="366840" cy="1857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75120" y="1838160"/>
              <a:ext cx="353880" cy="1792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975120" y="2046240"/>
              <a:ext cx="361800" cy="287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65400" y="2039760"/>
              <a:ext cx="366840" cy="281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975120" y="2046240"/>
              <a:ext cx="353880" cy="2746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986280" y="179712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986280" y="178452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986280" y="177156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986280" y="175896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86280" y="174636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986280" y="173340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86280" y="172080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3986280" y="1504800"/>
              <a:ext cx="155520" cy="76320"/>
              <a:chOff x="3986280" y="1504800"/>
              <a:chExt cx="155520" cy="76320"/>
            </a:xfrm>
          </p:grpSpPr>
          <p:sp>
            <p:nvSpPr>
              <p:cNvPr id="917" name=""/>
              <p:cNvSpPr/>
              <p:nvPr/>
            </p:nvSpPr>
            <p:spPr>
              <a:xfrm>
                <a:off x="3986280" y="158112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86280" y="156852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986280" y="155592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986280" y="154296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986280" y="153036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986280" y="151776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986280" y="1504800"/>
                <a:ext cx="15552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"/>
            <p:cNvSpPr/>
            <p:nvPr/>
          </p:nvSpPr>
          <p:spPr>
            <a:xfrm>
              <a:off x="3986280" y="20048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986280" y="19922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986280" y="19796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986280" y="19670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986280" y="195408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86280" y="194148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986280" y="192888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986280" y="228600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986280" y="227340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986280" y="22604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986280" y="22478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986280" y="22352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986280" y="222264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986280" y="2209680"/>
              <a:ext cx="338040" cy="0"/>
            </a:xfrm>
            <a:prstGeom prst="line">
              <a:avLst/>
            </a:prstGeom>
            <a:ln w="12600">
              <a:solidFill>
                <a:srgbClr val="08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183200" y="2065320"/>
              <a:ext cx="131760" cy="41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80808"/>
              </a:solidFill>
              <a:round/>
            </a:ln>
          </p:spPr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46400" y="1655640"/>
              <a:ext cx="268200" cy="41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80808"/>
              </a:solidFill>
              <a:round/>
            </a:ln>
          </p:spPr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211640" y="1488960"/>
              <a:ext cx="103320" cy="41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80808"/>
              </a:solidFill>
              <a:round/>
            </a:ln>
          </p:spPr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62480" y="1457280"/>
              <a:ext cx="60480" cy="18576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080808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1440" y="1662120"/>
              <a:ext cx="49320" cy="6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51440" y="1662120"/>
              <a:ext cx="47520" cy="3240"/>
            </a:xfrm>
            <a:prstGeom prst="rect">
              <a:avLst/>
            </a:prstGeom>
            <a:solidFill>
              <a:srgbClr val="ea4563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4" name=""/>
            <p:cNvGrpSpPr/>
            <p:nvPr/>
          </p:nvGrpSpPr>
          <p:grpSpPr>
            <a:xfrm>
              <a:off x="4248000" y="2071800"/>
              <a:ext cx="6480" cy="6480"/>
              <a:chOff x="4248000" y="2071800"/>
              <a:chExt cx="6480" cy="6480"/>
            </a:xfrm>
          </p:grpSpPr>
          <p:sp>
            <p:nvSpPr>
              <p:cNvPr id="945" name=""/>
              <p:cNvSpPr/>
              <p:nvPr/>
            </p:nvSpPr>
            <p:spPr>
              <a:xfrm>
                <a:off x="4248000" y="2071800"/>
                <a:ext cx="648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248000" y="2071800"/>
                <a:ext cx="4680" cy="3240"/>
              </a:xfrm>
              <a:prstGeom prst="rect">
                <a:avLst/>
              </a:prstGeom>
              <a:solidFill>
                <a:srgbClr val="de1414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4051440" y="1681200"/>
              <a:ext cx="49320" cy="9360"/>
              <a:chOff x="4051440" y="1681200"/>
              <a:chExt cx="49320" cy="9360"/>
            </a:xfrm>
          </p:grpSpPr>
          <p:sp>
            <p:nvSpPr>
              <p:cNvPr id="948" name=""/>
              <p:cNvSpPr/>
              <p:nvPr/>
            </p:nvSpPr>
            <p:spPr>
              <a:xfrm>
                <a:off x="4051440" y="1681200"/>
                <a:ext cx="49320" cy="93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051440" y="1681200"/>
                <a:ext cx="46080" cy="6480"/>
              </a:xfrm>
              <a:prstGeom prst="rect">
                <a:avLst/>
              </a:prstGeom>
              <a:solidFill>
                <a:srgbClr val="006c61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4114800" y="1662120"/>
              <a:ext cx="11160" cy="6480"/>
              <a:chOff x="4114800" y="1662120"/>
              <a:chExt cx="11160" cy="6480"/>
            </a:xfrm>
          </p:grpSpPr>
          <p:sp>
            <p:nvSpPr>
              <p:cNvPr id="951" name=""/>
              <p:cNvSpPr/>
              <p:nvPr/>
            </p:nvSpPr>
            <p:spPr>
              <a:xfrm>
                <a:off x="4114800" y="166212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4114800" y="1662120"/>
                <a:ext cx="9360" cy="3240"/>
              </a:xfrm>
              <a:prstGeom prst="rect">
                <a:avLst/>
              </a:prstGeom>
              <a:solidFill>
                <a:srgbClr val="de1414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4248000" y="2093760"/>
              <a:ext cx="6480" cy="6480"/>
              <a:chOff x="4248000" y="2093760"/>
              <a:chExt cx="6480" cy="6480"/>
            </a:xfrm>
          </p:grpSpPr>
          <p:sp>
            <p:nvSpPr>
              <p:cNvPr id="954" name=""/>
              <p:cNvSpPr/>
              <p:nvPr/>
            </p:nvSpPr>
            <p:spPr>
              <a:xfrm>
                <a:off x="4248000" y="2093760"/>
                <a:ext cx="648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248000" y="2093760"/>
                <a:ext cx="4680" cy="3240"/>
              </a:xfrm>
              <a:prstGeom prst="rect">
                <a:avLst/>
              </a:prstGeom>
              <a:solidFill>
                <a:srgbClr val="00b7a6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4114800" y="1684440"/>
              <a:ext cx="11160" cy="6480"/>
              <a:chOff x="4114800" y="1684440"/>
              <a:chExt cx="11160" cy="6480"/>
            </a:xfrm>
          </p:grpSpPr>
          <p:sp>
            <p:nvSpPr>
              <p:cNvPr id="957" name=""/>
              <p:cNvSpPr/>
              <p:nvPr/>
            </p:nvSpPr>
            <p:spPr>
              <a:xfrm>
                <a:off x="4114800" y="168444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14800" y="1684440"/>
                <a:ext cx="9360" cy="3240"/>
              </a:xfrm>
              <a:prstGeom prst="rect">
                <a:avLst/>
              </a:prstGeom>
              <a:solidFill>
                <a:srgbClr val="00b7a6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4199040" y="1662120"/>
              <a:ext cx="12600" cy="6480"/>
              <a:chOff x="4199040" y="1662120"/>
              <a:chExt cx="12600" cy="6480"/>
            </a:xfrm>
          </p:grpSpPr>
          <p:sp>
            <p:nvSpPr>
              <p:cNvPr id="960" name=""/>
              <p:cNvSpPr/>
              <p:nvPr/>
            </p:nvSpPr>
            <p:spPr>
              <a:xfrm>
                <a:off x="4199040" y="166212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199040" y="1662120"/>
                <a:ext cx="9360" cy="3240"/>
              </a:xfrm>
              <a:prstGeom prst="rect">
                <a:avLst/>
              </a:prstGeom>
              <a:solidFill>
                <a:srgbClr val="fbfe00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4199040" y="1684440"/>
              <a:ext cx="12600" cy="6480"/>
              <a:chOff x="4199040" y="1684440"/>
              <a:chExt cx="12600" cy="6480"/>
            </a:xfrm>
          </p:grpSpPr>
          <p:sp>
            <p:nvSpPr>
              <p:cNvPr id="963" name=""/>
              <p:cNvSpPr/>
              <p:nvPr/>
            </p:nvSpPr>
            <p:spPr>
              <a:xfrm>
                <a:off x="4199040" y="168444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199040" y="1684440"/>
                <a:ext cx="9360" cy="3240"/>
              </a:xfrm>
              <a:prstGeom prst="rect">
                <a:avLst/>
              </a:prstGeom>
              <a:solidFill>
                <a:srgbClr val="fbfe00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5" name=""/>
            <p:cNvGrpSpPr/>
            <p:nvPr/>
          </p:nvGrpSpPr>
          <p:grpSpPr>
            <a:xfrm>
              <a:off x="4227480" y="1662120"/>
              <a:ext cx="12600" cy="6480"/>
              <a:chOff x="4227480" y="1662120"/>
              <a:chExt cx="12600" cy="6480"/>
            </a:xfrm>
          </p:grpSpPr>
          <p:sp>
            <p:nvSpPr>
              <p:cNvPr id="966" name=""/>
              <p:cNvSpPr/>
              <p:nvPr/>
            </p:nvSpPr>
            <p:spPr>
              <a:xfrm>
                <a:off x="4227480" y="166212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227480" y="166212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8" name=""/>
            <p:cNvGrpSpPr/>
            <p:nvPr/>
          </p:nvGrpSpPr>
          <p:grpSpPr>
            <a:xfrm>
              <a:off x="4227480" y="1684440"/>
              <a:ext cx="12600" cy="6480"/>
              <a:chOff x="4227480" y="1684440"/>
              <a:chExt cx="12600" cy="6480"/>
            </a:xfrm>
          </p:grpSpPr>
          <p:sp>
            <p:nvSpPr>
              <p:cNvPr id="969" name=""/>
              <p:cNvSpPr/>
              <p:nvPr/>
            </p:nvSpPr>
            <p:spPr>
              <a:xfrm>
                <a:off x="4227480" y="168444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227480" y="168444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"/>
            <p:cNvGrpSpPr/>
            <p:nvPr/>
          </p:nvGrpSpPr>
          <p:grpSpPr>
            <a:xfrm>
              <a:off x="4255920" y="1495440"/>
              <a:ext cx="12600" cy="6480"/>
              <a:chOff x="4255920" y="1495440"/>
              <a:chExt cx="12600" cy="6480"/>
            </a:xfrm>
          </p:grpSpPr>
          <p:sp>
            <p:nvSpPr>
              <p:cNvPr id="972" name=""/>
              <p:cNvSpPr/>
              <p:nvPr/>
            </p:nvSpPr>
            <p:spPr>
              <a:xfrm>
                <a:off x="4255920" y="149544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255920" y="149544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4255920" y="1519200"/>
              <a:ext cx="12600" cy="4680"/>
              <a:chOff x="4255920" y="1519200"/>
              <a:chExt cx="12600" cy="4680"/>
            </a:xfrm>
          </p:grpSpPr>
          <p:sp>
            <p:nvSpPr>
              <p:cNvPr id="975" name=""/>
              <p:cNvSpPr/>
              <p:nvPr/>
            </p:nvSpPr>
            <p:spPr>
              <a:xfrm>
                <a:off x="4255920" y="1519200"/>
                <a:ext cx="12600" cy="4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255920" y="1519200"/>
                <a:ext cx="9360" cy="14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"/>
            <p:cNvGrpSpPr/>
            <p:nvPr/>
          </p:nvGrpSpPr>
          <p:grpSpPr>
            <a:xfrm>
              <a:off x="4172040" y="1662120"/>
              <a:ext cx="11160" cy="6480"/>
              <a:chOff x="4172040" y="1662120"/>
              <a:chExt cx="11160" cy="6480"/>
            </a:xfrm>
          </p:grpSpPr>
          <p:sp>
            <p:nvSpPr>
              <p:cNvPr id="978" name=""/>
              <p:cNvSpPr/>
              <p:nvPr/>
            </p:nvSpPr>
            <p:spPr>
              <a:xfrm>
                <a:off x="4172040" y="166212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172040" y="1662120"/>
                <a:ext cx="792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0" name=""/>
            <p:cNvGrpSpPr/>
            <p:nvPr/>
          </p:nvGrpSpPr>
          <p:grpSpPr>
            <a:xfrm>
              <a:off x="4172040" y="1684440"/>
              <a:ext cx="11160" cy="6480"/>
              <a:chOff x="4172040" y="1684440"/>
              <a:chExt cx="11160" cy="6480"/>
            </a:xfrm>
          </p:grpSpPr>
          <p:sp>
            <p:nvSpPr>
              <p:cNvPr id="981" name=""/>
              <p:cNvSpPr/>
              <p:nvPr/>
            </p:nvSpPr>
            <p:spPr>
              <a:xfrm>
                <a:off x="4172040" y="168444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172040" y="1684440"/>
                <a:ext cx="792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4290840" y="1495440"/>
              <a:ext cx="11160" cy="255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95880" y="1492200"/>
              <a:ext cx="1440" cy="158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046400" y="1860480"/>
              <a:ext cx="268200" cy="4140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051440" y="1866960"/>
              <a:ext cx="49320" cy="6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051440" y="1866960"/>
              <a:ext cx="47520" cy="3240"/>
            </a:xfrm>
            <a:prstGeom prst="rect">
              <a:avLst/>
            </a:prstGeom>
            <a:solidFill>
              <a:srgbClr val="ea4563"/>
            </a:solidFill>
            <a:ln w="0">
              <a:noFill/>
            </a:ln>
          </p:spPr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4051440" y="1886040"/>
              <a:ext cx="49320" cy="9360"/>
              <a:chOff x="4051440" y="1886040"/>
              <a:chExt cx="49320" cy="9360"/>
            </a:xfrm>
          </p:grpSpPr>
          <p:sp>
            <p:nvSpPr>
              <p:cNvPr id="989" name=""/>
              <p:cNvSpPr/>
              <p:nvPr/>
            </p:nvSpPr>
            <p:spPr>
              <a:xfrm>
                <a:off x="4051440" y="1886040"/>
                <a:ext cx="49320" cy="93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051440" y="1886040"/>
                <a:ext cx="46080" cy="4680"/>
              </a:xfrm>
              <a:prstGeom prst="rect">
                <a:avLst/>
              </a:prstGeom>
              <a:solidFill>
                <a:srgbClr val="006c61"/>
              </a:solidFill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4114800" y="1866960"/>
              <a:ext cx="11160" cy="6480"/>
              <a:chOff x="4114800" y="1866960"/>
              <a:chExt cx="11160" cy="6480"/>
            </a:xfrm>
          </p:grpSpPr>
          <p:sp>
            <p:nvSpPr>
              <p:cNvPr id="992" name=""/>
              <p:cNvSpPr/>
              <p:nvPr/>
            </p:nvSpPr>
            <p:spPr>
              <a:xfrm>
                <a:off x="4114800" y="186696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114800" y="1866960"/>
                <a:ext cx="9360" cy="3240"/>
              </a:xfrm>
              <a:prstGeom prst="rect">
                <a:avLst/>
              </a:prstGeom>
              <a:solidFill>
                <a:srgbClr val="de1414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4114800" y="1889280"/>
              <a:ext cx="11160" cy="6480"/>
              <a:chOff x="4114800" y="1889280"/>
              <a:chExt cx="11160" cy="6480"/>
            </a:xfrm>
          </p:grpSpPr>
          <p:sp>
            <p:nvSpPr>
              <p:cNvPr id="995" name=""/>
              <p:cNvSpPr/>
              <p:nvPr/>
            </p:nvSpPr>
            <p:spPr>
              <a:xfrm>
                <a:off x="4114800" y="188928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114800" y="1889280"/>
                <a:ext cx="9360" cy="3240"/>
              </a:xfrm>
              <a:prstGeom prst="rect">
                <a:avLst/>
              </a:prstGeom>
              <a:solidFill>
                <a:srgbClr val="00b7a6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4199040" y="1866960"/>
              <a:ext cx="12600" cy="6480"/>
              <a:chOff x="4199040" y="1866960"/>
              <a:chExt cx="12600" cy="6480"/>
            </a:xfrm>
          </p:grpSpPr>
          <p:sp>
            <p:nvSpPr>
              <p:cNvPr id="998" name=""/>
              <p:cNvSpPr/>
              <p:nvPr/>
            </p:nvSpPr>
            <p:spPr>
              <a:xfrm>
                <a:off x="4199040" y="186696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199040" y="1866960"/>
                <a:ext cx="9360" cy="3240"/>
              </a:xfrm>
              <a:prstGeom prst="rect">
                <a:avLst/>
              </a:prstGeom>
              <a:solidFill>
                <a:srgbClr val="fbfe00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4199040" y="1889280"/>
              <a:ext cx="12600" cy="6480"/>
              <a:chOff x="4199040" y="1889280"/>
              <a:chExt cx="12600" cy="6480"/>
            </a:xfrm>
          </p:grpSpPr>
          <p:sp>
            <p:nvSpPr>
              <p:cNvPr id="1001" name=""/>
              <p:cNvSpPr/>
              <p:nvPr/>
            </p:nvSpPr>
            <p:spPr>
              <a:xfrm>
                <a:off x="4199040" y="188928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199040" y="1889280"/>
                <a:ext cx="9360" cy="3240"/>
              </a:xfrm>
              <a:prstGeom prst="rect">
                <a:avLst/>
              </a:prstGeom>
              <a:solidFill>
                <a:srgbClr val="fbfe00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4227480" y="1866960"/>
              <a:ext cx="12600" cy="6480"/>
              <a:chOff x="4227480" y="1866960"/>
              <a:chExt cx="12600" cy="6480"/>
            </a:xfrm>
          </p:grpSpPr>
          <p:sp>
            <p:nvSpPr>
              <p:cNvPr id="1004" name=""/>
              <p:cNvSpPr/>
              <p:nvPr/>
            </p:nvSpPr>
            <p:spPr>
              <a:xfrm>
                <a:off x="4227480" y="186696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227480" y="186696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4227480" y="1889280"/>
              <a:ext cx="12600" cy="6480"/>
              <a:chOff x="4227480" y="1889280"/>
              <a:chExt cx="12600" cy="6480"/>
            </a:xfrm>
          </p:grpSpPr>
          <p:sp>
            <p:nvSpPr>
              <p:cNvPr id="1007" name=""/>
              <p:cNvSpPr/>
              <p:nvPr/>
            </p:nvSpPr>
            <p:spPr>
              <a:xfrm>
                <a:off x="4227480" y="188928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227480" y="188928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4255920" y="1866960"/>
              <a:ext cx="12600" cy="6480"/>
              <a:chOff x="4255920" y="1866960"/>
              <a:chExt cx="12600" cy="6480"/>
            </a:xfrm>
          </p:grpSpPr>
          <p:sp>
            <p:nvSpPr>
              <p:cNvPr id="1010" name=""/>
              <p:cNvSpPr/>
              <p:nvPr/>
            </p:nvSpPr>
            <p:spPr>
              <a:xfrm>
                <a:off x="4255920" y="186696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255920" y="186696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4255920" y="1889280"/>
              <a:ext cx="12600" cy="6480"/>
              <a:chOff x="4255920" y="1889280"/>
              <a:chExt cx="12600" cy="6480"/>
            </a:xfrm>
          </p:grpSpPr>
          <p:sp>
            <p:nvSpPr>
              <p:cNvPr id="1013" name=""/>
              <p:cNvSpPr/>
              <p:nvPr/>
            </p:nvSpPr>
            <p:spPr>
              <a:xfrm>
                <a:off x="4255920" y="188928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255920" y="188928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4172040" y="1866960"/>
              <a:ext cx="11160" cy="6480"/>
              <a:chOff x="4172040" y="1866960"/>
              <a:chExt cx="11160" cy="6480"/>
            </a:xfrm>
          </p:grpSpPr>
          <p:sp>
            <p:nvSpPr>
              <p:cNvPr id="1016" name=""/>
              <p:cNvSpPr/>
              <p:nvPr/>
            </p:nvSpPr>
            <p:spPr>
              <a:xfrm>
                <a:off x="4172040" y="186696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172040" y="1866960"/>
                <a:ext cx="792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4172040" y="1889280"/>
              <a:ext cx="11160" cy="6480"/>
              <a:chOff x="4172040" y="1889280"/>
              <a:chExt cx="11160" cy="6480"/>
            </a:xfrm>
          </p:grpSpPr>
          <p:sp>
            <p:nvSpPr>
              <p:cNvPr id="1019" name=""/>
              <p:cNvSpPr/>
              <p:nvPr/>
            </p:nvSpPr>
            <p:spPr>
              <a:xfrm>
                <a:off x="4172040" y="188928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172040" y="1889280"/>
                <a:ext cx="792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1" name=""/>
            <p:cNvSpPr/>
            <p:nvPr/>
          </p:nvSpPr>
          <p:spPr>
            <a:xfrm>
              <a:off x="4290840" y="1866960"/>
              <a:ext cx="11160" cy="255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95880" y="1863720"/>
              <a:ext cx="1440" cy="158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4226040" y="1495440"/>
              <a:ext cx="11160" cy="6480"/>
              <a:chOff x="4226040" y="1495440"/>
              <a:chExt cx="11160" cy="6480"/>
            </a:xfrm>
          </p:grpSpPr>
          <p:sp>
            <p:nvSpPr>
              <p:cNvPr id="1024" name=""/>
              <p:cNvSpPr/>
              <p:nvPr/>
            </p:nvSpPr>
            <p:spPr>
              <a:xfrm>
                <a:off x="4226040" y="1495440"/>
                <a:ext cx="1116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26040" y="1495440"/>
                <a:ext cx="7920" cy="3240"/>
              </a:xfrm>
              <a:prstGeom prst="rect">
                <a:avLst/>
              </a:prstGeom>
              <a:solidFill>
                <a:srgbClr val="de1414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4226040" y="1519200"/>
              <a:ext cx="11160" cy="4680"/>
              <a:chOff x="4226040" y="1519200"/>
              <a:chExt cx="11160" cy="4680"/>
            </a:xfrm>
          </p:grpSpPr>
          <p:sp>
            <p:nvSpPr>
              <p:cNvPr id="1027" name=""/>
              <p:cNvSpPr/>
              <p:nvPr/>
            </p:nvSpPr>
            <p:spPr>
              <a:xfrm>
                <a:off x="4226040" y="1519200"/>
                <a:ext cx="11160" cy="4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226040" y="1519200"/>
                <a:ext cx="7920" cy="1440"/>
              </a:xfrm>
              <a:prstGeom prst="rect">
                <a:avLst/>
              </a:prstGeom>
              <a:solidFill>
                <a:srgbClr val="00b7a6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4290840" y="1662120"/>
              <a:ext cx="11160" cy="255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295880" y="1658880"/>
              <a:ext cx="1440" cy="158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290840" y="2071800"/>
              <a:ext cx="11160" cy="255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295880" y="2068560"/>
              <a:ext cx="1440" cy="158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4191120" y="2071800"/>
              <a:ext cx="12600" cy="6480"/>
              <a:chOff x="4191120" y="2071800"/>
              <a:chExt cx="12600" cy="6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4191120" y="207180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191120" y="207180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4191120" y="2093760"/>
              <a:ext cx="12600" cy="6480"/>
              <a:chOff x="4191120" y="2093760"/>
              <a:chExt cx="12600" cy="6480"/>
            </a:xfrm>
          </p:grpSpPr>
          <p:sp>
            <p:nvSpPr>
              <p:cNvPr id="1037" name=""/>
              <p:cNvSpPr/>
              <p:nvPr/>
            </p:nvSpPr>
            <p:spPr>
              <a:xfrm>
                <a:off x="4191120" y="209376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191120" y="209376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4219560" y="2071800"/>
              <a:ext cx="12600" cy="6480"/>
              <a:chOff x="4219560" y="2071800"/>
              <a:chExt cx="12600" cy="6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4219560" y="207180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219560" y="207180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4219560" y="2093760"/>
              <a:ext cx="12600" cy="6480"/>
              <a:chOff x="4219560" y="2093760"/>
              <a:chExt cx="12600" cy="6480"/>
            </a:xfrm>
          </p:grpSpPr>
          <p:sp>
            <p:nvSpPr>
              <p:cNvPr id="1043" name=""/>
              <p:cNvSpPr/>
              <p:nvPr/>
            </p:nvSpPr>
            <p:spPr>
              <a:xfrm>
                <a:off x="4219560" y="209376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219560" y="209376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4402080" y="1473120"/>
              <a:ext cx="11160" cy="25560"/>
            </a:xfrm>
            <a:prstGeom prst="rect">
              <a:avLst/>
            </a:prstGeom>
            <a:solidFill>
              <a:srgbClr val="676767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406760" y="1469880"/>
              <a:ext cx="1440" cy="15840"/>
            </a:xfrm>
            <a:prstGeom prst="rect">
              <a:avLst/>
            </a:prstGeom>
            <a:solidFill>
              <a:srgbClr val="fc0128"/>
            </a:solidFill>
            <a:ln w="0">
              <a:noFill/>
            </a:ln>
          </p:spPr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4370400" y="1473120"/>
              <a:ext cx="12600" cy="6480"/>
              <a:chOff x="4370400" y="1473120"/>
              <a:chExt cx="12600" cy="6480"/>
            </a:xfrm>
          </p:grpSpPr>
          <p:sp>
            <p:nvSpPr>
              <p:cNvPr id="1048" name=""/>
              <p:cNvSpPr/>
              <p:nvPr/>
            </p:nvSpPr>
            <p:spPr>
              <a:xfrm>
                <a:off x="4370400" y="147312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370400" y="147312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"/>
            <p:cNvGrpSpPr/>
            <p:nvPr/>
          </p:nvGrpSpPr>
          <p:grpSpPr>
            <a:xfrm>
              <a:off x="4370400" y="1495440"/>
              <a:ext cx="12600" cy="6480"/>
              <a:chOff x="4370400" y="1495440"/>
              <a:chExt cx="12600" cy="6480"/>
            </a:xfrm>
          </p:grpSpPr>
          <p:sp>
            <p:nvSpPr>
              <p:cNvPr id="1051" name=""/>
              <p:cNvSpPr/>
              <p:nvPr/>
            </p:nvSpPr>
            <p:spPr>
              <a:xfrm>
                <a:off x="4370400" y="1495440"/>
                <a:ext cx="1260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370400" y="149544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"/>
            <p:cNvGrpSpPr/>
            <p:nvPr/>
          </p:nvGrpSpPr>
          <p:grpSpPr>
            <a:xfrm>
              <a:off x="4370400" y="1522440"/>
              <a:ext cx="12600" cy="4680"/>
              <a:chOff x="4370400" y="1522440"/>
              <a:chExt cx="12600" cy="4680"/>
            </a:xfrm>
          </p:grpSpPr>
          <p:sp>
            <p:nvSpPr>
              <p:cNvPr id="1054" name=""/>
              <p:cNvSpPr/>
              <p:nvPr/>
            </p:nvSpPr>
            <p:spPr>
              <a:xfrm>
                <a:off x="4370400" y="1522440"/>
                <a:ext cx="12600" cy="4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370400" y="1522440"/>
                <a:ext cx="9360" cy="14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370400" y="1544760"/>
              <a:ext cx="12600" cy="4680"/>
              <a:chOff x="4370400" y="1544760"/>
              <a:chExt cx="12600" cy="4680"/>
            </a:xfrm>
          </p:grpSpPr>
          <p:sp>
            <p:nvSpPr>
              <p:cNvPr id="1057" name=""/>
              <p:cNvSpPr/>
              <p:nvPr/>
            </p:nvSpPr>
            <p:spPr>
              <a:xfrm>
                <a:off x="4370400" y="1544760"/>
                <a:ext cx="12600" cy="46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370400" y="1544760"/>
                <a:ext cx="9360" cy="32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4373640" y="1620720"/>
              <a:ext cx="9360" cy="12600"/>
            </a:xfrm>
            <a:prstGeom prst="ellipse">
              <a:avLst/>
            </a:prstGeom>
            <a:solidFill>
              <a:srgbClr val="b760f9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370400" y="1617840"/>
              <a:ext cx="9360" cy="12600"/>
            </a:xfrm>
            <a:prstGeom prst="ellipse">
              <a:avLst/>
            </a:prstGeom>
            <a:solidFill>
              <a:srgbClr val="eaeaea"/>
            </a:solidFill>
            <a:ln w="0">
              <a:noFill/>
            </a:ln>
          </p:spPr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2394000" y="3432240"/>
            <a:ext cx="733680" cy="973440"/>
            <a:chOff x="2394000" y="3432240"/>
            <a:chExt cx="733680" cy="973440"/>
          </a:xfrm>
        </p:grpSpPr>
        <p:sp>
          <p:nvSpPr>
            <p:cNvPr id="1062" name=""/>
            <p:cNvSpPr/>
            <p:nvPr/>
          </p:nvSpPr>
          <p:spPr>
            <a:xfrm>
              <a:off x="2782800" y="3538440"/>
              <a:ext cx="316440" cy="867240"/>
            </a:xfrm>
            <a:custGeom>
              <a:avLst/>
              <a:gdLst/>
              <a:ahLst/>
              <a:rect l="0" t="0" r="r" b="b"/>
              <a:pathLst>
                <a:path w="879" h="2409">
                  <a:moveTo>
                    <a:pt x="879" y="0"/>
                  </a:moveTo>
                  <a:lnTo>
                    <a:pt x="879" y="2147"/>
                  </a:lnTo>
                  <a:lnTo>
                    <a:pt x="0" y="2409"/>
                  </a:lnTo>
                  <a:lnTo>
                    <a:pt x="0" y="93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394000" y="3432240"/>
              <a:ext cx="705240" cy="124200"/>
            </a:xfrm>
            <a:custGeom>
              <a:avLst/>
              <a:gdLst/>
              <a:ahLst/>
              <a:rect l="0" t="0" r="r" b="b"/>
              <a:pathLst>
                <a:path w="1959" h="345">
                  <a:moveTo>
                    <a:pt x="1959" y="257"/>
                  </a:moveTo>
                  <a:lnTo>
                    <a:pt x="912" y="0"/>
                  </a:lnTo>
                  <a:lnTo>
                    <a:pt x="0" y="82"/>
                  </a:lnTo>
                  <a:lnTo>
                    <a:pt x="1039" y="345"/>
                  </a:lnTo>
                  <a:lnTo>
                    <a:pt x="1959" y="25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394000" y="3467160"/>
              <a:ext cx="362160" cy="938520"/>
            </a:xfrm>
            <a:custGeom>
              <a:avLst/>
              <a:gdLst/>
              <a:ahLst/>
              <a:rect l="0" t="0" r="r" b="b"/>
              <a:pathLst>
                <a:path w="1006" h="2607">
                  <a:moveTo>
                    <a:pt x="1006" y="289"/>
                  </a:moveTo>
                  <a:lnTo>
                    <a:pt x="0" y="0"/>
                  </a:lnTo>
                  <a:lnTo>
                    <a:pt x="0" y="2148"/>
                  </a:lnTo>
                  <a:lnTo>
                    <a:pt x="1006" y="2607"/>
                  </a:lnTo>
                  <a:lnTo>
                    <a:pt x="1006" y="289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811600" y="393552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729" y="0"/>
                  </a:moveTo>
                  <a:lnTo>
                    <a:pt x="729" y="328"/>
                  </a:lnTo>
                  <a:lnTo>
                    <a:pt x="0" y="477"/>
                  </a:lnTo>
                  <a:lnTo>
                    <a:pt x="0" y="13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11600" y="3743280"/>
              <a:ext cx="262440" cy="168480"/>
            </a:xfrm>
            <a:custGeom>
              <a:avLst/>
              <a:gdLst/>
              <a:ahLst/>
              <a:rect l="0" t="0" r="r" b="b"/>
              <a:pathLst>
                <a:path w="729" h="468">
                  <a:moveTo>
                    <a:pt x="729" y="0"/>
                  </a:moveTo>
                  <a:lnTo>
                    <a:pt x="729" y="330"/>
                  </a:lnTo>
                  <a:lnTo>
                    <a:pt x="0" y="468"/>
                  </a:lnTo>
                  <a:lnTo>
                    <a:pt x="0" y="10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11600" y="3878280"/>
              <a:ext cx="275040" cy="47880"/>
            </a:xfrm>
            <a:custGeom>
              <a:avLst/>
              <a:gdLst/>
              <a:ahLst/>
              <a:rect l="0" t="0" r="r" b="b"/>
              <a:pathLst>
                <a:path w="764" h="133">
                  <a:moveTo>
                    <a:pt x="764" y="19"/>
                  </a:moveTo>
                  <a:lnTo>
                    <a:pt x="729" y="0"/>
                  </a:lnTo>
                  <a:lnTo>
                    <a:pt x="0" y="106"/>
                  </a:lnTo>
                  <a:lnTo>
                    <a:pt x="0" y="133"/>
                  </a:lnTo>
                  <a:lnTo>
                    <a:pt x="764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836800" y="3886200"/>
              <a:ext cx="278280" cy="60840"/>
            </a:xfrm>
            <a:custGeom>
              <a:avLst/>
              <a:gdLst/>
              <a:ahLst/>
              <a:rect l="0" t="0" r="r" b="b"/>
              <a:pathLst>
                <a:path w="773" h="169">
                  <a:moveTo>
                    <a:pt x="731" y="0"/>
                  </a:moveTo>
                  <a:lnTo>
                    <a:pt x="773" y="54"/>
                  </a:lnTo>
                  <a:lnTo>
                    <a:pt x="35" y="169"/>
                  </a:lnTo>
                  <a:lnTo>
                    <a:pt x="0" y="11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36800" y="3911760"/>
              <a:ext cx="278280" cy="54360"/>
            </a:xfrm>
            <a:custGeom>
              <a:avLst/>
              <a:gdLst/>
              <a:ahLst/>
              <a:rect l="0" t="0" r="r" b="b"/>
              <a:pathLst>
                <a:path w="773" h="151">
                  <a:moveTo>
                    <a:pt x="773" y="0"/>
                  </a:moveTo>
                  <a:lnTo>
                    <a:pt x="731" y="33"/>
                  </a:lnTo>
                  <a:lnTo>
                    <a:pt x="0" y="151"/>
                  </a:lnTo>
                  <a:lnTo>
                    <a:pt x="35" y="114"/>
                  </a:lnTo>
                  <a:lnTo>
                    <a:pt x="77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20960" y="3938760"/>
              <a:ext cx="16200" cy="27360"/>
            </a:xfrm>
            <a:custGeom>
              <a:avLst/>
              <a:gdLst/>
              <a:ahLst/>
              <a:rect l="0" t="0" r="r" b="b"/>
              <a:pathLst>
                <a:path w="45" h="76">
                  <a:moveTo>
                    <a:pt x="45" y="0"/>
                  </a:moveTo>
                  <a:lnTo>
                    <a:pt x="0" y="40"/>
                  </a:lnTo>
                  <a:lnTo>
                    <a:pt x="45" y="7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811600" y="4070520"/>
              <a:ext cx="275040" cy="52920"/>
            </a:xfrm>
            <a:custGeom>
              <a:avLst/>
              <a:gdLst/>
              <a:ahLst/>
              <a:rect l="0" t="0" r="r" b="b"/>
              <a:pathLst>
                <a:path w="764" h="147">
                  <a:moveTo>
                    <a:pt x="729" y="0"/>
                  </a:moveTo>
                  <a:lnTo>
                    <a:pt x="764" y="20"/>
                  </a:lnTo>
                  <a:lnTo>
                    <a:pt x="0" y="147"/>
                  </a:lnTo>
                  <a:lnTo>
                    <a:pt x="0" y="118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2873520" y="3600360"/>
              <a:ext cx="135360" cy="41760"/>
            </a:xfrm>
            <a:custGeom>
              <a:avLst/>
              <a:gdLst/>
              <a:ahLst/>
              <a:rect l="0" t="0" r="r" b="b"/>
              <a:pathLst>
                <a:path w="376" h="116">
                  <a:moveTo>
                    <a:pt x="376" y="0"/>
                  </a:moveTo>
                  <a:lnTo>
                    <a:pt x="338" y="37"/>
                  </a:lnTo>
                  <a:lnTo>
                    <a:pt x="376" y="74"/>
                  </a:lnTo>
                  <a:lnTo>
                    <a:pt x="0" y="116"/>
                  </a:lnTo>
                  <a:lnTo>
                    <a:pt x="0" y="34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811600" y="3603600"/>
              <a:ext cx="275040" cy="36720"/>
            </a:xfrm>
            <a:custGeom>
              <a:avLst/>
              <a:gdLst/>
              <a:ahLst/>
              <a:rect l="0" t="0" r="r" b="b"/>
              <a:pathLst>
                <a:path w="764" h="102">
                  <a:moveTo>
                    <a:pt x="764" y="0"/>
                  </a:moveTo>
                  <a:lnTo>
                    <a:pt x="0" y="76"/>
                  </a:lnTo>
                  <a:lnTo>
                    <a:pt x="0" y="102"/>
                  </a:lnTo>
                  <a:lnTo>
                    <a:pt x="764" y="22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819520" y="3610080"/>
              <a:ext cx="254520" cy="25920"/>
            </a:xfrm>
            <a:custGeom>
              <a:avLst/>
              <a:gdLst/>
              <a:ahLst/>
              <a:rect l="0" t="0" r="r" b="b"/>
              <a:pathLst>
                <a:path w="707" h="72">
                  <a:moveTo>
                    <a:pt x="707" y="0"/>
                  </a:moveTo>
                  <a:lnTo>
                    <a:pt x="0" y="60"/>
                  </a:lnTo>
                  <a:lnTo>
                    <a:pt x="0" y="72"/>
                  </a:lnTo>
                  <a:lnTo>
                    <a:pt x="707" y="6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622600" y="4327560"/>
              <a:ext cx="9720" cy="39960"/>
            </a:xfrm>
            <a:custGeom>
              <a:avLst/>
              <a:gdLst/>
              <a:ahLst/>
              <a:rect l="0" t="0" r="r" b="b"/>
              <a:pathLst>
                <a:path w="27" h="111">
                  <a:moveTo>
                    <a:pt x="27" y="81"/>
                  </a:moveTo>
                  <a:lnTo>
                    <a:pt x="0" y="111"/>
                  </a:lnTo>
                  <a:lnTo>
                    <a:pt x="27" y="0"/>
                  </a:lnTo>
                  <a:lnTo>
                    <a:pt x="27" y="8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570040" y="43070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173" y="36"/>
                  </a:moveTo>
                  <a:lnTo>
                    <a:pt x="105" y="169"/>
                  </a:lnTo>
                  <a:lnTo>
                    <a:pt x="0" y="115"/>
                  </a:lnTo>
                  <a:lnTo>
                    <a:pt x="63" y="0"/>
                  </a:lnTo>
                  <a:lnTo>
                    <a:pt x="173" y="3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465280" y="4259160"/>
              <a:ext cx="8280" cy="36720"/>
            </a:xfrm>
            <a:custGeom>
              <a:avLst/>
              <a:gdLst/>
              <a:ahLst/>
              <a:rect l="0" t="0" r="r" b="b"/>
              <a:pathLst>
                <a:path w="23" h="102">
                  <a:moveTo>
                    <a:pt x="23" y="77"/>
                  </a:moveTo>
                  <a:lnTo>
                    <a:pt x="0" y="102"/>
                  </a:lnTo>
                  <a:lnTo>
                    <a:pt x="23" y="0"/>
                  </a:lnTo>
                  <a:lnTo>
                    <a:pt x="23" y="7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417760" y="4243320"/>
              <a:ext cx="55800" cy="52920"/>
            </a:xfrm>
            <a:custGeom>
              <a:avLst/>
              <a:gdLst/>
              <a:ahLst/>
              <a:rect l="0" t="0" r="r" b="b"/>
              <a:pathLst>
                <a:path w="155" h="147">
                  <a:moveTo>
                    <a:pt x="155" y="32"/>
                  </a:moveTo>
                  <a:lnTo>
                    <a:pt x="88" y="147"/>
                  </a:lnTo>
                  <a:lnTo>
                    <a:pt x="0" y="98"/>
                  </a:lnTo>
                  <a:lnTo>
                    <a:pt x="56" y="0"/>
                  </a:lnTo>
                  <a:lnTo>
                    <a:pt x="155" y="3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2773440" y="4143240"/>
              <a:ext cx="325800" cy="86040"/>
            </a:xfrm>
            <a:custGeom>
              <a:avLst/>
              <a:gdLst/>
              <a:ahLst/>
              <a:rect l="0" t="0" r="r" b="b"/>
              <a:pathLst>
                <a:path w="905" h="239">
                  <a:moveTo>
                    <a:pt x="905" y="44"/>
                  </a:moveTo>
                  <a:lnTo>
                    <a:pt x="21" y="239"/>
                  </a:lnTo>
                  <a:lnTo>
                    <a:pt x="0" y="180"/>
                  </a:lnTo>
                  <a:lnTo>
                    <a:pt x="884" y="0"/>
                  </a:lnTo>
                  <a:lnTo>
                    <a:pt x="905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773440" y="4122720"/>
              <a:ext cx="325800" cy="82800"/>
            </a:xfrm>
            <a:custGeom>
              <a:avLst/>
              <a:gdLst/>
              <a:ahLst/>
              <a:rect l="0" t="0" r="r" b="b"/>
              <a:pathLst>
                <a:path w="905" h="230">
                  <a:moveTo>
                    <a:pt x="884" y="44"/>
                  </a:moveTo>
                  <a:lnTo>
                    <a:pt x="0" y="230"/>
                  </a:lnTo>
                  <a:lnTo>
                    <a:pt x="21" y="186"/>
                  </a:lnTo>
                  <a:lnTo>
                    <a:pt x="905" y="0"/>
                  </a:lnTo>
                  <a:lnTo>
                    <a:pt x="884" y="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773440" y="4183200"/>
              <a:ext cx="325800" cy="92520"/>
            </a:xfrm>
            <a:custGeom>
              <a:avLst/>
              <a:gdLst/>
              <a:ahLst/>
              <a:rect l="0" t="0" r="r" b="b"/>
              <a:pathLst>
                <a:path w="905" h="257">
                  <a:moveTo>
                    <a:pt x="905" y="51"/>
                  </a:moveTo>
                  <a:lnTo>
                    <a:pt x="21" y="257"/>
                  </a:lnTo>
                  <a:lnTo>
                    <a:pt x="0" y="201"/>
                  </a:lnTo>
                  <a:lnTo>
                    <a:pt x="884" y="0"/>
                  </a:lnTo>
                  <a:lnTo>
                    <a:pt x="905" y="5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73440" y="4164120"/>
              <a:ext cx="325800" cy="82800"/>
            </a:xfrm>
            <a:custGeom>
              <a:avLst/>
              <a:gdLst/>
              <a:ahLst/>
              <a:rect l="0" t="0" r="r" b="b"/>
              <a:pathLst>
                <a:path w="905" h="230">
                  <a:moveTo>
                    <a:pt x="884" y="41"/>
                  </a:moveTo>
                  <a:lnTo>
                    <a:pt x="0" y="230"/>
                  </a:lnTo>
                  <a:lnTo>
                    <a:pt x="21" y="189"/>
                  </a:lnTo>
                  <a:lnTo>
                    <a:pt x="905" y="0"/>
                  </a:lnTo>
                  <a:lnTo>
                    <a:pt x="884" y="4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773440" y="4227480"/>
              <a:ext cx="325800" cy="86040"/>
            </a:xfrm>
            <a:custGeom>
              <a:avLst/>
              <a:gdLst/>
              <a:ahLst/>
              <a:rect l="0" t="0" r="r" b="b"/>
              <a:pathLst>
                <a:path w="905" h="239">
                  <a:moveTo>
                    <a:pt x="905" y="35"/>
                  </a:moveTo>
                  <a:lnTo>
                    <a:pt x="21" y="239"/>
                  </a:lnTo>
                  <a:lnTo>
                    <a:pt x="0" y="180"/>
                  </a:lnTo>
                  <a:lnTo>
                    <a:pt x="884" y="0"/>
                  </a:lnTo>
                  <a:lnTo>
                    <a:pt x="905" y="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4200480"/>
              <a:ext cx="325800" cy="90720"/>
            </a:xfrm>
            <a:custGeom>
              <a:avLst/>
              <a:gdLst/>
              <a:ahLst/>
              <a:rect l="0" t="0" r="r" b="b"/>
              <a:pathLst>
                <a:path w="905" h="252">
                  <a:moveTo>
                    <a:pt x="884" y="45"/>
                  </a:moveTo>
                  <a:lnTo>
                    <a:pt x="0" y="252"/>
                  </a:lnTo>
                  <a:lnTo>
                    <a:pt x="21" y="206"/>
                  </a:lnTo>
                  <a:lnTo>
                    <a:pt x="905" y="0"/>
                  </a:lnTo>
                  <a:lnTo>
                    <a:pt x="884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773440" y="4265640"/>
              <a:ext cx="325800" cy="89280"/>
            </a:xfrm>
            <a:custGeom>
              <a:avLst/>
              <a:gdLst/>
              <a:ahLst/>
              <a:rect l="0" t="0" r="r" b="b"/>
              <a:pathLst>
                <a:path w="905" h="248">
                  <a:moveTo>
                    <a:pt x="905" y="41"/>
                  </a:moveTo>
                  <a:lnTo>
                    <a:pt x="21" y="248"/>
                  </a:lnTo>
                  <a:lnTo>
                    <a:pt x="0" y="194"/>
                  </a:lnTo>
                  <a:lnTo>
                    <a:pt x="884" y="0"/>
                  </a:lnTo>
                  <a:lnTo>
                    <a:pt x="905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773440" y="4248000"/>
              <a:ext cx="325800" cy="84600"/>
            </a:xfrm>
            <a:custGeom>
              <a:avLst/>
              <a:gdLst/>
              <a:ahLst/>
              <a:rect l="0" t="0" r="r" b="b"/>
              <a:pathLst>
                <a:path w="905" h="235">
                  <a:moveTo>
                    <a:pt x="884" y="35"/>
                  </a:moveTo>
                  <a:lnTo>
                    <a:pt x="0" y="235"/>
                  </a:lnTo>
                  <a:lnTo>
                    <a:pt x="21" y="195"/>
                  </a:lnTo>
                  <a:lnTo>
                    <a:pt x="905" y="0"/>
                  </a:lnTo>
                  <a:lnTo>
                    <a:pt x="884" y="3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3691080"/>
              <a:ext cx="278280" cy="49680"/>
            </a:xfrm>
            <a:custGeom>
              <a:avLst/>
              <a:gdLst/>
              <a:ahLst/>
              <a:rect l="0" t="0" r="r" b="b"/>
              <a:pathLst>
                <a:path w="773" h="138">
                  <a:moveTo>
                    <a:pt x="731" y="0"/>
                  </a:moveTo>
                  <a:lnTo>
                    <a:pt x="773" y="53"/>
                  </a:lnTo>
                  <a:lnTo>
                    <a:pt x="35" y="138"/>
                  </a:lnTo>
                  <a:lnTo>
                    <a:pt x="0" y="8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36800" y="3718080"/>
              <a:ext cx="278280" cy="39960"/>
            </a:xfrm>
            <a:custGeom>
              <a:avLst/>
              <a:gdLst/>
              <a:ahLst/>
              <a:rect l="0" t="0" r="r" b="b"/>
              <a:pathLst>
                <a:path w="773" h="111">
                  <a:moveTo>
                    <a:pt x="773" y="0"/>
                  </a:moveTo>
                  <a:lnTo>
                    <a:pt x="731" y="34"/>
                  </a:lnTo>
                  <a:lnTo>
                    <a:pt x="0" y="111"/>
                  </a:lnTo>
                  <a:lnTo>
                    <a:pt x="35" y="77"/>
                  </a:lnTo>
                  <a:lnTo>
                    <a:pt x="77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20960" y="3733920"/>
              <a:ext cx="16200" cy="24120"/>
            </a:xfrm>
            <a:custGeom>
              <a:avLst/>
              <a:gdLst/>
              <a:ahLst/>
              <a:rect l="0" t="0" r="r" b="b"/>
              <a:pathLst>
                <a:path w="45" h="67">
                  <a:moveTo>
                    <a:pt x="45" y="0"/>
                  </a:moveTo>
                  <a:lnTo>
                    <a:pt x="0" y="35"/>
                  </a:lnTo>
                  <a:lnTo>
                    <a:pt x="45" y="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394000" y="4040280"/>
              <a:ext cx="733680" cy="165600"/>
            </a:xfrm>
            <a:custGeom>
              <a:avLst/>
              <a:gdLst/>
              <a:ahLst/>
              <a:rect l="0" t="0" r="r" b="b"/>
              <a:pathLst>
                <a:path fill="none" w="2038" h="460">
                  <a:moveTo>
                    <a:pt x="2038" y="224"/>
                  </a:moveTo>
                  <a:lnTo>
                    <a:pt x="1066" y="46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394000" y="3610080"/>
              <a:ext cx="733680" cy="133560"/>
            </a:xfrm>
            <a:custGeom>
              <a:avLst/>
              <a:gdLst/>
              <a:ahLst/>
              <a:rect l="0" t="0" r="r" b="b"/>
              <a:pathLst>
                <a:path fill="none" w="2038" h="371">
                  <a:moveTo>
                    <a:pt x="2038" y="225"/>
                  </a:moveTo>
                  <a:lnTo>
                    <a:pt x="1081" y="37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"/>
          <p:cNvGrpSpPr/>
          <p:nvPr/>
        </p:nvGrpSpPr>
        <p:grpSpPr>
          <a:xfrm>
            <a:off x="6507000" y="4952880"/>
            <a:ext cx="733680" cy="973800"/>
            <a:chOff x="6507000" y="4952880"/>
            <a:chExt cx="733680" cy="973800"/>
          </a:xfrm>
        </p:grpSpPr>
        <p:sp>
          <p:nvSpPr>
            <p:cNvPr id="1093" name=""/>
            <p:cNvSpPr/>
            <p:nvPr/>
          </p:nvSpPr>
          <p:spPr>
            <a:xfrm>
              <a:off x="6896160" y="5059440"/>
              <a:ext cx="316440" cy="867240"/>
            </a:xfrm>
            <a:custGeom>
              <a:avLst/>
              <a:gdLst/>
              <a:ahLst/>
              <a:rect l="0" t="0" r="r" b="b"/>
              <a:pathLst>
                <a:path w="879" h="2409">
                  <a:moveTo>
                    <a:pt x="879" y="0"/>
                  </a:moveTo>
                  <a:lnTo>
                    <a:pt x="879" y="2147"/>
                  </a:lnTo>
                  <a:lnTo>
                    <a:pt x="0" y="2409"/>
                  </a:lnTo>
                  <a:lnTo>
                    <a:pt x="0" y="93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507000" y="4952880"/>
              <a:ext cx="705240" cy="124200"/>
            </a:xfrm>
            <a:custGeom>
              <a:avLst/>
              <a:gdLst/>
              <a:ahLst/>
              <a:rect l="0" t="0" r="r" b="b"/>
              <a:pathLst>
                <a:path w="1959" h="345">
                  <a:moveTo>
                    <a:pt x="1959" y="257"/>
                  </a:moveTo>
                  <a:lnTo>
                    <a:pt x="912" y="0"/>
                  </a:lnTo>
                  <a:lnTo>
                    <a:pt x="0" y="82"/>
                  </a:lnTo>
                  <a:lnTo>
                    <a:pt x="1039" y="345"/>
                  </a:lnTo>
                  <a:lnTo>
                    <a:pt x="1959" y="25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507000" y="4987800"/>
              <a:ext cx="362160" cy="938520"/>
            </a:xfrm>
            <a:custGeom>
              <a:avLst/>
              <a:gdLst/>
              <a:ahLst/>
              <a:rect l="0" t="0" r="r" b="b"/>
              <a:pathLst>
                <a:path w="1006" h="2607">
                  <a:moveTo>
                    <a:pt x="1006" y="289"/>
                  </a:moveTo>
                  <a:lnTo>
                    <a:pt x="0" y="0"/>
                  </a:lnTo>
                  <a:lnTo>
                    <a:pt x="0" y="2148"/>
                  </a:lnTo>
                  <a:lnTo>
                    <a:pt x="1006" y="2607"/>
                  </a:lnTo>
                  <a:lnTo>
                    <a:pt x="1006" y="289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924600" y="545616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729" y="0"/>
                  </a:moveTo>
                  <a:lnTo>
                    <a:pt x="729" y="328"/>
                  </a:lnTo>
                  <a:lnTo>
                    <a:pt x="0" y="477"/>
                  </a:lnTo>
                  <a:lnTo>
                    <a:pt x="0" y="13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924600" y="5264280"/>
              <a:ext cx="262440" cy="168480"/>
            </a:xfrm>
            <a:custGeom>
              <a:avLst/>
              <a:gdLst/>
              <a:ahLst/>
              <a:rect l="0" t="0" r="r" b="b"/>
              <a:pathLst>
                <a:path w="729" h="468">
                  <a:moveTo>
                    <a:pt x="729" y="0"/>
                  </a:moveTo>
                  <a:lnTo>
                    <a:pt x="729" y="330"/>
                  </a:lnTo>
                  <a:lnTo>
                    <a:pt x="0" y="468"/>
                  </a:lnTo>
                  <a:lnTo>
                    <a:pt x="0" y="10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24600" y="5398920"/>
              <a:ext cx="275040" cy="47880"/>
            </a:xfrm>
            <a:custGeom>
              <a:avLst/>
              <a:gdLst/>
              <a:ahLst/>
              <a:rect l="0" t="0" r="r" b="b"/>
              <a:pathLst>
                <a:path w="764" h="133">
                  <a:moveTo>
                    <a:pt x="764" y="19"/>
                  </a:moveTo>
                  <a:lnTo>
                    <a:pt x="729" y="0"/>
                  </a:lnTo>
                  <a:lnTo>
                    <a:pt x="0" y="106"/>
                  </a:lnTo>
                  <a:lnTo>
                    <a:pt x="0" y="133"/>
                  </a:lnTo>
                  <a:lnTo>
                    <a:pt x="764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950160" y="5407200"/>
              <a:ext cx="278280" cy="60840"/>
            </a:xfrm>
            <a:custGeom>
              <a:avLst/>
              <a:gdLst/>
              <a:ahLst/>
              <a:rect l="0" t="0" r="r" b="b"/>
              <a:pathLst>
                <a:path w="773" h="169">
                  <a:moveTo>
                    <a:pt x="731" y="0"/>
                  </a:moveTo>
                  <a:lnTo>
                    <a:pt x="773" y="54"/>
                  </a:lnTo>
                  <a:lnTo>
                    <a:pt x="35" y="169"/>
                  </a:lnTo>
                  <a:lnTo>
                    <a:pt x="0" y="11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950160" y="5432400"/>
              <a:ext cx="278280" cy="54360"/>
            </a:xfrm>
            <a:custGeom>
              <a:avLst/>
              <a:gdLst/>
              <a:ahLst/>
              <a:rect l="0" t="0" r="r" b="b"/>
              <a:pathLst>
                <a:path w="773" h="151">
                  <a:moveTo>
                    <a:pt x="773" y="0"/>
                  </a:moveTo>
                  <a:lnTo>
                    <a:pt x="731" y="33"/>
                  </a:lnTo>
                  <a:lnTo>
                    <a:pt x="0" y="151"/>
                  </a:lnTo>
                  <a:lnTo>
                    <a:pt x="35" y="114"/>
                  </a:lnTo>
                  <a:lnTo>
                    <a:pt x="77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934320" y="5459400"/>
              <a:ext cx="16200" cy="27360"/>
            </a:xfrm>
            <a:custGeom>
              <a:avLst/>
              <a:gdLst/>
              <a:ahLst/>
              <a:rect l="0" t="0" r="r" b="b"/>
              <a:pathLst>
                <a:path w="45" h="76">
                  <a:moveTo>
                    <a:pt x="45" y="0"/>
                  </a:moveTo>
                  <a:lnTo>
                    <a:pt x="0" y="40"/>
                  </a:lnTo>
                  <a:lnTo>
                    <a:pt x="45" y="7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924600" y="5591160"/>
              <a:ext cx="275040" cy="52920"/>
            </a:xfrm>
            <a:custGeom>
              <a:avLst/>
              <a:gdLst/>
              <a:ahLst/>
              <a:rect l="0" t="0" r="r" b="b"/>
              <a:pathLst>
                <a:path w="764" h="147">
                  <a:moveTo>
                    <a:pt x="729" y="0"/>
                  </a:moveTo>
                  <a:lnTo>
                    <a:pt x="764" y="20"/>
                  </a:lnTo>
                  <a:lnTo>
                    <a:pt x="0" y="147"/>
                  </a:lnTo>
                  <a:lnTo>
                    <a:pt x="0" y="118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986520" y="5121360"/>
              <a:ext cx="135360" cy="41760"/>
            </a:xfrm>
            <a:custGeom>
              <a:avLst/>
              <a:gdLst/>
              <a:ahLst/>
              <a:rect l="0" t="0" r="r" b="b"/>
              <a:pathLst>
                <a:path w="376" h="116">
                  <a:moveTo>
                    <a:pt x="376" y="0"/>
                  </a:moveTo>
                  <a:lnTo>
                    <a:pt x="338" y="37"/>
                  </a:lnTo>
                  <a:lnTo>
                    <a:pt x="376" y="74"/>
                  </a:lnTo>
                  <a:lnTo>
                    <a:pt x="0" y="116"/>
                  </a:lnTo>
                  <a:lnTo>
                    <a:pt x="0" y="34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924600" y="5124600"/>
              <a:ext cx="275040" cy="36720"/>
            </a:xfrm>
            <a:custGeom>
              <a:avLst/>
              <a:gdLst/>
              <a:ahLst/>
              <a:rect l="0" t="0" r="r" b="b"/>
              <a:pathLst>
                <a:path w="764" h="102">
                  <a:moveTo>
                    <a:pt x="764" y="0"/>
                  </a:moveTo>
                  <a:lnTo>
                    <a:pt x="0" y="76"/>
                  </a:lnTo>
                  <a:lnTo>
                    <a:pt x="0" y="102"/>
                  </a:lnTo>
                  <a:lnTo>
                    <a:pt x="764" y="22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932520" y="5130720"/>
              <a:ext cx="254520" cy="25920"/>
            </a:xfrm>
            <a:custGeom>
              <a:avLst/>
              <a:gdLst/>
              <a:ahLst/>
              <a:rect l="0" t="0" r="r" b="b"/>
              <a:pathLst>
                <a:path w="707" h="72">
                  <a:moveTo>
                    <a:pt x="707" y="0"/>
                  </a:moveTo>
                  <a:lnTo>
                    <a:pt x="0" y="60"/>
                  </a:lnTo>
                  <a:lnTo>
                    <a:pt x="0" y="72"/>
                  </a:lnTo>
                  <a:lnTo>
                    <a:pt x="707" y="6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735600" y="5848200"/>
              <a:ext cx="9720" cy="39960"/>
            </a:xfrm>
            <a:custGeom>
              <a:avLst/>
              <a:gdLst/>
              <a:ahLst/>
              <a:rect l="0" t="0" r="r" b="b"/>
              <a:pathLst>
                <a:path w="27" h="111">
                  <a:moveTo>
                    <a:pt x="27" y="81"/>
                  </a:moveTo>
                  <a:lnTo>
                    <a:pt x="0" y="111"/>
                  </a:lnTo>
                  <a:lnTo>
                    <a:pt x="27" y="0"/>
                  </a:lnTo>
                  <a:lnTo>
                    <a:pt x="27" y="8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683400" y="582768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173" y="36"/>
                  </a:moveTo>
                  <a:lnTo>
                    <a:pt x="105" y="169"/>
                  </a:lnTo>
                  <a:lnTo>
                    <a:pt x="0" y="115"/>
                  </a:lnTo>
                  <a:lnTo>
                    <a:pt x="63" y="0"/>
                  </a:lnTo>
                  <a:lnTo>
                    <a:pt x="173" y="3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578640" y="5780160"/>
              <a:ext cx="8280" cy="36720"/>
            </a:xfrm>
            <a:custGeom>
              <a:avLst/>
              <a:gdLst/>
              <a:ahLst/>
              <a:rect l="0" t="0" r="r" b="b"/>
              <a:pathLst>
                <a:path w="23" h="102">
                  <a:moveTo>
                    <a:pt x="23" y="77"/>
                  </a:moveTo>
                  <a:lnTo>
                    <a:pt x="0" y="102"/>
                  </a:lnTo>
                  <a:lnTo>
                    <a:pt x="23" y="0"/>
                  </a:lnTo>
                  <a:lnTo>
                    <a:pt x="23" y="7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531120" y="5764320"/>
              <a:ext cx="55800" cy="52920"/>
            </a:xfrm>
            <a:custGeom>
              <a:avLst/>
              <a:gdLst/>
              <a:ahLst/>
              <a:rect l="0" t="0" r="r" b="b"/>
              <a:pathLst>
                <a:path w="155" h="147">
                  <a:moveTo>
                    <a:pt x="155" y="32"/>
                  </a:moveTo>
                  <a:lnTo>
                    <a:pt x="88" y="147"/>
                  </a:lnTo>
                  <a:lnTo>
                    <a:pt x="0" y="98"/>
                  </a:lnTo>
                  <a:lnTo>
                    <a:pt x="56" y="0"/>
                  </a:lnTo>
                  <a:lnTo>
                    <a:pt x="155" y="3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886440" y="5664240"/>
              <a:ext cx="325800" cy="86040"/>
            </a:xfrm>
            <a:custGeom>
              <a:avLst/>
              <a:gdLst/>
              <a:ahLst/>
              <a:rect l="0" t="0" r="r" b="b"/>
              <a:pathLst>
                <a:path w="905" h="239">
                  <a:moveTo>
                    <a:pt x="905" y="44"/>
                  </a:moveTo>
                  <a:lnTo>
                    <a:pt x="21" y="239"/>
                  </a:lnTo>
                  <a:lnTo>
                    <a:pt x="0" y="180"/>
                  </a:lnTo>
                  <a:lnTo>
                    <a:pt x="884" y="0"/>
                  </a:lnTo>
                  <a:lnTo>
                    <a:pt x="905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86440" y="5643720"/>
              <a:ext cx="325800" cy="82800"/>
            </a:xfrm>
            <a:custGeom>
              <a:avLst/>
              <a:gdLst/>
              <a:ahLst/>
              <a:rect l="0" t="0" r="r" b="b"/>
              <a:pathLst>
                <a:path w="905" h="230">
                  <a:moveTo>
                    <a:pt x="884" y="44"/>
                  </a:moveTo>
                  <a:lnTo>
                    <a:pt x="0" y="230"/>
                  </a:lnTo>
                  <a:lnTo>
                    <a:pt x="21" y="186"/>
                  </a:lnTo>
                  <a:lnTo>
                    <a:pt x="905" y="0"/>
                  </a:lnTo>
                  <a:lnTo>
                    <a:pt x="884" y="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86440" y="5703840"/>
              <a:ext cx="325800" cy="92520"/>
            </a:xfrm>
            <a:custGeom>
              <a:avLst/>
              <a:gdLst/>
              <a:ahLst/>
              <a:rect l="0" t="0" r="r" b="b"/>
              <a:pathLst>
                <a:path w="905" h="257">
                  <a:moveTo>
                    <a:pt x="905" y="51"/>
                  </a:moveTo>
                  <a:lnTo>
                    <a:pt x="21" y="257"/>
                  </a:lnTo>
                  <a:lnTo>
                    <a:pt x="0" y="201"/>
                  </a:lnTo>
                  <a:lnTo>
                    <a:pt x="884" y="0"/>
                  </a:lnTo>
                  <a:lnTo>
                    <a:pt x="905" y="5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86440" y="5684760"/>
              <a:ext cx="325800" cy="82800"/>
            </a:xfrm>
            <a:custGeom>
              <a:avLst/>
              <a:gdLst/>
              <a:ahLst/>
              <a:rect l="0" t="0" r="r" b="b"/>
              <a:pathLst>
                <a:path w="905" h="230">
                  <a:moveTo>
                    <a:pt x="884" y="41"/>
                  </a:moveTo>
                  <a:lnTo>
                    <a:pt x="0" y="230"/>
                  </a:lnTo>
                  <a:lnTo>
                    <a:pt x="21" y="189"/>
                  </a:lnTo>
                  <a:lnTo>
                    <a:pt x="905" y="0"/>
                  </a:lnTo>
                  <a:lnTo>
                    <a:pt x="884" y="4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886440" y="5748480"/>
              <a:ext cx="325800" cy="86040"/>
            </a:xfrm>
            <a:custGeom>
              <a:avLst/>
              <a:gdLst/>
              <a:ahLst/>
              <a:rect l="0" t="0" r="r" b="b"/>
              <a:pathLst>
                <a:path w="905" h="239">
                  <a:moveTo>
                    <a:pt x="905" y="35"/>
                  </a:moveTo>
                  <a:lnTo>
                    <a:pt x="21" y="239"/>
                  </a:lnTo>
                  <a:lnTo>
                    <a:pt x="0" y="180"/>
                  </a:lnTo>
                  <a:lnTo>
                    <a:pt x="884" y="0"/>
                  </a:lnTo>
                  <a:lnTo>
                    <a:pt x="905" y="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886440" y="5721480"/>
              <a:ext cx="325800" cy="90720"/>
            </a:xfrm>
            <a:custGeom>
              <a:avLst/>
              <a:gdLst/>
              <a:ahLst/>
              <a:rect l="0" t="0" r="r" b="b"/>
              <a:pathLst>
                <a:path w="905" h="252">
                  <a:moveTo>
                    <a:pt x="884" y="45"/>
                  </a:moveTo>
                  <a:lnTo>
                    <a:pt x="0" y="252"/>
                  </a:lnTo>
                  <a:lnTo>
                    <a:pt x="21" y="206"/>
                  </a:lnTo>
                  <a:lnTo>
                    <a:pt x="905" y="0"/>
                  </a:lnTo>
                  <a:lnTo>
                    <a:pt x="884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886440" y="5786280"/>
              <a:ext cx="325800" cy="89280"/>
            </a:xfrm>
            <a:custGeom>
              <a:avLst/>
              <a:gdLst/>
              <a:ahLst/>
              <a:rect l="0" t="0" r="r" b="b"/>
              <a:pathLst>
                <a:path w="905" h="248">
                  <a:moveTo>
                    <a:pt x="905" y="41"/>
                  </a:moveTo>
                  <a:lnTo>
                    <a:pt x="21" y="248"/>
                  </a:lnTo>
                  <a:lnTo>
                    <a:pt x="0" y="194"/>
                  </a:lnTo>
                  <a:lnTo>
                    <a:pt x="884" y="0"/>
                  </a:lnTo>
                  <a:lnTo>
                    <a:pt x="905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886440" y="5769000"/>
              <a:ext cx="325800" cy="84600"/>
            </a:xfrm>
            <a:custGeom>
              <a:avLst/>
              <a:gdLst/>
              <a:ahLst/>
              <a:rect l="0" t="0" r="r" b="b"/>
              <a:pathLst>
                <a:path w="905" h="235">
                  <a:moveTo>
                    <a:pt x="884" y="35"/>
                  </a:moveTo>
                  <a:lnTo>
                    <a:pt x="0" y="235"/>
                  </a:lnTo>
                  <a:lnTo>
                    <a:pt x="21" y="195"/>
                  </a:lnTo>
                  <a:lnTo>
                    <a:pt x="905" y="0"/>
                  </a:lnTo>
                  <a:lnTo>
                    <a:pt x="884" y="3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950160" y="5211720"/>
              <a:ext cx="278280" cy="49680"/>
            </a:xfrm>
            <a:custGeom>
              <a:avLst/>
              <a:gdLst/>
              <a:ahLst/>
              <a:rect l="0" t="0" r="r" b="b"/>
              <a:pathLst>
                <a:path w="773" h="138">
                  <a:moveTo>
                    <a:pt x="731" y="0"/>
                  </a:moveTo>
                  <a:lnTo>
                    <a:pt x="773" y="53"/>
                  </a:lnTo>
                  <a:lnTo>
                    <a:pt x="35" y="138"/>
                  </a:lnTo>
                  <a:lnTo>
                    <a:pt x="0" y="8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950160" y="5238720"/>
              <a:ext cx="278280" cy="39960"/>
            </a:xfrm>
            <a:custGeom>
              <a:avLst/>
              <a:gdLst/>
              <a:ahLst/>
              <a:rect l="0" t="0" r="r" b="b"/>
              <a:pathLst>
                <a:path w="773" h="111">
                  <a:moveTo>
                    <a:pt x="773" y="0"/>
                  </a:moveTo>
                  <a:lnTo>
                    <a:pt x="731" y="34"/>
                  </a:lnTo>
                  <a:lnTo>
                    <a:pt x="0" y="111"/>
                  </a:lnTo>
                  <a:lnTo>
                    <a:pt x="35" y="77"/>
                  </a:lnTo>
                  <a:lnTo>
                    <a:pt x="77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934320" y="5254560"/>
              <a:ext cx="16200" cy="24120"/>
            </a:xfrm>
            <a:custGeom>
              <a:avLst/>
              <a:gdLst/>
              <a:ahLst/>
              <a:rect l="0" t="0" r="r" b="b"/>
              <a:pathLst>
                <a:path w="45" h="67">
                  <a:moveTo>
                    <a:pt x="45" y="0"/>
                  </a:moveTo>
                  <a:lnTo>
                    <a:pt x="0" y="35"/>
                  </a:lnTo>
                  <a:lnTo>
                    <a:pt x="45" y="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507000" y="5560920"/>
              <a:ext cx="733680" cy="165600"/>
            </a:xfrm>
            <a:custGeom>
              <a:avLst/>
              <a:gdLst/>
              <a:ahLst/>
              <a:rect l="0" t="0" r="r" b="b"/>
              <a:pathLst>
                <a:path fill="none" w="2038" h="460">
                  <a:moveTo>
                    <a:pt x="2038" y="224"/>
                  </a:moveTo>
                  <a:lnTo>
                    <a:pt x="1066" y="46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07000" y="5130720"/>
              <a:ext cx="733680" cy="133560"/>
            </a:xfrm>
            <a:custGeom>
              <a:avLst/>
              <a:gdLst/>
              <a:ahLst/>
              <a:rect l="0" t="0" r="r" b="b"/>
              <a:pathLst>
                <a:path fill="none" w="2038" h="371">
                  <a:moveTo>
                    <a:pt x="2038" y="225"/>
                  </a:moveTo>
                  <a:lnTo>
                    <a:pt x="1081" y="37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4321080" y="4923000"/>
            <a:ext cx="733680" cy="973440"/>
            <a:chOff x="4321080" y="4923000"/>
            <a:chExt cx="733680" cy="973440"/>
          </a:xfrm>
        </p:grpSpPr>
        <p:sp>
          <p:nvSpPr>
            <p:cNvPr id="1124" name=""/>
            <p:cNvSpPr/>
            <p:nvPr/>
          </p:nvSpPr>
          <p:spPr>
            <a:xfrm>
              <a:off x="4710240" y="5029200"/>
              <a:ext cx="316440" cy="867240"/>
            </a:xfrm>
            <a:custGeom>
              <a:avLst/>
              <a:gdLst/>
              <a:ahLst/>
              <a:rect l="0" t="0" r="r" b="b"/>
              <a:pathLst>
                <a:path w="879" h="2409">
                  <a:moveTo>
                    <a:pt x="879" y="0"/>
                  </a:moveTo>
                  <a:lnTo>
                    <a:pt x="879" y="2147"/>
                  </a:lnTo>
                  <a:lnTo>
                    <a:pt x="0" y="2409"/>
                  </a:lnTo>
                  <a:lnTo>
                    <a:pt x="0" y="93"/>
                  </a:lnTo>
                  <a:lnTo>
                    <a:pt x="879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321080" y="4923000"/>
              <a:ext cx="705240" cy="124200"/>
            </a:xfrm>
            <a:custGeom>
              <a:avLst/>
              <a:gdLst/>
              <a:ahLst/>
              <a:rect l="0" t="0" r="r" b="b"/>
              <a:pathLst>
                <a:path w="1959" h="345">
                  <a:moveTo>
                    <a:pt x="1959" y="257"/>
                  </a:moveTo>
                  <a:lnTo>
                    <a:pt x="912" y="0"/>
                  </a:lnTo>
                  <a:lnTo>
                    <a:pt x="0" y="82"/>
                  </a:lnTo>
                  <a:lnTo>
                    <a:pt x="1039" y="345"/>
                  </a:lnTo>
                  <a:lnTo>
                    <a:pt x="1959" y="25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321080" y="4957920"/>
              <a:ext cx="362160" cy="938520"/>
            </a:xfrm>
            <a:custGeom>
              <a:avLst/>
              <a:gdLst/>
              <a:ahLst/>
              <a:rect l="0" t="0" r="r" b="b"/>
              <a:pathLst>
                <a:path w="1006" h="2607">
                  <a:moveTo>
                    <a:pt x="1006" y="289"/>
                  </a:moveTo>
                  <a:lnTo>
                    <a:pt x="0" y="0"/>
                  </a:lnTo>
                  <a:lnTo>
                    <a:pt x="0" y="2148"/>
                  </a:lnTo>
                  <a:lnTo>
                    <a:pt x="1006" y="2607"/>
                  </a:lnTo>
                  <a:lnTo>
                    <a:pt x="1006" y="289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738680" y="5425920"/>
              <a:ext cx="262440" cy="171720"/>
            </a:xfrm>
            <a:custGeom>
              <a:avLst/>
              <a:gdLst/>
              <a:ahLst/>
              <a:rect l="0" t="0" r="r" b="b"/>
              <a:pathLst>
                <a:path w="729" h="477">
                  <a:moveTo>
                    <a:pt x="729" y="0"/>
                  </a:moveTo>
                  <a:lnTo>
                    <a:pt x="729" y="328"/>
                  </a:lnTo>
                  <a:lnTo>
                    <a:pt x="0" y="477"/>
                  </a:lnTo>
                  <a:lnTo>
                    <a:pt x="0" y="13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738680" y="5234040"/>
              <a:ext cx="262440" cy="168480"/>
            </a:xfrm>
            <a:custGeom>
              <a:avLst/>
              <a:gdLst/>
              <a:ahLst/>
              <a:rect l="0" t="0" r="r" b="b"/>
              <a:pathLst>
                <a:path w="729" h="468">
                  <a:moveTo>
                    <a:pt x="729" y="0"/>
                  </a:moveTo>
                  <a:lnTo>
                    <a:pt x="729" y="330"/>
                  </a:lnTo>
                  <a:lnTo>
                    <a:pt x="0" y="468"/>
                  </a:lnTo>
                  <a:lnTo>
                    <a:pt x="0" y="103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738680" y="5369040"/>
              <a:ext cx="275040" cy="47880"/>
            </a:xfrm>
            <a:custGeom>
              <a:avLst/>
              <a:gdLst/>
              <a:ahLst/>
              <a:rect l="0" t="0" r="r" b="b"/>
              <a:pathLst>
                <a:path w="764" h="133">
                  <a:moveTo>
                    <a:pt x="764" y="19"/>
                  </a:moveTo>
                  <a:lnTo>
                    <a:pt x="729" y="0"/>
                  </a:lnTo>
                  <a:lnTo>
                    <a:pt x="0" y="106"/>
                  </a:lnTo>
                  <a:lnTo>
                    <a:pt x="0" y="133"/>
                  </a:lnTo>
                  <a:lnTo>
                    <a:pt x="764" y="1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764240" y="5376960"/>
              <a:ext cx="278280" cy="60840"/>
            </a:xfrm>
            <a:custGeom>
              <a:avLst/>
              <a:gdLst/>
              <a:ahLst/>
              <a:rect l="0" t="0" r="r" b="b"/>
              <a:pathLst>
                <a:path w="773" h="169">
                  <a:moveTo>
                    <a:pt x="731" y="0"/>
                  </a:moveTo>
                  <a:lnTo>
                    <a:pt x="773" y="54"/>
                  </a:lnTo>
                  <a:lnTo>
                    <a:pt x="35" y="169"/>
                  </a:lnTo>
                  <a:lnTo>
                    <a:pt x="0" y="11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764240" y="5402160"/>
              <a:ext cx="278280" cy="54360"/>
            </a:xfrm>
            <a:custGeom>
              <a:avLst/>
              <a:gdLst/>
              <a:ahLst/>
              <a:rect l="0" t="0" r="r" b="b"/>
              <a:pathLst>
                <a:path w="773" h="151">
                  <a:moveTo>
                    <a:pt x="773" y="0"/>
                  </a:moveTo>
                  <a:lnTo>
                    <a:pt x="731" y="33"/>
                  </a:lnTo>
                  <a:lnTo>
                    <a:pt x="0" y="151"/>
                  </a:lnTo>
                  <a:lnTo>
                    <a:pt x="35" y="114"/>
                  </a:lnTo>
                  <a:lnTo>
                    <a:pt x="77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748040" y="5429160"/>
              <a:ext cx="16200" cy="27360"/>
            </a:xfrm>
            <a:custGeom>
              <a:avLst/>
              <a:gdLst/>
              <a:ahLst/>
              <a:rect l="0" t="0" r="r" b="b"/>
              <a:pathLst>
                <a:path w="45" h="76">
                  <a:moveTo>
                    <a:pt x="45" y="0"/>
                  </a:moveTo>
                  <a:lnTo>
                    <a:pt x="0" y="40"/>
                  </a:lnTo>
                  <a:lnTo>
                    <a:pt x="45" y="7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da391"/>
            </a:solidFill>
            <a:ln w="0">
              <a:noFill/>
            </a:ln>
          </p:spPr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738680" y="5560920"/>
              <a:ext cx="275040" cy="52920"/>
            </a:xfrm>
            <a:custGeom>
              <a:avLst/>
              <a:gdLst/>
              <a:ahLst/>
              <a:rect l="0" t="0" r="r" b="b"/>
              <a:pathLst>
                <a:path w="764" h="147">
                  <a:moveTo>
                    <a:pt x="729" y="0"/>
                  </a:moveTo>
                  <a:lnTo>
                    <a:pt x="764" y="20"/>
                  </a:lnTo>
                  <a:lnTo>
                    <a:pt x="0" y="147"/>
                  </a:lnTo>
                  <a:lnTo>
                    <a:pt x="0" y="118"/>
                  </a:lnTo>
                  <a:lnTo>
                    <a:pt x="729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800600" y="5091120"/>
              <a:ext cx="135360" cy="41760"/>
            </a:xfrm>
            <a:custGeom>
              <a:avLst/>
              <a:gdLst/>
              <a:ahLst/>
              <a:rect l="0" t="0" r="r" b="b"/>
              <a:pathLst>
                <a:path w="376" h="116">
                  <a:moveTo>
                    <a:pt x="376" y="0"/>
                  </a:moveTo>
                  <a:lnTo>
                    <a:pt x="338" y="37"/>
                  </a:lnTo>
                  <a:lnTo>
                    <a:pt x="376" y="74"/>
                  </a:lnTo>
                  <a:lnTo>
                    <a:pt x="0" y="116"/>
                  </a:lnTo>
                  <a:lnTo>
                    <a:pt x="0" y="34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738680" y="5094360"/>
              <a:ext cx="275040" cy="36720"/>
            </a:xfrm>
            <a:custGeom>
              <a:avLst/>
              <a:gdLst/>
              <a:ahLst/>
              <a:rect l="0" t="0" r="r" b="b"/>
              <a:pathLst>
                <a:path w="764" h="102">
                  <a:moveTo>
                    <a:pt x="764" y="0"/>
                  </a:moveTo>
                  <a:lnTo>
                    <a:pt x="0" y="76"/>
                  </a:lnTo>
                  <a:lnTo>
                    <a:pt x="0" y="102"/>
                  </a:lnTo>
                  <a:lnTo>
                    <a:pt x="764" y="22"/>
                  </a:lnTo>
                  <a:lnTo>
                    <a:pt x="76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746600" y="5100480"/>
              <a:ext cx="254520" cy="25920"/>
            </a:xfrm>
            <a:custGeom>
              <a:avLst/>
              <a:gdLst/>
              <a:ahLst/>
              <a:rect l="0" t="0" r="r" b="b"/>
              <a:pathLst>
                <a:path w="707" h="72">
                  <a:moveTo>
                    <a:pt x="707" y="0"/>
                  </a:moveTo>
                  <a:lnTo>
                    <a:pt x="0" y="60"/>
                  </a:lnTo>
                  <a:lnTo>
                    <a:pt x="0" y="72"/>
                  </a:lnTo>
                  <a:lnTo>
                    <a:pt x="707" y="6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549680" y="5818320"/>
              <a:ext cx="9720" cy="39960"/>
            </a:xfrm>
            <a:custGeom>
              <a:avLst/>
              <a:gdLst/>
              <a:ahLst/>
              <a:rect l="0" t="0" r="r" b="b"/>
              <a:pathLst>
                <a:path w="27" h="111">
                  <a:moveTo>
                    <a:pt x="27" y="81"/>
                  </a:moveTo>
                  <a:lnTo>
                    <a:pt x="0" y="111"/>
                  </a:lnTo>
                  <a:lnTo>
                    <a:pt x="27" y="0"/>
                  </a:lnTo>
                  <a:lnTo>
                    <a:pt x="27" y="8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497480" y="5797440"/>
              <a:ext cx="62280" cy="60840"/>
            </a:xfrm>
            <a:custGeom>
              <a:avLst/>
              <a:gdLst/>
              <a:ahLst/>
              <a:rect l="0" t="0" r="r" b="b"/>
              <a:pathLst>
                <a:path w="173" h="169">
                  <a:moveTo>
                    <a:pt x="173" y="36"/>
                  </a:moveTo>
                  <a:lnTo>
                    <a:pt x="105" y="169"/>
                  </a:lnTo>
                  <a:lnTo>
                    <a:pt x="0" y="115"/>
                  </a:lnTo>
                  <a:lnTo>
                    <a:pt x="63" y="0"/>
                  </a:lnTo>
                  <a:lnTo>
                    <a:pt x="173" y="3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392720" y="5749920"/>
              <a:ext cx="8280" cy="36720"/>
            </a:xfrm>
            <a:custGeom>
              <a:avLst/>
              <a:gdLst/>
              <a:ahLst/>
              <a:rect l="0" t="0" r="r" b="b"/>
              <a:pathLst>
                <a:path w="23" h="102">
                  <a:moveTo>
                    <a:pt x="23" y="77"/>
                  </a:moveTo>
                  <a:lnTo>
                    <a:pt x="0" y="102"/>
                  </a:lnTo>
                  <a:lnTo>
                    <a:pt x="23" y="0"/>
                  </a:lnTo>
                  <a:lnTo>
                    <a:pt x="23" y="7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344840" y="5734080"/>
              <a:ext cx="55800" cy="52920"/>
            </a:xfrm>
            <a:custGeom>
              <a:avLst/>
              <a:gdLst/>
              <a:ahLst/>
              <a:rect l="0" t="0" r="r" b="b"/>
              <a:pathLst>
                <a:path w="155" h="147">
                  <a:moveTo>
                    <a:pt x="155" y="32"/>
                  </a:moveTo>
                  <a:lnTo>
                    <a:pt x="88" y="147"/>
                  </a:lnTo>
                  <a:lnTo>
                    <a:pt x="0" y="98"/>
                  </a:lnTo>
                  <a:lnTo>
                    <a:pt x="56" y="0"/>
                  </a:lnTo>
                  <a:lnTo>
                    <a:pt x="155" y="3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700520" y="5634000"/>
              <a:ext cx="325800" cy="86040"/>
            </a:xfrm>
            <a:custGeom>
              <a:avLst/>
              <a:gdLst/>
              <a:ahLst/>
              <a:rect l="0" t="0" r="r" b="b"/>
              <a:pathLst>
                <a:path w="905" h="239">
                  <a:moveTo>
                    <a:pt x="905" y="44"/>
                  </a:moveTo>
                  <a:lnTo>
                    <a:pt x="21" y="239"/>
                  </a:lnTo>
                  <a:lnTo>
                    <a:pt x="0" y="180"/>
                  </a:lnTo>
                  <a:lnTo>
                    <a:pt x="884" y="0"/>
                  </a:lnTo>
                  <a:lnTo>
                    <a:pt x="905" y="4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700520" y="5613480"/>
              <a:ext cx="325800" cy="82800"/>
            </a:xfrm>
            <a:custGeom>
              <a:avLst/>
              <a:gdLst/>
              <a:ahLst/>
              <a:rect l="0" t="0" r="r" b="b"/>
              <a:pathLst>
                <a:path w="905" h="230">
                  <a:moveTo>
                    <a:pt x="884" y="44"/>
                  </a:moveTo>
                  <a:lnTo>
                    <a:pt x="0" y="230"/>
                  </a:lnTo>
                  <a:lnTo>
                    <a:pt x="21" y="186"/>
                  </a:lnTo>
                  <a:lnTo>
                    <a:pt x="905" y="0"/>
                  </a:lnTo>
                  <a:lnTo>
                    <a:pt x="884" y="4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700520" y="5673600"/>
              <a:ext cx="325800" cy="92520"/>
            </a:xfrm>
            <a:custGeom>
              <a:avLst/>
              <a:gdLst/>
              <a:ahLst/>
              <a:rect l="0" t="0" r="r" b="b"/>
              <a:pathLst>
                <a:path w="905" h="257">
                  <a:moveTo>
                    <a:pt x="905" y="51"/>
                  </a:moveTo>
                  <a:lnTo>
                    <a:pt x="21" y="257"/>
                  </a:lnTo>
                  <a:lnTo>
                    <a:pt x="0" y="201"/>
                  </a:lnTo>
                  <a:lnTo>
                    <a:pt x="884" y="0"/>
                  </a:lnTo>
                  <a:lnTo>
                    <a:pt x="905" y="5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700520" y="5654520"/>
              <a:ext cx="325800" cy="82800"/>
            </a:xfrm>
            <a:custGeom>
              <a:avLst/>
              <a:gdLst/>
              <a:ahLst/>
              <a:rect l="0" t="0" r="r" b="b"/>
              <a:pathLst>
                <a:path w="905" h="230">
                  <a:moveTo>
                    <a:pt x="884" y="41"/>
                  </a:moveTo>
                  <a:lnTo>
                    <a:pt x="0" y="230"/>
                  </a:lnTo>
                  <a:lnTo>
                    <a:pt x="21" y="189"/>
                  </a:lnTo>
                  <a:lnTo>
                    <a:pt x="905" y="0"/>
                  </a:lnTo>
                  <a:lnTo>
                    <a:pt x="884" y="4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700520" y="5718240"/>
              <a:ext cx="325800" cy="86040"/>
            </a:xfrm>
            <a:custGeom>
              <a:avLst/>
              <a:gdLst/>
              <a:ahLst/>
              <a:rect l="0" t="0" r="r" b="b"/>
              <a:pathLst>
                <a:path w="905" h="239">
                  <a:moveTo>
                    <a:pt x="905" y="35"/>
                  </a:moveTo>
                  <a:lnTo>
                    <a:pt x="21" y="239"/>
                  </a:lnTo>
                  <a:lnTo>
                    <a:pt x="0" y="180"/>
                  </a:lnTo>
                  <a:lnTo>
                    <a:pt x="884" y="0"/>
                  </a:lnTo>
                  <a:lnTo>
                    <a:pt x="905" y="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700520" y="5691240"/>
              <a:ext cx="325800" cy="90720"/>
            </a:xfrm>
            <a:custGeom>
              <a:avLst/>
              <a:gdLst/>
              <a:ahLst/>
              <a:rect l="0" t="0" r="r" b="b"/>
              <a:pathLst>
                <a:path w="905" h="252">
                  <a:moveTo>
                    <a:pt x="884" y="45"/>
                  </a:moveTo>
                  <a:lnTo>
                    <a:pt x="0" y="252"/>
                  </a:lnTo>
                  <a:lnTo>
                    <a:pt x="21" y="206"/>
                  </a:lnTo>
                  <a:lnTo>
                    <a:pt x="905" y="0"/>
                  </a:lnTo>
                  <a:lnTo>
                    <a:pt x="884" y="4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700520" y="5756400"/>
              <a:ext cx="325800" cy="89280"/>
            </a:xfrm>
            <a:custGeom>
              <a:avLst/>
              <a:gdLst/>
              <a:ahLst/>
              <a:rect l="0" t="0" r="r" b="b"/>
              <a:pathLst>
                <a:path w="905" h="248">
                  <a:moveTo>
                    <a:pt x="905" y="41"/>
                  </a:moveTo>
                  <a:lnTo>
                    <a:pt x="21" y="248"/>
                  </a:lnTo>
                  <a:lnTo>
                    <a:pt x="0" y="194"/>
                  </a:lnTo>
                  <a:lnTo>
                    <a:pt x="884" y="0"/>
                  </a:lnTo>
                  <a:lnTo>
                    <a:pt x="905" y="4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700520" y="5738760"/>
              <a:ext cx="325800" cy="84600"/>
            </a:xfrm>
            <a:custGeom>
              <a:avLst/>
              <a:gdLst/>
              <a:ahLst/>
              <a:rect l="0" t="0" r="r" b="b"/>
              <a:pathLst>
                <a:path w="905" h="235">
                  <a:moveTo>
                    <a:pt x="884" y="35"/>
                  </a:moveTo>
                  <a:lnTo>
                    <a:pt x="0" y="235"/>
                  </a:lnTo>
                  <a:lnTo>
                    <a:pt x="21" y="195"/>
                  </a:lnTo>
                  <a:lnTo>
                    <a:pt x="905" y="0"/>
                  </a:lnTo>
                  <a:lnTo>
                    <a:pt x="884" y="35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764240" y="5181480"/>
              <a:ext cx="278280" cy="49680"/>
            </a:xfrm>
            <a:custGeom>
              <a:avLst/>
              <a:gdLst/>
              <a:ahLst/>
              <a:rect l="0" t="0" r="r" b="b"/>
              <a:pathLst>
                <a:path w="773" h="138">
                  <a:moveTo>
                    <a:pt x="731" y="0"/>
                  </a:moveTo>
                  <a:lnTo>
                    <a:pt x="773" y="53"/>
                  </a:lnTo>
                  <a:lnTo>
                    <a:pt x="35" y="138"/>
                  </a:lnTo>
                  <a:lnTo>
                    <a:pt x="0" y="81"/>
                  </a:lnTo>
                  <a:lnTo>
                    <a:pt x="73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764240" y="5208480"/>
              <a:ext cx="278280" cy="39960"/>
            </a:xfrm>
            <a:custGeom>
              <a:avLst/>
              <a:gdLst/>
              <a:ahLst/>
              <a:rect l="0" t="0" r="r" b="b"/>
              <a:pathLst>
                <a:path w="773" h="111">
                  <a:moveTo>
                    <a:pt x="773" y="0"/>
                  </a:moveTo>
                  <a:lnTo>
                    <a:pt x="731" y="34"/>
                  </a:lnTo>
                  <a:lnTo>
                    <a:pt x="0" y="111"/>
                  </a:lnTo>
                  <a:lnTo>
                    <a:pt x="35" y="77"/>
                  </a:lnTo>
                  <a:lnTo>
                    <a:pt x="773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48040" y="5224320"/>
              <a:ext cx="16200" cy="24120"/>
            </a:xfrm>
            <a:custGeom>
              <a:avLst/>
              <a:gdLst/>
              <a:ahLst/>
              <a:rect l="0" t="0" r="r" b="b"/>
              <a:pathLst>
                <a:path w="45" h="67">
                  <a:moveTo>
                    <a:pt x="45" y="0"/>
                  </a:moveTo>
                  <a:lnTo>
                    <a:pt x="0" y="35"/>
                  </a:lnTo>
                  <a:lnTo>
                    <a:pt x="45" y="6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737373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321080" y="5530680"/>
              <a:ext cx="733680" cy="165600"/>
            </a:xfrm>
            <a:custGeom>
              <a:avLst/>
              <a:gdLst/>
              <a:ahLst/>
              <a:rect l="0" t="0" r="r" b="b"/>
              <a:pathLst>
                <a:path fill="none" w="2038" h="460">
                  <a:moveTo>
                    <a:pt x="2038" y="224"/>
                  </a:moveTo>
                  <a:lnTo>
                    <a:pt x="1066" y="46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321080" y="5100480"/>
              <a:ext cx="733680" cy="133560"/>
            </a:xfrm>
            <a:custGeom>
              <a:avLst/>
              <a:gdLst/>
              <a:ahLst/>
              <a:rect l="0" t="0" r="r" b="b"/>
              <a:pathLst>
                <a:path fill="none" w="2038" h="371">
                  <a:moveTo>
                    <a:pt x="2038" y="225"/>
                  </a:moveTo>
                  <a:lnTo>
                    <a:pt x="1081" y="37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737373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"/>
          <p:cNvSpPr txBox="1"/>
          <p:nvPr/>
        </p:nvSpPr>
        <p:spPr>
          <a:xfrm>
            <a:off x="458640" y="5784840"/>
            <a:ext cx="304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 over SNA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598320" y="2050920"/>
            <a:ext cx="1733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lient-Server Architectu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31720" y="1179360"/>
            <a:ext cx="8082360" cy="5232600"/>
            <a:chOff x="531720" y="1179360"/>
            <a:chExt cx="8082360" cy="5232600"/>
          </a:xfrm>
        </p:grpSpPr>
        <p:sp>
          <p:nvSpPr>
            <p:cNvPr id="46" name=""/>
            <p:cNvSpPr/>
            <p:nvPr/>
          </p:nvSpPr>
          <p:spPr>
            <a:xfrm>
              <a:off x="3743280" y="3446640"/>
              <a:ext cx="609840" cy="514800"/>
            </a:xfrm>
            <a:custGeom>
              <a:avLst/>
              <a:gdLst/>
              <a:ahLst/>
              <a:rect l="0" t="0" r="r" b="b"/>
              <a:pathLst>
                <a:path fill="none" w="1694" h="1430">
                  <a:moveTo>
                    <a:pt x="1694" y="1430"/>
                  </a:moveTo>
                  <a:lnTo>
                    <a:pt x="1694" y="1430"/>
                  </a:lnTo>
                  <a:lnTo>
                    <a:pt x="1694" y="1430"/>
                  </a:lnTo>
                  <a:cubicBezTo>
                    <a:pt x="1694" y="1179"/>
                    <a:pt x="1616" y="932"/>
                    <a:pt x="1467" y="715"/>
                  </a:cubicBezTo>
                  <a:cubicBezTo>
                    <a:pt x="1318" y="498"/>
                    <a:pt x="1105" y="317"/>
                    <a:pt x="847" y="192"/>
                  </a:cubicBezTo>
                  <a:cubicBezTo>
                    <a:pt x="589" y="66"/>
                    <a:pt x="297" y="0"/>
                    <a:pt x="0" y="0"/>
                  </a:cubicBezTo>
                </a:path>
              </a:pathLst>
            </a:custGeom>
            <a:ln w="38160">
              <a:solidFill>
                <a:srgbClr val="ff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762360" y="1827360"/>
              <a:ext cx="285840" cy="10857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24160" y="4657680"/>
              <a:ext cx="747720" cy="10558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76600" y="4494240"/>
              <a:ext cx="1295280" cy="1600200"/>
            </a:xfrm>
            <a:prstGeom prst="line">
              <a:avLst/>
            </a:prstGeom>
            <a:ln w="381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47800" y="3427560"/>
              <a:ext cx="3276720" cy="1066680"/>
            </a:xfrm>
            <a:prstGeom prst="ellipse">
              <a:avLst/>
            </a:prstGeom>
            <a:noFill/>
            <a:ln w="76320">
              <a:solidFill>
                <a:srgbClr val="333333"/>
              </a:solidFill>
              <a:round/>
            </a:ln>
          </p:spPr>
          <p:txBody>
            <a:bodyPr lIns="128160" rIns="128160" tIns="83160" bIns="83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3651120" y="5578560"/>
              <a:ext cx="930240" cy="833400"/>
              <a:chOff x="3651120" y="5578560"/>
              <a:chExt cx="930240" cy="833400"/>
            </a:xfrm>
          </p:grpSpPr>
          <p:pic>
            <p:nvPicPr>
              <p:cNvPr id="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51120" y="5578560"/>
                <a:ext cx="930240" cy="83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8280" y="5662440"/>
                <a:ext cx="476280" cy="33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4" name=""/>
            <p:cNvGrpSpPr/>
            <p:nvPr/>
          </p:nvGrpSpPr>
          <p:grpSpPr>
            <a:xfrm>
              <a:off x="1434960" y="2665440"/>
              <a:ext cx="733680" cy="973440"/>
              <a:chOff x="1434960" y="2665440"/>
              <a:chExt cx="733680" cy="973440"/>
            </a:xfrm>
          </p:grpSpPr>
          <p:sp>
            <p:nvSpPr>
              <p:cNvPr id="55" name=""/>
              <p:cNvSpPr/>
              <p:nvPr/>
            </p:nvSpPr>
            <p:spPr>
              <a:xfrm>
                <a:off x="1824120" y="2771640"/>
                <a:ext cx="316440" cy="867240"/>
              </a:xfrm>
              <a:custGeom>
                <a:avLst/>
                <a:gdLst/>
                <a:ahLst/>
                <a:rect l="0" t="0" r="r" b="b"/>
                <a:pathLst>
                  <a:path w="879" h="2409">
                    <a:moveTo>
                      <a:pt x="879" y="0"/>
                    </a:moveTo>
                    <a:lnTo>
                      <a:pt x="879" y="2147"/>
                    </a:lnTo>
                    <a:lnTo>
                      <a:pt x="0" y="2409"/>
                    </a:lnTo>
                    <a:lnTo>
                      <a:pt x="0" y="93"/>
                    </a:lnTo>
                    <a:lnTo>
                      <a:pt x="87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434960" y="2665440"/>
                <a:ext cx="705240" cy="124200"/>
              </a:xfrm>
              <a:custGeom>
                <a:avLst/>
                <a:gdLst/>
                <a:ahLst/>
                <a:rect l="0" t="0" r="r" b="b"/>
                <a:pathLst>
                  <a:path w="1959" h="345">
                    <a:moveTo>
                      <a:pt x="1959" y="257"/>
                    </a:moveTo>
                    <a:lnTo>
                      <a:pt x="912" y="0"/>
                    </a:lnTo>
                    <a:lnTo>
                      <a:pt x="0" y="82"/>
                    </a:lnTo>
                    <a:lnTo>
                      <a:pt x="1039" y="345"/>
                    </a:lnTo>
                    <a:lnTo>
                      <a:pt x="1959" y="25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34960" y="2700360"/>
                <a:ext cx="362160" cy="938520"/>
              </a:xfrm>
              <a:custGeom>
                <a:avLst/>
                <a:gdLst/>
                <a:ahLst/>
                <a:rect l="0" t="0" r="r" b="b"/>
                <a:pathLst>
                  <a:path w="1006" h="2607">
                    <a:moveTo>
                      <a:pt x="1006" y="289"/>
                    </a:moveTo>
                    <a:lnTo>
                      <a:pt x="0" y="0"/>
                    </a:lnTo>
                    <a:lnTo>
                      <a:pt x="0" y="2148"/>
                    </a:lnTo>
                    <a:lnTo>
                      <a:pt x="1006" y="2607"/>
                    </a:lnTo>
                    <a:lnTo>
                      <a:pt x="1006" y="28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52560" y="3168720"/>
                <a:ext cx="262440" cy="171720"/>
              </a:xfrm>
              <a:custGeom>
                <a:avLst/>
                <a:gdLst/>
                <a:ahLst/>
                <a:rect l="0" t="0" r="r" b="b"/>
                <a:pathLst>
                  <a:path w="729" h="477">
                    <a:moveTo>
                      <a:pt x="729" y="0"/>
                    </a:moveTo>
                    <a:lnTo>
                      <a:pt x="729" y="328"/>
                    </a:lnTo>
                    <a:lnTo>
                      <a:pt x="0" y="477"/>
                    </a:lnTo>
                    <a:lnTo>
                      <a:pt x="0" y="133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852560" y="2976480"/>
                <a:ext cx="262440" cy="168480"/>
              </a:xfrm>
              <a:custGeom>
                <a:avLst/>
                <a:gdLst/>
                <a:ahLst/>
                <a:rect l="0" t="0" r="r" b="b"/>
                <a:pathLst>
                  <a:path w="729" h="468">
                    <a:moveTo>
                      <a:pt x="729" y="0"/>
                    </a:moveTo>
                    <a:lnTo>
                      <a:pt x="729" y="330"/>
                    </a:lnTo>
                    <a:lnTo>
                      <a:pt x="0" y="468"/>
                    </a:lnTo>
                    <a:lnTo>
                      <a:pt x="0" y="103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52560" y="3111480"/>
                <a:ext cx="275040" cy="47880"/>
              </a:xfrm>
              <a:custGeom>
                <a:avLst/>
                <a:gdLst/>
                <a:ahLst/>
                <a:rect l="0" t="0" r="r" b="b"/>
                <a:pathLst>
                  <a:path w="764" h="133">
                    <a:moveTo>
                      <a:pt x="764" y="19"/>
                    </a:moveTo>
                    <a:lnTo>
                      <a:pt x="729" y="0"/>
                    </a:lnTo>
                    <a:lnTo>
                      <a:pt x="0" y="106"/>
                    </a:lnTo>
                    <a:lnTo>
                      <a:pt x="0" y="133"/>
                    </a:lnTo>
                    <a:lnTo>
                      <a:pt x="764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78120" y="3119400"/>
                <a:ext cx="278280" cy="60840"/>
              </a:xfrm>
              <a:custGeom>
                <a:avLst/>
                <a:gdLst/>
                <a:ahLst/>
                <a:rect l="0" t="0" r="r" b="b"/>
                <a:pathLst>
                  <a:path w="773" h="169">
                    <a:moveTo>
                      <a:pt x="731" y="0"/>
                    </a:moveTo>
                    <a:lnTo>
                      <a:pt x="773" y="54"/>
                    </a:lnTo>
                    <a:lnTo>
                      <a:pt x="35" y="169"/>
                    </a:lnTo>
                    <a:lnTo>
                      <a:pt x="0" y="111"/>
                    </a:lnTo>
                    <a:lnTo>
                      <a:pt x="73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78120" y="3144960"/>
                <a:ext cx="278280" cy="54360"/>
              </a:xfrm>
              <a:custGeom>
                <a:avLst/>
                <a:gdLst/>
                <a:ahLst/>
                <a:rect l="0" t="0" r="r" b="b"/>
                <a:pathLst>
                  <a:path w="773" h="151">
                    <a:moveTo>
                      <a:pt x="773" y="0"/>
                    </a:moveTo>
                    <a:lnTo>
                      <a:pt x="731" y="33"/>
                    </a:lnTo>
                    <a:lnTo>
                      <a:pt x="0" y="151"/>
                    </a:lnTo>
                    <a:lnTo>
                      <a:pt x="35" y="114"/>
                    </a:lnTo>
                    <a:lnTo>
                      <a:pt x="773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62280" y="3171960"/>
                <a:ext cx="16200" cy="27360"/>
              </a:xfrm>
              <a:custGeom>
                <a:avLst/>
                <a:gdLst/>
                <a:ahLst/>
                <a:rect l="0" t="0" r="r" b="b"/>
                <a:pathLst>
                  <a:path w="45" h="76">
                    <a:moveTo>
                      <a:pt x="45" y="0"/>
                    </a:moveTo>
                    <a:lnTo>
                      <a:pt x="0" y="40"/>
                    </a:lnTo>
                    <a:lnTo>
                      <a:pt x="45" y="7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852560" y="3303720"/>
                <a:ext cx="275040" cy="52920"/>
              </a:xfrm>
              <a:custGeom>
                <a:avLst/>
                <a:gdLst/>
                <a:ahLst/>
                <a:rect l="0" t="0" r="r" b="b"/>
                <a:pathLst>
                  <a:path w="764" h="147">
                    <a:moveTo>
                      <a:pt x="729" y="0"/>
                    </a:moveTo>
                    <a:lnTo>
                      <a:pt x="764" y="20"/>
                    </a:lnTo>
                    <a:lnTo>
                      <a:pt x="0" y="147"/>
                    </a:lnTo>
                    <a:lnTo>
                      <a:pt x="0" y="118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914480" y="2833560"/>
                <a:ext cx="135360" cy="41760"/>
              </a:xfrm>
              <a:custGeom>
                <a:avLst/>
                <a:gdLst/>
                <a:ahLst/>
                <a:rect l="0" t="0" r="r" b="b"/>
                <a:pathLst>
                  <a:path w="376" h="116">
                    <a:moveTo>
                      <a:pt x="376" y="0"/>
                    </a:moveTo>
                    <a:lnTo>
                      <a:pt x="338" y="37"/>
                    </a:lnTo>
                    <a:lnTo>
                      <a:pt x="376" y="74"/>
                    </a:lnTo>
                    <a:lnTo>
                      <a:pt x="0" y="116"/>
                    </a:lnTo>
                    <a:lnTo>
                      <a:pt x="0" y="34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852560" y="2836800"/>
                <a:ext cx="275040" cy="36720"/>
              </a:xfrm>
              <a:custGeom>
                <a:avLst/>
                <a:gdLst/>
                <a:ahLst/>
                <a:rect l="0" t="0" r="r" b="b"/>
                <a:pathLst>
                  <a:path w="764" h="102">
                    <a:moveTo>
                      <a:pt x="764" y="0"/>
                    </a:moveTo>
                    <a:lnTo>
                      <a:pt x="0" y="76"/>
                    </a:lnTo>
                    <a:lnTo>
                      <a:pt x="0" y="102"/>
                    </a:lnTo>
                    <a:lnTo>
                      <a:pt x="764" y="22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860480" y="2843280"/>
                <a:ext cx="254520" cy="25920"/>
              </a:xfrm>
              <a:custGeom>
                <a:avLst/>
                <a:gdLst/>
                <a:ahLst/>
                <a:rect l="0" t="0" r="r" b="b"/>
                <a:pathLst>
                  <a:path w="707" h="72">
                    <a:moveTo>
                      <a:pt x="707" y="0"/>
                    </a:moveTo>
                    <a:lnTo>
                      <a:pt x="0" y="60"/>
                    </a:lnTo>
                    <a:lnTo>
                      <a:pt x="0" y="72"/>
                    </a:lnTo>
                    <a:lnTo>
                      <a:pt x="707" y="6"/>
                    </a:lnTo>
                    <a:lnTo>
                      <a:pt x="70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663560" y="3560760"/>
                <a:ext cx="9720" cy="39960"/>
              </a:xfrm>
              <a:custGeom>
                <a:avLst/>
                <a:gdLst/>
                <a:ahLst/>
                <a:rect l="0" t="0" r="r" b="b"/>
                <a:pathLst>
                  <a:path w="27" h="111">
                    <a:moveTo>
                      <a:pt x="27" y="81"/>
                    </a:moveTo>
                    <a:lnTo>
                      <a:pt x="0" y="111"/>
                    </a:lnTo>
                    <a:lnTo>
                      <a:pt x="27" y="0"/>
                    </a:lnTo>
                    <a:lnTo>
                      <a:pt x="27" y="8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11360" y="3540240"/>
                <a:ext cx="62280" cy="60840"/>
              </a:xfrm>
              <a:custGeom>
                <a:avLst/>
                <a:gdLst/>
                <a:ahLst/>
                <a:rect l="0" t="0" r="r" b="b"/>
                <a:pathLst>
                  <a:path w="173" h="169">
                    <a:moveTo>
                      <a:pt x="173" y="36"/>
                    </a:moveTo>
                    <a:lnTo>
                      <a:pt x="105" y="169"/>
                    </a:lnTo>
                    <a:lnTo>
                      <a:pt x="0" y="115"/>
                    </a:lnTo>
                    <a:lnTo>
                      <a:pt x="63" y="0"/>
                    </a:lnTo>
                    <a:lnTo>
                      <a:pt x="173" y="3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506600" y="3492360"/>
                <a:ext cx="8280" cy="36720"/>
              </a:xfrm>
              <a:custGeom>
                <a:avLst/>
                <a:gdLst/>
                <a:ahLst/>
                <a:rect l="0" t="0" r="r" b="b"/>
                <a:pathLst>
                  <a:path w="23" h="102">
                    <a:moveTo>
                      <a:pt x="23" y="77"/>
                    </a:moveTo>
                    <a:lnTo>
                      <a:pt x="0" y="102"/>
                    </a:lnTo>
                    <a:lnTo>
                      <a:pt x="23" y="0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459080" y="3476520"/>
                <a:ext cx="55800" cy="52920"/>
              </a:xfrm>
              <a:custGeom>
                <a:avLst/>
                <a:gdLst/>
                <a:ahLst/>
                <a:rect l="0" t="0" r="r" b="b"/>
                <a:pathLst>
                  <a:path w="155" h="147">
                    <a:moveTo>
                      <a:pt x="155" y="32"/>
                    </a:moveTo>
                    <a:lnTo>
                      <a:pt x="88" y="147"/>
                    </a:lnTo>
                    <a:lnTo>
                      <a:pt x="0" y="98"/>
                    </a:lnTo>
                    <a:lnTo>
                      <a:pt x="56" y="0"/>
                    </a:lnTo>
                    <a:lnTo>
                      <a:pt x="155" y="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814400" y="3376440"/>
                <a:ext cx="325800" cy="86040"/>
              </a:xfrm>
              <a:custGeom>
                <a:avLst/>
                <a:gdLst/>
                <a:ahLst/>
                <a:rect l="0" t="0" r="r" b="b"/>
                <a:pathLst>
                  <a:path w="905" h="239">
                    <a:moveTo>
                      <a:pt x="905" y="44"/>
                    </a:moveTo>
                    <a:lnTo>
                      <a:pt x="21" y="239"/>
                    </a:lnTo>
                    <a:lnTo>
                      <a:pt x="0" y="180"/>
                    </a:lnTo>
                    <a:lnTo>
                      <a:pt x="884" y="0"/>
                    </a:lnTo>
                    <a:lnTo>
                      <a:pt x="905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814400" y="3355920"/>
                <a:ext cx="325800" cy="82800"/>
              </a:xfrm>
              <a:custGeom>
                <a:avLst/>
                <a:gdLst/>
                <a:ahLst/>
                <a:rect l="0" t="0" r="r" b="b"/>
                <a:pathLst>
                  <a:path w="905" h="230">
                    <a:moveTo>
                      <a:pt x="884" y="44"/>
                    </a:moveTo>
                    <a:lnTo>
                      <a:pt x="0" y="230"/>
                    </a:lnTo>
                    <a:lnTo>
                      <a:pt x="21" y="186"/>
                    </a:lnTo>
                    <a:lnTo>
                      <a:pt x="905" y="0"/>
                    </a:lnTo>
                    <a:lnTo>
                      <a:pt x="884" y="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814400" y="3416400"/>
                <a:ext cx="325800" cy="92520"/>
              </a:xfrm>
              <a:custGeom>
                <a:avLst/>
                <a:gdLst/>
                <a:ahLst/>
                <a:rect l="0" t="0" r="r" b="b"/>
                <a:pathLst>
                  <a:path w="905" h="257">
                    <a:moveTo>
                      <a:pt x="905" y="51"/>
                    </a:moveTo>
                    <a:lnTo>
                      <a:pt x="21" y="257"/>
                    </a:lnTo>
                    <a:lnTo>
                      <a:pt x="0" y="201"/>
                    </a:lnTo>
                    <a:lnTo>
                      <a:pt x="884" y="0"/>
                    </a:lnTo>
                    <a:lnTo>
                      <a:pt x="905" y="5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814400" y="3397320"/>
                <a:ext cx="325800" cy="82800"/>
              </a:xfrm>
              <a:custGeom>
                <a:avLst/>
                <a:gdLst/>
                <a:ahLst/>
                <a:rect l="0" t="0" r="r" b="b"/>
                <a:pathLst>
                  <a:path w="905" h="230">
                    <a:moveTo>
                      <a:pt x="884" y="41"/>
                    </a:moveTo>
                    <a:lnTo>
                      <a:pt x="0" y="230"/>
                    </a:lnTo>
                    <a:lnTo>
                      <a:pt x="21" y="189"/>
                    </a:lnTo>
                    <a:lnTo>
                      <a:pt x="905" y="0"/>
                    </a:lnTo>
                    <a:lnTo>
                      <a:pt x="884" y="4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814400" y="3460680"/>
                <a:ext cx="325800" cy="86040"/>
              </a:xfrm>
              <a:custGeom>
                <a:avLst/>
                <a:gdLst/>
                <a:ahLst/>
                <a:rect l="0" t="0" r="r" b="b"/>
                <a:pathLst>
                  <a:path w="905" h="239">
                    <a:moveTo>
                      <a:pt x="905" y="35"/>
                    </a:moveTo>
                    <a:lnTo>
                      <a:pt x="21" y="239"/>
                    </a:lnTo>
                    <a:lnTo>
                      <a:pt x="0" y="180"/>
                    </a:lnTo>
                    <a:lnTo>
                      <a:pt x="884" y="0"/>
                    </a:lnTo>
                    <a:lnTo>
                      <a:pt x="905" y="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814400" y="3433680"/>
                <a:ext cx="325800" cy="90720"/>
              </a:xfrm>
              <a:custGeom>
                <a:avLst/>
                <a:gdLst/>
                <a:ahLst/>
                <a:rect l="0" t="0" r="r" b="b"/>
                <a:pathLst>
                  <a:path w="905" h="252">
                    <a:moveTo>
                      <a:pt x="884" y="45"/>
                    </a:moveTo>
                    <a:lnTo>
                      <a:pt x="0" y="252"/>
                    </a:lnTo>
                    <a:lnTo>
                      <a:pt x="21" y="206"/>
                    </a:lnTo>
                    <a:lnTo>
                      <a:pt x="905" y="0"/>
                    </a:lnTo>
                    <a:lnTo>
                      <a:pt x="884" y="4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14400" y="3498840"/>
                <a:ext cx="325800" cy="89280"/>
              </a:xfrm>
              <a:custGeom>
                <a:avLst/>
                <a:gdLst/>
                <a:ahLst/>
                <a:rect l="0" t="0" r="r" b="b"/>
                <a:pathLst>
                  <a:path w="905" h="248">
                    <a:moveTo>
                      <a:pt x="905" y="41"/>
                    </a:moveTo>
                    <a:lnTo>
                      <a:pt x="21" y="248"/>
                    </a:lnTo>
                    <a:lnTo>
                      <a:pt x="0" y="194"/>
                    </a:lnTo>
                    <a:lnTo>
                      <a:pt x="884" y="0"/>
                    </a:lnTo>
                    <a:lnTo>
                      <a:pt x="905" y="4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14400" y="3481560"/>
                <a:ext cx="325800" cy="84600"/>
              </a:xfrm>
              <a:custGeom>
                <a:avLst/>
                <a:gdLst/>
                <a:ahLst/>
                <a:rect l="0" t="0" r="r" b="b"/>
                <a:pathLst>
                  <a:path w="905" h="235">
                    <a:moveTo>
                      <a:pt x="884" y="35"/>
                    </a:moveTo>
                    <a:lnTo>
                      <a:pt x="0" y="235"/>
                    </a:lnTo>
                    <a:lnTo>
                      <a:pt x="21" y="195"/>
                    </a:lnTo>
                    <a:lnTo>
                      <a:pt x="905" y="0"/>
                    </a:lnTo>
                    <a:lnTo>
                      <a:pt x="884" y="3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878120" y="2924280"/>
                <a:ext cx="278280" cy="49680"/>
              </a:xfrm>
              <a:custGeom>
                <a:avLst/>
                <a:gdLst/>
                <a:ahLst/>
                <a:rect l="0" t="0" r="r" b="b"/>
                <a:pathLst>
                  <a:path w="773" h="138">
                    <a:moveTo>
                      <a:pt x="731" y="0"/>
                    </a:moveTo>
                    <a:lnTo>
                      <a:pt x="773" y="53"/>
                    </a:lnTo>
                    <a:lnTo>
                      <a:pt x="35" y="138"/>
                    </a:lnTo>
                    <a:lnTo>
                      <a:pt x="0" y="81"/>
                    </a:lnTo>
                    <a:lnTo>
                      <a:pt x="73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878120" y="2951280"/>
                <a:ext cx="278280" cy="39960"/>
              </a:xfrm>
              <a:custGeom>
                <a:avLst/>
                <a:gdLst/>
                <a:ahLst/>
                <a:rect l="0" t="0" r="r" b="b"/>
                <a:pathLst>
                  <a:path w="773" h="111">
                    <a:moveTo>
                      <a:pt x="773" y="0"/>
                    </a:moveTo>
                    <a:lnTo>
                      <a:pt x="731" y="34"/>
                    </a:lnTo>
                    <a:lnTo>
                      <a:pt x="0" y="111"/>
                    </a:lnTo>
                    <a:lnTo>
                      <a:pt x="35" y="77"/>
                    </a:lnTo>
                    <a:lnTo>
                      <a:pt x="773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862280" y="2967120"/>
                <a:ext cx="16200" cy="24120"/>
              </a:xfrm>
              <a:custGeom>
                <a:avLst/>
                <a:gdLst/>
                <a:ahLst/>
                <a:rect l="0" t="0" r="r" b="b"/>
                <a:pathLst>
                  <a:path w="45" h="67">
                    <a:moveTo>
                      <a:pt x="45" y="0"/>
                    </a:moveTo>
                    <a:lnTo>
                      <a:pt x="0" y="35"/>
                    </a:lnTo>
                    <a:lnTo>
                      <a:pt x="45" y="6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434960" y="3273480"/>
                <a:ext cx="733680" cy="165600"/>
              </a:xfrm>
              <a:custGeom>
                <a:avLst/>
                <a:gdLst/>
                <a:ahLst/>
                <a:rect l="0" t="0" r="r" b="b"/>
                <a:pathLst>
                  <a:path fill="none" w="2038" h="460">
                    <a:moveTo>
                      <a:pt x="2038" y="224"/>
                    </a:moveTo>
                    <a:lnTo>
                      <a:pt x="1066" y="46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434960" y="2843280"/>
                <a:ext cx="733680" cy="133560"/>
              </a:xfrm>
              <a:custGeom>
                <a:avLst/>
                <a:gdLst/>
                <a:ahLst/>
                <a:rect l="0" t="0" r="r" b="b"/>
                <a:pathLst>
                  <a:path fill="none" w="2038" h="371">
                    <a:moveTo>
                      <a:pt x="2038" y="225"/>
                    </a:moveTo>
                    <a:lnTo>
                      <a:pt x="1081" y="37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263760" y="2817720"/>
              <a:ext cx="733680" cy="973800"/>
              <a:chOff x="3263760" y="2817720"/>
              <a:chExt cx="733680" cy="973800"/>
            </a:xfrm>
          </p:grpSpPr>
          <p:sp>
            <p:nvSpPr>
              <p:cNvPr id="86" name=""/>
              <p:cNvSpPr/>
              <p:nvPr/>
            </p:nvSpPr>
            <p:spPr>
              <a:xfrm>
                <a:off x="3652920" y="2924280"/>
                <a:ext cx="316440" cy="867240"/>
              </a:xfrm>
              <a:custGeom>
                <a:avLst/>
                <a:gdLst/>
                <a:ahLst/>
                <a:rect l="0" t="0" r="r" b="b"/>
                <a:pathLst>
                  <a:path w="879" h="2409">
                    <a:moveTo>
                      <a:pt x="879" y="0"/>
                    </a:moveTo>
                    <a:lnTo>
                      <a:pt x="879" y="2147"/>
                    </a:lnTo>
                    <a:lnTo>
                      <a:pt x="0" y="2409"/>
                    </a:lnTo>
                    <a:lnTo>
                      <a:pt x="0" y="93"/>
                    </a:lnTo>
                    <a:lnTo>
                      <a:pt x="87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263760" y="2817720"/>
                <a:ext cx="705240" cy="124200"/>
              </a:xfrm>
              <a:custGeom>
                <a:avLst/>
                <a:gdLst/>
                <a:ahLst/>
                <a:rect l="0" t="0" r="r" b="b"/>
                <a:pathLst>
                  <a:path w="1959" h="345">
                    <a:moveTo>
                      <a:pt x="1959" y="257"/>
                    </a:moveTo>
                    <a:lnTo>
                      <a:pt x="912" y="0"/>
                    </a:lnTo>
                    <a:lnTo>
                      <a:pt x="0" y="82"/>
                    </a:lnTo>
                    <a:lnTo>
                      <a:pt x="1039" y="345"/>
                    </a:lnTo>
                    <a:lnTo>
                      <a:pt x="1959" y="25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263760" y="2852640"/>
                <a:ext cx="362160" cy="938520"/>
              </a:xfrm>
              <a:custGeom>
                <a:avLst/>
                <a:gdLst/>
                <a:ahLst/>
                <a:rect l="0" t="0" r="r" b="b"/>
                <a:pathLst>
                  <a:path w="1006" h="2607">
                    <a:moveTo>
                      <a:pt x="1006" y="289"/>
                    </a:moveTo>
                    <a:lnTo>
                      <a:pt x="0" y="0"/>
                    </a:lnTo>
                    <a:lnTo>
                      <a:pt x="0" y="2148"/>
                    </a:lnTo>
                    <a:lnTo>
                      <a:pt x="1006" y="2607"/>
                    </a:lnTo>
                    <a:lnTo>
                      <a:pt x="1006" y="28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81360" y="3321000"/>
                <a:ext cx="262440" cy="171720"/>
              </a:xfrm>
              <a:custGeom>
                <a:avLst/>
                <a:gdLst/>
                <a:ahLst/>
                <a:rect l="0" t="0" r="r" b="b"/>
                <a:pathLst>
                  <a:path w="729" h="477">
                    <a:moveTo>
                      <a:pt x="729" y="0"/>
                    </a:moveTo>
                    <a:lnTo>
                      <a:pt x="729" y="328"/>
                    </a:lnTo>
                    <a:lnTo>
                      <a:pt x="0" y="477"/>
                    </a:lnTo>
                    <a:lnTo>
                      <a:pt x="0" y="133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81360" y="3129120"/>
                <a:ext cx="262440" cy="168480"/>
              </a:xfrm>
              <a:custGeom>
                <a:avLst/>
                <a:gdLst/>
                <a:ahLst/>
                <a:rect l="0" t="0" r="r" b="b"/>
                <a:pathLst>
                  <a:path w="729" h="468">
                    <a:moveTo>
                      <a:pt x="729" y="0"/>
                    </a:moveTo>
                    <a:lnTo>
                      <a:pt x="729" y="330"/>
                    </a:lnTo>
                    <a:lnTo>
                      <a:pt x="0" y="468"/>
                    </a:lnTo>
                    <a:lnTo>
                      <a:pt x="0" y="103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681360" y="3263760"/>
                <a:ext cx="275040" cy="47880"/>
              </a:xfrm>
              <a:custGeom>
                <a:avLst/>
                <a:gdLst/>
                <a:ahLst/>
                <a:rect l="0" t="0" r="r" b="b"/>
                <a:pathLst>
                  <a:path w="764" h="133">
                    <a:moveTo>
                      <a:pt x="764" y="19"/>
                    </a:moveTo>
                    <a:lnTo>
                      <a:pt x="729" y="0"/>
                    </a:lnTo>
                    <a:lnTo>
                      <a:pt x="0" y="106"/>
                    </a:lnTo>
                    <a:lnTo>
                      <a:pt x="0" y="133"/>
                    </a:lnTo>
                    <a:lnTo>
                      <a:pt x="764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706920" y="3271680"/>
                <a:ext cx="278280" cy="60840"/>
              </a:xfrm>
              <a:custGeom>
                <a:avLst/>
                <a:gdLst/>
                <a:ahLst/>
                <a:rect l="0" t="0" r="r" b="b"/>
                <a:pathLst>
                  <a:path w="773" h="169">
                    <a:moveTo>
                      <a:pt x="731" y="0"/>
                    </a:moveTo>
                    <a:lnTo>
                      <a:pt x="773" y="54"/>
                    </a:lnTo>
                    <a:lnTo>
                      <a:pt x="35" y="169"/>
                    </a:lnTo>
                    <a:lnTo>
                      <a:pt x="0" y="111"/>
                    </a:lnTo>
                    <a:lnTo>
                      <a:pt x="73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3297240"/>
                <a:ext cx="278280" cy="54360"/>
              </a:xfrm>
              <a:custGeom>
                <a:avLst/>
                <a:gdLst/>
                <a:ahLst/>
                <a:rect l="0" t="0" r="r" b="b"/>
                <a:pathLst>
                  <a:path w="773" h="151">
                    <a:moveTo>
                      <a:pt x="773" y="0"/>
                    </a:moveTo>
                    <a:lnTo>
                      <a:pt x="731" y="33"/>
                    </a:lnTo>
                    <a:lnTo>
                      <a:pt x="0" y="151"/>
                    </a:lnTo>
                    <a:lnTo>
                      <a:pt x="35" y="114"/>
                    </a:lnTo>
                    <a:lnTo>
                      <a:pt x="773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691080" y="3324240"/>
                <a:ext cx="16200" cy="27360"/>
              </a:xfrm>
              <a:custGeom>
                <a:avLst/>
                <a:gdLst/>
                <a:ahLst/>
                <a:rect l="0" t="0" r="r" b="b"/>
                <a:pathLst>
                  <a:path w="45" h="76">
                    <a:moveTo>
                      <a:pt x="45" y="0"/>
                    </a:moveTo>
                    <a:lnTo>
                      <a:pt x="0" y="40"/>
                    </a:lnTo>
                    <a:lnTo>
                      <a:pt x="45" y="7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81360" y="3456000"/>
                <a:ext cx="275040" cy="52920"/>
              </a:xfrm>
              <a:custGeom>
                <a:avLst/>
                <a:gdLst/>
                <a:ahLst/>
                <a:rect l="0" t="0" r="r" b="b"/>
                <a:pathLst>
                  <a:path w="764" h="147">
                    <a:moveTo>
                      <a:pt x="729" y="0"/>
                    </a:moveTo>
                    <a:lnTo>
                      <a:pt x="764" y="20"/>
                    </a:lnTo>
                    <a:lnTo>
                      <a:pt x="0" y="147"/>
                    </a:lnTo>
                    <a:lnTo>
                      <a:pt x="0" y="118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43280" y="2986200"/>
                <a:ext cx="135360" cy="41760"/>
              </a:xfrm>
              <a:custGeom>
                <a:avLst/>
                <a:gdLst/>
                <a:ahLst/>
                <a:rect l="0" t="0" r="r" b="b"/>
                <a:pathLst>
                  <a:path w="376" h="116">
                    <a:moveTo>
                      <a:pt x="376" y="0"/>
                    </a:moveTo>
                    <a:lnTo>
                      <a:pt x="338" y="37"/>
                    </a:lnTo>
                    <a:lnTo>
                      <a:pt x="376" y="74"/>
                    </a:lnTo>
                    <a:lnTo>
                      <a:pt x="0" y="116"/>
                    </a:lnTo>
                    <a:lnTo>
                      <a:pt x="0" y="34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681360" y="2989440"/>
                <a:ext cx="275040" cy="36720"/>
              </a:xfrm>
              <a:custGeom>
                <a:avLst/>
                <a:gdLst/>
                <a:ahLst/>
                <a:rect l="0" t="0" r="r" b="b"/>
                <a:pathLst>
                  <a:path w="764" h="102">
                    <a:moveTo>
                      <a:pt x="764" y="0"/>
                    </a:moveTo>
                    <a:lnTo>
                      <a:pt x="0" y="76"/>
                    </a:lnTo>
                    <a:lnTo>
                      <a:pt x="0" y="102"/>
                    </a:lnTo>
                    <a:lnTo>
                      <a:pt x="764" y="22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689280" y="2995560"/>
                <a:ext cx="254520" cy="25920"/>
              </a:xfrm>
              <a:custGeom>
                <a:avLst/>
                <a:gdLst/>
                <a:ahLst/>
                <a:rect l="0" t="0" r="r" b="b"/>
                <a:pathLst>
                  <a:path w="707" h="72">
                    <a:moveTo>
                      <a:pt x="707" y="0"/>
                    </a:moveTo>
                    <a:lnTo>
                      <a:pt x="0" y="60"/>
                    </a:lnTo>
                    <a:lnTo>
                      <a:pt x="0" y="72"/>
                    </a:lnTo>
                    <a:lnTo>
                      <a:pt x="707" y="6"/>
                    </a:lnTo>
                    <a:lnTo>
                      <a:pt x="70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492360" y="3713040"/>
                <a:ext cx="9720" cy="39960"/>
              </a:xfrm>
              <a:custGeom>
                <a:avLst/>
                <a:gdLst/>
                <a:ahLst/>
                <a:rect l="0" t="0" r="r" b="b"/>
                <a:pathLst>
                  <a:path w="27" h="111">
                    <a:moveTo>
                      <a:pt x="27" y="81"/>
                    </a:moveTo>
                    <a:lnTo>
                      <a:pt x="0" y="111"/>
                    </a:lnTo>
                    <a:lnTo>
                      <a:pt x="27" y="0"/>
                    </a:lnTo>
                    <a:lnTo>
                      <a:pt x="27" y="8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440160" y="3692520"/>
                <a:ext cx="62280" cy="60840"/>
              </a:xfrm>
              <a:custGeom>
                <a:avLst/>
                <a:gdLst/>
                <a:ahLst/>
                <a:rect l="0" t="0" r="r" b="b"/>
                <a:pathLst>
                  <a:path w="173" h="169">
                    <a:moveTo>
                      <a:pt x="173" y="36"/>
                    </a:moveTo>
                    <a:lnTo>
                      <a:pt x="105" y="169"/>
                    </a:lnTo>
                    <a:lnTo>
                      <a:pt x="0" y="115"/>
                    </a:lnTo>
                    <a:lnTo>
                      <a:pt x="63" y="0"/>
                    </a:lnTo>
                    <a:lnTo>
                      <a:pt x="173" y="3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35400" y="3645000"/>
                <a:ext cx="8280" cy="36720"/>
              </a:xfrm>
              <a:custGeom>
                <a:avLst/>
                <a:gdLst/>
                <a:ahLst/>
                <a:rect l="0" t="0" r="r" b="b"/>
                <a:pathLst>
                  <a:path w="23" h="102">
                    <a:moveTo>
                      <a:pt x="23" y="77"/>
                    </a:moveTo>
                    <a:lnTo>
                      <a:pt x="0" y="102"/>
                    </a:lnTo>
                    <a:lnTo>
                      <a:pt x="23" y="0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287880" y="3629160"/>
                <a:ext cx="55800" cy="52920"/>
              </a:xfrm>
              <a:custGeom>
                <a:avLst/>
                <a:gdLst/>
                <a:ahLst/>
                <a:rect l="0" t="0" r="r" b="b"/>
                <a:pathLst>
                  <a:path w="155" h="147">
                    <a:moveTo>
                      <a:pt x="155" y="32"/>
                    </a:moveTo>
                    <a:lnTo>
                      <a:pt x="88" y="147"/>
                    </a:lnTo>
                    <a:lnTo>
                      <a:pt x="0" y="98"/>
                    </a:lnTo>
                    <a:lnTo>
                      <a:pt x="56" y="0"/>
                    </a:lnTo>
                    <a:lnTo>
                      <a:pt x="155" y="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643200" y="3529080"/>
                <a:ext cx="325800" cy="86040"/>
              </a:xfrm>
              <a:custGeom>
                <a:avLst/>
                <a:gdLst/>
                <a:ahLst/>
                <a:rect l="0" t="0" r="r" b="b"/>
                <a:pathLst>
                  <a:path w="905" h="239">
                    <a:moveTo>
                      <a:pt x="905" y="44"/>
                    </a:moveTo>
                    <a:lnTo>
                      <a:pt x="21" y="239"/>
                    </a:lnTo>
                    <a:lnTo>
                      <a:pt x="0" y="180"/>
                    </a:lnTo>
                    <a:lnTo>
                      <a:pt x="884" y="0"/>
                    </a:lnTo>
                    <a:lnTo>
                      <a:pt x="905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643200" y="3508200"/>
                <a:ext cx="325800" cy="82800"/>
              </a:xfrm>
              <a:custGeom>
                <a:avLst/>
                <a:gdLst/>
                <a:ahLst/>
                <a:rect l="0" t="0" r="r" b="b"/>
                <a:pathLst>
                  <a:path w="905" h="230">
                    <a:moveTo>
                      <a:pt x="884" y="44"/>
                    </a:moveTo>
                    <a:lnTo>
                      <a:pt x="0" y="230"/>
                    </a:lnTo>
                    <a:lnTo>
                      <a:pt x="21" y="186"/>
                    </a:lnTo>
                    <a:lnTo>
                      <a:pt x="905" y="0"/>
                    </a:lnTo>
                    <a:lnTo>
                      <a:pt x="884" y="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643200" y="3568680"/>
                <a:ext cx="325800" cy="92520"/>
              </a:xfrm>
              <a:custGeom>
                <a:avLst/>
                <a:gdLst/>
                <a:ahLst/>
                <a:rect l="0" t="0" r="r" b="b"/>
                <a:pathLst>
                  <a:path w="905" h="257">
                    <a:moveTo>
                      <a:pt x="905" y="51"/>
                    </a:moveTo>
                    <a:lnTo>
                      <a:pt x="21" y="257"/>
                    </a:lnTo>
                    <a:lnTo>
                      <a:pt x="0" y="201"/>
                    </a:lnTo>
                    <a:lnTo>
                      <a:pt x="884" y="0"/>
                    </a:lnTo>
                    <a:lnTo>
                      <a:pt x="905" y="5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643200" y="3549600"/>
                <a:ext cx="325800" cy="82800"/>
              </a:xfrm>
              <a:custGeom>
                <a:avLst/>
                <a:gdLst/>
                <a:ahLst/>
                <a:rect l="0" t="0" r="r" b="b"/>
                <a:pathLst>
                  <a:path w="905" h="230">
                    <a:moveTo>
                      <a:pt x="884" y="41"/>
                    </a:moveTo>
                    <a:lnTo>
                      <a:pt x="0" y="230"/>
                    </a:lnTo>
                    <a:lnTo>
                      <a:pt x="21" y="189"/>
                    </a:lnTo>
                    <a:lnTo>
                      <a:pt x="905" y="0"/>
                    </a:lnTo>
                    <a:lnTo>
                      <a:pt x="884" y="4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643200" y="3613320"/>
                <a:ext cx="325800" cy="86040"/>
              </a:xfrm>
              <a:custGeom>
                <a:avLst/>
                <a:gdLst/>
                <a:ahLst/>
                <a:rect l="0" t="0" r="r" b="b"/>
                <a:pathLst>
                  <a:path w="905" h="239">
                    <a:moveTo>
                      <a:pt x="905" y="35"/>
                    </a:moveTo>
                    <a:lnTo>
                      <a:pt x="21" y="239"/>
                    </a:lnTo>
                    <a:lnTo>
                      <a:pt x="0" y="180"/>
                    </a:lnTo>
                    <a:lnTo>
                      <a:pt x="884" y="0"/>
                    </a:lnTo>
                    <a:lnTo>
                      <a:pt x="905" y="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643200" y="3586320"/>
                <a:ext cx="325800" cy="90720"/>
              </a:xfrm>
              <a:custGeom>
                <a:avLst/>
                <a:gdLst/>
                <a:ahLst/>
                <a:rect l="0" t="0" r="r" b="b"/>
                <a:pathLst>
                  <a:path w="905" h="252">
                    <a:moveTo>
                      <a:pt x="884" y="45"/>
                    </a:moveTo>
                    <a:lnTo>
                      <a:pt x="0" y="252"/>
                    </a:lnTo>
                    <a:lnTo>
                      <a:pt x="21" y="206"/>
                    </a:lnTo>
                    <a:lnTo>
                      <a:pt x="905" y="0"/>
                    </a:lnTo>
                    <a:lnTo>
                      <a:pt x="884" y="4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43200" y="3651120"/>
                <a:ext cx="325800" cy="89280"/>
              </a:xfrm>
              <a:custGeom>
                <a:avLst/>
                <a:gdLst/>
                <a:ahLst/>
                <a:rect l="0" t="0" r="r" b="b"/>
                <a:pathLst>
                  <a:path w="905" h="248">
                    <a:moveTo>
                      <a:pt x="905" y="41"/>
                    </a:moveTo>
                    <a:lnTo>
                      <a:pt x="21" y="248"/>
                    </a:lnTo>
                    <a:lnTo>
                      <a:pt x="0" y="194"/>
                    </a:lnTo>
                    <a:lnTo>
                      <a:pt x="884" y="0"/>
                    </a:lnTo>
                    <a:lnTo>
                      <a:pt x="905" y="4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43200" y="3633840"/>
                <a:ext cx="325800" cy="84600"/>
              </a:xfrm>
              <a:custGeom>
                <a:avLst/>
                <a:gdLst/>
                <a:ahLst/>
                <a:rect l="0" t="0" r="r" b="b"/>
                <a:pathLst>
                  <a:path w="905" h="235">
                    <a:moveTo>
                      <a:pt x="884" y="35"/>
                    </a:moveTo>
                    <a:lnTo>
                      <a:pt x="0" y="235"/>
                    </a:lnTo>
                    <a:lnTo>
                      <a:pt x="21" y="195"/>
                    </a:lnTo>
                    <a:lnTo>
                      <a:pt x="905" y="0"/>
                    </a:lnTo>
                    <a:lnTo>
                      <a:pt x="884" y="3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706920" y="3076560"/>
                <a:ext cx="278280" cy="49680"/>
              </a:xfrm>
              <a:custGeom>
                <a:avLst/>
                <a:gdLst/>
                <a:ahLst/>
                <a:rect l="0" t="0" r="r" b="b"/>
                <a:pathLst>
                  <a:path w="773" h="138">
                    <a:moveTo>
                      <a:pt x="731" y="0"/>
                    </a:moveTo>
                    <a:lnTo>
                      <a:pt x="773" y="53"/>
                    </a:lnTo>
                    <a:lnTo>
                      <a:pt x="35" y="138"/>
                    </a:lnTo>
                    <a:lnTo>
                      <a:pt x="0" y="81"/>
                    </a:lnTo>
                    <a:lnTo>
                      <a:pt x="73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706920" y="3103560"/>
                <a:ext cx="278280" cy="39960"/>
              </a:xfrm>
              <a:custGeom>
                <a:avLst/>
                <a:gdLst/>
                <a:ahLst/>
                <a:rect l="0" t="0" r="r" b="b"/>
                <a:pathLst>
                  <a:path w="773" h="111">
                    <a:moveTo>
                      <a:pt x="773" y="0"/>
                    </a:moveTo>
                    <a:lnTo>
                      <a:pt x="731" y="34"/>
                    </a:lnTo>
                    <a:lnTo>
                      <a:pt x="0" y="111"/>
                    </a:lnTo>
                    <a:lnTo>
                      <a:pt x="35" y="77"/>
                    </a:lnTo>
                    <a:lnTo>
                      <a:pt x="773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91080" y="3119400"/>
                <a:ext cx="16200" cy="24120"/>
              </a:xfrm>
              <a:custGeom>
                <a:avLst/>
                <a:gdLst/>
                <a:ahLst/>
                <a:rect l="0" t="0" r="r" b="b"/>
                <a:pathLst>
                  <a:path w="45" h="67">
                    <a:moveTo>
                      <a:pt x="45" y="0"/>
                    </a:moveTo>
                    <a:lnTo>
                      <a:pt x="0" y="35"/>
                    </a:lnTo>
                    <a:lnTo>
                      <a:pt x="45" y="6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263760" y="3425760"/>
                <a:ext cx="733680" cy="165600"/>
              </a:xfrm>
              <a:custGeom>
                <a:avLst/>
                <a:gdLst/>
                <a:ahLst/>
                <a:rect l="0" t="0" r="r" b="b"/>
                <a:pathLst>
                  <a:path fill="none" w="2038" h="460">
                    <a:moveTo>
                      <a:pt x="2038" y="224"/>
                    </a:moveTo>
                    <a:lnTo>
                      <a:pt x="1066" y="46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263760" y="2995560"/>
                <a:ext cx="733680" cy="133560"/>
              </a:xfrm>
              <a:custGeom>
                <a:avLst/>
                <a:gdLst/>
                <a:ahLst/>
                <a:rect l="0" t="0" r="r" b="b"/>
                <a:pathLst>
                  <a:path fill="none" w="2038" h="371">
                    <a:moveTo>
                      <a:pt x="2038" y="225"/>
                    </a:moveTo>
                    <a:lnTo>
                      <a:pt x="1081" y="37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2273400" y="3808440"/>
              <a:ext cx="733680" cy="973440"/>
              <a:chOff x="2273400" y="3808440"/>
              <a:chExt cx="733680" cy="973440"/>
            </a:xfrm>
          </p:grpSpPr>
          <p:sp>
            <p:nvSpPr>
              <p:cNvPr id="117" name=""/>
              <p:cNvSpPr/>
              <p:nvPr/>
            </p:nvSpPr>
            <p:spPr>
              <a:xfrm>
                <a:off x="2662200" y="3914640"/>
                <a:ext cx="316440" cy="867240"/>
              </a:xfrm>
              <a:custGeom>
                <a:avLst/>
                <a:gdLst/>
                <a:ahLst/>
                <a:rect l="0" t="0" r="r" b="b"/>
                <a:pathLst>
                  <a:path w="879" h="2409">
                    <a:moveTo>
                      <a:pt x="879" y="0"/>
                    </a:moveTo>
                    <a:lnTo>
                      <a:pt x="879" y="2147"/>
                    </a:lnTo>
                    <a:lnTo>
                      <a:pt x="0" y="2409"/>
                    </a:lnTo>
                    <a:lnTo>
                      <a:pt x="0" y="93"/>
                    </a:lnTo>
                    <a:lnTo>
                      <a:pt x="879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73400" y="3808440"/>
                <a:ext cx="705240" cy="124200"/>
              </a:xfrm>
              <a:custGeom>
                <a:avLst/>
                <a:gdLst/>
                <a:ahLst/>
                <a:rect l="0" t="0" r="r" b="b"/>
                <a:pathLst>
                  <a:path w="1959" h="345">
                    <a:moveTo>
                      <a:pt x="1959" y="257"/>
                    </a:moveTo>
                    <a:lnTo>
                      <a:pt x="912" y="0"/>
                    </a:lnTo>
                    <a:lnTo>
                      <a:pt x="0" y="82"/>
                    </a:lnTo>
                    <a:lnTo>
                      <a:pt x="1039" y="345"/>
                    </a:lnTo>
                    <a:lnTo>
                      <a:pt x="1959" y="257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73400" y="3843360"/>
                <a:ext cx="362160" cy="938520"/>
              </a:xfrm>
              <a:custGeom>
                <a:avLst/>
                <a:gdLst/>
                <a:ahLst/>
                <a:rect l="0" t="0" r="r" b="b"/>
                <a:pathLst>
                  <a:path w="1006" h="2607">
                    <a:moveTo>
                      <a:pt x="1006" y="289"/>
                    </a:moveTo>
                    <a:lnTo>
                      <a:pt x="0" y="0"/>
                    </a:lnTo>
                    <a:lnTo>
                      <a:pt x="0" y="2148"/>
                    </a:lnTo>
                    <a:lnTo>
                      <a:pt x="1006" y="2607"/>
                    </a:lnTo>
                    <a:lnTo>
                      <a:pt x="1006" y="289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690640" y="4311720"/>
                <a:ext cx="262440" cy="171720"/>
              </a:xfrm>
              <a:custGeom>
                <a:avLst/>
                <a:gdLst/>
                <a:ahLst/>
                <a:rect l="0" t="0" r="r" b="b"/>
                <a:pathLst>
                  <a:path w="729" h="477">
                    <a:moveTo>
                      <a:pt x="729" y="0"/>
                    </a:moveTo>
                    <a:lnTo>
                      <a:pt x="729" y="328"/>
                    </a:lnTo>
                    <a:lnTo>
                      <a:pt x="0" y="477"/>
                    </a:lnTo>
                    <a:lnTo>
                      <a:pt x="0" y="133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690640" y="4119480"/>
                <a:ext cx="262440" cy="168480"/>
              </a:xfrm>
              <a:custGeom>
                <a:avLst/>
                <a:gdLst/>
                <a:ahLst/>
                <a:rect l="0" t="0" r="r" b="b"/>
                <a:pathLst>
                  <a:path w="729" h="468">
                    <a:moveTo>
                      <a:pt x="729" y="0"/>
                    </a:moveTo>
                    <a:lnTo>
                      <a:pt x="729" y="330"/>
                    </a:lnTo>
                    <a:lnTo>
                      <a:pt x="0" y="468"/>
                    </a:lnTo>
                    <a:lnTo>
                      <a:pt x="0" y="103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690640" y="4254480"/>
                <a:ext cx="275040" cy="47880"/>
              </a:xfrm>
              <a:custGeom>
                <a:avLst/>
                <a:gdLst/>
                <a:ahLst/>
                <a:rect l="0" t="0" r="r" b="b"/>
                <a:pathLst>
                  <a:path w="764" h="133">
                    <a:moveTo>
                      <a:pt x="764" y="19"/>
                    </a:moveTo>
                    <a:lnTo>
                      <a:pt x="729" y="0"/>
                    </a:lnTo>
                    <a:lnTo>
                      <a:pt x="0" y="106"/>
                    </a:lnTo>
                    <a:lnTo>
                      <a:pt x="0" y="133"/>
                    </a:lnTo>
                    <a:lnTo>
                      <a:pt x="764" y="19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716200" y="4262400"/>
                <a:ext cx="278280" cy="60840"/>
              </a:xfrm>
              <a:custGeom>
                <a:avLst/>
                <a:gdLst/>
                <a:ahLst/>
                <a:rect l="0" t="0" r="r" b="b"/>
                <a:pathLst>
                  <a:path w="773" h="169">
                    <a:moveTo>
                      <a:pt x="731" y="0"/>
                    </a:moveTo>
                    <a:lnTo>
                      <a:pt x="773" y="54"/>
                    </a:lnTo>
                    <a:lnTo>
                      <a:pt x="35" y="169"/>
                    </a:lnTo>
                    <a:lnTo>
                      <a:pt x="0" y="111"/>
                    </a:lnTo>
                    <a:lnTo>
                      <a:pt x="73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16200" y="4287960"/>
                <a:ext cx="278280" cy="54360"/>
              </a:xfrm>
              <a:custGeom>
                <a:avLst/>
                <a:gdLst/>
                <a:ahLst/>
                <a:rect l="0" t="0" r="r" b="b"/>
                <a:pathLst>
                  <a:path w="773" h="151">
                    <a:moveTo>
                      <a:pt x="773" y="0"/>
                    </a:moveTo>
                    <a:lnTo>
                      <a:pt x="731" y="33"/>
                    </a:lnTo>
                    <a:lnTo>
                      <a:pt x="0" y="151"/>
                    </a:lnTo>
                    <a:lnTo>
                      <a:pt x="35" y="114"/>
                    </a:lnTo>
                    <a:lnTo>
                      <a:pt x="773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700360" y="4314960"/>
                <a:ext cx="16200" cy="27360"/>
              </a:xfrm>
              <a:custGeom>
                <a:avLst/>
                <a:gdLst/>
                <a:ahLst/>
                <a:rect l="0" t="0" r="r" b="b"/>
                <a:pathLst>
                  <a:path w="45" h="76">
                    <a:moveTo>
                      <a:pt x="45" y="0"/>
                    </a:moveTo>
                    <a:lnTo>
                      <a:pt x="0" y="40"/>
                    </a:lnTo>
                    <a:lnTo>
                      <a:pt x="45" y="76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ada391"/>
              </a:solidFill>
              <a:ln w="0">
                <a:noFill/>
              </a:ln>
            </p:spPr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690640" y="4446720"/>
                <a:ext cx="275040" cy="52920"/>
              </a:xfrm>
              <a:custGeom>
                <a:avLst/>
                <a:gdLst/>
                <a:ahLst/>
                <a:rect l="0" t="0" r="r" b="b"/>
                <a:pathLst>
                  <a:path w="764" h="147">
                    <a:moveTo>
                      <a:pt x="729" y="0"/>
                    </a:moveTo>
                    <a:lnTo>
                      <a:pt x="764" y="20"/>
                    </a:lnTo>
                    <a:lnTo>
                      <a:pt x="0" y="147"/>
                    </a:lnTo>
                    <a:lnTo>
                      <a:pt x="0" y="118"/>
                    </a:lnTo>
                    <a:lnTo>
                      <a:pt x="729" y="0"/>
                    </a:lnTo>
                    <a:close/>
                  </a:path>
                </a:pathLst>
              </a:custGeom>
              <a:solidFill>
                <a:srgbClr val="f2f2f2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52560" y="3976560"/>
                <a:ext cx="135360" cy="41760"/>
              </a:xfrm>
              <a:custGeom>
                <a:avLst/>
                <a:gdLst/>
                <a:ahLst/>
                <a:rect l="0" t="0" r="r" b="b"/>
                <a:pathLst>
                  <a:path w="376" h="116">
                    <a:moveTo>
                      <a:pt x="376" y="0"/>
                    </a:moveTo>
                    <a:lnTo>
                      <a:pt x="338" y="37"/>
                    </a:lnTo>
                    <a:lnTo>
                      <a:pt x="376" y="74"/>
                    </a:lnTo>
                    <a:lnTo>
                      <a:pt x="0" y="116"/>
                    </a:lnTo>
                    <a:lnTo>
                      <a:pt x="0" y="34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8c8c8c"/>
              </a:solidFill>
              <a:ln w="0">
                <a:noFill/>
              </a:ln>
            </p:spPr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90640" y="3979800"/>
                <a:ext cx="275040" cy="36720"/>
              </a:xfrm>
              <a:custGeom>
                <a:avLst/>
                <a:gdLst/>
                <a:ahLst/>
                <a:rect l="0" t="0" r="r" b="b"/>
                <a:pathLst>
                  <a:path w="764" h="102">
                    <a:moveTo>
                      <a:pt x="764" y="0"/>
                    </a:moveTo>
                    <a:lnTo>
                      <a:pt x="0" y="76"/>
                    </a:lnTo>
                    <a:lnTo>
                      <a:pt x="0" y="102"/>
                    </a:lnTo>
                    <a:lnTo>
                      <a:pt x="764" y="22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698920" y="3986280"/>
                <a:ext cx="254520" cy="25920"/>
              </a:xfrm>
              <a:custGeom>
                <a:avLst/>
                <a:gdLst/>
                <a:ahLst/>
                <a:rect l="0" t="0" r="r" b="b"/>
                <a:pathLst>
                  <a:path w="707" h="72">
                    <a:moveTo>
                      <a:pt x="707" y="0"/>
                    </a:moveTo>
                    <a:lnTo>
                      <a:pt x="0" y="60"/>
                    </a:lnTo>
                    <a:lnTo>
                      <a:pt x="0" y="72"/>
                    </a:lnTo>
                    <a:lnTo>
                      <a:pt x="707" y="6"/>
                    </a:lnTo>
                    <a:lnTo>
                      <a:pt x="70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02000" y="4703760"/>
                <a:ext cx="9720" cy="39960"/>
              </a:xfrm>
              <a:custGeom>
                <a:avLst/>
                <a:gdLst/>
                <a:ahLst/>
                <a:rect l="0" t="0" r="r" b="b"/>
                <a:pathLst>
                  <a:path w="27" h="111">
                    <a:moveTo>
                      <a:pt x="27" y="81"/>
                    </a:moveTo>
                    <a:lnTo>
                      <a:pt x="0" y="111"/>
                    </a:lnTo>
                    <a:lnTo>
                      <a:pt x="27" y="0"/>
                    </a:lnTo>
                    <a:lnTo>
                      <a:pt x="27" y="8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449440" y="4683240"/>
                <a:ext cx="62280" cy="60840"/>
              </a:xfrm>
              <a:custGeom>
                <a:avLst/>
                <a:gdLst/>
                <a:ahLst/>
                <a:rect l="0" t="0" r="r" b="b"/>
                <a:pathLst>
                  <a:path w="173" h="169">
                    <a:moveTo>
                      <a:pt x="173" y="36"/>
                    </a:moveTo>
                    <a:lnTo>
                      <a:pt x="105" y="169"/>
                    </a:lnTo>
                    <a:lnTo>
                      <a:pt x="0" y="115"/>
                    </a:lnTo>
                    <a:lnTo>
                      <a:pt x="63" y="0"/>
                    </a:lnTo>
                    <a:lnTo>
                      <a:pt x="173" y="36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344680" y="4635360"/>
                <a:ext cx="8280" cy="36720"/>
              </a:xfrm>
              <a:custGeom>
                <a:avLst/>
                <a:gdLst/>
                <a:ahLst/>
                <a:rect l="0" t="0" r="r" b="b"/>
                <a:pathLst>
                  <a:path w="23" h="102">
                    <a:moveTo>
                      <a:pt x="23" y="77"/>
                    </a:moveTo>
                    <a:lnTo>
                      <a:pt x="0" y="102"/>
                    </a:lnTo>
                    <a:lnTo>
                      <a:pt x="23" y="0"/>
                    </a:lnTo>
                    <a:lnTo>
                      <a:pt x="23" y="7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297160" y="4619520"/>
                <a:ext cx="55800" cy="52920"/>
              </a:xfrm>
              <a:custGeom>
                <a:avLst/>
                <a:gdLst/>
                <a:ahLst/>
                <a:rect l="0" t="0" r="r" b="b"/>
                <a:pathLst>
                  <a:path w="155" h="147">
                    <a:moveTo>
                      <a:pt x="155" y="32"/>
                    </a:moveTo>
                    <a:lnTo>
                      <a:pt x="88" y="147"/>
                    </a:lnTo>
                    <a:lnTo>
                      <a:pt x="0" y="98"/>
                    </a:lnTo>
                    <a:lnTo>
                      <a:pt x="56" y="0"/>
                    </a:lnTo>
                    <a:lnTo>
                      <a:pt x="155" y="32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652840" y="4519440"/>
                <a:ext cx="325800" cy="86040"/>
              </a:xfrm>
              <a:custGeom>
                <a:avLst/>
                <a:gdLst/>
                <a:ahLst/>
                <a:rect l="0" t="0" r="r" b="b"/>
                <a:pathLst>
                  <a:path w="905" h="239">
                    <a:moveTo>
                      <a:pt x="905" y="44"/>
                    </a:moveTo>
                    <a:lnTo>
                      <a:pt x="21" y="239"/>
                    </a:lnTo>
                    <a:lnTo>
                      <a:pt x="0" y="180"/>
                    </a:lnTo>
                    <a:lnTo>
                      <a:pt x="884" y="0"/>
                    </a:lnTo>
                    <a:lnTo>
                      <a:pt x="905" y="44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652840" y="4498920"/>
                <a:ext cx="325800" cy="82800"/>
              </a:xfrm>
              <a:custGeom>
                <a:avLst/>
                <a:gdLst/>
                <a:ahLst/>
                <a:rect l="0" t="0" r="r" b="b"/>
                <a:pathLst>
                  <a:path w="905" h="230">
                    <a:moveTo>
                      <a:pt x="884" y="44"/>
                    </a:moveTo>
                    <a:lnTo>
                      <a:pt x="0" y="230"/>
                    </a:lnTo>
                    <a:lnTo>
                      <a:pt x="21" y="186"/>
                    </a:lnTo>
                    <a:lnTo>
                      <a:pt x="905" y="0"/>
                    </a:lnTo>
                    <a:lnTo>
                      <a:pt x="884" y="4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52840" y="4559400"/>
                <a:ext cx="325800" cy="92520"/>
              </a:xfrm>
              <a:custGeom>
                <a:avLst/>
                <a:gdLst/>
                <a:ahLst/>
                <a:rect l="0" t="0" r="r" b="b"/>
                <a:pathLst>
                  <a:path w="905" h="257">
                    <a:moveTo>
                      <a:pt x="905" y="51"/>
                    </a:moveTo>
                    <a:lnTo>
                      <a:pt x="21" y="257"/>
                    </a:lnTo>
                    <a:lnTo>
                      <a:pt x="0" y="201"/>
                    </a:lnTo>
                    <a:lnTo>
                      <a:pt x="884" y="0"/>
                    </a:lnTo>
                    <a:lnTo>
                      <a:pt x="905" y="5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52840" y="4540320"/>
                <a:ext cx="325800" cy="82800"/>
              </a:xfrm>
              <a:custGeom>
                <a:avLst/>
                <a:gdLst/>
                <a:ahLst/>
                <a:rect l="0" t="0" r="r" b="b"/>
                <a:pathLst>
                  <a:path w="905" h="230">
                    <a:moveTo>
                      <a:pt x="884" y="41"/>
                    </a:moveTo>
                    <a:lnTo>
                      <a:pt x="0" y="230"/>
                    </a:lnTo>
                    <a:lnTo>
                      <a:pt x="21" y="189"/>
                    </a:lnTo>
                    <a:lnTo>
                      <a:pt x="905" y="0"/>
                    </a:lnTo>
                    <a:lnTo>
                      <a:pt x="884" y="4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52840" y="4603680"/>
                <a:ext cx="325800" cy="86040"/>
              </a:xfrm>
              <a:custGeom>
                <a:avLst/>
                <a:gdLst/>
                <a:ahLst/>
                <a:rect l="0" t="0" r="r" b="b"/>
                <a:pathLst>
                  <a:path w="905" h="239">
                    <a:moveTo>
                      <a:pt x="905" y="35"/>
                    </a:moveTo>
                    <a:lnTo>
                      <a:pt x="21" y="239"/>
                    </a:lnTo>
                    <a:lnTo>
                      <a:pt x="0" y="180"/>
                    </a:lnTo>
                    <a:lnTo>
                      <a:pt x="884" y="0"/>
                    </a:lnTo>
                    <a:lnTo>
                      <a:pt x="905" y="3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52840" y="4576680"/>
                <a:ext cx="325800" cy="90720"/>
              </a:xfrm>
              <a:custGeom>
                <a:avLst/>
                <a:gdLst/>
                <a:ahLst/>
                <a:rect l="0" t="0" r="r" b="b"/>
                <a:pathLst>
                  <a:path w="905" h="252">
                    <a:moveTo>
                      <a:pt x="884" y="45"/>
                    </a:moveTo>
                    <a:lnTo>
                      <a:pt x="0" y="252"/>
                    </a:lnTo>
                    <a:lnTo>
                      <a:pt x="21" y="206"/>
                    </a:lnTo>
                    <a:lnTo>
                      <a:pt x="905" y="0"/>
                    </a:lnTo>
                    <a:lnTo>
                      <a:pt x="884" y="4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52840" y="4641840"/>
                <a:ext cx="325800" cy="89280"/>
              </a:xfrm>
              <a:custGeom>
                <a:avLst/>
                <a:gdLst/>
                <a:ahLst/>
                <a:rect l="0" t="0" r="r" b="b"/>
                <a:pathLst>
                  <a:path w="905" h="248">
                    <a:moveTo>
                      <a:pt x="905" y="41"/>
                    </a:moveTo>
                    <a:lnTo>
                      <a:pt x="21" y="248"/>
                    </a:lnTo>
                    <a:lnTo>
                      <a:pt x="0" y="194"/>
                    </a:lnTo>
                    <a:lnTo>
                      <a:pt x="884" y="0"/>
                    </a:lnTo>
                    <a:lnTo>
                      <a:pt x="905" y="4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652840" y="4624560"/>
                <a:ext cx="325800" cy="84600"/>
              </a:xfrm>
              <a:custGeom>
                <a:avLst/>
                <a:gdLst/>
                <a:ahLst/>
                <a:rect l="0" t="0" r="r" b="b"/>
                <a:pathLst>
                  <a:path w="905" h="235">
                    <a:moveTo>
                      <a:pt x="884" y="35"/>
                    </a:moveTo>
                    <a:lnTo>
                      <a:pt x="0" y="235"/>
                    </a:lnTo>
                    <a:lnTo>
                      <a:pt x="21" y="195"/>
                    </a:lnTo>
                    <a:lnTo>
                      <a:pt x="905" y="0"/>
                    </a:lnTo>
                    <a:lnTo>
                      <a:pt x="884" y="35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16200" y="4067280"/>
                <a:ext cx="278280" cy="49680"/>
              </a:xfrm>
              <a:custGeom>
                <a:avLst/>
                <a:gdLst/>
                <a:ahLst/>
                <a:rect l="0" t="0" r="r" b="b"/>
                <a:pathLst>
                  <a:path w="773" h="138">
                    <a:moveTo>
                      <a:pt x="731" y="0"/>
                    </a:moveTo>
                    <a:lnTo>
                      <a:pt x="773" y="53"/>
                    </a:lnTo>
                    <a:lnTo>
                      <a:pt x="35" y="138"/>
                    </a:lnTo>
                    <a:lnTo>
                      <a:pt x="0" y="81"/>
                    </a:lnTo>
                    <a:lnTo>
                      <a:pt x="731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716200" y="4094280"/>
                <a:ext cx="278280" cy="39960"/>
              </a:xfrm>
              <a:custGeom>
                <a:avLst/>
                <a:gdLst/>
                <a:ahLst/>
                <a:rect l="0" t="0" r="r" b="b"/>
                <a:pathLst>
                  <a:path w="773" h="111">
                    <a:moveTo>
                      <a:pt x="773" y="0"/>
                    </a:moveTo>
                    <a:lnTo>
                      <a:pt x="731" y="34"/>
                    </a:lnTo>
                    <a:lnTo>
                      <a:pt x="0" y="111"/>
                    </a:lnTo>
                    <a:lnTo>
                      <a:pt x="35" y="77"/>
                    </a:lnTo>
                    <a:lnTo>
                      <a:pt x="773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00360" y="4110120"/>
                <a:ext cx="16200" cy="24120"/>
              </a:xfrm>
              <a:custGeom>
                <a:avLst/>
                <a:gdLst/>
                <a:ahLst/>
                <a:rect l="0" t="0" r="r" b="b"/>
                <a:pathLst>
                  <a:path w="45" h="67">
                    <a:moveTo>
                      <a:pt x="45" y="0"/>
                    </a:moveTo>
                    <a:lnTo>
                      <a:pt x="0" y="35"/>
                    </a:lnTo>
                    <a:lnTo>
                      <a:pt x="45" y="67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273400" y="4416480"/>
                <a:ext cx="733680" cy="165600"/>
              </a:xfrm>
              <a:custGeom>
                <a:avLst/>
                <a:gdLst/>
                <a:ahLst/>
                <a:rect l="0" t="0" r="r" b="b"/>
                <a:pathLst>
                  <a:path fill="none" w="2038" h="460">
                    <a:moveTo>
                      <a:pt x="2038" y="224"/>
                    </a:moveTo>
                    <a:lnTo>
                      <a:pt x="1066" y="46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273400" y="3986280"/>
                <a:ext cx="733680" cy="133560"/>
              </a:xfrm>
              <a:custGeom>
                <a:avLst/>
                <a:gdLst/>
                <a:ahLst/>
                <a:rect l="0" t="0" r="r" b="b"/>
                <a:pathLst>
                  <a:path fill="none" w="2038" h="371">
                    <a:moveTo>
                      <a:pt x="2038" y="225"/>
                    </a:moveTo>
                    <a:lnTo>
                      <a:pt x="1081" y="37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73737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591000" y="1179360"/>
              <a:ext cx="990720" cy="990720"/>
              <a:chOff x="3591000" y="1179360"/>
              <a:chExt cx="990720" cy="990720"/>
            </a:xfrm>
          </p:grpSpPr>
          <p:sp>
            <p:nvSpPr>
              <p:cNvPr id="148" name=""/>
              <p:cNvSpPr/>
              <p:nvPr/>
            </p:nvSpPr>
            <p:spPr>
              <a:xfrm>
                <a:off x="3591000" y="1179360"/>
                <a:ext cx="990720" cy="990720"/>
              </a:xfrm>
              <a:prstGeom prst="rect">
                <a:avLst/>
              </a:prstGeom>
              <a:solidFill>
                <a:srgbClr val="fafd00"/>
              </a:solidFill>
              <a:ln w="12600">
                <a:solidFill>
                  <a:srgbClr val="333333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32040" y="1208160"/>
                <a:ext cx="382680" cy="88596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646440" y="1224000"/>
                <a:ext cx="361800" cy="13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637080" y="1217520"/>
                <a:ext cx="366840" cy="1317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646440" y="1224000"/>
                <a:ext cx="353880" cy="12528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646440" y="1378080"/>
                <a:ext cx="361800" cy="18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37080" y="1371600"/>
                <a:ext cx="366840" cy="184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46440" y="1378080"/>
                <a:ext cx="353880" cy="17784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46440" y="1585800"/>
                <a:ext cx="36180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637080" y="1579680"/>
                <a:ext cx="366840" cy="1857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646440" y="1585800"/>
                <a:ext cx="353880" cy="17928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646440" y="1793880"/>
                <a:ext cx="361800" cy="28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637080" y="1787400"/>
                <a:ext cx="366840" cy="2811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646440" y="1793880"/>
                <a:ext cx="353880" cy="27468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657600" y="154476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657600" y="153180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657600" y="151920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657600" y="150660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57600" y="149400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57600" y="148104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657600" y="146844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3657600" y="1252440"/>
                <a:ext cx="155520" cy="76320"/>
                <a:chOff x="3657600" y="1252440"/>
                <a:chExt cx="155520" cy="7632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3657600" y="132876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657600" y="131616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657600" y="130320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657600" y="129060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657600" y="127800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657600" y="126540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657600" y="125244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657600" y="17524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57600" y="17398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657600" y="17272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657600" y="17146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57600" y="170172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57600" y="168912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57600" y="167652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657600" y="203364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57600" y="202104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57600" y="20080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657600" y="19954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57600" y="19828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57600" y="196992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657600" y="195732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854520" y="1812960"/>
                <a:ext cx="131760" cy="41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80808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718080" y="1403280"/>
                <a:ext cx="268200" cy="41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80808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882960" y="1236600"/>
                <a:ext cx="103320" cy="41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80808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033800" y="1204920"/>
                <a:ext cx="60480" cy="185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8080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722760" y="1409760"/>
                <a:ext cx="4932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722760" y="1409760"/>
                <a:ext cx="47520" cy="3240"/>
              </a:xfrm>
              <a:prstGeom prst="rect">
                <a:avLst/>
              </a:prstGeom>
              <a:solidFill>
                <a:srgbClr val="ea4563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3919680" y="1819440"/>
                <a:ext cx="6480" cy="6480"/>
                <a:chOff x="3919680" y="1819440"/>
                <a:chExt cx="6480" cy="64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919680" y="1819440"/>
                  <a:ext cx="648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919680" y="1819440"/>
                  <a:ext cx="4680" cy="3240"/>
                </a:xfrm>
                <a:prstGeom prst="rect">
                  <a:avLst/>
                </a:prstGeom>
                <a:solidFill>
                  <a:srgbClr val="de1414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3722760" y="1428840"/>
                <a:ext cx="49320" cy="9360"/>
                <a:chOff x="3722760" y="1428840"/>
                <a:chExt cx="49320" cy="93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3722760" y="1428840"/>
                  <a:ext cx="493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722760" y="1428840"/>
                  <a:ext cx="46080" cy="6480"/>
                </a:xfrm>
                <a:prstGeom prst="rect">
                  <a:avLst/>
                </a:prstGeom>
                <a:solidFill>
                  <a:srgbClr val="006c61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3786120" y="1409760"/>
                <a:ext cx="11160" cy="6480"/>
                <a:chOff x="3786120" y="1409760"/>
                <a:chExt cx="11160" cy="64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3786120" y="140976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786120" y="1409760"/>
                  <a:ext cx="9360" cy="3240"/>
                </a:xfrm>
                <a:prstGeom prst="rect">
                  <a:avLst/>
                </a:prstGeom>
                <a:solidFill>
                  <a:srgbClr val="de1414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919680" y="1841400"/>
                <a:ext cx="6480" cy="6480"/>
                <a:chOff x="3919680" y="1841400"/>
                <a:chExt cx="6480" cy="64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919680" y="1841400"/>
                  <a:ext cx="648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19680" y="1841400"/>
                  <a:ext cx="4680" cy="3240"/>
                </a:xfrm>
                <a:prstGeom prst="rect">
                  <a:avLst/>
                </a:prstGeom>
                <a:solidFill>
                  <a:srgbClr val="00b7a6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3786120" y="1432080"/>
                <a:ext cx="11160" cy="6480"/>
                <a:chOff x="3786120" y="1432080"/>
                <a:chExt cx="11160" cy="64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3786120" y="143208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786120" y="1432080"/>
                  <a:ext cx="9360" cy="3240"/>
                </a:xfrm>
                <a:prstGeom prst="rect">
                  <a:avLst/>
                </a:prstGeom>
                <a:solidFill>
                  <a:srgbClr val="00b7a6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3870360" y="1409760"/>
                <a:ext cx="12600" cy="6480"/>
                <a:chOff x="3870360" y="1409760"/>
                <a:chExt cx="12600" cy="64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870360" y="14097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70360" y="1409760"/>
                  <a:ext cx="9360" cy="3240"/>
                </a:xfrm>
                <a:prstGeom prst="rect">
                  <a:avLst/>
                </a:prstGeom>
                <a:solidFill>
                  <a:srgbClr val="fbfe00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870360" y="1432080"/>
                <a:ext cx="12600" cy="6480"/>
                <a:chOff x="3870360" y="1432080"/>
                <a:chExt cx="12600" cy="64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870360" y="143208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70360" y="1432080"/>
                  <a:ext cx="9360" cy="3240"/>
                </a:xfrm>
                <a:prstGeom prst="rect">
                  <a:avLst/>
                </a:prstGeom>
                <a:solidFill>
                  <a:srgbClr val="fbfe00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898800" y="1409760"/>
                <a:ext cx="12600" cy="6480"/>
                <a:chOff x="3898800" y="1409760"/>
                <a:chExt cx="12600" cy="64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898800" y="14097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98800" y="140976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898800" y="1432080"/>
                <a:ext cx="12600" cy="6480"/>
                <a:chOff x="3898800" y="1432080"/>
                <a:chExt cx="12600" cy="64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898800" y="143208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898800" y="143208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927600" y="1243080"/>
                <a:ext cx="12600" cy="6480"/>
                <a:chOff x="3927600" y="1243080"/>
                <a:chExt cx="12600" cy="64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27600" y="124308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27600" y="124308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3927600" y="1266840"/>
                <a:ext cx="12600" cy="4680"/>
                <a:chOff x="3927600" y="1266840"/>
                <a:chExt cx="12600" cy="46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3927600" y="1266840"/>
                  <a:ext cx="12600" cy="46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927600" y="1266840"/>
                  <a:ext cx="9360" cy="14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843360" y="1409760"/>
                <a:ext cx="11160" cy="6480"/>
                <a:chOff x="3843360" y="1409760"/>
                <a:chExt cx="11160" cy="64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3843360" y="140976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843360" y="1409760"/>
                  <a:ext cx="792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3843360" y="1432080"/>
                <a:ext cx="11160" cy="6480"/>
                <a:chOff x="3843360" y="1432080"/>
                <a:chExt cx="11160" cy="648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3843360" y="143208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843360" y="1432080"/>
                  <a:ext cx="792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3962520" y="1243080"/>
                <a:ext cx="11160" cy="255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67200" y="1239840"/>
                <a:ext cx="1440" cy="158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718080" y="1608120"/>
                <a:ext cx="268200" cy="41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722760" y="1614600"/>
                <a:ext cx="4932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2760" y="1614600"/>
                <a:ext cx="47520" cy="3240"/>
              </a:xfrm>
              <a:prstGeom prst="rect">
                <a:avLst/>
              </a:prstGeom>
              <a:solidFill>
                <a:srgbClr val="ea4563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3722760" y="1633680"/>
                <a:ext cx="49320" cy="9360"/>
                <a:chOff x="3722760" y="1633680"/>
                <a:chExt cx="49320" cy="93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3722760" y="1633680"/>
                  <a:ext cx="493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3722760" y="1633680"/>
                  <a:ext cx="46080" cy="4680"/>
                </a:xfrm>
                <a:prstGeom prst="rect">
                  <a:avLst/>
                </a:prstGeom>
                <a:solidFill>
                  <a:srgbClr val="006c61"/>
                </a:solidFill>
                <a:ln w="0">
                  <a:noFill/>
                </a:ln>
              </p:spPr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3786120" y="1614600"/>
                <a:ext cx="11160" cy="6480"/>
                <a:chOff x="3786120" y="1614600"/>
                <a:chExt cx="11160" cy="648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786120" y="161460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786120" y="1614600"/>
                  <a:ext cx="9360" cy="3240"/>
                </a:xfrm>
                <a:prstGeom prst="rect">
                  <a:avLst/>
                </a:prstGeom>
                <a:solidFill>
                  <a:srgbClr val="de1414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3786120" y="1636560"/>
                <a:ext cx="11160" cy="6480"/>
                <a:chOff x="3786120" y="1636560"/>
                <a:chExt cx="11160" cy="64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3786120" y="163656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786120" y="1636560"/>
                  <a:ext cx="9360" cy="3240"/>
                </a:xfrm>
                <a:prstGeom prst="rect">
                  <a:avLst/>
                </a:prstGeom>
                <a:solidFill>
                  <a:srgbClr val="00b7a6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870360" y="1614600"/>
                <a:ext cx="12600" cy="6480"/>
                <a:chOff x="3870360" y="1614600"/>
                <a:chExt cx="12600" cy="64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870360" y="161460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870360" y="1614600"/>
                  <a:ext cx="9360" cy="3240"/>
                </a:xfrm>
                <a:prstGeom prst="rect">
                  <a:avLst/>
                </a:prstGeom>
                <a:solidFill>
                  <a:srgbClr val="fbfe00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3870360" y="1636560"/>
                <a:ext cx="12600" cy="6480"/>
                <a:chOff x="3870360" y="1636560"/>
                <a:chExt cx="12600" cy="64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3870360" y="16365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3870360" y="1636560"/>
                  <a:ext cx="9360" cy="3240"/>
                </a:xfrm>
                <a:prstGeom prst="rect">
                  <a:avLst/>
                </a:prstGeom>
                <a:solidFill>
                  <a:srgbClr val="fbfe00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3898800" y="1614600"/>
                <a:ext cx="12600" cy="6480"/>
                <a:chOff x="3898800" y="1614600"/>
                <a:chExt cx="12600" cy="64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3898800" y="161460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3898800" y="161460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3898800" y="1636560"/>
                <a:ext cx="12600" cy="6480"/>
                <a:chOff x="3898800" y="1636560"/>
                <a:chExt cx="12600" cy="648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898800" y="16365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898800" y="163656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927600" y="1614600"/>
                <a:ext cx="12600" cy="6480"/>
                <a:chOff x="3927600" y="1614600"/>
                <a:chExt cx="12600" cy="64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927600" y="161460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927600" y="161460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927600" y="1636560"/>
                <a:ext cx="12600" cy="6480"/>
                <a:chOff x="3927600" y="1636560"/>
                <a:chExt cx="12600" cy="64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927600" y="16365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927600" y="163656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843360" y="1614600"/>
                <a:ext cx="11160" cy="6480"/>
                <a:chOff x="3843360" y="1614600"/>
                <a:chExt cx="11160" cy="64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843360" y="161460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843360" y="1614600"/>
                  <a:ext cx="792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843360" y="1636560"/>
                <a:ext cx="11160" cy="6480"/>
                <a:chOff x="3843360" y="1636560"/>
                <a:chExt cx="11160" cy="648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843360" y="163656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843360" y="1636560"/>
                  <a:ext cx="792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3962520" y="1614600"/>
                <a:ext cx="11160" cy="255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967200" y="1611360"/>
                <a:ext cx="1440" cy="158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3897360" y="1243080"/>
                <a:ext cx="11160" cy="6480"/>
                <a:chOff x="3897360" y="1243080"/>
                <a:chExt cx="11160" cy="64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897360" y="124308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897360" y="1243080"/>
                  <a:ext cx="7920" cy="3240"/>
                </a:xfrm>
                <a:prstGeom prst="rect">
                  <a:avLst/>
                </a:prstGeom>
                <a:solidFill>
                  <a:srgbClr val="de1414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897360" y="1266840"/>
                <a:ext cx="11160" cy="4680"/>
                <a:chOff x="3897360" y="1266840"/>
                <a:chExt cx="11160" cy="46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3897360" y="1266840"/>
                  <a:ext cx="11160" cy="46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97360" y="1266840"/>
                  <a:ext cx="7920" cy="1440"/>
                </a:xfrm>
                <a:prstGeom prst="rect">
                  <a:avLst/>
                </a:prstGeom>
                <a:solidFill>
                  <a:srgbClr val="00b7a6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3962520" y="1409760"/>
                <a:ext cx="11160" cy="255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967200" y="1406520"/>
                <a:ext cx="1440" cy="158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62520" y="1819440"/>
                <a:ext cx="11160" cy="255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67200" y="1816200"/>
                <a:ext cx="1440" cy="158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6" name=""/>
              <p:cNvGrpSpPr/>
              <p:nvPr/>
            </p:nvGrpSpPr>
            <p:grpSpPr>
              <a:xfrm>
                <a:off x="3862440" y="1819440"/>
                <a:ext cx="12600" cy="6480"/>
                <a:chOff x="3862440" y="1819440"/>
                <a:chExt cx="12600" cy="64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862440" y="181944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862440" y="181944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862440" y="1841400"/>
                <a:ext cx="12600" cy="6480"/>
                <a:chOff x="3862440" y="1841400"/>
                <a:chExt cx="12600" cy="64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862440" y="184140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862440" y="184140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890880" y="1819440"/>
                <a:ext cx="12600" cy="6480"/>
                <a:chOff x="3890880" y="1819440"/>
                <a:chExt cx="12600" cy="64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890880" y="181944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90880" y="181944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890880" y="1841400"/>
                <a:ext cx="12600" cy="6480"/>
                <a:chOff x="3890880" y="1841400"/>
                <a:chExt cx="12600" cy="6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890880" y="184140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890880" y="184140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"/>
              <p:cNvSpPr/>
              <p:nvPr/>
            </p:nvSpPr>
            <p:spPr>
              <a:xfrm>
                <a:off x="4073400" y="1220760"/>
                <a:ext cx="11160" cy="255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078440" y="1217520"/>
                <a:ext cx="1440" cy="15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4041720" y="1220760"/>
                <a:ext cx="12600" cy="6480"/>
                <a:chOff x="4041720" y="1220760"/>
                <a:chExt cx="12600" cy="64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4041720" y="12207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041720" y="122076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041720" y="1243080"/>
                <a:ext cx="12600" cy="6480"/>
                <a:chOff x="4041720" y="1243080"/>
                <a:chExt cx="12600" cy="64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041720" y="124308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041720" y="124308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041720" y="1270080"/>
                <a:ext cx="12600" cy="4680"/>
                <a:chOff x="4041720" y="1270080"/>
                <a:chExt cx="12600" cy="46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041720" y="1270080"/>
                  <a:ext cx="12600" cy="46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041720" y="1270080"/>
                  <a:ext cx="9360" cy="14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041720" y="1292400"/>
                <a:ext cx="12600" cy="4680"/>
                <a:chOff x="4041720" y="1292400"/>
                <a:chExt cx="12600" cy="46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041720" y="1292400"/>
                  <a:ext cx="12600" cy="46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041720" y="129240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2" name=""/>
              <p:cNvSpPr/>
              <p:nvPr/>
            </p:nvSpPr>
            <p:spPr>
              <a:xfrm>
                <a:off x="4044960" y="1368360"/>
                <a:ext cx="9360" cy="12600"/>
              </a:xfrm>
              <a:prstGeom prst="ellipse">
                <a:avLst/>
              </a:prstGeom>
              <a:solidFill>
                <a:srgbClr val="b760f9"/>
              </a:solidFill>
              <a:ln w="0">
                <a:noFill/>
              </a:ln>
            </p:spPr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041720" y="1365120"/>
                <a:ext cx="9360" cy="126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089240" y="1208160"/>
                <a:ext cx="382680" cy="8859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103640" y="1224000"/>
                <a:ext cx="361800" cy="135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094280" y="1217520"/>
                <a:ext cx="366840" cy="1317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103640" y="1224000"/>
                <a:ext cx="353880" cy="12528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103640" y="1378080"/>
                <a:ext cx="361800" cy="187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094280" y="1371600"/>
                <a:ext cx="366840" cy="184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03640" y="1378080"/>
                <a:ext cx="353880" cy="17784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03640" y="1585800"/>
                <a:ext cx="36180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094280" y="1579680"/>
                <a:ext cx="366840" cy="1857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103640" y="1585800"/>
                <a:ext cx="353880" cy="17928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103640" y="1793880"/>
                <a:ext cx="361800" cy="28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94280" y="1787400"/>
                <a:ext cx="366840" cy="2811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103640" y="1793880"/>
                <a:ext cx="353880" cy="27468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114800" y="154476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14800" y="153180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14800" y="151920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114800" y="150660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114800" y="149400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114800" y="148104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114800" y="146844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4114800" y="1252440"/>
                <a:ext cx="155520" cy="76320"/>
                <a:chOff x="4114800" y="1252440"/>
                <a:chExt cx="155520" cy="763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114800" y="132876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114800" y="131616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114800" y="130320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114800" y="129060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114800" y="127800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114800" y="126540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114800" y="1252440"/>
                  <a:ext cx="155520" cy="0"/>
                </a:xfrm>
                <a:prstGeom prst="line">
                  <a:avLst/>
                </a:prstGeom>
                <a:ln w="12600">
                  <a:solidFill>
                    <a:srgbClr val="08080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4114800" y="17524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14800" y="17398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14800" y="17272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14800" y="17146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14800" y="170172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14800" y="168912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114800" y="167652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114800" y="203364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114800" y="202104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114800" y="20080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114800" y="19954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114800" y="198288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14800" y="196992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114800" y="1957320"/>
                <a:ext cx="338040" cy="0"/>
              </a:xfrm>
              <a:prstGeom prst="line">
                <a:avLst/>
              </a:prstGeom>
              <a:ln w="12600">
                <a:solidFill>
                  <a:srgbClr val="0808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11720" y="1812960"/>
                <a:ext cx="131760" cy="41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80808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175280" y="1403280"/>
                <a:ext cx="268200" cy="41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80808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40160" y="1236600"/>
                <a:ext cx="103320" cy="41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80808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491000" y="1204920"/>
                <a:ext cx="60480" cy="185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80808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179960" y="1409760"/>
                <a:ext cx="4932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179960" y="1409760"/>
                <a:ext cx="47520" cy="3240"/>
              </a:xfrm>
              <a:prstGeom prst="rect">
                <a:avLst/>
              </a:prstGeom>
              <a:solidFill>
                <a:srgbClr val="ea4563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4376880" y="1819440"/>
                <a:ext cx="6480" cy="6480"/>
                <a:chOff x="4376880" y="1819440"/>
                <a:chExt cx="6480" cy="64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376880" y="1819440"/>
                  <a:ext cx="648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376880" y="1819440"/>
                  <a:ext cx="4680" cy="3240"/>
                </a:xfrm>
                <a:prstGeom prst="rect">
                  <a:avLst/>
                </a:prstGeom>
                <a:solidFill>
                  <a:srgbClr val="de1414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4179960" y="1428840"/>
                <a:ext cx="49320" cy="9360"/>
                <a:chOff x="4179960" y="1428840"/>
                <a:chExt cx="49320" cy="93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4179960" y="1428840"/>
                  <a:ext cx="493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179960" y="1428840"/>
                  <a:ext cx="46080" cy="6480"/>
                </a:xfrm>
                <a:prstGeom prst="rect">
                  <a:avLst/>
                </a:prstGeom>
                <a:solidFill>
                  <a:srgbClr val="006c61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4243320" y="1409760"/>
                <a:ext cx="11160" cy="6480"/>
                <a:chOff x="4243320" y="1409760"/>
                <a:chExt cx="11160" cy="648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4243320" y="140976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243320" y="1409760"/>
                  <a:ext cx="9360" cy="3240"/>
                </a:xfrm>
                <a:prstGeom prst="rect">
                  <a:avLst/>
                </a:prstGeom>
                <a:solidFill>
                  <a:srgbClr val="de1414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4376880" y="1841400"/>
                <a:ext cx="6480" cy="6480"/>
                <a:chOff x="4376880" y="1841400"/>
                <a:chExt cx="6480" cy="64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4376880" y="1841400"/>
                  <a:ext cx="648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376880" y="1841400"/>
                  <a:ext cx="4680" cy="3240"/>
                </a:xfrm>
                <a:prstGeom prst="rect">
                  <a:avLst/>
                </a:prstGeom>
                <a:solidFill>
                  <a:srgbClr val="00b7a6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4243320" y="1432080"/>
                <a:ext cx="11160" cy="6480"/>
                <a:chOff x="4243320" y="1432080"/>
                <a:chExt cx="11160" cy="64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4243320" y="143208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243320" y="1432080"/>
                  <a:ext cx="9360" cy="3240"/>
                </a:xfrm>
                <a:prstGeom prst="rect">
                  <a:avLst/>
                </a:prstGeom>
                <a:solidFill>
                  <a:srgbClr val="00b7a6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327560" y="1409760"/>
                <a:ext cx="12600" cy="6480"/>
                <a:chOff x="4327560" y="1409760"/>
                <a:chExt cx="12600" cy="648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327560" y="14097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327560" y="1409760"/>
                  <a:ext cx="9360" cy="3240"/>
                </a:xfrm>
                <a:prstGeom prst="rect">
                  <a:avLst/>
                </a:prstGeom>
                <a:solidFill>
                  <a:srgbClr val="fbfe00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4327560" y="1432080"/>
                <a:ext cx="12600" cy="6480"/>
                <a:chOff x="4327560" y="1432080"/>
                <a:chExt cx="12600" cy="648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4327560" y="143208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327560" y="1432080"/>
                  <a:ext cx="9360" cy="3240"/>
                </a:xfrm>
                <a:prstGeom prst="rect">
                  <a:avLst/>
                </a:prstGeom>
                <a:solidFill>
                  <a:srgbClr val="fbfe00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4356000" y="1409760"/>
                <a:ext cx="12600" cy="6480"/>
                <a:chOff x="4356000" y="1409760"/>
                <a:chExt cx="12600" cy="648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4356000" y="14097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356000" y="140976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4356000" y="1432080"/>
                <a:ext cx="12600" cy="6480"/>
                <a:chOff x="4356000" y="1432080"/>
                <a:chExt cx="12600" cy="64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4356000" y="143208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356000" y="143208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4384800" y="1243080"/>
                <a:ext cx="12600" cy="6480"/>
                <a:chOff x="4384800" y="1243080"/>
                <a:chExt cx="12600" cy="648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4384800" y="124308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384800" y="124308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384800" y="1266840"/>
                <a:ext cx="12600" cy="4680"/>
                <a:chOff x="4384800" y="1266840"/>
                <a:chExt cx="12600" cy="46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384800" y="1266840"/>
                  <a:ext cx="12600" cy="46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384800" y="1266840"/>
                  <a:ext cx="9360" cy="14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4300560" y="1409760"/>
                <a:ext cx="11160" cy="6480"/>
                <a:chOff x="4300560" y="1409760"/>
                <a:chExt cx="11160" cy="648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4300560" y="140976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300560" y="1409760"/>
                  <a:ext cx="792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4300560" y="1432080"/>
                <a:ext cx="11160" cy="6480"/>
                <a:chOff x="4300560" y="1432080"/>
                <a:chExt cx="11160" cy="648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4300560" y="143208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300560" y="1432080"/>
                  <a:ext cx="792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"/>
              <p:cNvSpPr/>
              <p:nvPr/>
            </p:nvSpPr>
            <p:spPr>
              <a:xfrm>
                <a:off x="4419720" y="1243080"/>
                <a:ext cx="11160" cy="255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424400" y="1239840"/>
                <a:ext cx="1440" cy="158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75280" y="1608120"/>
                <a:ext cx="268200" cy="414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79960" y="1614600"/>
                <a:ext cx="49320" cy="648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79960" y="1614600"/>
                <a:ext cx="47520" cy="3240"/>
              </a:xfrm>
              <a:prstGeom prst="rect">
                <a:avLst/>
              </a:prstGeom>
              <a:solidFill>
                <a:srgbClr val="ea4563"/>
              </a:solidFill>
              <a:ln w="0">
                <a:noFill/>
              </a:ln>
            </p:spPr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4179960" y="1633680"/>
                <a:ext cx="49320" cy="9360"/>
                <a:chOff x="4179960" y="1633680"/>
                <a:chExt cx="49320" cy="93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4179960" y="1633680"/>
                  <a:ext cx="49320" cy="936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179960" y="1633680"/>
                  <a:ext cx="46080" cy="4680"/>
                </a:xfrm>
                <a:prstGeom prst="rect">
                  <a:avLst/>
                </a:prstGeom>
                <a:solidFill>
                  <a:srgbClr val="006c61"/>
                </a:solidFill>
                <a:ln w="0">
                  <a:noFill/>
                </a:ln>
              </p:spPr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243320" y="1614600"/>
                <a:ext cx="11160" cy="6480"/>
                <a:chOff x="4243320" y="1614600"/>
                <a:chExt cx="11160" cy="648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243320" y="161460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243320" y="1614600"/>
                  <a:ext cx="9360" cy="3240"/>
                </a:xfrm>
                <a:prstGeom prst="rect">
                  <a:avLst/>
                </a:prstGeom>
                <a:solidFill>
                  <a:srgbClr val="de1414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243320" y="1636560"/>
                <a:ext cx="11160" cy="6480"/>
                <a:chOff x="4243320" y="1636560"/>
                <a:chExt cx="11160" cy="64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3320" y="163656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243320" y="1636560"/>
                  <a:ext cx="9360" cy="3240"/>
                </a:xfrm>
                <a:prstGeom prst="rect">
                  <a:avLst/>
                </a:prstGeom>
                <a:solidFill>
                  <a:srgbClr val="00b7a6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4327560" y="1614600"/>
                <a:ext cx="12600" cy="6480"/>
                <a:chOff x="4327560" y="1614600"/>
                <a:chExt cx="12600" cy="64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4327560" y="161460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327560" y="1614600"/>
                  <a:ext cx="9360" cy="3240"/>
                </a:xfrm>
                <a:prstGeom prst="rect">
                  <a:avLst/>
                </a:prstGeom>
                <a:solidFill>
                  <a:srgbClr val="fbfe00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4327560" y="1636560"/>
                <a:ext cx="12600" cy="6480"/>
                <a:chOff x="4327560" y="1636560"/>
                <a:chExt cx="12600" cy="64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327560" y="16365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327560" y="1636560"/>
                  <a:ext cx="9360" cy="3240"/>
                </a:xfrm>
                <a:prstGeom prst="rect">
                  <a:avLst/>
                </a:prstGeom>
                <a:solidFill>
                  <a:srgbClr val="fbfe00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4356000" y="1614600"/>
                <a:ext cx="12600" cy="6480"/>
                <a:chOff x="4356000" y="1614600"/>
                <a:chExt cx="12600" cy="64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4356000" y="161460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356000" y="161460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356000" y="1636560"/>
                <a:ext cx="12600" cy="6480"/>
                <a:chOff x="4356000" y="1636560"/>
                <a:chExt cx="12600" cy="64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356000" y="16365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356000" y="163656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4384800" y="1614600"/>
                <a:ext cx="12600" cy="6480"/>
                <a:chOff x="4384800" y="1614600"/>
                <a:chExt cx="12600" cy="64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384800" y="161460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384800" y="161460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4384800" y="1636560"/>
                <a:ext cx="12600" cy="6480"/>
                <a:chOff x="4384800" y="1636560"/>
                <a:chExt cx="12600" cy="64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384800" y="16365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384800" y="163656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300560" y="1614600"/>
                <a:ext cx="11160" cy="6480"/>
                <a:chOff x="4300560" y="1614600"/>
                <a:chExt cx="11160" cy="648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300560" y="161460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300560" y="1614600"/>
                  <a:ext cx="792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4300560" y="1636560"/>
                <a:ext cx="11160" cy="6480"/>
                <a:chOff x="4300560" y="1636560"/>
                <a:chExt cx="11160" cy="6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300560" y="163656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300560" y="1636560"/>
                  <a:ext cx="792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"/>
              <p:cNvSpPr/>
              <p:nvPr/>
            </p:nvSpPr>
            <p:spPr>
              <a:xfrm>
                <a:off x="4419720" y="1614600"/>
                <a:ext cx="11160" cy="255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424400" y="1611360"/>
                <a:ext cx="1440" cy="158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"/>
              <p:cNvGrpSpPr/>
              <p:nvPr/>
            </p:nvGrpSpPr>
            <p:grpSpPr>
              <a:xfrm>
                <a:off x="4354560" y="1243080"/>
                <a:ext cx="11160" cy="6480"/>
                <a:chOff x="4354560" y="1243080"/>
                <a:chExt cx="11160" cy="64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354560" y="1243080"/>
                  <a:ext cx="1116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354560" y="1243080"/>
                  <a:ext cx="7920" cy="3240"/>
                </a:xfrm>
                <a:prstGeom prst="rect">
                  <a:avLst/>
                </a:prstGeom>
                <a:solidFill>
                  <a:srgbClr val="de1414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4354560" y="1266840"/>
                <a:ext cx="11160" cy="4680"/>
                <a:chOff x="4354560" y="1266840"/>
                <a:chExt cx="11160" cy="46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354560" y="1266840"/>
                  <a:ext cx="11160" cy="46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354560" y="1266840"/>
                  <a:ext cx="7920" cy="1440"/>
                </a:xfrm>
                <a:prstGeom prst="rect">
                  <a:avLst/>
                </a:prstGeom>
                <a:solidFill>
                  <a:srgbClr val="00b7a6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"/>
              <p:cNvSpPr/>
              <p:nvPr/>
            </p:nvSpPr>
            <p:spPr>
              <a:xfrm>
                <a:off x="4419720" y="1409760"/>
                <a:ext cx="11160" cy="255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424400" y="1406520"/>
                <a:ext cx="1440" cy="158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419720" y="1819440"/>
                <a:ext cx="11160" cy="255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424400" y="1816200"/>
                <a:ext cx="1440" cy="158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4319640" y="1819440"/>
                <a:ext cx="12600" cy="6480"/>
                <a:chOff x="4319640" y="1819440"/>
                <a:chExt cx="12600" cy="648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319640" y="181944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319640" y="181944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4319640" y="1841400"/>
                <a:ext cx="12600" cy="6480"/>
                <a:chOff x="4319640" y="1841400"/>
                <a:chExt cx="12600" cy="648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4319640" y="184140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319640" y="184140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348080" y="1819440"/>
                <a:ext cx="12600" cy="6480"/>
                <a:chOff x="4348080" y="1819440"/>
                <a:chExt cx="12600" cy="648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348080" y="181944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348080" y="181944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348080" y="1841400"/>
                <a:ext cx="12600" cy="6480"/>
                <a:chOff x="4348080" y="1841400"/>
                <a:chExt cx="12600" cy="64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348080" y="184140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348080" y="184140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"/>
              <p:cNvSpPr/>
              <p:nvPr/>
            </p:nvSpPr>
            <p:spPr>
              <a:xfrm>
                <a:off x="4530600" y="1220760"/>
                <a:ext cx="11160" cy="2556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ffffff"/>
                </a:solidFill>
                <a:round/>
              </a:ln>
            </p:spPr>
            <p:txBody>
              <a:bodyPr lIns="96120" rIns="9612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535640" y="1217520"/>
                <a:ext cx="1440" cy="15840"/>
              </a:xfrm>
              <a:prstGeom prst="rect">
                <a:avLst/>
              </a:prstGeom>
              <a:solidFill>
                <a:srgbClr val="fc0128"/>
              </a:solidFill>
              <a:ln w="0">
                <a:noFill/>
              </a:ln>
            </p:spPr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5" name=""/>
              <p:cNvGrpSpPr/>
              <p:nvPr/>
            </p:nvGrpSpPr>
            <p:grpSpPr>
              <a:xfrm>
                <a:off x="4498920" y="1220760"/>
                <a:ext cx="12600" cy="6480"/>
                <a:chOff x="4498920" y="1220760"/>
                <a:chExt cx="12600" cy="648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498920" y="122076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498920" y="122076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4498920" y="1243080"/>
                <a:ext cx="12600" cy="6480"/>
                <a:chOff x="4498920" y="1243080"/>
                <a:chExt cx="12600" cy="64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498920" y="1243080"/>
                  <a:ext cx="12600" cy="64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498920" y="124308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498920" y="1270080"/>
                <a:ext cx="12600" cy="4680"/>
                <a:chOff x="4498920" y="1270080"/>
                <a:chExt cx="12600" cy="468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498920" y="1270080"/>
                  <a:ext cx="12600" cy="46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498920" y="1270080"/>
                  <a:ext cx="9360" cy="14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4498920" y="1292400"/>
                <a:ext cx="12600" cy="4680"/>
                <a:chOff x="4498920" y="1292400"/>
                <a:chExt cx="12600" cy="46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4498920" y="1292400"/>
                  <a:ext cx="12600" cy="468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txBody>
                <a:bodyPr lIns="90000" rIns="90000" tIns="-40320" bIns="-40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498920" y="1292400"/>
                  <a:ext cx="9360" cy="324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"/>
              <p:cNvSpPr/>
              <p:nvPr/>
            </p:nvSpPr>
            <p:spPr>
              <a:xfrm>
                <a:off x="4502160" y="1368360"/>
                <a:ext cx="9360" cy="12600"/>
              </a:xfrm>
              <a:prstGeom prst="ellipse">
                <a:avLst/>
              </a:prstGeom>
              <a:solidFill>
                <a:srgbClr val="b760f9"/>
              </a:solidFill>
              <a:ln w="0">
                <a:noFill/>
              </a:ln>
            </p:spPr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98920" y="1365120"/>
                <a:ext cx="9360" cy="12600"/>
              </a:xfrm>
              <a:prstGeom prst="ellipse">
                <a:avLst/>
              </a:prstGeom>
              <a:solidFill>
                <a:srgbClr val="eaeaea"/>
              </a:solidFill>
              <a:ln w="0">
                <a:noFill/>
              </a:ln>
            </p:spPr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3228840" y="3960720"/>
              <a:ext cx="1124280" cy="743400"/>
            </a:xfrm>
            <a:custGeom>
              <a:avLst/>
              <a:gdLst/>
              <a:ahLst/>
              <a:rect l="0" t="0" r="r" b="b"/>
              <a:pathLst>
                <a:path fill="none" w="3123" h="2065">
                  <a:moveTo>
                    <a:pt x="0" y="2065"/>
                  </a:moveTo>
                  <a:lnTo>
                    <a:pt x="0" y="2065"/>
                  </a:lnTo>
                  <a:cubicBezTo>
                    <a:pt x="548" y="2065"/>
                    <a:pt x="1087" y="1970"/>
                    <a:pt x="1562" y="1788"/>
                  </a:cubicBezTo>
                  <a:cubicBezTo>
                    <a:pt x="2036" y="1607"/>
                    <a:pt x="2430" y="1346"/>
                    <a:pt x="2705" y="1032"/>
                  </a:cubicBezTo>
                  <a:cubicBezTo>
                    <a:pt x="2979" y="719"/>
                    <a:pt x="3123" y="362"/>
                    <a:pt x="3123" y="0"/>
                  </a:cubicBezTo>
                </a:path>
              </a:pathLst>
            </a:custGeom>
            <a:ln w="38160">
              <a:solidFill>
                <a:srgbClr val="ff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531720" y="5823000"/>
              <a:ext cx="3157560" cy="519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nsor conne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1566720" y="5246640"/>
              <a:ext cx="1371600" cy="486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 txBox="1"/>
            <p:nvPr/>
          </p:nvSpPr>
          <p:spPr>
            <a:xfrm>
              <a:off x="5961240" y="3079800"/>
              <a:ext cx="2652840" cy="9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-server to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ost conne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4595760" y="3760920"/>
              <a:ext cx="1200240" cy="25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4309920" y="2674800"/>
              <a:ext cx="1486080" cy="685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AS Over SNA Benef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365120" y="1413000"/>
            <a:ext cx="64134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existing SNA backbone for transparent network access over multiple transpo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382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, IPX, and NetB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integrated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 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382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nd pri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382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382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 store and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6720" indent="-38268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AS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1514520" y="1413000"/>
            <a:ext cx="611496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etBIOS, RAS server is a NetBIOS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IP and IPX, Windows NT RAS server is a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P authentication, framing, and configuration for TCP/IP, IPX, and NetBEU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To A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 txBox="1"/>
          <p:nvPr/>
        </p:nvSpPr>
        <p:spPr>
          <a:xfrm>
            <a:off x="849240" y="1413000"/>
            <a:ext cx="7446960" cy="50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Windows SNA APIs in you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 existing applications to Windows S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Eevent-based extensions to write APPC and LUA server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SNA Server client-server support to 3270/5250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SNADIS drivers for SNA IHV adap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ponsor Conn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057320" y="1413000"/>
            <a:ext cx="702936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 communicate with each other via connectionless datagram broadc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learn about the state of all servers and services in a domain via their sponsor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flows over sponsor conne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C Attach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9080" y="230040"/>
            <a:ext cx="910584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ultiple Transport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8640" y="2322360"/>
            <a:ext cx="6478560" cy="433440"/>
          </a:xfrm>
          <a:prstGeom prst="rect">
            <a:avLst/>
          </a:prstGeom>
          <a:solidFill>
            <a:srgbClr val="b760f9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OD service layer (API Provi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730520" y="3462480"/>
            <a:ext cx="1085760" cy="49860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694480" y="2919240"/>
            <a:ext cx="1228680" cy="51768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44600" y="2922480"/>
            <a:ext cx="5118120" cy="399960"/>
          </a:xfrm>
          <a:prstGeom prst="rect">
            <a:avLst/>
          </a:prstGeom>
          <a:solidFill>
            <a:srgbClr val="b760f9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730520" y="4122720"/>
            <a:ext cx="3789360" cy="43812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 A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7149960" y="4351320"/>
            <a:ext cx="81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149960" y="2968560"/>
            <a:ext cx="152244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ransport</a:t>
            </a:r>
            <a:br>
              <a:rPr sz="2400"/>
            </a:br>
            <a:r>
              <a:rPr b="1" lang="en-US" sz="24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v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4600" y="5908680"/>
            <a:ext cx="7958160" cy="0"/>
          </a:xfrm>
          <a:prstGeom prst="line">
            <a:avLst/>
          </a:prstGeom>
          <a:ln w="38160">
            <a:solidFill>
              <a:srgbClr val="f6bf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7149960" y="5403960"/>
            <a:ext cx="1033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5703840" y="5043600"/>
            <a:ext cx="1219320" cy="68580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BE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4859280" y="5043600"/>
            <a:ext cx="692280" cy="68580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732040" y="5043600"/>
            <a:ext cx="1009800" cy="68580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W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873600" y="5043600"/>
            <a:ext cx="853920" cy="68580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44560" y="4851360"/>
            <a:ext cx="6586560" cy="0"/>
          </a:xfrm>
          <a:prstGeom prst="line">
            <a:avLst/>
          </a:prstGeom>
          <a:ln w="38160">
            <a:solidFill>
              <a:srgbClr val="f6bf6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5703840" y="3589200"/>
            <a:ext cx="1219320" cy="114300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644920" y="4694400"/>
            <a:ext cx="4267080" cy="21420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381880" y="2021040"/>
            <a:ext cx="0" cy="6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7269120" y="1843200"/>
            <a:ext cx="673200" cy="8568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OD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220240" y="1554120"/>
            <a:ext cx="258840" cy="11736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7277040" y="1693800"/>
            <a:ext cx="171360" cy="12060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737480" y="1693800"/>
            <a:ext cx="190440" cy="12060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7269120" y="1947960"/>
            <a:ext cx="673200" cy="8568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7478640" y="1695600"/>
            <a:ext cx="225360" cy="11736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7475400" y="1562040"/>
            <a:ext cx="225360" cy="114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.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047080" y="1843200"/>
            <a:ext cx="649440" cy="8568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MOD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8223120" y="1695600"/>
            <a:ext cx="249120" cy="11736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048520" y="1695600"/>
            <a:ext cx="152280" cy="11736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494560" y="1701720"/>
            <a:ext cx="190440" cy="114480"/>
          </a:xfrm>
          <a:prstGeom prst="rect">
            <a:avLst/>
          </a:prstGeom>
          <a:solidFill>
            <a:srgbClr val="b760f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8045280" y="1947960"/>
            <a:ext cx="655560" cy="8568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port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8220240" y="1413000"/>
            <a:ext cx="258840" cy="1206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apter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7178760" y="1515960"/>
            <a:ext cx="258840" cy="1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7935840" y="1503360"/>
            <a:ext cx="276120" cy="11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610400" y="2030400"/>
            <a:ext cx="0" cy="5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29680" y="2085840"/>
            <a:ext cx="110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7130880" y="2205000"/>
            <a:ext cx="563760" cy="646200"/>
          </a:xfrm>
          <a:prstGeom prst="line">
            <a:avLst/>
          </a:prstGeom>
          <a:ln w="25560">
            <a:solidFill>
              <a:srgbClr val="f6bf6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63680" y="3462480"/>
            <a:ext cx="1095480" cy="49860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2987640" y="3462480"/>
            <a:ext cx="1228680" cy="49860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IP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359240" y="3462480"/>
            <a:ext cx="1128600" cy="49860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NA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744560" y="5043600"/>
            <a:ext cx="857160" cy="68580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F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58640" y="4108320"/>
            <a:ext cx="1101600" cy="1614600"/>
          </a:xfrm>
          <a:prstGeom prst="rect">
            <a:avLst/>
          </a:prstGeom>
          <a:solidFill>
            <a:srgbClr val="f95ab7"/>
          </a:solidFill>
          <a:ln w="0">
            <a:noFill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Provi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849240" y="1413000"/>
            <a:ext cx="74469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named pipe clients, the server “impersonates” the client for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secure clients must logon before sponsor connection is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requests are postponed until challenge-response exchange is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protocol transparently happens as client connects to new SNA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NA Server 2.1 Enhanc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858960" y="1793880"/>
            <a:ext cx="742644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apacity:  10,000 sessions/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users:  2,000 users/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platforms:  x86, MIPS R4x00,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pha, and PowerPC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in be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transports:  Named pipes, IPX/SPX, TCP/IP, Banyan VINE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and AppleTalk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ntrol:  admin security and server broadcast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PPC Enhance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62040" y="1413000"/>
            <a:ext cx="78217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essions:  10,000 per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nversations: 1,000 per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samples:  remote command, multithreaded send and rece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options:  invokab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ync everywhere:  event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ly distributed and dynamically configurable T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veloping SNA Server Appl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6320" y="1906560"/>
            <a:ext cx="8993160" cy="386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o you need to develop a server application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y’s SNA applications write to APPC on the server and export a client-server protocol over NetBIOS, IPX/SPX, or Sockets to a client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SNA Server, write to Windows SNA on the client and SNA Server handles routing these requests to the SNA Server over any one of its client-server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ordon Mangione</dc:creator>
  <dc:description>8x6</dc:description>
  <dc:language>en-US</dc:language>
  <cp:lastModifiedBy>Tomi Poutanen</cp:lastModifiedBy>
  <cp:revision>0</cp:revision>
  <dc:subject/>
  <dc:title>International talk for Server PDC</dc:title>
</cp:coreProperties>
</file>