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7240" y="1312920"/>
            <a:ext cx="77724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Programming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rio Goertzel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ample IDL Fi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11360" y="1120680"/>
            <a:ext cx="7724880" cy="5911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.i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uuid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2b1f8eb0-27dd-11ce-a4e8-00aa006116cb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version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(1.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interface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si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ypedef struct _resul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ng i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[unique] struct _result *nex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RESUL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impleCall(</a:t>
            </a: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handle</a:t>
            </a:r>
            <a:r>
              <a:rPr b="1" lang="en-US" sz="14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_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t h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in, string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wchar_t *firs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c0128"/>
                </a:solidFill>
                <a:latin typeface="Lucida Sans Typewriter"/>
                <a:ea typeface="Lucida Sans Typewriter"/>
              </a:rPr>
              <a:t>[out]</a:t>
            </a: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RESULT *secon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828800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ub Performance H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60400" y="1243080"/>
            <a:ext cx="7427880" cy="47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excessive use of un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structures naturally alig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[v1_enum] on all enumerated ty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pass structures/unions by val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overuse length_is(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full [ptr] poin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 status parameter [fault_status, comm_status] to save exception hand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-Os and -Oi as appropri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RPC Run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2160" y="3348000"/>
            <a:ext cx="481032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662200" y="1266840"/>
            <a:ext cx="3747960" cy="17859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24480" y="3760920"/>
            <a:ext cx="1811160" cy="1874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30360" y="3786120"/>
            <a:ext cx="3319560" cy="180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079720" y="4595760"/>
            <a:ext cx="713160" cy="713160"/>
            <a:chOff x="2079720" y="4595760"/>
            <a:chExt cx="713160" cy="713160"/>
          </a:xfrm>
        </p:grpSpPr>
        <p:sp>
          <p:nvSpPr>
            <p:cNvPr id="148" name=""/>
            <p:cNvSpPr/>
            <p:nvPr/>
          </p:nvSpPr>
          <p:spPr>
            <a:xfrm>
              <a:off x="2079720" y="4595760"/>
              <a:ext cx="713160" cy="713160"/>
            </a:xfrm>
            <a:custGeom>
              <a:avLst/>
              <a:gdLst/>
              <a:ahLst/>
              <a:rect l="0" t="0" r="r" b="b"/>
              <a:pathLst>
                <a:path w="1981" h="1981">
                  <a:moveTo>
                    <a:pt x="0" y="1981"/>
                  </a:moveTo>
                  <a:lnTo>
                    <a:pt x="0" y="0"/>
                  </a:lnTo>
                  <a:lnTo>
                    <a:pt x="246" y="0"/>
                  </a:lnTo>
                  <a:lnTo>
                    <a:pt x="246" y="493"/>
                  </a:lnTo>
                  <a:lnTo>
                    <a:pt x="746" y="493"/>
                  </a:lnTo>
                  <a:lnTo>
                    <a:pt x="746" y="0"/>
                  </a:lnTo>
                  <a:lnTo>
                    <a:pt x="993" y="0"/>
                  </a:lnTo>
                  <a:lnTo>
                    <a:pt x="993" y="493"/>
                  </a:lnTo>
                  <a:lnTo>
                    <a:pt x="1735" y="493"/>
                  </a:lnTo>
                  <a:lnTo>
                    <a:pt x="1735" y="0"/>
                  </a:lnTo>
                  <a:lnTo>
                    <a:pt x="1981" y="0"/>
                  </a:lnTo>
                  <a:lnTo>
                    <a:pt x="1981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 txBox="1"/>
            <p:nvPr/>
          </p:nvSpPr>
          <p:spPr>
            <a:xfrm>
              <a:off x="2200320" y="4923000"/>
              <a:ext cx="539640" cy="3049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649680" y="4578480"/>
            <a:ext cx="713160" cy="713160"/>
            <a:chOff x="3649680" y="4578480"/>
            <a:chExt cx="713160" cy="713160"/>
          </a:xfrm>
        </p:grpSpPr>
        <p:sp>
          <p:nvSpPr>
            <p:cNvPr id="151" name=""/>
            <p:cNvSpPr/>
            <p:nvPr/>
          </p:nvSpPr>
          <p:spPr>
            <a:xfrm>
              <a:off x="3649680" y="4578480"/>
              <a:ext cx="713160" cy="713160"/>
            </a:xfrm>
            <a:custGeom>
              <a:avLst/>
              <a:gdLst/>
              <a:ahLst/>
              <a:rect l="0" t="0" r="r" b="b"/>
              <a:pathLst>
                <a:path w="1981" h="1981">
                  <a:moveTo>
                    <a:pt x="0" y="1981"/>
                  </a:moveTo>
                  <a:lnTo>
                    <a:pt x="0" y="0"/>
                  </a:lnTo>
                  <a:lnTo>
                    <a:pt x="246" y="0"/>
                  </a:lnTo>
                  <a:lnTo>
                    <a:pt x="246" y="493"/>
                  </a:lnTo>
                  <a:lnTo>
                    <a:pt x="499" y="493"/>
                  </a:lnTo>
                  <a:lnTo>
                    <a:pt x="499" y="0"/>
                  </a:lnTo>
                  <a:lnTo>
                    <a:pt x="993" y="0"/>
                  </a:lnTo>
                  <a:lnTo>
                    <a:pt x="1240" y="493"/>
                  </a:lnTo>
                  <a:lnTo>
                    <a:pt x="1488" y="0"/>
                  </a:lnTo>
                  <a:lnTo>
                    <a:pt x="1981" y="0"/>
                  </a:lnTo>
                  <a:lnTo>
                    <a:pt x="1981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>
              <a:off x="3736800" y="4906800"/>
              <a:ext cx="539640" cy="3049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904000" y="4595760"/>
            <a:ext cx="713160" cy="713160"/>
            <a:chOff x="5904000" y="4595760"/>
            <a:chExt cx="713160" cy="713160"/>
          </a:xfrm>
        </p:grpSpPr>
        <p:sp>
          <p:nvSpPr>
            <p:cNvPr id="154" name=""/>
            <p:cNvSpPr/>
            <p:nvPr/>
          </p:nvSpPr>
          <p:spPr>
            <a:xfrm>
              <a:off x="5904000" y="4595760"/>
              <a:ext cx="713160" cy="713160"/>
            </a:xfrm>
            <a:custGeom>
              <a:avLst/>
              <a:gdLst/>
              <a:ahLst/>
              <a:rect l="0" t="0" r="r" b="b"/>
              <a:pathLst>
                <a:path w="1981" h="1981">
                  <a:moveTo>
                    <a:pt x="0" y="1981"/>
                  </a:moveTo>
                  <a:lnTo>
                    <a:pt x="0" y="0"/>
                  </a:lnTo>
                  <a:lnTo>
                    <a:pt x="246" y="0"/>
                  </a:lnTo>
                  <a:lnTo>
                    <a:pt x="246" y="493"/>
                  </a:lnTo>
                  <a:lnTo>
                    <a:pt x="493" y="493"/>
                  </a:lnTo>
                  <a:lnTo>
                    <a:pt x="493" y="0"/>
                  </a:lnTo>
                  <a:lnTo>
                    <a:pt x="988" y="0"/>
                  </a:lnTo>
                  <a:lnTo>
                    <a:pt x="988" y="493"/>
                  </a:lnTo>
                  <a:lnTo>
                    <a:pt x="1735" y="493"/>
                  </a:lnTo>
                  <a:lnTo>
                    <a:pt x="1735" y="0"/>
                  </a:lnTo>
                  <a:lnTo>
                    <a:pt x="1981" y="0"/>
                  </a:lnTo>
                  <a:lnTo>
                    <a:pt x="1981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022800" y="4923000"/>
              <a:ext cx="539640" cy="304920"/>
            </a:xfrm>
            <a:prstGeom prst="rect">
              <a:avLst/>
            </a:prstGeom>
            <a:solidFill>
              <a:srgbClr val="009688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637240" y="2965320"/>
            <a:ext cx="421200" cy="711720"/>
          </a:xfrm>
          <a:custGeom>
            <a:avLst/>
            <a:gdLst/>
            <a:ahLst/>
            <a:rect l="0" t="0" r="r" b="b"/>
            <a:pathLst>
              <a:path w="1170" h="1977">
                <a:moveTo>
                  <a:pt x="1170" y="1977"/>
                </a:moveTo>
                <a:lnTo>
                  <a:pt x="464" y="988"/>
                </a:lnTo>
                <a:lnTo>
                  <a:pt x="932" y="988"/>
                </a:lnTo>
                <a:lnTo>
                  <a:pt x="0" y="0"/>
                </a:lnTo>
                <a:lnTo>
                  <a:pt x="932" y="988"/>
                </a:lnTo>
                <a:lnTo>
                  <a:pt x="464" y="988"/>
                </a:lnTo>
                <a:lnTo>
                  <a:pt x="1170" y="197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afd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50840" y="320832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20960" y="5280120"/>
            <a:ext cx="82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850000" y="5349960"/>
            <a:ext cx="82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218120" y="1246320"/>
            <a:ext cx="6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9720" y="1512720"/>
            <a:ext cx="2583360" cy="746640"/>
          </a:xfrm>
          <a:custGeom>
            <a:avLst/>
            <a:gdLst/>
            <a:ahLst/>
            <a:rect l="0" t="0" r="r" b="b"/>
            <a:pathLst>
              <a:path w="7176" h="2074">
                <a:moveTo>
                  <a:pt x="0" y="0"/>
                </a:moveTo>
                <a:lnTo>
                  <a:pt x="7176" y="0"/>
                </a:lnTo>
                <a:lnTo>
                  <a:pt x="7176" y="1607"/>
                </a:lnTo>
                <a:lnTo>
                  <a:pt x="6929" y="1607"/>
                </a:lnTo>
                <a:lnTo>
                  <a:pt x="6929" y="2074"/>
                </a:lnTo>
                <a:lnTo>
                  <a:pt x="6188" y="2074"/>
                </a:lnTo>
                <a:lnTo>
                  <a:pt x="6188" y="1607"/>
                </a:lnTo>
                <a:lnTo>
                  <a:pt x="5694" y="1607"/>
                </a:lnTo>
                <a:lnTo>
                  <a:pt x="5694" y="2074"/>
                </a:lnTo>
                <a:lnTo>
                  <a:pt x="5448" y="2074"/>
                </a:lnTo>
                <a:lnTo>
                  <a:pt x="5448" y="1607"/>
                </a:lnTo>
                <a:lnTo>
                  <a:pt x="4207" y="1607"/>
                </a:lnTo>
                <a:lnTo>
                  <a:pt x="3960" y="2074"/>
                </a:lnTo>
                <a:lnTo>
                  <a:pt x="3713" y="1607"/>
                </a:lnTo>
                <a:lnTo>
                  <a:pt x="3215" y="1607"/>
                </a:lnTo>
                <a:lnTo>
                  <a:pt x="3215" y="2074"/>
                </a:lnTo>
                <a:lnTo>
                  <a:pt x="2968" y="2074"/>
                </a:lnTo>
                <a:lnTo>
                  <a:pt x="2968" y="1607"/>
                </a:lnTo>
                <a:lnTo>
                  <a:pt x="1733" y="1607"/>
                </a:lnTo>
                <a:lnTo>
                  <a:pt x="1733" y="1840"/>
                </a:lnTo>
                <a:lnTo>
                  <a:pt x="1733" y="2074"/>
                </a:lnTo>
                <a:lnTo>
                  <a:pt x="987" y="2074"/>
                </a:lnTo>
                <a:lnTo>
                  <a:pt x="987" y="1607"/>
                </a:lnTo>
                <a:lnTo>
                  <a:pt x="740" y="1607"/>
                </a:lnTo>
                <a:lnTo>
                  <a:pt x="740" y="2074"/>
                </a:lnTo>
                <a:lnTo>
                  <a:pt x="246" y="2074"/>
                </a:lnTo>
                <a:lnTo>
                  <a:pt x="246" y="1607"/>
                </a:lnTo>
                <a:lnTo>
                  <a:pt x="0" y="1607"/>
                </a:lnTo>
                <a:lnTo>
                  <a:pt x="0" y="0"/>
                </a:lnTo>
                <a:close/>
              </a:path>
            </a:pathLst>
          </a:cu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82880" y="1619280"/>
            <a:ext cx="1517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38640" y="208440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1240"/>
                </a:moveTo>
                <a:lnTo>
                  <a:pt x="0" y="0"/>
                </a:lnTo>
                <a:lnTo>
                  <a:pt x="246" y="0"/>
                </a:lnTo>
                <a:lnTo>
                  <a:pt x="246" y="493"/>
                </a:lnTo>
                <a:lnTo>
                  <a:pt x="493" y="493"/>
                </a:lnTo>
                <a:lnTo>
                  <a:pt x="493" y="0"/>
                </a:lnTo>
                <a:lnTo>
                  <a:pt x="993" y="0"/>
                </a:lnTo>
                <a:lnTo>
                  <a:pt x="1240" y="493"/>
                </a:lnTo>
                <a:lnTo>
                  <a:pt x="1488" y="0"/>
                </a:lnTo>
                <a:lnTo>
                  <a:pt x="1981" y="0"/>
                </a:lnTo>
                <a:lnTo>
                  <a:pt x="1981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216320" y="224316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tu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9720" y="208440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1240"/>
                </a:moveTo>
                <a:lnTo>
                  <a:pt x="0" y="0"/>
                </a:lnTo>
                <a:lnTo>
                  <a:pt x="246" y="0"/>
                </a:lnTo>
                <a:lnTo>
                  <a:pt x="246" y="493"/>
                </a:lnTo>
                <a:lnTo>
                  <a:pt x="741" y="493"/>
                </a:lnTo>
                <a:lnTo>
                  <a:pt x="741" y="0"/>
                </a:lnTo>
                <a:lnTo>
                  <a:pt x="988" y="0"/>
                </a:lnTo>
                <a:lnTo>
                  <a:pt x="988" y="493"/>
                </a:lnTo>
                <a:lnTo>
                  <a:pt x="1735" y="493"/>
                </a:lnTo>
                <a:lnTo>
                  <a:pt x="1735" y="0"/>
                </a:lnTo>
                <a:lnTo>
                  <a:pt x="1981" y="0"/>
                </a:lnTo>
                <a:lnTo>
                  <a:pt x="1981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225960" y="223524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tu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19560" y="208440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1240"/>
                </a:moveTo>
                <a:lnTo>
                  <a:pt x="0" y="0"/>
                </a:lnTo>
                <a:lnTo>
                  <a:pt x="251" y="0"/>
                </a:lnTo>
                <a:lnTo>
                  <a:pt x="251" y="493"/>
                </a:lnTo>
                <a:lnTo>
                  <a:pt x="499" y="493"/>
                </a:lnTo>
                <a:lnTo>
                  <a:pt x="499" y="0"/>
                </a:lnTo>
                <a:lnTo>
                  <a:pt x="993" y="0"/>
                </a:lnTo>
                <a:lnTo>
                  <a:pt x="993" y="493"/>
                </a:lnTo>
                <a:lnTo>
                  <a:pt x="1735" y="493"/>
                </a:lnTo>
                <a:lnTo>
                  <a:pt x="1735" y="0"/>
                </a:lnTo>
                <a:lnTo>
                  <a:pt x="1981" y="0"/>
                </a:lnTo>
                <a:lnTo>
                  <a:pt x="1981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130720" y="223524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t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0080" y="2587680"/>
            <a:ext cx="3033720" cy="3348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13040" y="2633760"/>
            <a:ext cx="156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3849840"/>
            <a:ext cx="3035160" cy="3333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376360" y="3879720"/>
            <a:ext cx="156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57840" y="3849840"/>
            <a:ext cx="363600" cy="363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556240" y="3879720"/>
            <a:ext cx="1562040" cy="30492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81160" y="433692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746"/>
                </a:moveTo>
                <a:lnTo>
                  <a:pt x="246" y="746"/>
                </a:lnTo>
                <a:lnTo>
                  <a:pt x="246" y="1240"/>
                </a:lnTo>
                <a:lnTo>
                  <a:pt x="746" y="1240"/>
                </a:lnTo>
                <a:lnTo>
                  <a:pt x="746" y="746"/>
                </a:lnTo>
                <a:lnTo>
                  <a:pt x="993" y="746"/>
                </a:lnTo>
                <a:lnTo>
                  <a:pt x="993" y="1240"/>
                </a:lnTo>
                <a:lnTo>
                  <a:pt x="1735" y="1240"/>
                </a:lnTo>
                <a:lnTo>
                  <a:pt x="1735" y="746"/>
                </a:lnTo>
                <a:lnTo>
                  <a:pt x="1981" y="746"/>
                </a:lnTo>
                <a:lnTo>
                  <a:pt x="1981" y="0"/>
                </a:lnTo>
                <a:lnTo>
                  <a:pt x="0" y="0"/>
                </a:lnTo>
                <a:lnTo>
                  <a:pt x="0" y="746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49680" y="4321080"/>
            <a:ext cx="713160" cy="444960"/>
          </a:xfrm>
          <a:custGeom>
            <a:avLst/>
            <a:gdLst/>
            <a:ahLst/>
            <a:rect l="0" t="0" r="r" b="b"/>
            <a:pathLst>
              <a:path w="1981" h="1236">
                <a:moveTo>
                  <a:pt x="0" y="741"/>
                </a:moveTo>
                <a:lnTo>
                  <a:pt x="246" y="741"/>
                </a:lnTo>
                <a:lnTo>
                  <a:pt x="246" y="1236"/>
                </a:lnTo>
                <a:lnTo>
                  <a:pt x="499" y="1236"/>
                </a:lnTo>
                <a:lnTo>
                  <a:pt x="499" y="741"/>
                </a:lnTo>
                <a:lnTo>
                  <a:pt x="993" y="741"/>
                </a:lnTo>
                <a:lnTo>
                  <a:pt x="1240" y="1236"/>
                </a:lnTo>
                <a:lnTo>
                  <a:pt x="1488" y="741"/>
                </a:lnTo>
                <a:lnTo>
                  <a:pt x="1981" y="741"/>
                </a:lnTo>
                <a:lnTo>
                  <a:pt x="1981" y="0"/>
                </a:lnTo>
                <a:lnTo>
                  <a:pt x="0" y="0"/>
                </a:lnTo>
                <a:lnTo>
                  <a:pt x="0" y="741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905440" y="4308480"/>
            <a:ext cx="711720" cy="465480"/>
          </a:xfrm>
          <a:custGeom>
            <a:avLst/>
            <a:gdLst/>
            <a:ahLst/>
            <a:rect l="0" t="0" r="r" b="b"/>
            <a:pathLst>
              <a:path w="1977" h="1293">
                <a:moveTo>
                  <a:pt x="0" y="781"/>
                </a:moveTo>
                <a:lnTo>
                  <a:pt x="238" y="781"/>
                </a:lnTo>
                <a:lnTo>
                  <a:pt x="238" y="1293"/>
                </a:lnTo>
                <a:lnTo>
                  <a:pt x="489" y="1293"/>
                </a:lnTo>
                <a:lnTo>
                  <a:pt x="489" y="794"/>
                </a:lnTo>
                <a:lnTo>
                  <a:pt x="971" y="794"/>
                </a:lnTo>
                <a:lnTo>
                  <a:pt x="971" y="1293"/>
                </a:lnTo>
                <a:lnTo>
                  <a:pt x="1717" y="1293"/>
                </a:lnTo>
                <a:lnTo>
                  <a:pt x="1717" y="799"/>
                </a:lnTo>
                <a:lnTo>
                  <a:pt x="1977" y="799"/>
                </a:lnTo>
                <a:lnTo>
                  <a:pt x="1977" y="4"/>
                </a:lnTo>
                <a:lnTo>
                  <a:pt x="0" y="0"/>
                </a:lnTo>
                <a:lnTo>
                  <a:pt x="0" y="781"/>
                </a:lnTo>
                <a:close/>
              </a:path>
            </a:pathLst>
          </a:custGeom>
          <a:solidFill>
            <a:srgbClr val="037c0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60760" y="2965320"/>
            <a:ext cx="357120" cy="534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0760" y="3500280"/>
            <a:ext cx="17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471840" y="3500280"/>
            <a:ext cx="266760" cy="3556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085840" y="43117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tu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45000" y="429732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tu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916600" y="429408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t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35360" y="2489040"/>
            <a:ext cx="3502080" cy="536400"/>
          </a:xfrm>
          <a:prstGeom prst="ellipse">
            <a:avLst/>
          </a:prstGeom>
          <a:noFill/>
          <a:ln w="38160">
            <a:solidFill>
              <a:srgbClr val="7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62640" y="3776760"/>
            <a:ext cx="1751040" cy="555480"/>
          </a:xfrm>
          <a:prstGeom prst="ellipse">
            <a:avLst/>
          </a:prstGeom>
          <a:noFill/>
          <a:ln w="38160">
            <a:solidFill>
              <a:srgbClr val="7fff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Run-Time Server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93600" y="1704960"/>
            <a:ext cx="716112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a protocol or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ing interfaces and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ing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lecting Protoc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5920" y="996840"/>
            <a:ext cx="711684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veral APIs to select protocol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ProtseqEp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Protseq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UseAllProtseq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otseq is a string identifying the protocol you wish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cacn_ip_tcp”, “ncadg_ipx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ndpoint is a protocol-specific port/pipe/socket identif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30”, “\pipe\myserver”, “MyServer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000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gistering Interfaces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d End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47760" y="1687680"/>
            <a:ext cx="66517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ing you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RegisterI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interface supported by your server needs to be regi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ing your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InqBinding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EpRegist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using dynamic (unspecified) endpoints then each interface must be registered with a set of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Security</a:t>
            </a:r>
            <a:r>
              <a:rPr b="1" lang="en-US" sz="4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53960" y="1014480"/>
            <a:ext cx="6438960" cy="52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uses Security Support Provid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lecting security prov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erverRegisterAuthInfo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io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_C_AUTHN_WIN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choose the level of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ing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ImpersonateClien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RevertToSel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rocessing Requ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95480" y="1644480"/>
            <a:ext cx="6956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ls the server to start accepting client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Calls != maximum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zero DontWait recomm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71640" y="4579920"/>
            <a:ext cx="7203960" cy="10508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pcServerListen(UINT MinimumCallThread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MaxCal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DontWai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hutd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95200" y="1335240"/>
            <a:ext cx="855648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MgmtStopServerListening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y another thread or possibly a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may listen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MgmtWaitServerListe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used the non-blocking RpcServerListen() call this to wait for outstanding calls to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EpUnregist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nup the endpoint mappe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Run-Time Client AP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92400" y="1844640"/>
            <a:ext cx="47642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ng to a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ing RPC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882800" y="1521000"/>
            <a:ext cx="5381640" cy="38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RPC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application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ing RPC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E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nnecting To A Ser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0960" y="1181160"/>
            <a:ext cx="81853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binding” represents a particular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binding by hand or get bindings from the name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68280" y="3076560"/>
            <a:ext cx="8410680" cy="3114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pcStringBindingCompose(NULL,  // op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cacn_np”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myserver”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\pipe\endpoint”, // op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// op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StringBinding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Produces “ncacn_np:myserver[\pipe\endpoint]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pcBindingFromStringBinding(StringBinding, &amp;Binding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sing Secur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62080" y="1289160"/>
            <a:ext cx="6824520" cy="14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should select a security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x levels of security:  none, connect, call, pkt, integrity,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68280" y="3076560"/>
            <a:ext cx="8410680" cy="2717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pcBindingSetAuthInfo(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Bind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// ServerPrincipalName optional for WIN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PC_C_AUTHN_LEVEL_CONNEC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PC_C_AUTHN_DEFAULT, // security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// AuthIdentity, NULL means “m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0);   // Authz service not needed for WIN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74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aking RPC Cal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00280" y="1352520"/>
            <a:ext cx="574848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the binding handle and parameters to the client st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882800" y="2533680"/>
            <a:ext cx="5383080" cy="451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ESULT ResultLis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wchar_t *Name = L”MyName”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esultList.next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TryExcept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SimpleCall(Bindin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Nam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&amp;ResultList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RpcExcept(1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status = RpcExceptionCode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Lucida Sans Typewriter"/>
                <a:ea typeface="Lucida Sans Typewriter"/>
              </a:rPr>
              <a:t>} RpcEndExcep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hutdow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638360" y="1920960"/>
            <a:ext cx="58705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ing RPC data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BindingFre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tringFre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SmDestroyClient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ample RPC Servi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555920" y="1857240"/>
            <a:ext cx="603720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service that demonstrates everything discussed in this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ailable with the beta Win32 SDK you will be rece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PC Run-Time Performanc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80960" y="1328760"/>
            <a:ext cx="81853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threads in RpcServerListe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block threads i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oundtrips, combin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utdown idle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 client specific state with contex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Calls in RpcServerUseProtseq*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djust threa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your DLLs, call DisableThreadLibraryCall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allocations in server or use fast allo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00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S And DCE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5440" y="1136520"/>
            <a:ext cx="849636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-time interope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-oriented and datagram run times interope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DCE security provider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-time API mapping header files available in the s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s OSF validation test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DL supports many extensions to th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esn’t support pipes and some v1_*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riting Great RPC Serv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72960" y="1154160"/>
            <a:ext cx="84027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PC run-tim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ble protocols and dynamic end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ing blocking in the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ve per client state in context hand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RPC security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good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 existing servers using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publish and extend in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hy Use RPC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17600" y="1305000"/>
            <a:ext cx="6512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len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OSF DC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able interface; vers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RPC Platfor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87440" y="1355760"/>
            <a:ext cx="2432160" cy="22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0"/>
              </a:lnSpc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Ser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8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024440" y="1355760"/>
            <a:ext cx="373536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0"/>
              </a:lnSpc>
            </a:pPr>
            <a:r>
              <a:rPr b="1" lang="en-US" sz="36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Cl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8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8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93680" y="6149880"/>
            <a:ext cx="2347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Coming s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5000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RPC Protoc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5800" y="1555920"/>
            <a:ext cx="8317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200000"/>
              </a:lnSpc>
              <a:tabLst>
                <a:tab algn="l" pos="1996920"/>
                <a:tab algn="l" pos="4224240"/>
              </a:tabLst>
            </a:pPr>
            <a:r>
              <a:rPr b="1" lang="en-US" sz="32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Platform</a:t>
            </a:r>
            <a:r>
              <a:rPr b="1" lang="en-US" sz="32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Run time</a:t>
            </a:r>
            <a:r>
              <a:rPr b="1" lang="en-US" sz="32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3200" spc="-1" strike="noStrike" u="sng">
                <a:solidFill>
                  <a:srgbClr val="f6bf69"/>
                </a:solidFill>
                <a:uFillTx/>
                <a:latin typeface="Times New Roman"/>
                <a:ea typeface="Times New Roman"/>
              </a:rPr>
              <a:t>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1996920"/>
                <a:tab algn="l" pos="422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nly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, SPX, NP, NetBIOS, UDP, I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1996920"/>
                <a:tab algn="l" pos="422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n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SP,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1996920"/>
                <a:tab algn="l" pos="422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3.x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onl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, SPX, NP, NetBIOS, UDP, I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1996920"/>
                <a:tab algn="l" pos="422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95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, SPX, NP, NetBIOS, L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1996920"/>
                <a:tab algn="l" pos="422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nd Server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, SPX, NP, NetBI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96920"/>
                <a:tab algn="l" pos="4224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P, IPX, LPC, AD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tandard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4240" y="1843200"/>
            <a:ext cx="66387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with sever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16480" y="3963960"/>
            <a:ext cx="914760" cy="914760"/>
          </a:xfrm>
          <a:custGeom>
            <a:avLst/>
            <a:gdLst/>
            <a:ahLst/>
            <a:rect l="0" t="0" r="r" b="b"/>
            <a:pathLst>
              <a:path w="2541" h="2541">
                <a:moveTo>
                  <a:pt x="2541" y="0"/>
                </a:moveTo>
                <a:lnTo>
                  <a:pt x="2541" y="2541"/>
                </a:lnTo>
                <a:lnTo>
                  <a:pt x="0" y="2541"/>
                </a:lnTo>
                <a:lnTo>
                  <a:pt x="0" y="0"/>
                </a:lnTo>
                <a:lnTo>
                  <a:pt x="2541" y="0"/>
                </a:lnTo>
                <a:close/>
              </a:path>
            </a:pathLst>
          </a:custGeom>
          <a:solidFill>
            <a:srgbClr val="00808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2240" y="3963960"/>
            <a:ext cx="911520" cy="914760"/>
          </a:xfrm>
          <a:custGeom>
            <a:avLst/>
            <a:gdLst/>
            <a:ahLst/>
            <a:rect l="0" t="0" r="r" b="b"/>
            <a:pathLst>
              <a:path w="2532" h="2541">
                <a:moveTo>
                  <a:pt x="0" y="0"/>
                </a:moveTo>
                <a:lnTo>
                  <a:pt x="0" y="2541"/>
                </a:lnTo>
                <a:lnTo>
                  <a:pt x="2532" y="2541"/>
                </a:lnTo>
                <a:lnTo>
                  <a:pt x="25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16360" y="3963960"/>
            <a:ext cx="914760" cy="914760"/>
          </a:xfrm>
          <a:custGeom>
            <a:avLst/>
            <a:gdLst/>
            <a:ahLst/>
            <a:rect l="0" t="0" r="r" b="b"/>
            <a:pathLst>
              <a:path w="2541" h="2541">
                <a:moveTo>
                  <a:pt x="0" y="0"/>
                </a:moveTo>
                <a:lnTo>
                  <a:pt x="0" y="2541"/>
                </a:lnTo>
                <a:lnTo>
                  <a:pt x="2541" y="2541"/>
                </a:lnTo>
                <a:lnTo>
                  <a:pt x="254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2935440"/>
            <a:ext cx="3315240" cy="1257840"/>
          </a:xfrm>
          <a:custGeom>
            <a:avLst/>
            <a:gdLst/>
            <a:ahLst/>
            <a:rect l="0" t="0" r="r" b="b"/>
            <a:pathLst>
              <a:path w="9209" h="3494">
                <a:moveTo>
                  <a:pt x="0" y="0"/>
                </a:moveTo>
                <a:lnTo>
                  <a:pt x="9209" y="0"/>
                </a:lnTo>
                <a:lnTo>
                  <a:pt x="9209" y="2859"/>
                </a:lnTo>
                <a:lnTo>
                  <a:pt x="8891" y="2859"/>
                </a:lnTo>
                <a:lnTo>
                  <a:pt x="8891" y="3494"/>
                </a:lnTo>
                <a:lnTo>
                  <a:pt x="7939" y="3494"/>
                </a:lnTo>
                <a:lnTo>
                  <a:pt x="7939" y="2859"/>
                </a:lnTo>
                <a:lnTo>
                  <a:pt x="7304" y="2859"/>
                </a:lnTo>
                <a:lnTo>
                  <a:pt x="7304" y="3494"/>
                </a:lnTo>
                <a:lnTo>
                  <a:pt x="6986" y="3494"/>
                </a:lnTo>
                <a:lnTo>
                  <a:pt x="6986" y="2859"/>
                </a:lnTo>
                <a:lnTo>
                  <a:pt x="5398" y="2859"/>
                </a:lnTo>
                <a:lnTo>
                  <a:pt x="5080" y="3494"/>
                </a:lnTo>
                <a:lnTo>
                  <a:pt x="4763" y="2859"/>
                </a:lnTo>
                <a:lnTo>
                  <a:pt x="4128" y="2859"/>
                </a:lnTo>
                <a:lnTo>
                  <a:pt x="4128" y="3494"/>
                </a:lnTo>
                <a:lnTo>
                  <a:pt x="3810" y="3494"/>
                </a:lnTo>
                <a:lnTo>
                  <a:pt x="3810" y="2859"/>
                </a:lnTo>
                <a:lnTo>
                  <a:pt x="2222" y="2859"/>
                </a:lnTo>
                <a:lnTo>
                  <a:pt x="2222" y="3177"/>
                </a:lnTo>
                <a:lnTo>
                  <a:pt x="2222" y="3494"/>
                </a:lnTo>
                <a:lnTo>
                  <a:pt x="1270" y="3494"/>
                </a:lnTo>
                <a:lnTo>
                  <a:pt x="1270" y="2859"/>
                </a:lnTo>
                <a:lnTo>
                  <a:pt x="952" y="2859"/>
                </a:lnTo>
                <a:lnTo>
                  <a:pt x="952" y="3494"/>
                </a:lnTo>
                <a:lnTo>
                  <a:pt x="317" y="3494"/>
                </a:lnTo>
                <a:lnTo>
                  <a:pt x="317" y="2859"/>
                </a:lnTo>
                <a:lnTo>
                  <a:pt x="0" y="2859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68680" y="3152880"/>
            <a:ext cx="1898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95640" y="439740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5800" y="439740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95760" y="4397400"/>
            <a:ext cx="641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istributed Appl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681200" y="1582560"/>
            <a:ext cx="5784480" cy="3696120"/>
            <a:chOff x="1681200" y="1582560"/>
            <a:chExt cx="5784480" cy="3696120"/>
          </a:xfrm>
        </p:grpSpPr>
        <p:sp>
          <p:nvSpPr>
            <p:cNvPr id="61" name=""/>
            <p:cNvSpPr/>
            <p:nvPr/>
          </p:nvSpPr>
          <p:spPr>
            <a:xfrm>
              <a:off x="2859120" y="1582560"/>
              <a:ext cx="3998880" cy="16207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24360" y="3825720"/>
              <a:ext cx="1741320" cy="1441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16200" y="3825720"/>
              <a:ext cx="3305160" cy="14414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03600" y="1949400"/>
              <a:ext cx="2519640" cy="987840"/>
            </a:xfrm>
            <a:custGeom>
              <a:avLst/>
              <a:gdLst/>
              <a:ahLst/>
              <a:rect l="0" t="0" r="r" b="b"/>
              <a:pathLst>
                <a:path w="6999" h="2744">
                  <a:moveTo>
                    <a:pt x="0" y="0"/>
                  </a:moveTo>
                  <a:lnTo>
                    <a:pt x="6999" y="0"/>
                  </a:lnTo>
                  <a:lnTo>
                    <a:pt x="6999" y="2242"/>
                  </a:lnTo>
                  <a:lnTo>
                    <a:pt x="6756" y="2242"/>
                  </a:lnTo>
                  <a:lnTo>
                    <a:pt x="6756" y="2744"/>
                  </a:lnTo>
                  <a:lnTo>
                    <a:pt x="6033" y="2744"/>
                  </a:lnTo>
                  <a:lnTo>
                    <a:pt x="6033" y="2242"/>
                  </a:lnTo>
                  <a:lnTo>
                    <a:pt x="5552" y="2242"/>
                  </a:lnTo>
                  <a:lnTo>
                    <a:pt x="5552" y="2744"/>
                  </a:lnTo>
                  <a:lnTo>
                    <a:pt x="5310" y="2744"/>
                  </a:lnTo>
                  <a:lnTo>
                    <a:pt x="5310" y="2242"/>
                  </a:lnTo>
                  <a:lnTo>
                    <a:pt x="4102" y="2242"/>
                  </a:lnTo>
                  <a:lnTo>
                    <a:pt x="3863" y="2744"/>
                  </a:lnTo>
                  <a:lnTo>
                    <a:pt x="3621" y="2242"/>
                  </a:lnTo>
                  <a:lnTo>
                    <a:pt x="3139" y="2242"/>
                  </a:lnTo>
                  <a:lnTo>
                    <a:pt x="3139" y="2744"/>
                  </a:lnTo>
                  <a:lnTo>
                    <a:pt x="2897" y="2744"/>
                  </a:lnTo>
                  <a:lnTo>
                    <a:pt x="2897" y="2242"/>
                  </a:lnTo>
                  <a:lnTo>
                    <a:pt x="1688" y="2242"/>
                  </a:lnTo>
                  <a:lnTo>
                    <a:pt x="1688" y="2493"/>
                  </a:lnTo>
                  <a:lnTo>
                    <a:pt x="1688" y="2744"/>
                  </a:lnTo>
                  <a:lnTo>
                    <a:pt x="965" y="2744"/>
                  </a:lnTo>
                  <a:lnTo>
                    <a:pt x="965" y="2242"/>
                  </a:lnTo>
                  <a:lnTo>
                    <a:pt x="727" y="2242"/>
                  </a:lnTo>
                  <a:lnTo>
                    <a:pt x="727" y="2744"/>
                  </a:lnTo>
                  <a:lnTo>
                    <a:pt x="242" y="2744"/>
                  </a:lnTo>
                  <a:lnTo>
                    <a:pt x="242" y="2242"/>
                  </a:lnTo>
                  <a:lnTo>
                    <a:pt x="0" y="22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4105440" y="2021040"/>
              <a:ext cx="1517760" cy="41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1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2344680" y="4103640"/>
              <a:ext cx="695520" cy="717840"/>
              <a:chOff x="2344680" y="4103640"/>
              <a:chExt cx="695520" cy="717840"/>
            </a:xfrm>
          </p:grpSpPr>
          <p:sp>
            <p:nvSpPr>
              <p:cNvPr id="67" name=""/>
              <p:cNvSpPr/>
              <p:nvPr/>
            </p:nvSpPr>
            <p:spPr>
              <a:xfrm>
                <a:off x="2344680" y="4103640"/>
                <a:ext cx="695520" cy="717840"/>
              </a:xfrm>
              <a:custGeom>
                <a:avLst/>
                <a:gdLst/>
                <a:ahLst/>
                <a:rect l="0" t="0" r="r" b="b"/>
                <a:pathLst>
                  <a:path w="1932" h="1994">
                    <a:moveTo>
                      <a:pt x="0" y="1994"/>
                    </a:moveTo>
                    <a:lnTo>
                      <a:pt x="0" y="0"/>
                    </a:lnTo>
                    <a:lnTo>
                      <a:pt x="242" y="0"/>
                    </a:lnTo>
                    <a:lnTo>
                      <a:pt x="242" y="498"/>
                    </a:lnTo>
                    <a:lnTo>
                      <a:pt x="723" y="498"/>
                    </a:lnTo>
                    <a:lnTo>
                      <a:pt x="723" y="0"/>
                    </a:lnTo>
                    <a:lnTo>
                      <a:pt x="965" y="0"/>
                    </a:lnTo>
                    <a:lnTo>
                      <a:pt x="965" y="498"/>
                    </a:lnTo>
                    <a:lnTo>
                      <a:pt x="1689" y="498"/>
                    </a:lnTo>
                    <a:lnTo>
                      <a:pt x="1689" y="0"/>
                    </a:lnTo>
                    <a:lnTo>
                      <a:pt x="1932" y="0"/>
                    </a:lnTo>
                    <a:lnTo>
                      <a:pt x="1932" y="1994"/>
                    </a:lnTo>
                    <a:lnTo>
                      <a:pt x="0" y="1994"/>
                    </a:lnTo>
                    <a:close/>
                  </a:path>
                </a:pathLst>
              </a:custGeom>
              <a:solidFill>
                <a:srgbClr val="fff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2455920" y="4435560"/>
                <a:ext cx="539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b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3908520" y="4103640"/>
              <a:ext cx="695520" cy="717840"/>
              <a:chOff x="3908520" y="4103640"/>
              <a:chExt cx="695520" cy="717840"/>
            </a:xfrm>
          </p:grpSpPr>
          <p:sp>
            <p:nvSpPr>
              <p:cNvPr id="70" name=""/>
              <p:cNvSpPr/>
              <p:nvPr/>
            </p:nvSpPr>
            <p:spPr>
              <a:xfrm>
                <a:off x="3908520" y="4103640"/>
                <a:ext cx="695520" cy="717840"/>
              </a:xfrm>
              <a:custGeom>
                <a:avLst/>
                <a:gdLst/>
                <a:ahLst/>
                <a:rect l="0" t="0" r="r" b="b"/>
                <a:pathLst>
                  <a:path w="1932" h="1994">
                    <a:moveTo>
                      <a:pt x="0" y="1994"/>
                    </a:moveTo>
                    <a:lnTo>
                      <a:pt x="0" y="0"/>
                    </a:lnTo>
                    <a:lnTo>
                      <a:pt x="242" y="0"/>
                    </a:lnTo>
                    <a:lnTo>
                      <a:pt x="242" y="498"/>
                    </a:lnTo>
                    <a:lnTo>
                      <a:pt x="480" y="498"/>
                    </a:lnTo>
                    <a:lnTo>
                      <a:pt x="480" y="0"/>
                    </a:lnTo>
                    <a:lnTo>
                      <a:pt x="965" y="0"/>
                    </a:lnTo>
                    <a:lnTo>
                      <a:pt x="1204" y="498"/>
                    </a:lnTo>
                    <a:lnTo>
                      <a:pt x="1447" y="0"/>
                    </a:lnTo>
                    <a:lnTo>
                      <a:pt x="1932" y="0"/>
                    </a:lnTo>
                    <a:lnTo>
                      <a:pt x="1932" y="1994"/>
                    </a:lnTo>
                    <a:lnTo>
                      <a:pt x="0" y="1994"/>
                    </a:lnTo>
                    <a:close/>
                  </a:path>
                </a:pathLst>
              </a:custGeom>
              <a:solidFill>
                <a:srgbClr val="00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3986280" y="4435560"/>
                <a:ext cx="539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b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6165720" y="4103640"/>
              <a:ext cx="695520" cy="717840"/>
              <a:chOff x="6165720" y="4103640"/>
              <a:chExt cx="695520" cy="717840"/>
            </a:xfrm>
          </p:grpSpPr>
          <p:sp>
            <p:nvSpPr>
              <p:cNvPr id="73" name=""/>
              <p:cNvSpPr/>
              <p:nvPr/>
            </p:nvSpPr>
            <p:spPr>
              <a:xfrm>
                <a:off x="6165720" y="4103640"/>
                <a:ext cx="695520" cy="717840"/>
              </a:xfrm>
              <a:custGeom>
                <a:avLst/>
                <a:gdLst/>
                <a:ahLst/>
                <a:rect l="0" t="0" r="r" b="b"/>
                <a:pathLst>
                  <a:path w="1932" h="1994">
                    <a:moveTo>
                      <a:pt x="0" y="1994"/>
                    </a:moveTo>
                    <a:lnTo>
                      <a:pt x="0" y="0"/>
                    </a:lnTo>
                    <a:lnTo>
                      <a:pt x="242" y="0"/>
                    </a:lnTo>
                    <a:lnTo>
                      <a:pt x="242" y="498"/>
                    </a:lnTo>
                    <a:lnTo>
                      <a:pt x="485" y="498"/>
                    </a:lnTo>
                    <a:lnTo>
                      <a:pt x="485" y="0"/>
                    </a:lnTo>
                    <a:lnTo>
                      <a:pt x="965" y="0"/>
                    </a:lnTo>
                    <a:lnTo>
                      <a:pt x="965" y="498"/>
                    </a:lnTo>
                    <a:lnTo>
                      <a:pt x="1689" y="498"/>
                    </a:lnTo>
                    <a:lnTo>
                      <a:pt x="1689" y="0"/>
                    </a:lnTo>
                    <a:lnTo>
                      <a:pt x="1932" y="0"/>
                    </a:lnTo>
                    <a:lnTo>
                      <a:pt x="1932" y="1994"/>
                    </a:lnTo>
                    <a:lnTo>
                      <a:pt x="0" y="1994"/>
                    </a:lnTo>
                    <a:close/>
                  </a:path>
                </a:pathLst>
              </a:custGeom>
              <a:solidFill>
                <a:srgbClr val="00808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6276960" y="4435560"/>
                <a:ext cx="539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ib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2779560" y="3025800"/>
              <a:ext cx="1128960" cy="986040"/>
            </a:xfrm>
            <a:custGeom>
              <a:avLst/>
              <a:gdLst/>
              <a:ahLst/>
              <a:rect l="0" t="0" r="r" b="b"/>
              <a:pathLst>
                <a:path w="3136" h="2739">
                  <a:moveTo>
                    <a:pt x="0" y="2739"/>
                  </a:moveTo>
                  <a:lnTo>
                    <a:pt x="1928" y="1367"/>
                  </a:lnTo>
                  <a:lnTo>
                    <a:pt x="1203" y="1367"/>
                  </a:lnTo>
                  <a:lnTo>
                    <a:pt x="3136" y="0"/>
                  </a:lnTo>
                  <a:lnTo>
                    <a:pt x="1203" y="1367"/>
                  </a:lnTo>
                  <a:lnTo>
                    <a:pt x="1928" y="1367"/>
                  </a:lnTo>
                  <a:lnTo>
                    <a:pt x="0" y="273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41960" y="3025800"/>
              <a:ext cx="437040" cy="989280"/>
            </a:xfrm>
            <a:custGeom>
              <a:avLst/>
              <a:gdLst/>
              <a:ahLst/>
              <a:rect l="0" t="0" r="r" b="b"/>
              <a:pathLst>
                <a:path w="1214" h="2748">
                  <a:moveTo>
                    <a:pt x="0" y="2748"/>
                  </a:moveTo>
                  <a:lnTo>
                    <a:pt x="972" y="1247"/>
                  </a:lnTo>
                  <a:lnTo>
                    <a:pt x="486" y="1247"/>
                  </a:lnTo>
                  <a:lnTo>
                    <a:pt x="1214" y="0"/>
                  </a:lnTo>
                  <a:lnTo>
                    <a:pt x="486" y="1247"/>
                  </a:lnTo>
                  <a:lnTo>
                    <a:pt x="972" y="1247"/>
                  </a:lnTo>
                  <a:lnTo>
                    <a:pt x="0" y="274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05440" y="3025800"/>
              <a:ext cx="524160" cy="986040"/>
            </a:xfrm>
            <a:custGeom>
              <a:avLst/>
              <a:gdLst/>
              <a:ahLst/>
              <a:rect l="0" t="0" r="r" b="b"/>
              <a:pathLst>
                <a:path w="1456" h="2739">
                  <a:moveTo>
                    <a:pt x="1456" y="2739"/>
                  </a:moveTo>
                  <a:lnTo>
                    <a:pt x="577" y="1367"/>
                  </a:lnTo>
                  <a:lnTo>
                    <a:pt x="1160" y="1367"/>
                  </a:lnTo>
                  <a:lnTo>
                    <a:pt x="0" y="0"/>
                  </a:lnTo>
                  <a:lnTo>
                    <a:pt x="1160" y="1367"/>
                  </a:lnTo>
                  <a:lnTo>
                    <a:pt x="577" y="1367"/>
                  </a:lnTo>
                  <a:lnTo>
                    <a:pt x="1456" y="273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681200" y="3246480"/>
              <a:ext cx="8460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19280" y="3384720"/>
              <a:ext cx="468972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2978280" y="4973760"/>
              <a:ext cx="820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103800" y="4973760"/>
              <a:ext cx="820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4540320" y="1652760"/>
              <a:ext cx="647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istributed RPC Applicatio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2360" y="3705120"/>
            <a:ext cx="481032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92400" y="1623960"/>
            <a:ext cx="3747960" cy="1785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54680" y="4118040"/>
            <a:ext cx="1811160" cy="1874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60560" y="4143240"/>
            <a:ext cx="3319560" cy="1803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509920" y="4952880"/>
            <a:ext cx="713160" cy="713160"/>
            <a:chOff x="2509920" y="4952880"/>
            <a:chExt cx="713160" cy="713160"/>
          </a:xfrm>
        </p:grpSpPr>
        <p:sp>
          <p:nvSpPr>
            <p:cNvPr id="89" name=""/>
            <p:cNvSpPr/>
            <p:nvPr/>
          </p:nvSpPr>
          <p:spPr>
            <a:xfrm>
              <a:off x="2509920" y="4952880"/>
              <a:ext cx="713160" cy="713160"/>
            </a:xfrm>
            <a:custGeom>
              <a:avLst/>
              <a:gdLst/>
              <a:ahLst/>
              <a:rect l="0" t="0" r="r" b="b"/>
              <a:pathLst>
                <a:path w="1981" h="1981">
                  <a:moveTo>
                    <a:pt x="0" y="1981"/>
                  </a:moveTo>
                  <a:lnTo>
                    <a:pt x="0" y="0"/>
                  </a:lnTo>
                  <a:lnTo>
                    <a:pt x="246" y="0"/>
                  </a:lnTo>
                  <a:lnTo>
                    <a:pt x="246" y="493"/>
                  </a:lnTo>
                  <a:lnTo>
                    <a:pt x="746" y="493"/>
                  </a:lnTo>
                  <a:lnTo>
                    <a:pt x="746" y="0"/>
                  </a:lnTo>
                  <a:lnTo>
                    <a:pt x="993" y="0"/>
                  </a:lnTo>
                  <a:lnTo>
                    <a:pt x="993" y="493"/>
                  </a:lnTo>
                  <a:lnTo>
                    <a:pt x="1735" y="493"/>
                  </a:lnTo>
                  <a:lnTo>
                    <a:pt x="1735" y="0"/>
                  </a:lnTo>
                  <a:lnTo>
                    <a:pt x="1981" y="0"/>
                  </a:lnTo>
                  <a:lnTo>
                    <a:pt x="1981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fff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 txBox="1"/>
            <p:nvPr/>
          </p:nvSpPr>
          <p:spPr>
            <a:xfrm>
              <a:off x="2630520" y="528012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4079880" y="4935600"/>
            <a:ext cx="713160" cy="713160"/>
            <a:chOff x="4079880" y="4935600"/>
            <a:chExt cx="713160" cy="713160"/>
          </a:xfrm>
        </p:grpSpPr>
        <p:sp>
          <p:nvSpPr>
            <p:cNvPr id="92" name=""/>
            <p:cNvSpPr/>
            <p:nvPr/>
          </p:nvSpPr>
          <p:spPr>
            <a:xfrm>
              <a:off x="4079880" y="4935600"/>
              <a:ext cx="713160" cy="713160"/>
            </a:xfrm>
            <a:custGeom>
              <a:avLst/>
              <a:gdLst/>
              <a:ahLst/>
              <a:rect l="0" t="0" r="r" b="b"/>
              <a:pathLst>
                <a:path w="1981" h="1981">
                  <a:moveTo>
                    <a:pt x="0" y="1981"/>
                  </a:moveTo>
                  <a:lnTo>
                    <a:pt x="0" y="0"/>
                  </a:lnTo>
                  <a:lnTo>
                    <a:pt x="246" y="0"/>
                  </a:lnTo>
                  <a:lnTo>
                    <a:pt x="246" y="493"/>
                  </a:lnTo>
                  <a:lnTo>
                    <a:pt x="499" y="493"/>
                  </a:lnTo>
                  <a:lnTo>
                    <a:pt x="499" y="0"/>
                  </a:lnTo>
                  <a:lnTo>
                    <a:pt x="993" y="0"/>
                  </a:lnTo>
                  <a:lnTo>
                    <a:pt x="1240" y="493"/>
                  </a:lnTo>
                  <a:lnTo>
                    <a:pt x="1488" y="0"/>
                  </a:lnTo>
                  <a:lnTo>
                    <a:pt x="1981" y="0"/>
                  </a:lnTo>
                  <a:lnTo>
                    <a:pt x="1981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00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4167360" y="526428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334200" y="4952880"/>
            <a:ext cx="713160" cy="713160"/>
            <a:chOff x="6334200" y="4952880"/>
            <a:chExt cx="713160" cy="713160"/>
          </a:xfrm>
        </p:grpSpPr>
        <p:sp>
          <p:nvSpPr>
            <p:cNvPr id="95" name=""/>
            <p:cNvSpPr/>
            <p:nvPr/>
          </p:nvSpPr>
          <p:spPr>
            <a:xfrm>
              <a:off x="6334200" y="4952880"/>
              <a:ext cx="713160" cy="713160"/>
            </a:xfrm>
            <a:custGeom>
              <a:avLst/>
              <a:gdLst/>
              <a:ahLst/>
              <a:rect l="0" t="0" r="r" b="b"/>
              <a:pathLst>
                <a:path w="1981" h="1981">
                  <a:moveTo>
                    <a:pt x="0" y="1981"/>
                  </a:moveTo>
                  <a:lnTo>
                    <a:pt x="0" y="0"/>
                  </a:lnTo>
                  <a:lnTo>
                    <a:pt x="246" y="0"/>
                  </a:lnTo>
                  <a:lnTo>
                    <a:pt x="246" y="493"/>
                  </a:lnTo>
                  <a:lnTo>
                    <a:pt x="493" y="493"/>
                  </a:lnTo>
                  <a:lnTo>
                    <a:pt x="493" y="0"/>
                  </a:lnTo>
                  <a:lnTo>
                    <a:pt x="988" y="0"/>
                  </a:lnTo>
                  <a:lnTo>
                    <a:pt x="988" y="493"/>
                  </a:lnTo>
                  <a:lnTo>
                    <a:pt x="1735" y="493"/>
                  </a:lnTo>
                  <a:lnTo>
                    <a:pt x="1735" y="0"/>
                  </a:lnTo>
                  <a:lnTo>
                    <a:pt x="1981" y="0"/>
                  </a:lnTo>
                  <a:lnTo>
                    <a:pt x="1981" y="1981"/>
                  </a:lnTo>
                  <a:lnTo>
                    <a:pt x="0" y="1981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453360" y="5280120"/>
              <a:ext cx="539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ib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6067440" y="3322800"/>
            <a:ext cx="421200" cy="711720"/>
          </a:xfrm>
          <a:custGeom>
            <a:avLst/>
            <a:gdLst/>
            <a:ahLst/>
            <a:rect l="0" t="0" r="r" b="b"/>
            <a:pathLst>
              <a:path w="1170" h="1977">
                <a:moveTo>
                  <a:pt x="1170" y="1977"/>
                </a:moveTo>
                <a:lnTo>
                  <a:pt x="464" y="988"/>
                </a:lnTo>
                <a:lnTo>
                  <a:pt x="932" y="988"/>
                </a:lnTo>
                <a:lnTo>
                  <a:pt x="0" y="0"/>
                </a:lnTo>
                <a:lnTo>
                  <a:pt x="932" y="988"/>
                </a:lnTo>
                <a:lnTo>
                  <a:pt x="464" y="988"/>
                </a:lnTo>
                <a:lnTo>
                  <a:pt x="1170" y="197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afd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481040" y="356544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51160" y="5637240"/>
            <a:ext cx="82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280200" y="5707080"/>
            <a:ext cx="820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8320" y="1603440"/>
            <a:ext cx="6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79920" y="1870200"/>
            <a:ext cx="2583360" cy="746640"/>
          </a:xfrm>
          <a:custGeom>
            <a:avLst/>
            <a:gdLst/>
            <a:ahLst/>
            <a:rect l="0" t="0" r="r" b="b"/>
            <a:pathLst>
              <a:path w="7176" h="2074">
                <a:moveTo>
                  <a:pt x="0" y="0"/>
                </a:moveTo>
                <a:lnTo>
                  <a:pt x="7176" y="0"/>
                </a:lnTo>
                <a:lnTo>
                  <a:pt x="7176" y="1607"/>
                </a:lnTo>
                <a:lnTo>
                  <a:pt x="6929" y="1607"/>
                </a:lnTo>
                <a:lnTo>
                  <a:pt x="6929" y="2074"/>
                </a:lnTo>
                <a:lnTo>
                  <a:pt x="6188" y="2074"/>
                </a:lnTo>
                <a:lnTo>
                  <a:pt x="6188" y="1607"/>
                </a:lnTo>
                <a:lnTo>
                  <a:pt x="5694" y="1607"/>
                </a:lnTo>
                <a:lnTo>
                  <a:pt x="5694" y="2074"/>
                </a:lnTo>
                <a:lnTo>
                  <a:pt x="5448" y="2074"/>
                </a:lnTo>
                <a:lnTo>
                  <a:pt x="5448" y="1607"/>
                </a:lnTo>
                <a:lnTo>
                  <a:pt x="4207" y="1607"/>
                </a:lnTo>
                <a:lnTo>
                  <a:pt x="3960" y="2074"/>
                </a:lnTo>
                <a:lnTo>
                  <a:pt x="3713" y="1607"/>
                </a:lnTo>
                <a:lnTo>
                  <a:pt x="3215" y="1607"/>
                </a:lnTo>
                <a:lnTo>
                  <a:pt x="3215" y="2074"/>
                </a:lnTo>
                <a:lnTo>
                  <a:pt x="2968" y="2074"/>
                </a:lnTo>
                <a:lnTo>
                  <a:pt x="2968" y="1607"/>
                </a:lnTo>
                <a:lnTo>
                  <a:pt x="1733" y="1607"/>
                </a:lnTo>
                <a:lnTo>
                  <a:pt x="1733" y="1840"/>
                </a:lnTo>
                <a:lnTo>
                  <a:pt x="1733" y="2074"/>
                </a:lnTo>
                <a:lnTo>
                  <a:pt x="987" y="2074"/>
                </a:lnTo>
                <a:lnTo>
                  <a:pt x="987" y="1607"/>
                </a:lnTo>
                <a:lnTo>
                  <a:pt x="740" y="1607"/>
                </a:lnTo>
                <a:lnTo>
                  <a:pt x="740" y="2074"/>
                </a:lnTo>
                <a:lnTo>
                  <a:pt x="246" y="2074"/>
                </a:lnTo>
                <a:lnTo>
                  <a:pt x="246" y="1607"/>
                </a:lnTo>
                <a:lnTo>
                  <a:pt x="0" y="1607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13080" y="1976400"/>
            <a:ext cx="1517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8840" y="244152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1240"/>
                </a:moveTo>
                <a:lnTo>
                  <a:pt x="0" y="0"/>
                </a:lnTo>
                <a:lnTo>
                  <a:pt x="246" y="0"/>
                </a:lnTo>
                <a:lnTo>
                  <a:pt x="246" y="493"/>
                </a:lnTo>
                <a:lnTo>
                  <a:pt x="493" y="493"/>
                </a:lnTo>
                <a:lnTo>
                  <a:pt x="493" y="0"/>
                </a:lnTo>
                <a:lnTo>
                  <a:pt x="993" y="0"/>
                </a:lnTo>
                <a:lnTo>
                  <a:pt x="1240" y="493"/>
                </a:lnTo>
                <a:lnTo>
                  <a:pt x="1488" y="0"/>
                </a:lnTo>
                <a:lnTo>
                  <a:pt x="1981" y="0"/>
                </a:lnTo>
                <a:lnTo>
                  <a:pt x="1981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6520" y="260028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tu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79920" y="244152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1240"/>
                </a:moveTo>
                <a:lnTo>
                  <a:pt x="0" y="0"/>
                </a:lnTo>
                <a:lnTo>
                  <a:pt x="246" y="0"/>
                </a:lnTo>
                <a:lnTo>
                  <a:pt x="246" y="493"/>
                </a:lnTo>
                <a:lnTo>
                  <a:pt x="741" y="493"/>
                </a:lnTo>
                <a:lnTo>
                  <a:pt x="741" y="0"/>
                </a:lnTo>
                <a:lnTo>
                  <a:pt x="988" y="0"/>
                </a:lnTo>
                <a:lnTo>
                  <a:pt x="988" y="493"/>
                </a:lnTo>
                <a:lnTo>
                  <a:pt x="1735" y="493"/>
                </a:lnTo>
                <a:lnTo>
                  <a:pt x="1735" y="0"/>
                </a:lnTo>
                <a:lnTo>
                  <a:pt x="1981" y="0"/>
                </a:lnTo>
                <a:lnTo>
                  <a:pt x="1981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656160" y="259236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tu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49760" y="244152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1240"/>
                </a:moveTo>
                <a:lnTo>
                  <a:pt x="0" y="0"/>
                </a:lnTo>
                <a:lnTo>
                  <a:pt x="251" y="0"/>
                </a:lnTo>
                <a:lnTo>
                  <a:pt x="251" y="493"/>
                </a:lnTo>
                <a:lnTo>
                  <a:pt x="499" y="493"/>
                </a:lnTo>
                <a:lnTo>
                  <a:pt x="499" y="0"/>
                </a:lnTo>
                <a:lnTo>
                  <a:pt x="993" y="0"/>
                </a:lnTo>
                <a:lnTo>
                  <a:pt x="993" y="493"/>
                </a:lnTo>
                <a:lnTo>
                  <a:pt x="1735" y="493"/>
                </a:lnTo>
                <a:lnTo>
                  <a:pt x="1735" y="0"/>
                </a:lnTo>
                <a:lnTo>
                  <a:pt x="1981" y="0"/>
                </a:lnTo>
                <a:lnTo>
                  <a:pt x="1981" y="1240"/>
                </a:lnTo>
                <a:lnTo>
                  <a:pt x="0" y="1240"/>
                </a:lnTo>
                <a:close/>
              </a:path>
            </a:pathLst>
          </a:custGeom>
          <a:solidFill>
            <a:srgbClr val="008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560920" y="2592360"/>
            <a:ext cx="757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t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49520" y="2959200"/>
            <a:ext cx="3033720" cy="3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43240" y="2990880"/>
            <a:ext cx="156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12840" y="4206960"/>
            <a:ext cx="3035160" cy="333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06560" y="4237200"/>
            <a:ext cx="156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32520" y="4206960"/>
            <a:ext cx="1519200" cy="363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14880" y="4237200"/>
            <a:ext cx="156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 RPC ru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1360" y="4694400"/>
            <a:ext cx="713160" cy="446400"/>
          </a:xfrm>
          <a:custGeom>
            <a:avLst/>
            <a:gdLst/>
            <a:ahLst/>
            <a:rect l="0" t="0" r="r" b="b"/>
            <a:pathLst>
              <a:path w="1981" h="1240">
                <a:moveTo>
                  <a:pt x="0" y="746"/>
                </a:moveTo>
                <a:lnTo>
                  <a:pt x="246" y="746"/>
                </a:lnTo>
                <a:lnTo>
                  <a:pt x="246" y="1240"/>
                </a:lnTo>
                <a:lnTo>
                  <a:pt x="746" y="1240"/>
                </a:lnTo>
                <a:lnTo>
                  <a:pt x="746" y="746"/>
                </a:lnTo>
                <a:lnTo>
                  <a:pt x="993" y="746"/>
                </a:lnTo>
                <a:lnTo>
                  <a:pt x="993" y="1240"/>
                </a:lnTo>
                <a:lnTo>
                  <a:pt x="1735" y="1240"/>
                </a:lnTo>
                <a:lnTo>
                  <a:pt x="1735" y="746"/>
                </a:lnTo>
                <a:lnTo>
                  <a:pt x="1981" y="746"/>
                </a:lnTo>
                <a:lnTo>
                  <a:pt x="1981" y="0"/>
                </a:lnTo>
                <a:lnTo>
                  <a:pt x="0" y="0"/>
                </a:lnTo>
                <a:lnTo>
                  <a:pt x="0" y="746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079880" y="4678200"/>
            <a:ext cx="713160" cy="444960"/>
          </a:xfrm>
          <a:custGeom>
            <a:avLst/>
            <a:gdLst/>
            <a:ahLst/>
            <a:rect l="0" t="0" r="r" b="b"/>
            <a:pathLst>
              <a:path w="1981" h="1236">
                <a:moveTo>
                  <a:pt x="0" y="741"/>
                </a:moveTo>
                <a:lnTo>
                  <a:pt x="246" y="741"/>
                </a:lnTo>
                <a:lnTo>
                  <a:pt x="246" y="1236"/>
                </a:lnTo>
                <a:lnTo>
                  <a:pt x="499" y="1236"/>
                </a:lnTo>
                <a:lnTo>
                  <a:pt x="499" y="741"/>
                </a:lnTo>
                <a:lnTo>
                  <a:pt x="993" y="741"/>
                </a:lnTo>
                <a:lnTo>
                  <a:pt x="1240" y="1236"/>
                </a:lnTo>
                <a:lnTo>
                  <a:pt x="1488" y="741"/>
                </a:lnTo>
                <a:lnTo>
                  <a:pt x="1981" y="741"/>
                </a:lnTo>
                <a:lnTo>
                  <a:pt x="1981" y="0"/>
                </a:lnTo>
                <a:lnTo>
                  <a:pt x="0" y="0"/>
                </a:lnTo>
                <a:lnTo>
                  <a:pt x="0" y="74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35640" y="4665600"/>
            <a:ext cx="711720" cy="465480"/>
          </a:xfrm>
          <a:custGeom>
            <a:avLst/>
            <a:gdLst/>
            <a:ahLst/>
            <a:rect l="0" t="0" r="r" b="b"/>
            <a:pathLst>
              <a:path w="1977" h="1293">
                <a:moveTo>
                  <a:pt x="0" y="781"/>
                </a:moveTo>
                <a:lnTo>
                  <a:pt x="238" y="781"/>
                </a:lnTo>
                <a:lnTo>
                  <a:pt x="238" y="1293"/>
                </a:lnTo>
                <a:lnTo>
                  <a:pt x="489" y="1293"/>
                </a:lnTo>
                <a:lnTo>
                  <a:pt x="489" y="794"/>
                </a:lnTo>
                <a:lnTo>
                  <a:pt x="971" y="794"/>
                </a:lnTo>
                <a:lnTo>
                  <a:pt x="971" y="1293"/>
                </a:lnTo>
                <a:lnTo>
                  <a:pt x="1717" y="1293"/>
                </a:lnTo>
                <a:lnTo>
                  <a:pt x="1717" y="799"/>
                </a:lnTo>
                <a:lnTo>
                  <a:pt x="1977" y="799"/>
                </a:lnTo>
                <a:lnTo>
                  <a:pt x="1977" y="4"/>
                </a:lnTo>
                <a:lnTo>
                  <a:pt x="0" y="0"/>
                </a:lnTo>
                <a:lnTo>
                  <a:pt x="0" y="781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90960" y="3322800"/>
            <a:ext cx="357120" cy="53496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90960" y="3857760"/>
            <a:ext cx="17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02040" y="3857760"/>
            <a:ext cx="266760" cy="35532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16040" y="466884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tu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075200" y="465444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tu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346800" y="4651200"/>
            <a:ext cx="727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tu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000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DL Compil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10960" y="1166760"/>
            <a:ext cx="872496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face Description Language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 of Win32</a:t>
            </a:r>
            <a:r>
              <a:rPr b="1" lang="en-US" sz="2000" spc="-1" strike="noStrike" baseline="5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ftware Developer’s 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compiler produces stubs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600280" y="2771640"/>
            <a:ext cx="1087560" cy="62064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410e2b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I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234040" y="2738520"/>
            <a:ext cx="1208160" cy="620640"/>
          </a:xfrm>
          <a:prstGeom prst="rect">
            <a:avLst/>
          </a:prstGeom>
          <a:gradFill rotWithShape="0">
            <a:gsLst>
              <a:gs pos="0">
                <a:srgbClr val="d93192"/>
              </a:gs>
              <a:gs pos="100000">
                <a:srgbClr val="410e2b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A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41520" y="4040280"/>
            <a:ext cx="4278240" cy="5698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2b0f41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 RPC IDL 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00200" y="5526000"/>
            <a:ext cx="2533680" cy="4986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2a494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2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lient_stubs&gt;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00400" y="5486400"/>
            <a:ext cx="654120" cy="62064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2a494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05360" y="5521320"/>
            <a:ext cx="2641680" cy="4921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2a4946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333333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server_stubs&gt;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5880" y="3554280"/>
            <a:ext cx="0" cy="365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08120" y="4807080"/>
            <a:ext cx="525600" cy="587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29080" y="4775040"/>
            <a:ext cx="0" cy="598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07080" y="4764240"/>
            <a:ext cx="760320" cy="587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48200" y="3511440"/>
            <a:ext cx="0" cy="449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o Goertzel</dc:creator>
  <dc:description/>
  <dc:language>en-US</dc:language>
  <cp:lastModifiedBy>Tomi Poutanen</cp:lastModifiedBy>
  <cp:revision>0</cp:revision>
  <dc:subject/>
  <dc:title>RPC Programming   Mario Goertzel Software Design Engineer RPC Development Microsoft Corporation</dc:title>
</cp:coreProperties>
</file>