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3048120" y="585720"/>
            <a:ext cx="5910120" cy="55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erver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fessional Developer Conference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276720" y="3352680"/>
            <a:ext cx="57913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452520" y="1362240"/>
            <a:ext cx="343836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elco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1463760"/>
            <a:ext cx="701028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100 slots filled in 18 business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 and audiotapes of sessions will b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nightly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ific Science Center - sponsored by Motor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Carnival - sponsored by Digital Equipment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nference Mater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71560" y="1158840"/>
            <a:ext cx="74026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erence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Integration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Develope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peci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NT Server for development and test (10 user lice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erence shirts in exchange for completed PDC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materials available at information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pcoming Developer Ev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23760" y="1066680"/>
            <a:ext cx="72975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February 7-9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700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tle and tool development, technologies include Surround Video, enhanced CD, Wintoon, and other multimedia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’95 Developers Confere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700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mond  WA, February 8-9,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700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:  (206) 936-0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</a:t>
            </a:r>
            <a:r>
              <a:rPr b="1" lang="en-US" sz="2400" spc="-1" strike="noStrike" baseline="20000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’95 - March 27-31, 1995 New Orl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700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ackOffice Developers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xchange Developer Conferen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700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tative March 15-17,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G Win3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tionalization Roadshow, February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700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-day technical focus on international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700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(800) 619-7689/(415) 979-2288, $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 Developer Conference - Q2 ’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760" y="-190656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everage This Con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3400" y="1295280"/>
            <a:ext cx="74772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dvantage of the resources that you have over the next three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your questions answered by the developers of Windows 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lk with your peers about your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GGEST things that we may do to help you develop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NT Server applica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other resources that you have: MSDN,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terne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28560" y="228600"/>
            <a:ext cx="78868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upport For Windows NT Server 3.5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17720" y="1692360"/>
            <a:ext cx="710892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ing both beta and final versions of Windows NT Server 3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 MSDN level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Workstation 3.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t to attendees when it’s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vate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Forum SERVERP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upport Services information included in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248112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hanks For Atte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ian Moran</dc:creator>
  <dc:description/>
  <dc:language>en-US</dc:language>
  <cp:lastModifiedBy>shannon wheeler</cp:lastModifiedBy>
  <cp:revision>0</cp:revision>
  <dc:subject/>
  <dc:title>Windows NT™ Server Professional Developer Conference   Brian Moran Developer Relations Group Microsoft Corporation</dc:title>
</cp:coreProperties>
</file>