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990720"/>
            <a:ext cx="777240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OLE And Servers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Mark Ryland</a:t>
            </a:r>
            <a:br>
              <a:rPr sz="3600"/>
            </a:br>
            <a:r>
              <a:rPr b="1" lang="en-US" sz="36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enior Program Manager</a:t>
            </a:r>
            <a:br>
              <a:rPr sz="3600"/>
            </a:br>
            <a:r>
              <a:rPr b="1" lang="en-US" sz="36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OLE And Windows NT</a:t>
            </a:r>
            <a:br>
              <a:rPr sz="3600"/>
            </a:br>
            <a:r>
              <a:rPr b="1" lang="en-US" sz="36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28600" y="1219320"/>
            <a:ext cx="1523880" cy="19810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28600" y="1219320"/>
            <a:ext cx="152388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(DLL or EXE) of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87440" y="228600"/>
            <a:ext cx="8170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OLE Architecture Tod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267080" y="1143000"/>
            <a:ext cx="0" cy="3505320"/>
          </a:xfrm>
          <a:prstGeom prst="line">
            <a:avLst/>
          </a:prstGeom>
          <a:ln w="3816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514600" y="3352680"/>
            <a:ext cx="1295280" cy="18288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514600" y="3352680"/>
            <a:ext cx="129528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 Server (Proxy)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r_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r_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371600" y="2743200"/>
            <a:ext cx="762120" cy="2057400"/>
          </a:xfrm>
          <a:prstGeom prst="line">
            <a:avLst/>
          </a:prstGeom>
          <a:ln w="255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4108320"/>
            <a:ext cx="1309680" cy="16066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029200" y="4108320"/>
            <a:ext cx="1309680" cy="16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 D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s Bar_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r_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029200" y="1219320"/>
            <a:ext cx="1309680" cy="259092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029200" y="1219320"/>
            <a:ext cx="130968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r_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r_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4648320" y="3124080"/>
            <a:ext cx="457200" cy="144792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643200" y="4862520"/>
            <a:ext cx="1538640" cy="448200"/>
          </a:xfrm>
          <a:custGeom>
            <a:avLst/>
            <a:gdLst/>
            <a:ahLst/>
            <a:rect l="0" t="0" r="r" b="b"/>
            <a:pathLst>
              <a:path fill="none" w="4274" h="1245">
                <a:moveTo>
                  <a:pt x="0" y="0"/>
                </a:moveTo>
                <a:lnTo>
                  <a:pt x="2813" y="276"/>
                </a:lnTo>
                <a:lnTo>
                  <a:pt x="1750" y="1055"/>
                </a:lnTo>
                <a:lnTo>
                  <a:pt x="4274" y="1245"/>
                </a:lnTo>
              </a:path>
            </a:pathLst>
          </a:custGeom>
          <a:ln w="25560">
            <a:solidFill>
              <a:srgbClr val="fafd00"/>
            </a:solidFill>
            <a:round/>
            <a:headEnd len="med" type="triangle" w="med"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590920" y="1371600"/>
            <a:ext cx="1295280" cy="167652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590920" y="1371600"/>
            <a:ext cx="129528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o_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o_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523880" y="2209680"/>
            <a:ext cx="762120" cy="533520"/>
          </a:xfrm>
          <a:prstGeom prst="line">
            <a:avLst/>
          </a:prstGeom>
          <a:ln w="255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523880" y="2057400"/>
            <a:ext cx="762120" cy="380880"/>
          </a:xfrm>
          <a:prstGeom prst="line">
            <a:avLst/>
          </a:prstGeom>
          <a:ln w="255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408480" y="2498760"/>
            <a:ext cx="175896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6bf69"/>
                </a:solidFill>
                <a:latin typeface="Century Schoolbook"/>
                <a:ea typeface="Century Schoolbook"/>
              </a:rPr>
              <a:t>Process </a:t>
            </a:r>
            <a:br>
              <a:rPr sz="2400"/>
            </a:br>
            <a:r>
              <a:rPr b="1" lang="en-US" sz="2400" spc="-1" strike="noStrike">
                <a:solidFill>
                  <a:srgbClr val="f6bf69"/>
                </a:solidFill>
                <a:latin typeface="Century Schoolbook"/>
                <a:ea typeface="Century Schoolbook"/>
              </a:rPr>
              <a:t>Bound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2286000" y="2362320"/>
            <a:ext cx="304920" cy="152280"/>
            <a:chOff x="2286000" y="2362320"/>
            <a:chExt cx="304920" cy="152280"/>
          </a:xfrm>
        </p:grpSpPr>
        <p:sp>
          <p:nvSpPr>
            <p:cNvPr id="211" name=""/>
            <p:cNvSpPr/>
            <p:nvPr/>
          </p:nvSpPr>
          <p:spPr>
            <a:xfrm>
              <a:off x="2438280" y="2438280"/>
              <a:ext cx="1526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286000" y="2362320"/>
              <a:ext cx="152280" cy="15228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286000" y="2666880"/>
            <a:ext cx="304920" cy="152280"/>
            <a:chOff x="2286000" y="2666880"/>
            <a:chExt cx="304920" cy="152280"/>
          </a:xfrm>
        </p:grpSpPr>
        <p:sp>
          <p:nvSpPr>
            <p:cNvPr id="214" name=""/>
            <p:cNvSpPr/>
            <p:nvPr/>
          </p:nvSpPr>
          <p:spPr>
            <a:xfrm>
              <a:off x="2438280" y="2743200"/>
              <a:ext cx="1526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286000" y="2666880"/>
              <a:ext cx="152280" cy="15228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2209680" y="4572000"/>
            <a:ext cx="304920" cy="152280"/>
            <a:chOff x="2209680" y="4572000"/>
            <a:chExt cx="304920" cy="152280"/>
          </a:xfrm>
        </p:grpSpPr>
        <p:sp>
          <p:nvSpPr>
            <p:cNvPr id="217" name=""/>
            <p:cNvSpPr/>
            <p:nvPr/>
          </p:nvSpPr>
          <p:spPr>
            <a:xfrm>
              <a:off x="2362320" y="4648320"/>
              <a:ext cx="1522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209680" y="4572000"/>
              <a:ext cx="152280" cy="15228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2209680" y="4876920"/>
            <a:ext cx="304920" cy="152280"/>
            <a:chOff x="2209680" y="4876920"/>
            <a:chExt cx="304920" cy="152280"/>
          </a:xfrm>
        </p:grpSpPr>
        <p:sp>
          <p:nvSpPr>
            <p:cNvPr id="220" name=""/>
            <p:cNvSpPr/>
            <p:nvPr/>
          </p:nvSpPr>
          <p:spPr>
            <a:xfrm>
              <a:off x="2362320" y="4952880"/>
              <a:ext cx="1522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209680" y="4876920"/>
              <a:ext cx="152280" cy="15228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4724280" y="2895480"/>
            <a:ext cx="304920" cy="152280"/>
            <a:chOff x="4724280" y="2895480"/>
            <a:chExt cx="304920" cy="152280"/>
          </a:xfrm>
        </p:grpSpPr>
        <p:sp>
          <p:nvSpPr>
            <p:cNvPr id="223" name=""/>
            <p:cNvSpPr/>
            <p:nvPr/>
          </p:nvSpPr>
          <p:spPr>
            <a:xfrm>
              <a:off x="4876920" y="2971800"/>
              <a:ext cx="1522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724280" y="2895480"/>
              <a:ext cx="152280" cy="15228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4724280" y="3200400"/>
            <a:ext cx="304920" cy="152280"/>
            <a:chOff x="4724280" y="3200400"/>
            <a:chExt cx="304920" cy="152280"/>
          </a:xfrm>
        </p:grpSpPr>
        <p:sp>
          <p:nvSpPr>
            <p:cNvPr id="226" name=""/>
            <p:cNvSpPr/>
            <p:nvPr/>
          </p:nvSpPr>
          <p:spPr>
            <a:xfrm>
              <a:off x="4876920" y="3276720"/>
              <a:ext cx="1522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724280" y="3200400"/>
              <a:ext cx="152280" cy="15228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28600" y="1219320"/>
            <a:ext cx="1523880" cy="19810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1219320"/>
            <a:ext cx="152388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(DLL or EXE) of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87440" y="228600"/>
            <a:ext cx="8170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OLE Architecture Tomorro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267080" y="1219320"/>
            <a:ext cx="0" cy="3504960"/>
          </a:xfrm>
          <a:prstGeom prst="line">
            <a:avLst/>
          </a:prstGeom>
          <a:ln w="3816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514600" y="3352680"/>
            <a:ext cx="1295280" cy="18288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2514600" y="3352680"/>
            <a:ext cx="129528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 Server (Proxy)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r_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r_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371600" y="2743200"/>
            <a:ext cx="762120" cy="2057400"/>
          </a:xfrm>
          <a:prstGeom prst="line">
            <a:avLst/>
          </a:prstGeom>
          <a:ln w="255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4108320"/>
            <a:ext cx="1309680" cy="16066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029200" y="4108320"/>
            <a:ext cx="1309680" cy="16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 D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s Bar_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r_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029200" y="1219320"/>
            <a:ext cx="1309680" cy="259092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029200" y="1219320"/>
            <a:ext cx="130968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r_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r_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 flipV="1">
            <a:off x="4648320" y="3124080"/>
            <a:ext cx="457200" cy="144792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643200" y="4862520"/>
            <a:ext cx="1538640" cy="448200"/>
          </a:xfrm>
          <a:custGeom>
            <a:avLst/>
            <a:gdLst/>
            <a:ahLst/>
            <a:rect l="0" t="0" r="r" b="b"/>
            <a:pathLst>
              <a:path fill="none" w="4274" h="1245">
                <a:moveTo>
                  <a:pt x="0" y="0"/>
                </a:moveTo>
                <a:lnTo>
                  <a:pt x="2813" y="276"/>
                </a:lnTo>
                <a:lnTo>
                  <a:pt x="1750" y="1055"/>
                </a:lnTo>
                <a:lnTo>
                  <a:pt x="4274" y="1245"/>
                </a:lnTo>
              </a:path>
            </a:pathLst>
          </a:custGeom>
          <a:ln w="25560">
            <a:solidFill>
              <a:srgbClr val="fafd00"/>
            </a:solidFill>
            <a:round/>
            <a:headEnd len="med" type="triangle" w="med"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929120" y="6370560"/>
            <a:ext cx="3552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E-compatible R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4648320"/>
            <a:ext cx="1295280" cy="167652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7543800" y="4648320"/>
            <a:ext cx="129528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 D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s Foo_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o_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467480" y="1219320"/>
            <a:ext cx="1447920" cy="327672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7467480" y="1219320"/>
            <a:ext cx="144792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rrog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781680" y="1219320"/>
            <a:ext cx="0" cy="4495680"/>
          </a:xfrm>
          <a:prstGeom prst="line">
            <a:avLst/>
          </a:prstGeom>
          <a:ln w="3816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590920" y="1371600"/>
            <a:ext cx="1295280" cy="167652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2590920" y="1371600"/>
            <a:ext cx="129528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o_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o_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2590920"/>
            <a:ext cx="1295280" cy="167652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7543800" y="2590920"/>
            <a:ext cx="129528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o_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o_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 flipV="1">
            <a:off x="7162920" y="3809880"/>
            <a:ext cx="457200" cy="129564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523880" y="2209680"/>
            <a:ext cx="762120" cy="533520"/>
          </a:xfrm>
          <a:prstGeom prst="line">
            <a:avLst/>
          </a:prstGeom>
          <a:ln w="255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523880" y="2057400"/>
            <a:ext cx="762120" cy="380880"/>
          </a:xfrm>
          <a:prstGeom prst="line">
            <a:avLst/>
          </a:prstGeom>
          <a:ln w="255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09480" y="4419720"/>
            <a:ext cx="1295280" cy="18288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09480" y="4419720"/>
            <a:ext cx="129528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 Server (Proxy)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o_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o_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048040" y="5810400"/>
            <a:ext cx="5343840" cy="357480"/>
          </a:xfrm>
          <a:custGeom>
            <a:avLst/>
            <a:gdLst/>
            <a:ahLst/>
            <a:rect l="0" t="0" r="r" b="b"/>
            <a:pathLst>
              <a:path fill="none" w="14844" h="993">
                <a:moveTo>
                  <a:pt x="0" y="245"/>
                </a:moveTo>
                <a:lnTo>
                  <a:pt x="9233" y="0"/>
                </a:lnTo>
                <a:lnTo>
                  <a:pt x="6633" y="993"/>
                </a:lnTo>
                <a:lnTo>
                  <a:pt x="14844" y="714"/>
                </a:lnTo>
              </a:path>
            </a:pathLst>
          </a:custGeom>
          <a:ln w="25560">
            <a:solidFill>
              <a:srgbClr val="fafd00"/>
            </a:solidFill>
            <a:round/>
            <a:headEnd len="med" type="triangle" w="med"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408480" y="2498760"/>
            <a:ext cx="175896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6bf69"/>
                </a:solidFill>
                <a:latin typeface="Century Schoolbook"/>
                <a:ea typeface="Century Schoolbook"/>
              </a:rPr>
              <a:t>Process </a:t>
            </a:r>
            <a:br>
              <a:rPr sz="2400"/>
            </a:br>
            <a:r>
              <a:rPr b="1" lang="en-US" sz="2400" spc="-1" strike="noStrike">
                <a:solidFill>
                  <a:srgbClr val="f6bf69"/>
                </a:solidFill>
                <a:latin typeface="Century Schoolbook"/>
                <a:ea typeface="Century Schoolbook"/>
              </a:rPr>
              <a:t>Bound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5934240" y="2498760"/>
            <a:ext cx="175896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6bf69"/>
                </a:solidFill>
                <a:latin typeface="Century Schoolbook"/>
                <a:ea typeface="Century Schoolbook"/>
              </a:rPr>
              <a:t>Network </a:t>
            </a:r>
            <a:br>
              <a:rPr sz="2400"/>
            </a:br>
            <a:r>
              <a:rPr b="1" lang="en-US" sz="2400" spc="-1" strike="noStrike">
                <a:solidFill>
                  <a:srgbClr val="f6bf69"/>
                </a:solidFill>
                <a:latin typeface="Century Schoolbook"/>
                <a:ea typeface="Century Schoolbook"/>
              </a:rPr>
              <a:t>Bound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2286000" y="2362320"/>
            <a:ext cx="304920" cy="152280"/>
            <a:chOff x="2286000" y="2362320"/>
            <a:chExt cx="304920" cy="152280"/>
          </a:xfrm>
        </p:grpSpPr>
        <p:sp>
          <p:nvSpPr>
            <p:cNvPr id="260" name=""/>
            <p:cNvSpPr/>
            <p:nvPr/>
          </p:nvSpPr>
          <p:spPr>
            <a:xfrm>
              <a:off x="2438280" y="2438280"/>
              <a:ext cx="1526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286000" y="2362320"/>
              <a:ext cx="152280" cy="15228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286000" y="2666880"/>
            <a:ext cx="304920" cy="152280"/>
            <a:chOff x="2286000" y="2666880"/>
            <a:chExt cx="304920" cy="152280"/>
          </a:xfrm>
        </p:grpSpPr>
        <p:sp>
          <p:nvSpPr>
            <p:cNvPr id="263" name=""/>
            <p:cNvSpPr/>
            <p:nvPr/>
          </p:nvSpPr>
          <p:spPr>
            <a:xfrm>
              <a:off x="2438280" y="2743200"/>
              <a:ext cx="1526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286000" y="2666880"/>
              <a:ext cx="152280" cy="15228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304920" y="5638680"/>
            <a:ext cx="304560" cy="152280"/>
            <a:chOff x="304920" y="5638680"/>
            <a:chExt cx="304560" cy="152280"/>
          </a:xfrm>
        </p:grpSpPr>
        <p:sp>
          <p:nvSpPr>
            <p:cNvPr id="266" name=""/>
            <p:cNvSpPr/>
            <p:nvPr/>
          </p:nvSpPr>
          <p:spPr>
            <a:xfrm>
              <a:off x="457200" y="5715000"/>
              <a:ext cx="1522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4920" y="5638680"/>
              <a:ext cx="152280" cy="15228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304920" y="5943600"/>
            <a:ext cx="304560" cy="152280"/>
            <a:chOff x="304920" y="5943600"/>
            <a:chExt cx="304560" cy="152280"/>
          </a:xfrm>
        </p:grpSpPr>
        <p:sp>
          <p:nvSpPr>
            <p:cNvPr id="269" name=""/>
            <p:cNvSpPr/>
            <p:nvPr/>
          </p:nvSpPr>
          <p:spPr>
            <a:xfrm>
              <a:off x="457200" y="6019920"/>
              <a:ext cx="1522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04920" y="5943600"/>
              <a:ext cx="152280" cy="15228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"/>
          <p:cNvSpPr/>
          <p:nvPr/>
        </p:nvSpPr>
        <p:spPr>
          <a:xfrm flipH="1">
            <a:off x="152280" y="2819520"/>
            <a:ext cx="609840" cy="2971800"/>
          </a:xfrm>
          <a:prstGeom prst="line">
            <a:avLst/>
          </a:prstGeom>
          <a:ln w="255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2209680" y="4572000"/>
            <a:ext cx="304920" cy="152280"/>
            <a:chOff x="2209680" y="4572000"/>
            <a:chExt cx="304920" cy="152280"/>
          </a:xfrm>
        </p:grpSpPr>
        <p:sp>
          <p:nvSpPr>
            <p:cNvPr id="273" name=""/>
            <p:cNvSpPr/>
            <p:nvPr/>
          </p:nvSpPr>
          <p:spPr>
            <a:xfrm>
              <a:off x="2362320" y="4648320"/>
              <a:ext cx="1522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209680" y="4572000"/>
              <a:ext cx="152280" cy="15228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209680" y="4876920"/>
            <a:ext cx="304920" cy="152280"/>
            <a:chOff x="2209680" y="4876920"/>
            <a:chExt cx="304920" cy="152280"/>
          </a:xfrm>
        </p:grpSpPr>
        <p:sp>
          <p:nvSpPr>
            <p:cNvPr id="276" name=""/>
            <p:cNvSpPr/>
            <p:nvPr/>
          </p:nvSpPr>
          <p:spPr>
            <a:xfrm>
              <a:off x="2362320" y="4952880"/>
              <a:ext cx="1522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209680" y="4876920"/>
              <a:ext cx="152280" cy="15228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4724280" y="2895480"/>
            <a:ext cx="304920" cy="152280"/>
            <a:chOff x="4724280" y="2895480"/>
            <a:chExt cx="304920" cy="152280"/>
          </a:xfrm>
        </p:grpSpPr>
        <p:sp>
          <p:nvSpPr>
            <p:cNvPr id="279" name=""/>
            <p:cNvSpPr/>
            <p:nvPr/>
          </p:nvSpPr>
          <p:spPr>
            <a:xfrm>
              <a:off x="4876920" y="2971800"/>
              <a:ext cx="1522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724280" y="2895480"/>
              <a:ext cx="152280" cy="15228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4724280" y="3200400"/>
            <a:ext cx="304920" cy="152280"/>
            <a:chOff x="4724280" y="3200400"/>
            <a:chExt cx="304920" cy="152280"/>
          </a:xfrm>
        </p:grpSpPr>
        <p:sp>
          <p:nvSpPr>
            <p:cNvPr id="282" name=""/>
            <p:cNvSpPr/>
            <p:nvPr/>
          </p:nvSpPr>
          <p:spPr>
            <a:xfrm>
              <a:off x="4876920" y="3276720"/>
              <a:ext cx="1522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724280" y="3200400"/>
              <a:ext cx="152280" cy="15228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7238880" y="3581280"/>
            <a:ext cx="304920" cy="152280"/>
            <a:chOff x="7238880" y="3581280"/>
            <a:chExt cx="304920" cy="152280"/>
          </a:xfrm>
        </p:grpSpPr>
        <p:sp>
          <p:nvSpPr>
            <p:cNvPr id="285" name=""/>
            <p:cNvSpPr/>
            <p:nvPr/>
          </p:nvSpPr>
          <p:spPr>
            <a:xfrm>
              <a:off x="7391520" y="3657600"/>
              <a:ext cx="1522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238880" y="3581280"/>
              <a:ext cx="152280" cy="15228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7238880" y="3886200"/>
            <a:ext cx="304920" cy="152280"/>
            <a:chOff x="7238880" y="3886200"/>
            <a:chExt cx="304920" cy="152280"/>
          </a:xfrm>
        </p:grpSpPr>
        <p:sp>
          <p:nvSpPr>
            <p:cNvPr id="288" name=""/>
            <p:cNvSpPr/>
            <p:nvPr/>
          </p:nvSpPr>
          <p:spPr>
            <a:xfrm>
              <a:off x="7391520" y="3962520"/>
              <a:ext cx="1522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238880" y="3886200"/>
              <a:ext cx="152280" cy="15228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487440" y="228600"/>
            <a:ext cx="8170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OLE Peer-To-Peer Mod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552920" y="1295280"/>
            <a:ext cx="0" cy="3962520"/>
          </a:xfrm>
          <a:prstGeom prst="line">
            <a:avLst/>
          </a:prstGeom>
          <a:ln w="3816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638680" y="3962520"/>
            <a:ext cx="1219320" cy="167652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5638680" y="3962520"/>
            <a:ext cx="121932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 Server (Proxy)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o_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073320" y="2575080"/>
            <a:ext cx="295920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6bf69"/>
                </a:solidFill>
                <a:latin typeface="Century Schoolbook"/>
                <a:ea typeface="Century Schoolbook"/>
              </a:rPr>
              <a:t>Process/Network </a:t>
            </a:r>
            <a:br>
              <a:rPr sz="2400"/>
            </a:br>
            <a:r>
              <a:rPr b="1" lang="en-US" sz="2400" spc="-1" strike="noStrike">
                <a:solidFill>
                  <a:srgbClr val="f6bf69"/>
                </a:solidFill>
                <a:latin typeface="Century Schoolbook"/>
                <a:ea typeface="Century Schoolbook"/>
              </a:rPr>
              <a:t>Bound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467480" y="1295280"/>
            <a:ext cx="1386000" cy="304812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7467480" y="1295280"/>
            <a:ext cx="138600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r_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o_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362320" y="3962520"/>
            <a:ext cx="1523880" cy="16002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2362320" y="3962520"/>
            <a:ext cx="15238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 D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 Foo_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2362320" y="2819520"/>
            <a:ext cx="380880" cy="129528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62120" y="2971800"/>
            <a:ext cx="1448280" cy="1219680"/>
          </a:xfrm>
          <a:custGeom>
            <a:avLst/>
            <a:gdLst/>
            <a:ahLst/>
            <a:rect l="0" t="0" r="r" b="b"/>
            <a:pathLst>
              <a:path fill="none" w="4023" h="3388">
                <a:moveTo>
                  <a:pt x="4023" y="0"/>
                </a:moveTo>
                <a:lnTo>
                  <a:pt x="4023" y="0"/>
                </a:lnTo>
                <a:cubicBezTo>
                  <a:pt x="3317" y="0"/>
                  <a:pt x="2623" y="157"/>
                  <a:pt x="2011" y="454"/>
                </a:cubicBezTo>
                <a:cubicBezTo>
                  <a:pt x="1400" y="751"/>
                  <a:pt x="892" y="1179"/>
                  <a:pt x="539" y="1694"/>
                </a:cubicBezTo>
                <a:cubicBezTo>
                  <a:pt x="186" y="2209"/>
                  <a:pt x="0" y="2793"/>
                  <a:pt x="0" y="3388"/>
                </a:cubicBezTo>
              </a:path>
            </a:pathLst>
          </a:custGeom>
          <a:ln w="25560">
            <a:solidFill>
              <a:srgbClr val="8cf4ea"/>
            </a:solidFill>
            <a:custDash>
              <a:ds d="100000" sp="100000"/>
            </a:custDash>
            <a:round/>
            <a:head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5486400" y="3962520"/>
            <a:ext cx="2286000" cy="838080"/>
          </a:xfrm>
          <a:prstGeom prst="line">
            <a:avLst/>
          </a:prstGeom>
          <a:ln w="255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164440" y="2301840"/>
            <a:ext cx="757440" cy="657720"/>
          </a:xfrm>
          <a:custGeom>
            <a:avLst/>
            <a:gdLst/>
            <a:ahLst/>
            <a:rect l="0" t="0" r="r" b="b"/>
            <a:pathLst>
              <a:path fill="none" w="2104" h="1827">
                <a:moveTo>
                  <a:pt x="2104" y="0"/>
                </a:moveTo>
                <a:lnTo>
                  <a:pt x="2104" y="0"/>
                </a:lnTo>
                <a:cubicBezTo>
                  <a:pt x="1735" y="0"/>
                  <a:pt x="1372" y="84"/>
                  <a:pt x="1052" y="245"/>
                </a:cubicBezTo>
                <a:cubicBezTo>
                  <a:pt x="732" y="405"/>
                  <a:pt x="467" y="636"/>
                  <a:pt x="282" y="914"/>
                </a:cubicBezTo>
                <a:cubicBezTo>
                  <a:pt x="97" y="1191"/>
                  <a:pt x="0" y="1506"/>
                  <a:pt x="0" y="1827"/>
                </a:cubicBezTo>
              </a:path>
            </a:pathLst>
          </a:custGeom>
          <a:ln w="25560">
            <a:solidFill>
              <a:srgbClr val="8cf4ea"/>
            </a:solidFill>
            <a:custDash>
              <a:ds d="100000" sp="100000"/>
            </a:custDash>
            <a:round/>
            <a:head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914640" y="5065560"/>
            <a:ext cx="1448280" cy="354240"/>
          </a:xfrm>
          <a:custGeom>
            <a:avLst/>
            <a:gdLst/>
            <a:ahLst/>
            <a:rect l="0" t="0" r="r" b="b"/>
            <a:pathLst>
              <a:path fill="none" w="4023" h="984">
                <a:moveTo>
                  <a:pt x="0" y="339"/>
                </a:moveTo>
                <a:lnTo>
                  <a:pt x="2518" y="0"/>
                </a:lnTo>
                <a:lnTo>
                  <a:pt x="1778" y="984"/>
                </a:lnTo>
                <a:lnTo>
                  <a:pt x="4023" y="622"/>
                </a:lnTo>
              </a:path>
            </a:pathLst>
          </a:custGeom>
          <a:ln w="25560">
            <a:solidFill>
              <a:srgbClr val="fafd00"/>
            </a:solidFill>
            <a:round/>
            <a:headEnd len="med" type="triangle" w="med"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860400" y="3252960"/>
            <a:ext cx="1428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Foo_2 IP as </a:t>
            </a:r>
            <a:br>
              <a:rPr sz="1800"/>
            </a:br>
            <a:r>
              <a:rPr b="1" lang="en-US" sz="1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out param</a:t>
            </a:r>
            <a:br>
              <a:rPr sz="1800"/>
            </a:br>
            <a:r>
              <a:rPr b="1" lang="en-US" sz="1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in Bar_1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5423040" y="1728720"/>
            <a:ext cx="1447920" cy="14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Proxy auto-</a:t>
            </a:r>
            <a:br>
              <a:rPr sz="1800"/>
            </a:br>
            <a:r>
              <a:rPr b="1" lang="en-US" sz="1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created for</a:t>
            </a:r>
            <a:br>
              <a:rPr sz="1800"/>
            </a:br>
            <a:r>
              <a:rPr b="1" lang="en-US" sz="1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incoming IP;</a:t>
            </a:r>
            <a:br>
              <a:rPr sz="1800"/>
            </a:br>
            <a:r>
              <a:rPr b="1" lang="en-US" sz="1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receiver can</a:t>
            </a:r>
            <a:br>
              <a:rPr sz="1800"/>
            </a:br>
            <a:r>
              <a:rPr b="1" lang="en-US" sz="1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tart call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" y="1219320"/>
            <a:ext cx="1523880" cy="19810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228600" y="1219320"/>
            <a:ext cx="152388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(DLL or EXE) of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543800" y="4648320"/>
            <a:ext cx="1295280" cy="167652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7543800" y="4648320"/>
            <a:ext cx="129528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 D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 Bar_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590920" y="1371600"/>
            <a:ext cx="1295280" cy="167652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2590920" y="1371600"/>
            <a:ext cx="129528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o_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o_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 flipV="1">
            <a:off x="7238880" y="2209680"/>
            <a:ext cx="533520" cy="289584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2209680"/>
            <a:ext cx="762120" cy="533520"/>
          </a:xfrm>
          <a:prstGeom prst="line">
            <a:avLst/>
          </a:prstGeom>
          <a:ln w="255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523880" y="2057400"/>
            <a:ext cx="762120" cy="380880"/>
          </a:xfrm>
          <a:prstGeom prst="line">
            <a:avLst/>
          </a:prstGeom>
          <a:ln w="255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09480" y="4419720"/>
            <a:ext cx="1295280" cy="18288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609480" y="4419720"/>
            <a:ext cx="129528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 Server (Proxy)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r_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048040" y="5810400"/>
            <a:ext cx="5343840" cy="357480"/>
          </a:xfrm>
          <a:custGeom>
            <a:avLst/>
            <a:gdLst/>
            <a:ahLst/>
            <a:rect l="0" t="0" r="r" b="b"/>
            <a:pathLst>
              <a:path fill="none" w="14844" h="993">
                <a:moveTo>
                  <a:pt x="0" y="245"/>
                </a:moveTo>
                <a:lnTo>
                  <a:pt x="9233" y="0"/>
                </a:lnTo>
                <a:lnTo>
                  <a:pt x="6633" y="993"/>
                </a:lnTo>
                <a:lnTo>
                  <a:pt x="14844" y="714"/>
                </a:lnTo>
              </a:path>
            </a:pathLst>
          </a:custGeom>
          <a:ln w="25560">
            <a:solidFill>
              <a:srgbClr val="fafd00"/>
            </a:solidFill>
            <a:round/>
            <a:headEnd len="med" type="triangle" w="med"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2286000" y="2362320"/>
            <a:ext cx="304920" cy="152280"/>
            <a:chOff x="2286000" y="2362320"/>
            <a:chExt cx="304920" cy="152280"/>
          </a:xfrm>
        </p:grpSpPr>
        <p:sp>
          <p:nvSpPr>
            <p:cNvPr id="319" name=""/>
            <p:cNvSpPr/>
            <p:nvPr/>
          </p:nvSpPr>
          <p:spPr>
            <a:xfrm>
              <a:off x="2438280" y="2438280"/>
              <a:ext cx="1526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286000" y="2362320"/>
              <a:ext cx="152280" cy="15228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2286000" y="2666880"/>
            <a:ext cx="304920" cy="152280"/>
            <a:chOff x="2286000" y="2666880"/>
            <a:chExt cx="304920" cy="152280"/>
          </a:xfrm>
        </p:grpSpPr>
        <p:sp>
          <p:nvSpPr>
            <p:cNvPr id="322" name=""/>
            <p:cNvSpPr/>
            <p:nvPr/>
          </p:nvSpPr>
          <p:spPr>
            <a:xfrm>
              <a:off x="2438280" y="2743200"/>
              <a:ext cx="1526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286000" y="2666880"/>
              <a:ext cx="152280" cy="15228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304920" y="5638680"/>
            <a:ext cx="304560" cy="152280"/>
            <a:chOff x="304920" y="5638680"/>
            <a:chExt cx="304560" cy="152280"/>
          </a:xfrm>
        </p:grpSpPr>
        <p:sp>
          <p:nvSpPr>
            <p:cNvPr id="325" name=""/>
            <p:cNvSpPr/>
            <p:nvPr/>
          </p:nvSpPr>
          <p:spPr>
            <a:xfrm>
              <a:off x="457200" y="5715000"/>
              <a:ext cx="1522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04920" y="5638680"/>
              <a:ext cx="152280" cy="15228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"/>
          <p:cNvSpPr/>
          <p:nvPr/>
        </p:nvSpPr>
        <p:spPr>
          <a:xfrm flipH="1">
            <a:off x="380880" y="2971800"/>
            <a:ext cx="609840" cy="2666880"/>
          </a:xfrm>
          <a:prstGeom prst="line">
            <a:avLst/>
          </a:prstGeom>
          <a:ln w="255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7162920" y="2057400"/>
            <a:ext cx="304560" cy="152280"/>
            <a:chOff x="7162920" y="2057400"/>
            <a:chExt cx="304560" cy="152280"/>
          </a:xfrm>
        </p:grpSpPr>
        <p:sp>
          <p:nvSpPr>
            <p:cNvPr id="329" name=""/>
            <p:cNvSpPr/>
            <p:nvPr/>
          </p:nvSpPr>
          <p:spPr>
            <a:xfrm>
              <a:off x="7315200" y="2133720"/>
              <a:ext cx="1522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162920" y="2057400"/>
              <a:ext cx="152280" cy="15228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1752480" y="2514600"/>
            <a:ext cx="914400" cy="457200"/>
          </a:xfrm>
          <a:prstGeom prst="ellipse">
            <a:avLst/>
          </a:prstGeom>
          <a:noFill/>
          <a:ln w="25560">
            <a:solidFill>
              <a:srgbClr val="8cf4ea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5334120" y="4800600"/>
            <a:ext cx="304560" cy="152280"/>
            <a:chOff x="5334120" y="4800600"/>
            <a:chExt cx="304560" cy="152280"/>
          </a:xfrm>
        </p:grpSpPr>
        <p:sp>
          <p:nvSpPr>
            <p:cNvPr id="333" name=""/>
            <p:cNvSpPr/>
            <p:nvPr/>
          </p:nvSpPr>
          <p:spPr>
            <a:xfrm>
              <a:off x="5486400" y="4876920"/>
              <a:ext cx="1522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334120" y="4800600"/>
              <a:ext cx="152280" cy="15228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6095880" y="3124080"/>
            <a:ext cx="0" cy="762120"/>
          </a:xfrm>
          <a:prstGeom prst="line">
            <a:avLst/>
          </a:prstGeom>
          <a:ln w="25560">
            <a:solidFill>
              <a:srgbClr val="8cf4ea"/>
            </a:solidFill>
            <a:custDash>
              <a:ds d="100000" sp="100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318960" y="228600"/>
            <a:ext cx="85057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Limitations Overcome By O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012680" y="1147680"/>
            <a:ext cx="7118280" cy="53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5120" indent="-46512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mitations of simple DLL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73080" indent="-39384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1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’t have more than one provider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 a given A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73080" indent="-39384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2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database of service provi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mitations of API/SPI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73080" indent="-39384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3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w do you express new capabilities? versions?  (And related proble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73080" indent="-39384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4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alability (need high-speed in-pro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73080" indent="-39384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5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arty connections (and related proble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73080" indent="-39384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6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 exec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The New Service Architectu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990720" y="1163520"/>
            <a:ext cx="716292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provides a single generic set of mechanisms f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ation of services and cap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umeration of available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ntiation of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pabilities negotiation and versi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o cares where software services come fro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an “app”?  What is the “OS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” services extensible, replace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Outlin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898560" y="1523880"/>
            <a:ext cx="734688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919191"/>
                </a:solidFill>
                <a:latin typeface="Times New Roman"/>
                <a:ea typeface="Times New Roman"/>
              </a:rPr>
              <a:t>OLE Component Object Model: </a:t>
            </a:r>
            <a:br>
              <a:rPr sz="3200"/>
            </a:br>
            <a:r>
              <a:rPr b="1" lang="en-US" sz="3200" spc="-1" strike="noStrike">
                <a:solidFill>
                  <a:srgbClr val="919191"/>
                </a:solidFill>
                <a:latin typeface="Times New Roman"/>
                <a:ea typeface="Times New Roman"/>
              </a:rPr>
              <a:t>A generic software service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for servers in 1995:  issues and opport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919191"/>
                </a:solidFill>
                <a:latin typeface="Times New Roman"/>
                <a:ea typeface="Times New Roman"/>
              </a:rPr>
              <a:t>OLE for servers in 1996:  introduction to distributed 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Issues And Opportuniti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2246400" y="1392120"/>
            <a:ext cx="526104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Auto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in front-e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i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ing new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and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and multith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and 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OLE Storag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990720" y="1087560"/>
            <a:ext cx="7162920" cy="51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und Storage provides “storages” and “streams” within a standard byte-stream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ndard properties visible plus extensibility mech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for application sh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acted mode allows owner of given storage to commit or rollback changes “to the right” in hierarch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ture:  file system designed for OLE Storage, including qu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OLE Autom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084320" y="1165320"/>
            <a:ext cx="6980400" cy="53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er-level user programming/ scripting model built on 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mewhat restricted data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features exposed through “interpretive interface” (IDispatch) or derived v-table 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y feature is “type library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exploration of capabilities without activation (generally useful in OLE, will be used more wide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FC makes Automation ea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OLE And Front-En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674640" y="1530360"/>
            <a:ext cx="7794720" cy="43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obviously useful in GUI front-e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an OLE Server or OLE Control to encapsulate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ose end-user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ministrative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Control:  in-process embedding with property and event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ug into dozens of development environments and run-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Outlin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09480" y="1523880"/>
            <a:ext cx="792468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Component Object Model: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generic software service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for servers in 1995:  issues and opport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for servers in 1996:  introduction to distributed 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Monik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990720" y="1087560"/>
            <a:ext cx="7162920" cy="524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ing object provided by servers when asked for persistent “point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lly encapsulates naming; allows arbitrary computation in name 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example, printer moniker that qu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-readable names provided but only for conven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be concatenated into composite name objects; arbitrary sco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685800" y="1479600"/>
            <a:ext cx="77724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Demo:  Server Front-End; Flexibility Of Monik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371600" y="3886200"/>
            <a:ext cx="640080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4874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Defining New Servi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990720" y="1163520"/>
            <a:ext cx="716292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OLE when defining generic APIs with (potentially) multiple providers (for example, “add-ins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UUIDGEN to obtain new GUIDs (one-off or s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new interfaces in extended I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DL compiler generates marshaling code for cross-process (eventually cross-net) us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 marshaling available now but more important in fu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OLE And Secur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990720" y="1316160"/>
            <a:ext cx="7162920" cy="48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is (partially) a privileged service on Windows NT</a:t>
            </a:r>
            <a:r>
              <a:rPr b="1" lang="en-US" sz="3200" spc="-1" strike="noStrike" baseline="5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Service (implemented in SCM.EXE); OLE32.DLL as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day, processes started by OLE in same user account as cl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cross-user OLE interactions (y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viously, no security (other than execution privilege checking) for in-proc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4874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OLE Threading:  Backgrou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723960" y="1239840"/>
            <a:ext cx="7696080" cy="48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provides a unification of synchronous thread-neutral calling model (standard function calls and RPC) and the Windows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ync/async thread-relative messaging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for Windows-based applications - make a call from a thread that gets messages and you’re dead (for “awhile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calls are sync from application code perspective, but reentrant from the perspective of the Windows message pu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OLE Thread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380880" y="1120680"/>
            <a:ext cx="838188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uses both RPC and the message pum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for all cross-process (cross-net) ca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e pump used in-proc for call synchronization and standard Windows reentrancy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ult: interface implementations “reside on” a single th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al Windows NT 3.51 and (Windows 95) will allow any number of OLE threads with any number of OLE 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OLE And Multithread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990720" y="1087560"/>
            <a:ext cx="7162920" cy="53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artment model” threa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oss-thread interface pointer calls are actually on proxy (with optimized marshaling code) rather than directly on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at is, implicit thread switch, call runs on thread/stack of callee, not c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e:  normal behavior-not strictly enforceable because in-pr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eature for Windows-based applications... what about serv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685800" y="2481120"/>
            <a:ext cx="7772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Code Samp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OLE And Multithread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990720" y="1163520"/>
            <a:ext cx="7162920" cy="52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DLL “servers” (in-proc)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d for a predictable component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no UI, components can be “free threading”-safe as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EXE servers in 1995:  decreases performance relative to pure RP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wever, in 1996 “free threading” for OLE servers will be suppo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oming call runs on a system-supplied thread from pool of wor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OLE And Debugg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990720" y="1316160"/>
            <a:ext cx="716292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and Windows 95 provide transparent cross-process 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conspires with debuggers to eliminate from view all proxy/stub RPC gunk when single-step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standard data added to RPC packet for cross-proc (later, cross-net) out-of-band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buggers can add any other data (GUID-tagged chunk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OLE Problem Spa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990720" y="1163520"/>
            <a:ext cx="7162920" cy="50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COM attempts to solve the following generic proble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ware pieces or “components” find and connect to each ot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act with each other through clearly defined interf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 new interfaces to be defined by anyone without chance of coll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ve multiparty inte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 single model for in-process and remote intera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Using OLE In Servers Tod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990720" y="1163520"/>
            <a:ext cx="7162920" cy="50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whenever you need a simple, robust add-in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er-DLLs” that as bonus can also be implemented as E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 services from Win32 GUI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on for charting, printing, formatting service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example,  mail server runs applications to deal with embeddings (fax “printing”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Outlin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898560" y="1523880"/>
            <a:ext cx="734688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919191"/>
                </a:solidFill>
                <a:latin typeface="Times New Roman"/>
                <a:ea typeface="Times New Roman"/>
              </a:rPr>
              <a:t>OLE Component Object Model: </a:t>
            </a:r>
            <a:br>
              <a:rPr sz="3200"/>
            </a:br>
            <a:r>
              <a:rPr b="1" lang="en-US" sz="3200" spc="-1" strike="noStrike">
                <a:solidFill>
                  <a:srgbClr val="919191"/>
                </a:solidFill>
                <a:latin typeface="Times New Roman"/>
                <a:ea typeface="Times New Roman"/>
              </a:rPr>
              <a:t>A generic software service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919191"/>
                </a:solidFill>
                <a:latin typeface="Times New Roman"/>
                <a:ea typeface="Times New Roman"/>
              </a:rPr>
              <a:t>OLE for servers in 1995:  issues and opport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for servers in 1996:  introduction to distributed 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Activation Mode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990720" y="1087560"/>
            <a:ext cx="7162920" cy="519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addition to in-proc/local server, client or server can negotia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bits” (persistent data location when binding to storage or monik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any” (machine name or logical machine (DFS path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SIDs assigned to machine/logical 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a name service (“Cairo”, CDS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rrogate” process allows DLLs to be run locally or remot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ecur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990720" y="1025640"/>
            <a:ext cx="7162920" cy="524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day’s “run EXE object as user” will work fine remot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y but doesn’t s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ll thread-level impersonation and delegation for OLE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mper protection and privacy (via DCE RPC-style mechanisms) as well as per-user 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, “fast-and-loose” hand-off model based on authentication of first user and uniqueness of key representing 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Network Registr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990720" y="1239840"/>
            <a:ext cx="716292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y continues but supplemented with centralized registry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mins control 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erarchy of preferred 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ault CLSID” offers assistance to users when no class code is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dated setup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shell code will use OLE for “unified object launching”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Marshaling Architectu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2857680" y="1600200"/>
            <a:ext cx="3581280" cy="1876320"/>
          </a:xfrm>
          <a:prstGeom prst="rect">
            <a:avLst/>
          </a:prstGeom>
          <a:gradFill rotWithShape="0">
            <a:gsLst>
              <a:gs pos="0">
                <a:srgbClr val="114ffb"/>
              </a:gs>
              <a:gs pos="100000">
                <a:srgbClr val="05174b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E RPC Wire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300640" y="2763720"/>
            <a:ext cx="1917720" cy="3149640"/>
          </a:xfrm>
          <a:prstGeom prst="roundRect">
            <a:avLst/>
          </a:prstGeom>
          <a:gradFill rotWithShape="0">
            <a:gsLst>
              <a:gs pos="0">
                <a:srgbClr val="003c36"/>
              </a:gs>
              <a:gs pos="50000">
                <a:srgbClr val="009688"/>
              </a:gs>
              <a:gs pos="100000">
                <a:srgbClr val="003c36"/>
              </a:gs>
            </a:gsLst>
            <a:lin ang="0"/>
          </a:gradFill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146240" y="3000240"/>
            <a:ext cx="2728800" cy="2598840"/>
          </a:xfrm>
          <a:prstGeom prst="roundRect">
            <a:avLst/>
          </a:prstGeom>
          <a:gradFill rotWithShape="0">
            <a:gsLst>
              <a:gs pos="0">
                <a:srgbClr val="003c36"/>
              </a:gs>
              <a:gs pos="50000">
                <a:srgbClr val="009688"/>
              </a:gs>
              <a:gs pos="100000">
                <a:srgbClr val="003c36"/>
              </a:gs>
            </a:gsLst>
            <a:lin ang="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138480" y="3236760"/>
            <a:ext cx="515880" cy="471600"/>
          </a:xfrm>
          <a:prstGeom prst="roundRect">
            <a:avLst/>
          </a:prstGeom>
          <a:gradFill rotWithShape="0">
            <a:gsLst>
              <a:gs pos="0">
                <a:srgbClr val="000040"/>
              </a:gs>
              <a:gs pos="50000">
                <a:srgbClr val="191953"/>
              </a:gs>
              <a:gs pos="100000">
                <a:srgbClr val="000040"/>
              </a:gs>
            </a:gsLst>
            <a:lin ang="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69920" y="4741920"/>
            <a:ext cx="68112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7810560" y="3708360"/>
            <a:ext cx="958680" cy="189072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7810560" y="3708360"/>
            <a:ext cx="958680" cy="18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319040" y="3159000"/>
            <a:ext cx="1568520" cy="5364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1319040" y="3159000"/>
            <a:ext cx="156852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xy 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515960" y="4259160"/>
            <a:ext cx="1227240" cy="9460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1515960" y="4259160"/>
            <a:ext cx="122724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rshal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IFo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851040" y="4654440"/>
            <a:ext cx="149400" cy="15732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000080" y="4734000"/>
            <a:ext cx="5889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612720" y="4351320"/>
            <a:ext cx="590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o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2327400" y="4181400"/>
            <a:ext cx="0" cy="238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254320" y="4024440"/>
            <a:ext cx="147600" cy="15732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327400" y="3630600"/>
            <a:ext cx="0" cy="3938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1106640" y="3876840"/>
            <a:ext cx="1200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RPCProx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3297240" y="4178160"/>
            <a:ext cx="14144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RPCChan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443560" y="2909880"/>
            <a:ext cx="1628640" cy="95724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443560" y="2909880"/>
            <a:ext cx="162864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 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dispatc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562720" y="4734000"/>
            <a:ext cx="1463760" cy="94284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5562720" y="4734000"/>
            <a:ext cx="1463760" cy="94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marshal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IFo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703920" y="5284800"/>
            <a:ext cx="81144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662960" y="5284800"/>
            <a:ext cx="5889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7277040" y="4900680"/>
            <a:ext cx="590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o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515360" y="5205240"/>
            <a:ext cx="147600" cy="15732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5538960" y="4192560"/>
            <a:ext cx="10875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RPCStu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360600" y="3552840"/>
            <a:ext cx="0" cy="392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286080" y="3944880"/>
            <a:ext cx="147600" cy="15876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620040" y="4259160"/>
            <a:ext cx="147600" cy="16020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6703920" y="4419720"/>
            <a:ext cx="0" cy="392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703920" y="3684600"/>
            <a:ext cx="0" cy="5508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957320" y="2684520"/>
            <a:ext cx="149400" cy="15876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2033640" y="2843280"/>
            <a:ext cx="0" cy="393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2089080" y="2617920"/>
            <a:ext cx="11095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Unkno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590920" y="4024440"/>
            <a:ext cx="695520" cy="787680"/>
          </a:xfrm>
          <a:custGeom>
            <a:avLst/>
            <a:gdLst/>
            <a:ahLst/>
            <a:rect l="0" t="0" r="r" b="b"/>
            <a:pathLst>
              <a:path fill="none" w="1932" h="2188">
                <a:moveTo>
                  <a:pt x="0" y="2188"/>
                </a:moveTo>
                <a:lnTo>
                  <a:pt x="877" y="2188"/>
                </a:lnTo>
                <a:lnTo>
                  <a:pt x="877" y="0"/>
                </a:lnTo>
                <a:lnTo>
                  <a:pt x="1581" y="0"/>
                </a:lnTo>
                <a:lnTo>
                  <a:pt x="1932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8105760" y="3236760"/>
            <a:ext cx="146160" cy="15732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8178840" y="3394080"/>
            <a:ext cx="0" cy="393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7866000" y="2854440"/>
            <a:ext cx="11095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Unkno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066680" y="2057400"/>
            <a:ext cx="7467840" cy="0"/>
          </a:xfrm>
          <a:prstGeom prst="line">
            <a:avLst/>
          </a:prstGeom>
          <a:ln w="2030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91520" rIns="191520" tIns="-146520" bIns="-146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066680" y="2057400"/>
            <a:ext cx="7467840" cy="0"/>
          </a:xfrm>
          <a:prstGeom prst="line">
            <a:avLst/>
          </a:prstGeom>
          <a:ln w="381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6842160" y="1538280"/>
            <a:ext cx="15080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Marshaling And Handl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990720" y="1239840"/>
            <a:ext cx="7162920" cy="47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 marshaling allows arbitrary wire protocol for data in a given interface on a given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 more sophisticated usages possible (that is, local UI; client-side caching to minimize net round-trip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“handler” is most sophisticated form of prox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gets called before server is even created and has complete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318960" y="228600"/>
            <a:ext cx="85057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Cross-Platform Server Suppor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647640" y="1087560"/>
            <a:ext cx="7848720" cy="51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is based on DCE concepts and technology and is the perfect object layer over D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verage underlying DCE RPC wire protocol and authentication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n to provide DCE authentication  for MS RPC; name service inter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ing with Digital and others on server-side OLE for UNICES, VMS, MV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is not just for a “Windows ghett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Design For The Network No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990720" y="1087560"/>
            <a:ext cx="7162920" cy="53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rutinize all interface designs carefully for size/frequency of calls; piggy-back calls whenever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 will provide logging and analysis tools that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as an add-in model 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Automation; write apartment-safe and free-thread-safe DLL servers 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nd us feedback on your distributed computing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-mail olereq@microsoft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106200" y="228600"/>
            <a:ext cx="89312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hy Won’t DLLs Work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990720" y="1239840"/>
            <a:ext cx="716292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ynamic-link libraries are used as “components” (replaceable binaries); why not use (just) th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1:  binding is by DLL name, so only one interchangeable provider available at any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2:  Where is list of possible providers stored?  How identifi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an indirection for binding and “Registry” of possible provi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281160" y="228600"/>
            <a:ext cx="85820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The “WOSA” API/SPI Solu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5680" y="1249200"/>
            <a:ext cx="5343480" cy="50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ical gist of WOSA is layered API and “Service Provider Interfac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SA services (e.g., ODBC) also have driver registry and driver manager for meta-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792600" y="3435480"/>
            <a:ext cx="2970000" cy="1760400"/>
          </a:xfrm>
          <a:prstGeom prst="line">
            <a:avLst/>
          </a:prstGeom>
          <a:ln w="12600">
            <a:solidFill>
              <a:srgbClr val="f6bf6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03640" y="3452760"/>
            <a:ext cx="3776760" cy="1819440"/>
          </a:xfrm>
          <a:prstGeom prst="line">
            <a:avLst/>
          </a:prstGeom>
          <a:ln w="12600">
            <a:solidFill>
              <a:srgbClr val="f6bf6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181560" y="2052720"/>
            <a:ext cx="1743120" cy="771480"/>
          </a:xfrm>
          <a:prstGeom prst="rect">
            <a:avLst/>
          </a:prstGeom>
          <a:gradFill rotWithShape="0">
            <a:gsLst>
              <a:gs pos="0">
                <a:srgbClr val="9234db"/>
              </a:gs>
              <a:gs pos="100000">
                <a:srgbClr val="2b0f41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967440" y="2900520"/>
            <a:ext cx="0" cy="53316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291280" y="5234040"/>
            <a:ext cx="990720" cy="76212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291280" y="5234040"/>
            <a:ext cx="9907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10240" y="5234040"/>
            <a:ext cx="990720" cy="76212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510240" y="5234040"/>
            <a:ext cx="9907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729560" y="5234040"/>
            <a:ext cx="990720" cy="76212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7729560" y="5234040"/>
            <a:ext cx="9907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996240" y="4405320"/>
            <a:ext cx="0" cy="83196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500960" y="4410000"/>
            <a:ext cx="552600" cy="80964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6078600" y="4410000"/>
            <a:ext cx="446040" cy="89712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2165400" y="2820960"/>
            <a:ext cx="2790720" cy="564120"/>
          </a:xfrm>
          <a:prstGeom prst="rect">
            <a:avLst/>
          </a:prstGeom>
          <a:gradFill rotWithShape="0">
            <a:gsLst>
              <a:gs pos="0">
                <a:srgbClr val="05174b"/>
              </a:gs>
              <a:gs pos="100000">
                <a:srgbClr val="114ff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ment “meta-API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87800" y="2467080"/>
            <a:ext cx="1046160" cy="328680"/>
          </a:xfrm>
          <a:prstGeom prst="line">
            <a:avLst/>
          </a:prstGeom>
          <a:ln w="12600">
            <a:solidFill>
              <a:srgbClr val="f6bf6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48160" y="3452760"/>
            <a:ext cx="2047680" cy="1766880"/>
          </a:xfrm>
          <a:prstGeom prst="line">
            <a:avLst/>
          </a:prstGeom>
          <a:ln w="12600">
            <a:solidFill>
              <a:srgbClr val="f6bf6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4743360" y="3457440"/>
            <a:ext cx="4114800" cy="919440"/>
            <a:chOff x="4743360" y="3457440"/>
            <a:chExt cx="4114800" cy="919440"/>
          </a:xfrm>
        </p:grpSpPr>
        <p:sp>
          <p:nvSpPr>
            <p:cNvPr id="178" name=""/>
            <p:cNvSpPr txBox="1"/>
            <p:nvPr/>
          </p:nvSpPr>
          <p:spPr>
            <a:xfrm>
              <a:off x="4743360" y="3457440"/>
              <a:ext cx="2514600" cy="457200"/>
            </a:xfrm>
            <a:prstGeom prst="rect">
              <a:avLst/>
            </a:prstGeom>
            <a:gradFill rotWithShape="0">
              <a:gsLst>
                <a:gs pos="0">
                  <a:srgbClr val="05174b"/>
                </a:gs>
                <a:gs pos="100000">
                  <a:srgbClr val="114ffb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P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 txBox="1"/>
            <p:nvPr/>
          </p:nvSpPr>
          <p:spPr>
            <a:xfrm>
              <a:off x="7257960" y="3457440"/>
              <a:ext cx="990720" cy="457200"/>
            </a:xfrm>
            <a:prstGeom prst="rect">
              <a:avLst/>
            </a:prstGeom>
            <a:gradFill rotWithShape="0">
              <a:gsLst>
                <a:gs pos="0">
                  <a:srgbClr val="05174b"/>
                </a:gs>
                <a:gs pos="100000">
                  <a:srgbClr val="114ffb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Level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 txBox="1"/>
            <p:nvPr/>
          </p:nvSpPr>
          <p:spPr>
            <a:xfrm>
              <a:off x="8248680" y="3457440"/>
              <a:ext cx="609480" cy="457200"/>
            </a:xfrm>
            <a:prstGeom prst="rect">
              <a:avLst/>
            </a:prstGeom>
            <a:gradFill rotWithShape="0">
              <a:gsLst>
                <a:gs pos="0">
                  <a:srgbClr val="05174b"/>
                </a:gs>
                <a:gs pos="100000">
                  <a:srgbClr val="114ffb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t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 txBox="1"/>
            <p:nvPr/>
          </p:nvSpPr>
          <p:spPr>
            <a:xfrm>
              <a:off x="4743360" y="3919680"/>
              <a:ext cx="2514600" cy="457200"/>
            </a:xfrm>
            <a:prstGeom prst="rect">
              <a:avLst/>
            </a:prstGeom>
            <a:solidFill>
              <a:srgbClr val="333333"/>
            </a:soli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P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 txBox="1"/>
            <p:nvPr/>
          </p:nvSpPr>
          <p:spPr>
            <a:xfrm>
              <a:off x="7257960" y="3919680"/>
              <a:ext cx="990720" cy="457200"/>
            </a:xfrm>
            <a:prstGeom prst="rect">
              <a:avLst/>
            </a:prstGeom>
            <a:solidFill>
              <a:srgbClr val="333333"/>
            </a:soli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Level 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 txBox="1"/>
            <p:nvPr/>
          </p:nvSpPr>
          <p:spPr>
            <a:xfrm>
              <a:off x="8248680" y="3919680"/>
              <a:ext cx="609480" cy="457200"/>
            </a:xfrm>
            <a:prstGeom prst="rect">
              <a:avLst/>
            </a:prstGeom>
            <a:solidFill>
              <a:srgbClr val="333333"/>
            </a:soli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tc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More Problem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990720" y="1011240"/>
            <a:ext cx="7162920" cy="519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w do you allow for differences between provid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CD set plus GetProcAddr()?  No way!  Functional groups requir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BC solution:  standard driver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w can “side conversations” (APIs not part of “standard”) occu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idents likely if new dialects/ protocols defined with simple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mechanism to guarantee only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ntional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“side” conver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More Problem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990720" y="1011240"/>
            <a:ext cx="7162920" cy="53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suming a clean mechanism for “side conversations”, need a unified programming model (handles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a layered, handle-based WOSA-style model “scalable” enoug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very very fast cross-component calling for lightweight in-proc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sioning can be solved with traditional approach, b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limit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hard in multiparty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N-Way Service Connec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914400" y="1316160"/>
            <a:ext cx="731520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arty connections:  wouldn’t it be nice to pass around connections?  (Around process; machine; networ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back standard, if nothing els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ises interesting questions and serious problems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fetime management/distributed garbage col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urning local function calls into remote function calls - isn’t this RPC? (more on that la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OLE Solu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990720" y="1011240"/>
            <a:ext cx="7162920" cy="53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address these issues with a few simple conce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s - strongly typed (GUID) collections of functionally/semantically related APIs; never versio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 pointers-pointer that is also a “service connection” abst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 (capability) negotiation - given a service connection, can always ask (cheaply!) if another is suppo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-style proxies/stubs for remote exec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k Ryland</dc:creator>
  <dc:description/>
  <dc:language>en-US</dc:language>
  <cp:lastModifiedBy>shannon wheeler</cp:lastModifiedBy>
  <cp:revision>0</cp:revision>
  <dc:subject/>
  <dc:title>OLE And Servers</dc:title>
</cp:coreProperties>
</file>