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4C4E3-4E86-4BAF-AF2B-22D7282ED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y that needs to be winthin 5% for people to buy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3880" y="906480"/>
            <a:ext cx="78976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-Based Applications - A Roadmap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e Thomps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7280" y="179532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- user provides credentials to client sid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authentication protocol via Security Support Provider (SSP) librar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 sockets over any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logon - application provides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s LogonUse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credentials obtained over the net, avoid clea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60480" y="1409760"/>
            <a:ext cx="7224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pplication administration with system us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provide account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local group management and fast user enumer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network accounts when user is enabled or configured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tilize account data (groups,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09520" y="1768320"/>
            <a:ext cx="692460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is central repository for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, /etc style confi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Editor permits raw access to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for remote management of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43080" y="2116080"/>
            <a:ext cx="6659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ideal for service-specific administration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local/remot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 for 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3080" y="1735200"/>
            <a:ext cx="8458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logging for system,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Viewer for local/remote log per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locally vi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tifyChangeEvent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2, DHCP/WINS MIB, LAN Manager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additional M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70080" y="2116080"/>
            <a:ext cx="660564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 tool provides sophisticated display,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statistics for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provides access to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1240" y="1409760"/>
            <a:ext cx="76629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/mixed environment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grading the client most impact/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and servic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(for example, file/pr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key environmen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1714680"/>
            <a:ext cx="5448240" cy="301464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31313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s Of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4880" y="5241960"/>
            <a:ext cx="5934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World, December 26 1994 - Average percentage of responde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traffic based on protoco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9000" y="43988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9000" y="40622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9000" y="3726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9000" y="3389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3065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9000" y="27306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2394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9000" y="2057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9000" y="17208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1720800"/>
            <a:ext cx="5442480" cy="3015000"/>
          </a:xfrm>
          <a:custGeom>
            <a:avLst/>
            <a:gdLst/>
            <a:ahLst/>
            <a:rect l="0" t="0" r="r" b="b"/>
            <a:pathLst>
              <a:path fill="none" w="15118" h="8375">
                <a:moveTo>
                  <a:pt x="0" y="0"/>
                </a:moveTo>
                <a:lnTo>
                  <a:pt x="15118" y="0"/>
                </a:lnTo>
                <a:lnTo>
                  <a:pt x="15118" y="8375"/>
                </a:lnTo>
                <a:lnTo>
                  <a:pt x="0" y="83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81240" y="2255760"/>
            <a:ext cx="263880" cy="2480040"/>
          </a:xfrm>
          <a:custGeom>
            <a:avLst/>
            <a:gdLst/>
            <a:ahLst/>
            <a:rect l="0" t="0" r="r" b="b"/>
            <a:pathLst>
              <a:path w="733" h="6889">
                <a:moveTo>
                  <a:pt x="0" y="0"/>
                </a:moveTo>
                <a:lnTo>
                  <a:pt x="733" y="0"/>
                </a:lnTo>
                <a:lnTo>
                  <a:pt x="733" y="6889"/>
                </a:lnTo>
                <a:lnTo>
                  <a:pt x="0" y="6889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2394000"/>
            <a:ext cx="265320" cy="2341800"/>
          </a:xfrm>
          <a:custGeom>
            <a:avLst/>
            <a:gdLst/>
            <a:ahLst/>
            <a:rect l="0" t="0" r="r" b="b"/>
            <a:pathLst>
              <a:path w="737" h="6505">
                <a:moveTo>
                  <a:pt x="0" y="0"/>
                </a:moveTo>
                <a:lnTo>
                  <a:pt x="737" y="0"/>
                </a:lnTo>
                <a:lnTo>
                  <a:pt x="737" y="6505"/>
                </a:lnTo>
                <a:lnTo>
                  <a:pt x="0" y="6505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25800"/>
            <a:ext cx="263880" cy="810000"/>
          </a:xfrm>
          <a:custGeom>
            <a:avLst/>
            <a:gdLst/>
            <a:ahLst/>
            <a:rect l="0" t="0" r="r" b="b"/>
            <a:pathLst>
              <a:path w="733" h="2250">
                <a:moveTo>
                  <a:pt x="0" y="0"/>
                </a:moveTo>
                <a:lnTo>
                  <a:pt x="733" y="0"/>
                </a:lnTo>
                <a:lnTo>
                  <a:pt x="733" y="2250"/>
                </a:lnTo>
                <a:lnTo>
                  <a:pt x="0" y="225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8600" y="4672080"/>
            <a:ext cx="263880" cy="63720"/>
          </a:xfrm>
          <a:custGeom>
            <a:avLst/>
            <a:gdLst/>
            <a:ahLst/>
            <a:rect l="0" t="0" r="r" b="b"/>
            <a:pathLst>
              <a:path w="733" h="177">
                <a:moveTo>
                  <a:pt x="0" y="0"/>
                </a:moveTo>
                <a:lnTo>
                  <a:pt x="733" y="0"/>
                </a:lnTo>
                <a:lnTo>
                  <a:pt x="733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600" y="4460760"/>
            <a:ext cx="265320" cy="275040"/>
          </a:xfrm>
          <a:custGeom>
            <a:avLst/>
            <a:gdLst/>
            <a:ahLst/>
            <a:rect l="0" t="0" r="r" b="b"/>
            <a:pathLst>
              <a:path w="737" h="764">
                <a:moveTo>
                  <a:pt x="0" y="0"/>
                </a:moveTo>
                <a:lnTo>
                  <a:pt x="737" y="0"/>
                </a:lnTo>
                <a:lnTo>
                  <a:pt x="737" y="764"/>
                </a:lnTo>
                <a:lnTo>
                  <a:pt x="0" y="764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21560" y="4000680"/>
            <a:ext cx="265320" cy="735480"/>
          </a:xfrm>
          <a:custGeom>
            <a:avLst/>
            <a:gdLst/>
            <a:ahLst/>
            <a:rect l="0" t="0" r="r" b="b"/>
            <a:pathLst>
              <a:path w="737" h="2043">
                <a:moveTo>
                  <a:pt x="0" y="0"/>
                </a:moveTo>
                <a:lnTo>
                  <a:pt x="737" y="0"/>
                </a:lnTo>
                <a:lnTo>
                  <a:pt x="737" y="2043"/>
                </a:lnTo>
                <a:lnTo>
                  <a:pt x="0" y="2043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4760" y="1720800"/>
            <a:ext cx="265320" cy="3015000"/>
          </a:xfrm>
          <a:custGeom>
            <a:avLst/>
            <a:gdLst/>
            <a:ahLst/>
            <a:rect l="0" t="0" r="r" b="b"/>
            <a:pathLst>
              <a:path w="737" h="8375">
                <a:moveTo>
                  <a:pt x="0" y="0"/>
                </a:moveTo>
                <a:lnTo>
                  <a:pt x="737" y="0"/>
                </a:lnTo>
                <a:lnTo>
                  <a:pt x="737" y="8375"/>
                </a:lnTo>
                <a:lnTo>
                  <a:pt x="0" y="8375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9160" y="2530440"/>
            <a:ext cx="251280" cy="2205360"/>
          </a:xfrm>
          <a:custGeom>
            <a:avLst/>
            <a:gdLst/>
            <a:ahLst/>
            <a:rect l="0" t="0" r="r" b="b"/>
            <a:pathLst>
              <a:path w="698" h="6126">
                <a:moveTo>
                  <a:pt x="0" y="0"/>
                </a:moveTo>
                <a:lnTo>
                  <a:pt x="698" y="0"/>
                </a:lnTo>
                <a:lnTo>
                  <a:pt x="698" y="6126"/>
                </a:lnTo>
                <a:lnTo>
                  <a:pt x="0" y="6126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9160" y="4137120"/>
            <a:ext cx="263880" cy="598680"/>
          </a:xfrm>
          <a:custGeom>
            <a:avLst/>
            <a:gdLst/>
            <a:ahLst/>
            <a:rect l="0" t="0" r="r" b="b"/>
            <a:pathLst>
              <a:path w="733" h="1663">
                <a:moveTo>
                  <a:pt x="0" y="0"/>
                </a:moveTo>
                <a:lnTo>
                  <a:pt x="733" y="0"/>
                </a:lnTo>
                <a:lnTo>
                  <a:pt x="733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4672080"/>
            <a:ext cx="252720" cy="63720"/>
          </a:xfrm>
          <a:custGeom>
            <a:avLst/>
            <a:gdLst/>
            <a:ahLst/>
            <a:rect l="0" t="0" r="r" b="b"/>
            <a:pathLst>
              <a:path w="702" h="177">
                <a:moveTo>
                  <a:pt x="0" y="0"/>
                </a:moveTo>
                <a:lnTo>
                  <a:pt x="702" y="0"/>
                </a:lnTo>
                <a:lnTo>
                  <a:pt x="702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3920" y="4535640"/>
            <a:ext cx="263880" cy="200520"/>
          </a:xfrm>
          <a:custGeom>
            <a:avLst/>
            <a:gdLst/>
            <a:ahLst/>
            <a:rect l="0" t="0" r="r" b="b"/>
            <a:pathLst>
              <a:path w="733" h="557">
                <a:moveTo>
                  <a:pt x="0" y="0"/>
                </a:moveTo>
                <a:lnTo>
                  <a:pt x="733" y="0"/>
                </a:lnTo>
                <a:lnTo>
                  <a:pt x="733" y="557"/>
                </a:lnTo>
                <a:lnTo>
                  <a:pt x="0" y="55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86520" y="4137120"/>
            <a:ext cx="251280" cy="598680"/>
          </a:xfrm>
          <a:custGeom>
            <a:avLst/>
            <a:gdLst/>
            <a:ahLst/>
            <a:rect l="0" t="0" r="r" b="b"/>
            <a:pathLst>
              <a:path w="698" h="1663">
                <a:moveTo>
                  <a:pt x="0" y="0"/>
                </a:moveTo>
                <a:lnTo>
                  <a:pt x="698" y="0"/>
                </a:lnTo>
                <a:lnTo>
                  <a:pt x="698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9000" y="1720800"/>
            <a:ext cx="0" cy="301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2640" y="2057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2640" y="1720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9000" y="47354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67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293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311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57440" y="1549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5240" y="476244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79800" y="476244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1360" y="47624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94120" y="476244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22840" y="476244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99160" y="476244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57440" y="1930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57440" y="2235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57440" y="25401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57440" y="2921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57440" y="32259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57440" y="3530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57440" y="3887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57440" y="423072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57440" y="455940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915160" y="1933560"/>
            <a:ext cx="1209600" cy="781200"/>
            <a:chOff x="5915160" y="1933560"/>
            <a:chExt cx="1209600" cy="781200"/>
          </a:xfrm>
        </p:grpSpPr>
        <p:sp>
          <p:nvSpPr>
            <p:cNvPr id="127" name=""/>
            <p:cNvSpPr/>
            <p:nvPr/>
          </p:nvSpPr>
          <p:spPr>
            <a:xfrm>
              <a:off x="5915160" y="1933560"/>
              <a:ext cx="1209600" cy="781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440" y="2085840"/>
              <a:ext cx="228600" cy="1522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7440" y="2424240"/>
              <a:ext cx="228600" cy="15228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56520" y="198612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6356520" y="2309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3280" y="1920960"/>
            <a:ext cx="7597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irect transport access,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rvices common acros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format, transport-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/SPX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EUI, OSI, 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VIN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03360" y="1920960"/>
            <a:ext cx="61387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level, 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use of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33360" y="228600"/>
            <a:ext cx="667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Makes A Great Server Appl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3840" y="1658880"/>
            <a:ext cx="70959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system services, threads,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as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th load and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ast or faster than same application on other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1440" y="2039760"/>
            <a:ext cx="626256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level, byte/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application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N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9520" y="1963800"/>
            <a:ext cx="6924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Resolution API (RNR)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 Windows Socket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services, looku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, 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providers in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3840" y="1692360"/>
            <a:ext cx="70959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with credentials from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ccoun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Validate with existing (not Windows NT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require additiona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native acces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to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1080" y="1963800"/>
            <a:ext cx="69818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IPX/SP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APIs register, find services via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x support - use bindery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60480" y="1920960"/>
            <a:ext cx="722484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ervices for NetWare (CSN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 API, UNC 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 for NetWare (FPNW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eta t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against Windows NT us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3560" y="1409760"/>
            <a:ext cx="70772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find services via DNS and /et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basic services:  ftp, lpr/lp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file services available from thir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Ban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3440" y="1409760"/>
            <a:ext cx="64771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VINES IP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R - register/find services via Stre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lients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ices - client available from Ban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1920" y="1409760"/>
            <a:ext cx="7219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” - RPC is DCE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find/register services via CDS with RPC and NSID (dae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client support (security, direct access to CDS) available from 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With DEC package, can authenticate, though not impers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257480"/>
            <a:ext cx="64818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os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 (completion 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UNIX, 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, configuration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, client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51120" y="228600"/>
            <a:ext cx="5443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You Might Have Missed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6920" y="1887480"/>
            <a:ext cx="64101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working se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less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marshaling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52640" y="1414440"/>
            <a:ext cx="70390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syste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s when acces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“natively” with different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TCP/IP, IPX/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ckets,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52480" y="1949400"/>
            <a:ext cx="743904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QueryDisplay, NetUserChange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able Logon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LX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SA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Provider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24000" y="1844640"/>
            <a:ext cx="6697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interoperability, multinetwork support with focus on security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work to preser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mmary - Server Applications Should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55600" y="1887480"/>
            <a:ext cx="6834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- service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- within 5% of oth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- utilize network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- compatible with MS and NW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 - utilize manag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57320" y="1531800"/>
            <a:ext cx="7029360" cy="1428840"/>
          </a:xfrm>
          <a:prstGeom prst="rect">
            <a:avLst/>
          </a:prstGeom>
          <a:solidFill>
            <a:srgbClr val="009688"/>
          </a:solidFill>
          <a:ln w="12600">
            <a:solidFill>
              <a:srgbClr val="f5b553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lease Fill Out The Session Speaker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9000" y="1871640"/>
            <a:ext cx="69674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dministration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ly/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common management tools/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System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6160" y="1938240"/>
            <a:ext cx="70531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ing model selected is key to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, completion ports support scalable, effic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 in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e” install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A Servi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4720" y="1938240"/>
            <a:ext cx="7054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automatically on unatten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 (start, stop, pause, continu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in specific security context with no user logg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emon, N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4880" y="1409760"/>
            <a:ext cx="71960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for Windows NT 3.5 “Daytona”  focu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base OS performance on uniprocessor/multiprocessor,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services for aiding in high-performan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common performance issues i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6680" y="228600"/>
            <a:ext cx="6472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Integrate With Th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52680" y="1938240"/>
            <a:ext cx="60390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enterprise-wide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can use credentials to authenticate and then impersonate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09640" y="1938240"/>
            <a:ext cx="7524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used in Windows client logon for file access are used for impers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transports (TCP, SPX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provided on client for secure remote authentic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vailable, previously entered credentia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Thompson</dc:creator>
  <dc:description/>
  <dc:language>en-US</dc:language>
  <cp:lastModifiedBy>Tomi Poutanen</cp:lastModifiedBy>
  <cp:revision>0</cp:revision>
  <dc:subject/>
  <dc:title>Windows NT™ Server-Based Applications - A Roadmap   Dave Thompson Development Manager Microsoft Corporation</dc:title>
</cp:coreProperties>
</file>