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132552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tus Notes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 For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Ken Moor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ris Associates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tus Developmen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27080" y="1920960"/>
            <a:ext cx="70898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e’d do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e’d do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 Notes Server for Windows NT (on Intel) status and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tus Notes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7320" y="4610160"/>
            <a:ext cx="8271000" cy="20001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610160"/>
            <a:ext cx="7000920" cy="10638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7320" y="1616040"/>
            <a:ext cx="2698920" cy="20415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7320" y="1006560"/>
            <a:ext cx="2698920" cy="63504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7320" y="2498760"/>
            <a:ext cx="1432080" cy="115884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1040" y="4133880"/>
            <a:ext cx="81914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3912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50000" y="365760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548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096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0220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504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380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956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3673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4600" y="414972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19600" y="2117880"/>
            <a:ext cx="758880" cy="1539720"/>
            <a:chOff x="3819600" y="2117880"/>
            <a:chExt cx="758880" cy="1539720"/>
          </a:xfrm>
        </p:grpSpPr>
        <p:sp>
          <p:nvSpPr>
            <p:cNvPr id="60" name=""/>
            <p:cNvSpPr/>
            <p:nvPr/>
          </p:nvSpPr>
          <p:spPr>
            <a:xfrm>
              <a:off x="401004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19600" y="3130560"/>
              <a:ext cx="75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05480" y="2117880"/>
            <a:ext cx="861840" cy="1539720"/>
            <a:chOff x="4605480" y="2117880"/>
            <a:chExt cx="861840" cy="1539720"/>
          </a:xfrm>
        </p:grpSpPr>
        <p:sp>
          <p:nvSpPr>
            <p:cNvPr id="63" name=""/>
            <p:cNvSpPr/>
            <p:nvPr/>
          </p:nvSpPr>
          <p:spPr>
            <a:xfrm>
              <a:off x="483696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605480" y="3079800"/>
              <a:ext cx="861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talo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98960" y="2117880"/>
            <a:ext cx="928800" cy="1539720"/>
            <a:chOff x="4998960" y="2117880"/>
            <a:chExt cx="928800" cy="1539720"/>
          </a:xfrm>
        </p:grpSpPr>
        <p:sp>
          <p:nvSpPr>
            <p:cNvPr id="66" name=""/>
            <p:cNvSpPr/>
            <p:nvPr/>
          </p:nvSpPr>
          <p:spPr>
            <a:xfrm>
              <a:off x="526428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998960" y="3046320"/>
              <a:ext cx="928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560" y="2117880"/>
            <a:ext cx="1098720" cy="1539720"/>
            <a:chOff x="5335560" y="2117880"/>
            <a:chExt cx="1098720" cy="1539720"/>
          </a:xfrm>
        </p:grpSpPr>
        <p:sp>
          <p:nvSpPr>
            <p:cNvPr id="69" name=""/>
            <p:cNvSpPr/>
            <p:nvPr/>
          </p:nvSpPr>
          <p:spPr>
            <a:xfrm>
              <a:off x="568656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335560" y="2960640"/>
              <a:ext cx="1098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lic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27760" y="2117880"/>
            <a:ext cx="771480" cy="1539720"/>
            <a:chOff x="5927760" y="2117880"/>
            <a:chExt cx="771480" cy="1539720"/>
          </a:xfrm>
        </p:grpSpPr>
        <p:sp>
          <p:nvSpPr>
            <p:cNvPr id="72" name=""/>
            <p:cNvSpPr/>
            <p:nvPr/>
          </p:nvSpPr>
          <p:spPr>
            <a:xfrm>
              <a:off x="611496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927760" y="3124080"/>
              <a:ext cx="771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396120" y="2117880"/>
            <a:ext cx="692280" cy="1539720"/>
            <a:chOff x="6396120" y="2117880"/>
            <a:chExt cx="692280" cy="1539720"/>
          </a:xfrm>
        </p:grpSpPr>
        <p:sp>
          <p:nvSpPr>
            <p:cNvPr id="75" name=""/>
            <p:cNvSpPr/>
            <p:nvPr/>
          </p:nvSpPr>
          <p:spPr>
            <a:xfrm>
              <a:off x="654372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6396120" y="3164040"/>
              <a:ext cx="692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765840" y="2117880"/>
            <a:ext cx="793800" cy="1539720"/>
            <a:chOff x="6765840" y="2117880"/>
            <a:chExt cx="793800" cy="1539720"/>
          </a:xfrm>
        </p:grpSpPr>
        <p:sp>
          <p:nvSpPr>
            <p:cNvPr id="78" name=""/>
            <p:cNvSpPr/>
            <p:nvPr/>
          </p:nvSpPr>
          <p:spPr>
            <a:xfrm>
              <a:off x="696420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765840" y="31129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192800" y="2117880"/>
            <a:ext cx="793800" cy="1539720"/>
            <a:chOff x="7192800" y="2117880"/>
            <a:chExt cx="793800" cy="1539720"/>
          </a:xfrm>
        </p:grpSpPr>
        <p:sp>
          <p:nvSpPr>
            <p:cNvPr id="81" name=""/>
            <p:cNvSpPr/>
            <p:nvPr/>
          </p:nvSpPr>
          <p:spPr>
            <a:xfrm>
              <a:off x="739152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192800" y="31129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026560" y="2117880"/>
            <a:ext cx="758880" cy="1539720"/>
            <a:chOff x="8026560" y="2117880"/>
            <a:chExt cx="758880" cy="1539720"/>
          </a:xfrm>
        </p:grpSpPr>
        <p:sp>
          <p:nvSpPr>
            <p:cNvPr id="84" name=""/>
            <p:cNvSpPr/>
            <p:nvPr/>
          </p:nvSpPr>
          <p:spPr>
            <a:xfrm>
              <a:off x="8217000" y="2117880"/>
              <a:ext cx="396720" cy="15397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8026560" y="3141720"/>
              <a:ext cx="75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1533600" y="1149480"/>
            <a:ext cx="140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65280" y="1832040"/>
            <a:ext cx="960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3560" y="2521080"/>
            <a:ext cx="11476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7960" indent="-23796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/ 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57400" y="4616280"/>
            <a:ext cx="28447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torag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73640" y="4616280"/>
            <a:ext cx="13208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254720" y="4616280"/>
            <a:ext cx="17384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160" y="3743280"/>
            <a:ext cx="1919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 Note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38360" y="5715000"/>
            <a:ext cx="23194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88040" y="5715000"/>
            <a:ext cx="21556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 data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We’d Do Differe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03240" y="1920960"/>
            <a:ext cx="7338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riting concurrent algorithms, test with MP early and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ing results run on           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3.5, 6x90 MHz Pentiu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512 MB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76440" y="2016000"/>
            <a:ext cx="5969160" cy="223848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65656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889280"/>
            <a:ext cx="1841400" cy="7779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491a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2760" y="1650960"/>
            <a:ext cx="723276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456080" y="4923000"/>
            <a:ext cx="183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8480" y="278136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P Imple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We’d Do Differe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98320" y="1616040"/>
            <a:ext cx="79470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r resolution of “how to support UNICO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l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data structures passed through new 32-bi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help with physical memor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more Windows NT features, especially Performance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We’d Do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8280" y="1616040"/>
            <a:ext cx="78678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st reliable code streams as starting point for the Windows N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h Windows NT Server into “production”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builds on RISC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performance and port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atus And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84200" y="1768320"/>
            <a:ext cx="637524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 Notes Server R3.2 for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ped September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NetBIOS, TCP/IP, X.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: Lotus Notes as a Windows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 Moore</dc:creator>
  <dc:description/>
  <dc:language>en-US</dc:language>
  <cp:lastModifiedBy>shannon wheeler</cp:lastModifiedBy>
  <cp:revision>0</cp:revision>
  <dc:subject/>
  <dc:title>Lotus Notes® Server For Windows NT™   Ken Moore Iris Associates Lotus Development Corporation</dc:title>
</cp:coreProperties>
</file>