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476F15B-63BE-4DF1-9CDA-A50610D82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Add your name and title to the slide.  Modify slide master to include name of company to which you are presenting</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roduce yourself.</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________________________________________________</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NDED PRESENTER:  SALES REP; PRODUCT MANAG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NDED AUDIENCE:  DECISION MAKER, MIS, SP</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ESTIMATED TIME:  45 MINUTES INCLUDING QUESTIONS (WITHOUT DEM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DUCT GROUP CONTACT:  OFCPUS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LATEST REVISION:  7/10/95</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997160"/>
          </a:xfrm>
          <a:prstGeom prst="rect">
            <a:avLst/>
          </a:prstGeom>
          <a:noFill/>
          <a:ln w="0">
            <a:noFill/>
          </a:ln>
        </p:spPr>
        <p:txBody>
          <a:bodyPr lIns="0" rIns="0" tIns="0" bIns="0" anchor="t">
            <a:noAutofit/>
          </a:bodyPr>
          <a:p>
            <a:pPr lvl="1" marL="345960" indent="-23184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Benchmarking Lab</a:t>
            </a:r>
            <a:r>
              <a:rPr b="0" lang="en-US" sz="1000" spc="-1" strike="noStrike">
                <a:solidFill>
                  <a:srgbClr val="000000"/>
                </a:solidFill>
                <a:latin typeface="Times New Roman"/>
                <a:ea typeface="Times New Roman"/>
              </a:rPr>
              <a:t>: We have always done benchmarking on our products throughout the design process but a Fundamental changes is that our lab is now centralized, and we have a more disciplined projcess for benchmarking as we develop along the way.</a:t>
            </a:r>
            <a:endParaRPr b="0" lang="en-US" sz="1000" spc="-1" strike="noStrike">
              <a:solidFill>
                <a:srgbClr val="000000"/>
              </a:solidFill>
              <a:latin typeface="Arial"/>
            </a:endParaRPr>
          </a:p>
          <a:p>
            <a:pPr marL="34596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have 2 type of tests.  The first is the pure performance and usage tests, where we test the code against how we expect the algorithm to work.  Examples of this include recalc speed in Excel or query operations in Access.  In addition, we have a set of tests that have been created that mimic user experiences, or how usable a process or feature feels from a speed perspective to end users just trying to get a task done.  Operations that fall in this category include scrolling, adding a row, etc.  In fact, based on our benchmarking lab, we’ve actually slowed down processes in a few areas where they were happening faster than the users eye could track.  For example, in Excel 7.0 we’ve slowed down the addition of a new row, so the users’ eye can actually follow the new addition to the spreadsheet rather. So benchmark testing includes both perspectives: the pure speed and performance that is measured by reviews as well as what real users see and experience on a daily basis.</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lvl="1" marL="345960" indent="-23184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Quality Assurance</a:t>
            </a:r>
            <a:r>
              <a:rPr b="0" lang="en-US" sz="1000" spc="-1" strike="noStrike">
                <a:solidFill>
                  <a:srgbClr val="000000"/>
                </a:solidFill>
                <a:latin typeface="Times New Roman"/>
                <a:ea typeface="Times New Roman"/>
              </a:rPr>
              <a:t>:  Testers formerly tested code after it was done to decide whether it was good or bad. The Problem with this method is you don’t find out until very late in the process whether it was good code or bad code. Now testers and developers are married early on in the process and actually review specs for bugs before the code itself is actually begun.  Developers now have automated tests they have to pass before they can even give the code to testers.  Developers focus on Designing Quality into the product while they are making the product.  All this goes on in Multiple Versions of the product at the same time.</a:t>
            </a:r>
            <a:endParaRPr b="0" lang="en-US" sz="1000" spc="-1" strike="noStrike">
              <a:solidFill>
                <a:srgbClr val="000000"/>
              </a:solidFill>
              <a:latin typeface="Arial"/>
            </a:endParaRPr>
          </a:p>
          <a:p>
            <a:pPr marL="34596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Test managers actually begin by testing the spec when it is still in paper form.  That way they can find bugs when it’s still in the design process.  The testers at Microsoft write testing suites before developers write their first line of code.  So at every stage before a feature is even added to the final product, that feature is tested and re-tested.  When it is finally added to the larger product and then it is tested and re-tested again.</a:t>
            </a: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The reason we have spent so much time on User Driven Development is that it is fundamental to our design process and the reason for what we think is our competitive advantage.</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Microsoft has an unparalleled development process that ensures our products are the highest quality and are designed with the user in mind.  It is a long, involved process, but it has helped us turn code writing into a user science which, we believe, give our products the unique quality that has lead to our leadership in nearly every application categor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Development for future version of Office focus around two main user types: End users, and the Enterprise</a:t>
            </a:r>
            <a:endParaRPr b="0" lang="en-US" sz="12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o deliver products that end user find valuable and find that it increases their productivity, we will stive to improve our support for innovations made available through the operating system, and improve the level of ease-of-use and integration found in MS Office. And lastly, as we did in this release of Office95 by adding Schedule+, we will continue to look for content and applications that will increase the value of the suite to our end user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or the IS or Enterprise, we also need to leverage operating system innovations like we did with Office95. And while end user productivity increases through better ease of use and tighter integration will continue to be a focus, we will also strive to lower the support costs of the organization through innovations like the Answer Wizard, and we will contine to listen to our customers to understand how to better support the enterpris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961"/>
              </a:spcBef>
              <a:buNone/>
            </a:pPr>
            <a:r>
              <a:rPr b="1" lang="en-US" sz="1200" spc="-1" strike="noStrike">
                <a:solidFill>
                  <a:srgbClr val="000000"/>
                </a:solidFill>
                <a:latin typeface="Arial"/>
                <a:ea typeface="Arial"/>
              </a:rPr>
              <a:t>Office 95 is designed to let you to access the full potential of your desktop.</a:t>
            </a:r>
            <a:endParaRPr b="0" lang="en-US" sz="1200" spc="-1" strike="noStrike">
              <a:solidFill>
                <a:srgbClr val="000000"/>
              </a:solidFill>
              <a:latin typeface="Arial"/>
            </a:endParaRPr>
          </a:p>
          <a:p>
            <a:pPr marL="228600" indent="0">
              <a:lnSpc>
                <a:spcPct val="90000"/>
              </a:lnSpc>
              <a:spcBef>
                <a:spcPts val="961"/>
              </a:spcBef>
              <a:buNone/>
            </a:pPr>
            <a:endParaRPr b="0" lang="en-US" sz="1000" spc="-1" strike="noStrike">
              <a:solidFill>
                <a:srgbClr val="000000"/>
              </a:solidFill>
              <a:latin typeface="Arial"/>
            </a:endParaRPr>
          </a:p>
          <a:p>
            <a:pPr marL="228600"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marL="228600" indent="0">
              <a:lnSpc>
                <a:spcPct val="90000"/>
              </a:lnSpc>
              <a:spcBef>
                <a:spcPts val="961"/>
              </a:spcBef>
              <a:buNone/>
            </a:pPr>
            <a:r>
              <a:rPr b="0" lang="en-US" sz="1000" spc="-1" strike="noStrike">
                <a:solidFill>
                  <a:srgbClr val="000000"/>
                </a:solidFill>
                <a:latin typeface="Times New Roman"/>
                <a:ea typeface="Times New Roman"/>
              </a:rPr>
              <a:t>The benefits of Microsoft Office95 center around 4 key areas. </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first is from an end user perspective: creating products that work more the way users work. Office 95 goes further to enable users to access the power of the PC through IntelliSense technology and support for Windows 95, without having to be computer experts. </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second benefit is the ability to easily share information between applications using OfficeLinks technology and integration with other Office Compatible applications; breaking down the barriers so you can leverage both learning and effort to get the work you need done.</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third benefit area is how Office 95 provides access to information and online communication that today’s business require. Be it exchanging information through email, over the network, or through the rapidly growing use of the internet, Microsoft office enables you to communicating in this increasingly connected world;.</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And the last benefits is all about how Office 95 enables you to build business solutions to meet you organization’s need. A solution built using Microsoft Office can provide competitive advantage for your business that gets the most return our of your technology investment.</a:t>
            </a:r>
            <a:endParaRPr b="0" lang="en-US" sz="1000" spc="-1" strike="noStrike">
              <a:solidFill>
                <a:srgbClr val="000000"/>
              </a:solidFill>
              <a:latin typeface="Arial"/>
            </a:endParaRPr>
          </a:p>
          <a:p>
            <a:pPr marL="228600"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53074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IntelliSense is a unique benefit of Microsoft applications that makes computers work more the way people work.</a:t>
            </a:r>
            <a:endParaRPr b="0" lang="en-US" sz="12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re striving to enable users to be able to focus on their work.  We’re making software easier to use and more discoverable so people get their work done, without spending lots of time figuring out the softwar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llisense Technology focuses on work rather then software....watches the user, understands his or her intent and reacts automatically or helps the user work through it  (as in wizards), we automate tasks and reduce steps, and increase discoverablitity by providing assistance at the appropriate times--Making the products easier to us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drill down points]</a:t>
            </a:r>
            <a:br>
              <a:rPr sz="1000"/>
            </a:br>
            <a:r>
              <a:rPr b="0" lang="en-US" sz="1000" spc="-1" strike="noStrike">
                <a:solidFill>
                  <a:srgbClr val="000000"/>
                </a:solidFill>
                <a:latin typeface="Times New Roman"/>
                <a:ea typeface="Times New Roman"/>
              </a:rPr>
              <a:t>IntelliSense is a technology that was developed from our research with the instrumented versions and the customer-driven development.  It is an element of many of our key features in our Office products.  IntelliSense is a combination of two words that is meant to convey that the product can sense what the user is trying to do and produce the desired results.  If you think about it, the relationship you have with your PC is unique.  Every relationship humans are based on interpretive interactions.  But a PC is a literal environment.  It only does exactly what I tell it to do and in fact, it requires that I learn its language rather than it understanding me.  In essense, IntelliSense is the process of making a PC more interpretiv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re are three key capabilities that IntelliSense provides:  </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utomating routine</a:t>
            </a:r>
            <a:r>
              <a:rPr b="0" lang="en-US" sz="1000" spc="-1" strike="noStrike">
                <a:solidFill>
                  <a:srgbClr val="000000"/>
                </a:solidFill>
                <a:latin typeface="Times New Roman"/>
                <a:ea typeface="Times New Roman"/>
              </a:rPr>
              <a:t>.  The first is making every day tasks happen with a single click of a mouse button.  We added a whole suite of “auto” features that help users do multi-step functions with a single high level command or perform the desired function as you work.  Example include AutoCorrect, AutoFormat, AutoCalc, AutoComplete</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Reducing steps</a:t>
            </a:r>
            <a:r>
              <a:rPr b="0" lang="en-US" sz="1000" spc="-1" strike="noStrike">
                <a:solidFill>
                  <a:srgbClr val="000000"/>
                </a:solidFill>
                <a:latin typeface="Times New Roman"/>
                <a:ea typeface="Times New Roman"/>
              </a:rPr>
              <a:t>. IntelliSense also breaks down a complex multi-step process and steps the user to step through the process by asking them a series of questions or providing choices.  Our award-winning Wizards, like the PrintMerge Wizard,  PivotTable Wizard, and AutoContent Wizard enable users to do things they never thought were possible.</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Discoverability</a:t>
            </a:r>
            <a:r>
              <a:rPr b="0" lang="en-US" sz="1000" spc="-1" strike="noStrike">
                <a:solidFill>
                  <a:srgbClr val="000000"/>
                </a:solidFill>
                <a:latin typeface="Times New Roman"/>
                <a:ea typeface="Times New Roman"/>
              </a:rPr>
              <a:t>.  With Office 95, we invested the most in discoverability.  This is the process of making things intuitive enough, or provide enough guidance that users can discover features on their own. With our research on user assistance we’ve found that most users never even open a book and in training classes it’s now unusual for users to remember, at most, three or four specific features. Tool Tips and Tip Wizards, and the revolutionary AnswerWizard are providing orientation and assistance within the computer program itself.  It’s a new direction for Microsoft that requires the software to learn and understand more about how each individual works.</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goal of IntelliSense is to enable users to focus on their work--to add value in the content --and have the software do more of the “process”  work it has the power to do.</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We’re continuing to advance IntelliSense with exciting new features in Office 95.</a:t>
            </a:r>
            <a:endParaRPr b="0" lang="en-US" sz="12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ffice95, we focused on IntelliSense to advance it in 3 major areas: Anticipating, personalizing and assisting.</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nticipating</a:t>
            </a:r>
            <a:r>
              <a:rPr b="0" lang="en-US" sz="1000" spc="-1" strike="noStrike">
                <a:solidFill>
                  <a:srgbClr val="000000"/>
                </a:solidFill>
                <a:latin typeface="Times New Roman"/>
                <a:ea typeface="Times New Roman"/>
              </a:rPr>
              <a:t>.  “Do what I mean” features in Office 95. A great example of this is background AutoFormat.  Now with Word 7.0, if you start to type a bullet point by using an asterisk after you hit the ‘return’ key, AutoFormat will automatically turn the asterisk into a bullet point.  The product understands the users intent and produces what they would have done.  AutoComplete in Excel is another example.  Based on the values that a user has input in a column, the computer anticipates what the user is typing and will automatically complete the entry for you.</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Personalization</a:t>
            </a:r>
            <a:r>
              <a:rPr b="0" lang="en-US" sz="1000" spc="-1" strike="noStrike">
                <a:solidFill>
                  <a:srgbClr val="000000"/>
                </a:solidFill>
                <a:latin typeface="Times New Roman"/>
                <a:ea typeface="Times New Roman"/>
              </a:rPr>
              <a:t>.  With Office 95, some features will become customized based on how you use the software.  For example, AutoCorrect can be trained by watching how you like to write certain words or acronyms and will add them automatically to your AutoCorrect list in a special “exceptions” area.  Features, such as PickList in Excel95, also learn what you’ve input into a worksheet and provide you with shortcut lists of your own entries.</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ssistance</a:t>
            </a:r>
            <a:r>
              <a:rPr b="0" lang="en-US" sz="1000" spc="-1" strike="noStrike">
                <a:solidFill>
                  <a:srgbClr val="000000"/>
                </a:solidFill>
                <a:latin typeface="Times New Roman"/>
                <a:ea typeface="Times New Roman"/>
              </a:rPr>
              <a:t>.  We’ve spent most of our development effort on assistance.  Our R&amp;D group has invested a lot of resources in natural language,  which is the idea that a computer should understand the content and structure of how humans speak.  Along those lines, we have added natural language capabilites to Office95 in the Answer Wizard.  The AnswerWizard is a new form of help which can understand complete English sentences.  For example, asking it to “show me how to make things bold” will return suggestions and even demos of how to do that function in the produc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ffice 4.x, we added a feature called Tool Tips, which would give a users a short description of a feature when they held the mouse cursor over a toolbar,.  Now, we have that “browse” mode in all elements of the product with our new Screen Tips.  If a user hesitates at any point, pointing at object will automatically pop up a description with information on what that element i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se features are shared across all applications in our Office family.  With IntelliSense technology, Office95 make is possible to focus on your work, not you softwar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571212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Arial"/>
                <a:ea typeface="Arial"/>
              </a:rPr>
              <a:t>Microsoft Office 95 is </a:t>
            </a:r>
            <a:r>
              <a:rPr b="1" lang="en-US" sz="1000" spc="-1" strike="noStrike" u="sng">
                <a:solidFill>
                  <a:srgbClr val="000000"/>
                </a:solidFill>
                <a:uFillTx/>
                <a:latin typeface="Arial"/>
                <a:ea typeface="Arial"/>
              </a:rPr>
              <a:t>the</a:t>
            </a:r>
            <a:r>
              <a:rPr b="1" lang="en-US" sz="1000" spc="-1" strike="noStrike">
                <a:solidFill>
                  <a:srgbClr val="000000"/>
                </a:solidFill>
                <a:latin typeface="Arial"/>
                <a:ea typeface="Arial"/>
              </a:rPr>
              <a:t> software for Windows 95.</a:t>
            </a:r>
            <a:endParaRPr b="0" lang="en-US" sz="1000" spc="-1" strike="noStrike">
              <a:solidFill>
                <a:srgbClr val="000000"/>
              </a:solidFill>
              <a:latin typeface="Arial"/>
            </a:endParaRPr>
          </a:p>
          <a:p>
            <a:pPr indent="0">
              <a:lnSpc>
                <a:spcPct val="90000"/>
              </a:lnSpc>
              <a:spcBef>
                <a:spcPts val="961"/>
              </a:spcBef>
              <a:buNone/>
            </a:pPr>
            <a:r>
              <a:rPr b="1" lang="en-US" sz="900" spc="-1" strike="noStrike">
                <a:solidFill>
                  <a:srgbClr val="000000"/>
                </a:solidFill>
                <a:latin typeface="Times New Roman"/>
                <a:ea typeface="Times New Roman"/>
              </a:rPr>
              <a:t>Verbal Poin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Times New Roman"/>
                <a:ea typeface="Times New Roman"/>
              </a:rPr>
              <a:t>Windows 95 may be the most significant thing ever to happen in the industry. And it’s a great new opportunity for easier and more powerful PCs, peripherals, and applications.</a:t>
            </a:r>
            <a:r>
              <a:rPr b="1"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Supporting key advances in Windows95 was one of our main areas of development in Office 95.  </a:t>
            </a:r>
            <a:endParaRPr b="0" lang="en-US" sz="900" spc="-1" strike="noStrike">
              <a:solidFill>
                <a:srgbClr val="000000"/>
              </a:solidFill>
              <a:latin typeface="Arial"/>
            </a:endParaRPr>
          </a:p>
          <a:p>
            <a:pPr indent="0">
              <a:lnSpc>
                <a:spcPct val="90000"/>
              </a:lnSpc>
              <a:spcBef>
                <a:spcPts val="961"/>
              </a:spcBef>
              <a:buNone/>
            </a:pPr>
            <a:r>
              <a:rPr b="0" lang="en-US" sz="900" spc="-1" strike="noStrike" u="sng">
                <a:solidFill>
                  <a:srgbClr val="000000"/>
                </a:solidFill>
                <a:uFillTx/>
                <a:latin typeface="Times New Roman"/>
                <a:ea typeface="Times New Roman"/>
              </a:rPr>
              <a:t>Easy and Integrated</a:t>
            </a:r>
            <a:br>
              <a:rPr sz="2000"/>
            </a:br>
            <a:r>
              <a:rPr b="0" lang="en-US" sz="900" spc="-1" strike="noStrike">
                <a:solidFill>
                  <a:srgbClr val="000000"/>
                </a:solidFill>
                <a:latin typeface="Times New Roman"/>
                <a:ea typeface="Times New Roman"/>
              </a:rPr>
              <a:t>Our systems and applications group have a shared vision of computing—our applications group often invents user interface or functions that are later made part of the operating system (example:  OLE, tab dialog boxes).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Long File Names</a:t>
            </a:r>
            <a:r>
              <a:rPr b="0" lang="en-US" sz="900" spc="-1" strike="noStrike">
                <a:solidFill>
                  <a:srgbClr val="000000"/>
                </a:solidFill>
                <a:latin typeface="Times New Roman"/>
                <a:ea typeface="Times New Roman"/>
              </a:rPr>
              <a:t>: Of couse one often talked about benfit of Windows 95 is ability to sue long filenames—and we’re taking our integration with the system much farther:</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Common Design</a:t>
            </a:r>
            <a:r>
              <a:rPr b="0" lang="en-US" sz="900" spc="-1" strike="noStrike">
                <a:solidFill>
                  <a:srgbClr val="000000"/>
                </a:solidFill>
                <a:latin typeface="Times New Roman"/>
                <a:ea typeface="Times New Roman"/>
              </a:rPr>
              <a:t>: Some of the User Interface enhancements of Win 95 were actually pioneered in Office 4.0.  So if you’re an Office 4.0 user, you’re going to feel very comfortable in Win95. We’ve also strived to maintain consistency where possible: Our File open and File New dialogs are very consistent with that of the Win95 explorer.</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Systemsupport</a:t>
            </a:r>
            <a:r>
              <a:rPr b="0" lang="en-US" sz="900" spc="-1" strike="noStrike">
                <a:solidFill>
                  <a:srgbClr val="000000"/>
                </a:solidFill>
                <a:latin typeface="Times New Roman"/>
                <a:ea typeface="Times New Roman"/>
              </a:rPr>
              <a:t>: Office respects changes in system colors and metrics like changes in fonts or scroll bar size.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Integration</a:t>
            </a:r>
            <a:r>
              <a:rPr b="0" lang="en-US" sz="900" spc="-1" strike="noStrike">
                <a:solidFill>
                  <a:srgbClr val="000000"/>
                </a:solidFill>
                <a:latin typeface="Times New Roman"/>
                <a:ea typeface="Times New Roman"/>
              </a:rPr>
              <a:t>: Office 95 enables users to create shortcuts and scraps on the Win95 desktop, and drag and drop objects and information from one application to another via the Win95 taskbar. Office 95 also supports the use of the briefcase so you can “check out” files when you’re on the road. Access 95 also supports database replication through the briefcase.</a:t>
            </a:r>
            <a:endParaRPr b="0" lang="en-US" sz="900" spc="-1" strike="noStrike">
              <a:solidFill>
                <a:srgbClr val="000000"/>
              </a:solidFill>
              <a:latin typeface="Arial"/>
            </a:endParaRPr>
          </a:p>
          <a:p>
            <a:pPr indent="0">
              <a:lnSpc>
                <a:spcPct val="90000"/>
              </a:lnSpc>
              <a:spcBef>
                <a:spcPts val="961"/>
              </a:spcBef>
              <a:buNone/>
            </a:pPr>
            <a:r>
              <a:rPr b="0" lang="en-US" sz="900" spc="-1" strike="noStrike" u="sng">
                <a:solidFill>
                  <a:srgbClr val="000000"/>
                </a:solidFill>
                <a:uFillTx/>
                <a:latin typeface="Times New Roman"/>
                <a:ea typeface="Times New Roman"/>
              </a:rPr>
              <a:t>Performace</a:t>
            </a:r>
            <a:br>
              <a:rPr sz="2000"/>
            </a:br>
            <a:r>
              <a:rPr b="0" lang="en-US" sz="900" spc="-1" strike="noStrike">
                <a:solidFill>
                  <a:srgbClr val="000000"/>
                </a:solidFill>
                <a:latin typeface="Times New Roman"/>
                <a:ea typeface="Times New Roman"/>
              </a:rPr>
              <a:t>We thought it was very important to continue developing our applications on today’s machine footprints.  We spent 25% of our development resources focused on performance itself—how we take advantatge of 32 bit, and in particular how to use system resources better.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Native 32-bit applications</a:t>
            </a:r>
            <a:r>
              <a:rPr b="0" lang="en-US" sz="900" spc="-1" strike="noStrike">
                <a:solidFill>
                  <a:srgbClr val="000000"/>
                </a:solidFill>
                <a:latin typeface="Times New Roman"/>
                <a:ea typeface="Times New Roman"/>
              </a:rPr>
              <a:t>: Office 95 will able be native 32 bit applications.  Most of the advantages with 32 bit applications is how we compiled our applications which allow us to get higher performance with spot tuning and keeping parts of the file most readily available in memory.  This is our second generation of 32-bit applications (Word and Excel for NT have been shipping since fall 94) so you benefit from our experience with better performance.  [note: 32 bit vs. 16 bit - we have no plans for 16 bit, however, we’ve done our work to make sure that it is completely compatible so that it is a smooth transition]</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System resources, robustness</a:t>
            </a:r>
            <a:r>
              <a:rPr b="0" lang="en-US" sz="900" spc="-1" strike="noStrike">
                <a:solidFill>
                  <a:srgbClr val="000000"/>
                </a:solidFill>
                <a:latin typeface="Times New Roman"/>
                <a:ea typeface="Times New Roman"/>
              </a:rPr>
              <a:t>: With Office 4.0, you would quickly run out of system resources (the 64K system heap) if you were running 2 applications simultaneously and doing a lot of graphic intensive tasks.  Now, with the way we run system resources with Office95/Windows95, we put a smaller place holder in the system resource heap.  In test situations, we’ve run</a:t>
            </a:r>
            <a:r>
              <a:rPr b="0" lang="en-US" sz="10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6 applications at once and still have 40% of your system resources still available. On average, you’ll be able to double the number of applications you can run simultaneously.</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Multi-tasking, multi-threading</a:t>
            </a:r>
            <a:r>
              <a:rPr b="0" lang="en-US" sz="900" spc="-1" strike="noStrike">
                <a:solidFill>
                  <a:srgbClr val="000000"/>
                </a:solidFill>
                <a:latin typeface="Times New Roman"/>
                <a:ea typeface="Times New Roman"/>
              </a:rPr>
              <a:t>: We also spend a lot of time figuring out how to best use a multi-tasking environment and adding threads to applications where appropriate.  **Important to note if you get multi-threading question -- Recalc is not a thread:   the algorithm runs slower in a multi-threading environment, so instead we’ve rewritten the recalc engine to be full 32-bit, which is 50% faster**  Key threads are print,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Performance meets or exceeds Office 4.X</a:t>
            </a:r>
            <a:r>
              <a:rPr b="0" lang="en-US" sz="900" spc="-1" strike="noStrike">
                <a:solidFill>
                  <a:srgbClr val="000000"/>
                </a:solidFill>
                <a:latin typeface="Times New Roman"/>
                <a:ea typeface="Times New Roman"/>
              </a:rPr>
              <a:t>: It’s important to note that for a lot of people, this is going to be the easiest migration ever and the most obvious choice because performance meets or exceeds Office 4.x in almost every situation.</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Arial"/>
                <a:ea typeface="Arial"/>
              </a:rPr>
              <a:t>We’re making the move to Office 95 easier than ever.</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recognize that it requires a lot of time and investment just to migrate or change your operating system or applications.  With this release, we’ve done everything we possible can to make the migration as smooth as possibl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tibility: </a:t>
            </a:r>
            <a:br>
              <a:rPr sz="1000"/>
            </a:br>
            <a:r>
              <a:rPr b="0" lang="en-US" sz="1000" spc="-1" strike="noStrike">
                <a:solidFill>
                  <a:srgbClr val="000000"/>
                </a:solidFill>
                <a:latin typeface="Times New Roman"/>
                <a:ea typeface="Times New Roman"/>
              </a:rPr>
              <a:t>Another thing we are doing is making our next release compatible with Office 4.x. Unlike redesigning of menus experienced in Office 4.X there are no major changes, less extra learning involved. The file format for Word and Excel is identical to Office 4.0, so there will be no conversion issues.  Users of Office 95 will be able to share files seamlessly with users of Office 4.0.  We’re shipping an installable file converter for PowerPoint which will provide backward compatibility. (note:  With Access 7.0, the file format “.mdb” will be changing forms because it is a major architectural release.  Users of Access 7.0 will have no problem accessing Access 2.0 mdbs, however previous users won’t be able to read datafiles created in the new format)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nfiguration:</a:t>
            </a:r>
            <a:br>
              <a:rPr sz="1000"/>
            </a:br>
            <a:r>
              <a:rPr b="0" lang="en-US" sz="1000" spc="-1" strike="noStrike">
                <a:solidFill>
                  <a:srgbClr val="000000"/>
                </a:solidFill>
                <a:latin typeface="Times New Roman"/>
                <a:ea typeface="Times New Roman"/>
              </a:rPr>
              <a:t>A key area is improvements to install, setup and administration. Office for Windows95 has an Network Installation Wizard which steps you through the process of building a network script that allows you to install applications across the network in a standardized manner.We’re working to make Systems Management Server support for Off 95/extra file converters, utilities, etc. after release of the produc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ransition:</a:t>
            </a:r>
            <a:br>
              <a:rPr sz="1000"/>
            </a:br>
            <a:r>
              <a:rPr b="0" lang="en-US" sz="1000" spc="-1" strike="noStrike">
                <a:solidFill>
                  <a:srgbClr val="000000"/>
                </a:solidFill>
                <a:latin typeface="Times New Roman"/>
                <a:ea typeface="Times New Roman"/>
              </a:rPr>
              <a:t>We are also providing transition support in order to reduce the time and investment in progressing to a new version.  We will have an Office Resource Kit which provide valuable information and tools for people implementing windows in the network and across the enterprise. And we will be providing VAR certification on Office so you can get help with setup and administration.</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We’re making the move to Office 95 easier than ev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Times New Roman"/>
                <a:ea typeface="Times New Roman"/>
              </a:rPr>
              <a:t>Office links provides a unified desktop work environment.</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Links is about sharing information easily between applications and creating a seamless environment with a consistent look...a seamless integration between Office Links, OLE2, mix text, data, graphics, and notes in PowerPoint.  We have shared coded--reusable components with  enhance consistency and resource efficiency... examples include autocorrect, clip art, mapping, and graph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links is our technology that bridges applications and enables them to share information and tools.  There are three major objectives with OfficeLinks:</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Consistent look and feel</a:t>
            </a:r>
            <a:r>
              <a:rPr b="0" lang="en-US" sz="1000" spc="-1" strike="noStrike">
                <a:solidFill>
                  <a:srgbClr val="000000"/>
                </a:solidFill>
                <a:latin typeface="Times New Roman"/>
                <a:ea typeface="Times New Roman"/>
              </a:rPr>
              <a:t>.  Using a consistent user interface significantly reduces training and support costs. Three months after a major corporation in St. Louis, MO transitioned from Office 3.x to Office 4.x they found that their support costs dropped by 25%.  They credit most of the reduction to the fact that the applications were so consistent, making them easier to learn and us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last area is integration, making the applications work as tightly as possible so they seem like the same software. OLE technology provides the groundwork for integration.  All Microsoft applications support all elements of the OLE 2.0 specification (Linking, Embedding, Cross-app drag and drop, In context menus, In place editting, OLE automation, Doc Objects, Custom Properties), but then we also do additional work to add own own customized links (such as Excel tables in Word).  This allows you to mix text, data and graphics together and allows you to create a unified work environ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lso spend a lot of development effort on shared code; code that can be re-used as a component in all our applications.  This has 2 major benefits - it helps with the making the applications more consistent as well as making them more efficienct. Applications use the same features and functions across all applications, requiring less disk space when you are running them together.</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links provides a unified desktop work environ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537084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Integration is becoming even tighter with Office95.</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ith OfficeLinks in Office95, we’re continuing to advance the shared code. Now we have an office.dll file where shared code resides - so it is only written once to your hard drive and all applications can use those functions.  Functions that reside in Office.dll are features like AutoCorrect and even common features like File Open and File New.</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re introducing another common component in Office95: Mapping.  That adds to our stable of other common components such as graph, spell check, etc.  Mapping will enable you to portray geographic data like sales by region, etc.</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re also improving integration.  For example, you will be able to turn Excel file into a full, relational Access database with the Convert to Access Wizar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ther areas that we’ve improved include Schedule+ and Word integration.  Specifically, the address book within MS Word will allow you to pick from Schedule+ contact manager list or MS Mail.  Also, Bookshelf has a great new called Address Builder, which will help you complete common details like zip code for any address in the U.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continued to expand our OLE support.  Particularly, we are advancing it on 2 different fronts.  One is Doc Objects which will enable you to use applications as features within other applications.  An illustration of Doc Objects is new WordMail, which enables you  to  use Word as your email editor right within Microsoft Mail.  One of the key Office advances with our 95 releases is a new file format, Office Binders.  Think of it as a workbook, that allows you to have each page a differnt type of document.  For example, one page can be a Microsoft Word report, the next the sales figures in Microsoft Excel, etc. So you can store all your work for one topic in one area, number it sequentially and print it all out at once as a single fil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ther key OLE area is Custom OLE properties.  Custom Properties enables a user to define what is important about a file and promote that as a field within another document or file. The summary info detail when you save a file (title, topic, author, key words, etc.) are defined as custom properties and can be automatically exported to another OLE 2.0 application, such as Microsoft Exchange, to create a document library.  You shouldn’t just skip over that screen because it can save a lot of time and effort in the futur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ther examples of Custom properties:  Fast Find , or exporting Excel expense report fields to create department summary inf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Links will continue to be a major area of technology evolution in our coming releases in order to create a unified work environ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0">
              <a:lnSpc>
                <a:spcPct val="90000"/>
              </a:lnSpc>
              <a:spcBef>
                <a:spcPts val="961"/>
              </a:spcBef>
              <a:buNone/>
            </a:pPr>
            <a:r>
              <a:rPr b="0" lang="en-US" sz="1200" spc="-1" strike="noStrike">
                <a:solidFill>
                  <a:srgbClr val="000000"/>
                </a:solidFill>
                <a:latin typeface="Times New Roman"/>
                <a:ea typeface="Times New Roman"/>
              </a:rPr>
              <a:t>Today we’ll discuss where we’re headed with Microsoft Office.</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First, we’ll look at the Office Suite market—where it is today, and where it’s headed in the future.</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Then I’ll explain our development strategy and approach.</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And the key technologies used in Microsoft Office for Windows 95.</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As we go through this information, we’ll show part of the products and give examples.</a:t>
            </a:r>
            <a:endParaRPr b="0" lang="en-US" sz="1200" spc="-1" strike="noStrike">
              <a:solidFill>
                <a:srgbClr val="000000"/>
              </a:solidFill>
              <a:latin typeface="Arial"/>
            </a:endParaRPr>
          </a:p>
          <a:p>
            <a:pPr marL="173160" indent="0">
              <a:lnSpc>
                <a:spcPct val="90000"/>
              </a:lnSpc>
              <a:spcBef>
                <a:spcPts val="961"/>
              </a:spcBef>
              <a:buNone/>
            </a:pPr>
            <a:r>
              <a:rPr b="0" lang="en-US" sz="1200" spc="-1" strike="noStrike">
                <a:solidFill>
                  <a:srgbClr val="000000"/>
                </a:solidFill>
                <a:latin typeface="Times New Roman"/>
                <a:ea typeface="Times New Roman"/>
              </a:rPr>
              <a:t>I’ll leave room at the end for questions, but if you don’t hesitate to ask one as we go through.</a:t>
            </a:r>
            <a:endParaRPr b="0" lang="en-US" sz="1200" spc="-1" strike="noStrike">
              <a:solidFill>
                <a:srgbClr val="000000"/>
              </a:solidFill>
              <a:latin typeface="Arial"/>
            </a:endParaRPr>
          </a:p>
          <a:p>
            <a:pPr marL="173160"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1454436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Compatible enables other products to become part of the Office family.</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extends our Office family to products created by companies other than Microsoft.  We provide integration and consistency toolkits so other applications that are specific to a company’s needs can also be snapped into a complete solu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licenses the right to use the common interface design elements of Microsoft Office.  These applications in the Office compatible program can “work” like Office.  We also provide better integration with OfficeLinks, like Binders.  Through the Office Program, our outside partners can become a page in a Binder just as easily as any of the Office family products.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had tremendous interest in the Office Compatible program.  Over 60 Companies and 115 products have enrolled for the 95 program in the US, bringing the total number of companies participating in version 1 and version 2 of the Office Compatible Program to over 200 companies worldwide.  There are currently over 45 certified Office Compatible Products shipping.</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is open to corporate MIS as well as ISVs and it is a great development environment for people who are creating add-ons or customized solutions.  When you join the program, you will receive the Basic Toolkit, which contains all of the information necessary to build an Office Compatible application.  There’s no charge to join the program.  For those who are interested in receiving additional technical information and providing tighter integration with Office, we offer the Advanced Development kit for $500.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lso offer an Office Compatible Logo for use on product boxes, marketing materials, and advertisements. Companies that wish to use the logo must first pass their product through compliance testing at VeriTest, an independent testing agency. VeriTests standard testing fee is $600 for an English-language product and $800 for any other languag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pecifications are currently available in English, German and French.  We are in the process of expanding this to include Spanish, Italian, Brazilian Portuguese, Dutch, Danish, Swedish, Norwegian, Japanese, Traditional Chinese, and Korean.  Specifications are available on both the Windows and Machintosh platform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DEMO OFFICE BINDERS AND INTEGRATION FEATUR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ain point:  Office Compatible enables other products to become par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 the Office family.</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extends our Office family to products created b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nies other than Microsoft.  We provide integration a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nsistency toolkits so other applications that are specific to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ny’s needs can also be snapped into a complete solu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licenses the right to use the comm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rface design elements of Microsoft Office.  These applications 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can “work” like Office.  We als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vide better integration with OfficeLinks, like Binders.  Throug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Program, our outside partners can become a page in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inder just as easily as any of the Office family product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had tremendous interest in the Office Compatible program, wit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ver 200 companies participating worldwid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is open to corporate MIS as well as ISVs and it 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 great development environment for people who are creating add-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r customized solutions.  When you join the program, you will receiv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Basic Toolkit, which contains all of the information necessary t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ild an Office Compatible application.  There’s no charge to jo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program.  For those who are interested in receiving additional</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echnical information and providing tighter integration with Offi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offer the Advanced Development kit for $500.  There is also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eparate testing fee for those who want to display the Offi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tible Logo.  VeriTests standard testing fee is $600.</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ducts are currently available in English, German and French and 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indows and Mac.  We are in the process of expanding this t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panish, Italian, Brazilian Portuguese, Dutch, Danish, Swedis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Norwegian, Japanese, Traditional Chinese, and Korean.</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DEMO OFFICE BINDERS AND INTEGRATION FEATUR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9000"/>
              </a:lnSpc>
              <a:spcBef>
                <a:spcPts val="961"/>
              </a:spcBef>
              <a:buNone/>
            </a:pPr>
            <a:r>
              <a:rPr b="1" i="1" lang="en-US" sz="1000" spc="-1" strike="noStrike">
                <a:solidFill>
                  <a:srgbClr val="000000"/>
                </a:solidFill>
                <a:latin typeface="Times New Roman"/>
                <a:ea typeface="Times New Roman"/>
              </a:rPr>
              <a:t>Robbieb’s verbal points:</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Robbie did not discuss this slide in detail).</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Office 95 allows you to communicate in a connected world with information exchange over networks and on-lin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Hidden slide:  for drill down on support for open API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LE:  application integration and compone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DBC:  data access and query to any database backe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API: messaging and collaboration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GML/HTML:  standard document text and graphical layout; WWW file forma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X:  Notes field exchange (not an open API, but partially expose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95 will provide key advances in information exchang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95 will bring a number of information exchange advances, both in the area of application features as well as how we support key backend technologie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building functionality into the apps themselves, we’ve added a number of features that make our applications work well in common collaborative scenarios.  The one I use most often is WordMail--which I mentioned before--which enables you to use Microsoft Word as your email editor within Microsoft Mail or Exchange.  Post to Exchange is a feature in all our applications which enables you to save files to an Exchange database.  Other areas that we are pioneering include: shared lists in Excel, which allows multiple users simultaneous access to a workbook, enabling them to input their data into a single list; extentions to Word’s annotation capabilities which makes it easier to have multiple people comment on a document; and custom properties (such as summary info mentioned previous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ur applications also support key server technologies. We’ll have strong ties to Microsoft Mail and Microsoft Exchange server, including WordMail, post to Exchange, custom properties, etc.  We are also support group scheduling through MS Schedule+, which is now a part of Office 95.  And, we’ve developed features using the Notes API since Office 4.0, with F/X support in Microsoft Word and Microsoft Excel.   Microsoft applications are important components to any workgroup solut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Microsoft supports key internet technologies for information exchang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ilt-in functions in th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o provide the greatest potential for information exchange, we have built in on-line and internet access for our desktop applications.  Recently we began shipping Microsoft Word Internet Assistant (March 95), which allows you to connect and browse the World Wide Web and pull down information into Word directly from the Word menus using our new “browse Web” comma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ll be going on-ling with an Office Forum on Microsoft Network with a home page that provides people access to the information they need on the Microsoft Office family of applicati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rder to help break down barriers in exchanging files with others, we’ll ship viewers for both Word and Excel (shortly after Office 95).  The viewer allows people who do not have Word or Excel to view Word and Excel files, much like the PowerPoint viewer does tod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nally, as another example of our on-line support, PowerPoint 7.0 will have Presentation Conferencing which allows you to put a presentation file on the network and view it simultaneously with other users on-line.  One key capability that has been added is the “John Madden” feature which allows you to draw directly on the PowerPoint slide in slideshow mode and view the slide “real time” on the other end.</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upport Key Technologies and Service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s I’ve noted, we’ll support the World Wide Web and viewing information in HTML format.  Another exciting addition to the on-line family is Microsoft Network. One of the things you’ll note is the potential it has to change our interactions with our customers:  with Office 95 we’ll provide customer support and answers to top PSS questions directly within our products through Microsoft Network.</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Microsoft Office is a robust business solutions development environ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hen considering a technology platform for building business solutions, it’s important to realize that an ideal applications environment provides more than a common programming language.  A programming language is only one of three critical compone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rst: a common programming language.  Microsoft has invested in Visual Basic technology as our programming language.  It is our complete programming environment, available separately as Visual Basic for compiling code and writing your own executables.  In addition, it is the internal programming (and macro) language internal to Microsoft applications.  In fact, one of the best ways to learn Visual Basic is to run “Record Macro” in Excel, create your own macro by clicking on feature buttons or menu commands, and then turn off “record macro”.  You’ll actually see the Visual Basic syntax and macro construct on the Excel macro shee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econd: programmatic access to objects.  Once you have a common programming language, you need to have a way that enables applications to utilize functions in other applications.  Let me give you an example:  you may want to create a solution in Excel that analyzes your sale, then format the output in a Word document for a final report.  The technology that we use to support cross-application calls is OLE Automation, which is part of the OLE 2.0 spec.  All of Microsoft Office applications are  OLE automation-enabled (i-Dispatch commands are written at different points in the applications, which expose that functionality to other). So in this example, you would be able to execute a VBA command from within Excel that uses OLE automation to put Excel data into a Word page layout.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ird: a rich object model.  One of the key benefits to application programming is customizing or re-using existing components.  We created a rich object model for Excel and Project so application functions, such as pivot tables in Excel, are exposed to be used in a programmed solution. The object model has been designed so it has a hierarchy that is both powerful and easy to understand.  This significantly reduces the amount of time and lines of code it takes to create custom solutions. I like to think of Office as the best 3 million lines of re-usable code; customers can leverage their development efforts using Microsoft Office features and func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Deliotte &amp; Touch (D&amp;T) a Big Six accounting firm has over 50,000 professionals in 108 countries providing management consulting, accouting, auditing and tax services to business organizations worldwide.</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Using Microsoft Office and Multimedia Viewer, D&amp;T developed an automated, multimedia publishing system that delivers a set of methods and tools with computer-based training to guide consultants and clients through every stage of client/server system development cycle.  The CD replaces a 12,000 page doucmentation manual created in a variety of file formats.</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IT professionals build reference materials in Word, PPNT and Excel, using style sheets, outline standards and prompts to ehsure document standards are maintained.   All of the files are stored in an Access repository in native format.</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OLE is used to incorporate text, graphics, spreadsheet tables and other media files.  Navigation paths arte automatically detrmined and stroed as MSFT Viewer program statements in the footnotes section of the compound documents.  Using VBA, the electronic guidebook and all source files are automatically combined into a CD-ROM image and copied to a master for duplication.</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solution delivers infomraiton to consultants at less than 1/3 the cost —a saving of over $1.5 million/year.</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Creating the documentation has been cut 90% (from 40 hours to only 4)</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Proofing and review efforts have been cut in half, from 60 days to 30.</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Consultants have access to all of the documents on-line, where ever they travel.  Consultants can navigate through guidebooks electronically.  When an appropriate topic is found, the file can be opened in native format.  Previously, the consultant needed to access infromation from the 15,000 page manuals and request “live docum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Business Process Management System (BPMS) provides each dealership with a client/server local area network (LAN) running Windows NT Server. Windows for Workgroups-based clients run Microsoft Office and BPMS, a custom C++ multimedia application with 30+ modules that address all of the dealer and buyer aspects of automobile purchase and ownership. Full motion video, CD-quality audio and photo-realistic images are developed by Rover and distributed via CD-ROM for use in each showroom client. </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Sitting at a workstation with a salesperson alongside, a prospective buyer uses the configuration module to custom configure a Rover to his or her personal tastes and requirements. The system uses the attributes selected by the customer to display images of the exact vehicle that will be delivered.  Other modules provide financing, trade-in (part exchange) valuation, sales proposal, and vehicle ordering functions. BPMS also includes dealership infrastructure modules, such as a service module that links to TestBook, a laptop-based application used to diagnose vehicle problems by communicating through a test cable connected to a diagnostics module in the car.  Other modules assist the salesperson in prospecting and contact management, and the dealership in managing demonstration vehicles and used car inventory and sales.</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Through BPMS, Rover guarantees delivery to a customer anywhere in Europe within 15 days. If the vehicle is already in stock, delivery is within three days in the UK and within 10 days to anywhere else in Europe. If the vehicle is not in stock, BPMS dynamically uploads the order into the manufacturing process, which then produces the car within five days.</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ccording to BPMS Program Manager Chris Slater, “Dealerships that have implemented BPMS have reported double the profitability for each sale over dealerships (owned by the same franchise) that have not. </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Customer satisfaction has increased from 90%-95% to an average of 98.2%, and five categories of the survey scored a perfect 100%. We also know that dealers that have BPMS now rank in the top 1% nationwide in customer satisfaction.</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More importantly, BPMS is a key element in a major paradigm shift at Rover —a shift from selling-to-stock to just-in-time (JIT) manufacturing. If the right infrastructure is in place the approach is simple: reduce the dealership stock until the supply is gone and switch over to real-time order slotting and JIT vehicle delivery.”</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The homogeneous environment with Office’s unified user interface makes it much easier for client software developers and server software developers to work together to develop solutions that their customers and dealers can use to increase the value of the Rover marquee.</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Solution impacts 10,000 desktops, 2000 severs (Select agreement executed)</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The State of Iowa Department of Human Services (DHS) provides social and health services to residents through 103 field offices in 99 counties. To comply with a federal mandate that all states must have an automated foster care and adoption information system in place by October 1996, and to automate a number of highly manual, paper-based processes, the DHS Division of Data Management is working with Microsoft Solution Provider AT&amp;T GIS to implement the DHS Enterprise Network. (Intel-based AT&amp;T LAN server running Windows NT Server &amp; PCs running Windows for Workgroups, Microsoft Office, and a 3270 emulation application and FACS (Family and Children Services application).</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Traditionally, clients would request an interview, complete a 15 page form and wait - upwards of 30 days for benefits to be determined.  In some cases, information is sent to a cnetral location for data entry, verification and then returned to case worker in hard copy. </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Now data is entered via (2)Access 2.0 forms and run through X-PERT — a knowledge based software package based on 3500 rules and policies.  A benefit report is automatically produced for clients approval.</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Intial form cut from 15 pages to 2 (an 87% reduction in paperwork)</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According to Lorrie Tritch, DHS IS Administrator, "We’ll be able to pull a number of disparate information systems together into a single environment and share that information not only among ourselves, but also with other state and federal agencies. This should help streamline operations, eliminate redundant activities and ultimately serve our clients in a more expedient fashion."</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3400 workstations and 140 servers affected</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71600" y="768240"/>
            <a:ext cx="5029200" cy="3767400"/>
          </a:xfrm>
          <a:prstGeom prst="rect">
            <a:avLst/>
          </a:prstGeom>
          <a:ln w="0">
            <a:noFill/>
          </a:ln>
        </p:spPr>
      </p:sp>
      <p:sp>
        <p:nvSpPr>
          <p:cNvPr id="3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95 will be a significant step forward in our applications development platform.</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95 will have second-generation OLE 2.0  support, enhanced with Doc Objects as well as custom OLE properties.  We’ve also focused on improving performance in OLE (optimizing our use of OLE.dll, including saving without closing and not accessing OLE.dll when we don’t have to).  We are extending container and OLE automation support within Office, in applications such as Access.  Finally, we’re improving fit and finish in functions such as visual editing which will make using multiple applications faster and with smoother transitions, creating a more seamless environme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re also expanding our VBA support in Office 95.  We are expanding the power and potential of VBA solutions by implementing it as the programming language within Access.  Now, our most important application development environments, Excel and Access, both have VBA as well as Project (note: Word will have VBA and a complete object model in Office96, but is already enabled with OLE automation).</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bject models will be extended with Office 95. PowerPoint will ship with an Object Model, which makes PowerPoint objects more accessible for custom solutions. We are also enhancing existing object models of Excel, Project, Schedule+ and Access with new features and exposing areas that were not assessible.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Extensible architecture.  OCX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Market growth—suite sales as a percentage of Word Processing versus stand alones</a:t>
            </a:r>
            <a:endParaRPr b="0" lang="en-US" sz="14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This slide summarizes a market trend which has been predominant over the last few year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It shows suite sales as a percentage of Word Processing versus stand alone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3 years ago less then 20 percent of applications sold as a part of a suite—now over 60 percent!  Even with a natural leveling off in this trend this a dramatic change in the way peoplepurchase product.</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The Office Suite market has taken off since 1993.  This chart demonstrates how suite sales have become an increasing % of word processor and spreadsheet sales. These are industry wide numbers and are based on worldwide unit sal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71600" y="768240"/>
            <a:ext cx="5029200" cy="3767400"/>
          </a:xfrm>
          <a:prstGeom prst="rect">
            <a:avLst/>
          </a:prstGeom>
          <a:ln w="0">
            <a:noFill/>
          </a:ln>
        </p:spPr>
      </p:sp>
      <p:sp>
        <p:nvSpPr>
          <p:cNvPr id="3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icrosoft Office helps you create solutions for your business that help you make better decisions more quickly. When combined  with Microsoft’s flexibility for the future, it makes your investment in Office a smart on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y creating solutions in Office, you have access to the award winning software tools to help you analyze your business: the Microsoft Excel’s PivotTable™ dynamic views and financial analysis tools, Microsoft  Access database capabilities, Word’s document creation, PowerPoint’s communication tools, and Microsoft  Project’s project management.  These tools can be used in their standard “out of the box” format, or customized for your particular need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ccording to a Gartner Group study in 1993, there is a 34-month backlog of application creation in corporate MIS in the United States.  That would probably be even bigger if we were able to count the requests that people don’t make because the backlog is so big! With business cycles becoming shorter and shorter (some people estimate 18 months), that backlog creates a serious problem in being able to make well informed business decisions.  With Microsoft Office, you have the tools, both in the shape of the programs themselves and in their development capabilities, to shorten that backlog and create solutions for your business much more quick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terms of flexibility for the future - all of the above would be negated if our technology became outdated each time we come out with a new version of our products.  By supporting open standards such as ODBC, OLE, MAPI and others, Microsoft’s tools have a much longer life than that of the current version. In addition, Microsoft invests enormous amounts in development and research, and will use that research to ensure the best technology in it’s produc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9000"/>
              </a:lnSpc>
              <a:spcBef>
                <a:spcPts val="961"/>
              </a:spcBef>
              <a:buNone/>
            </a:pPr>
            <a:r>
              <a:rPr b="1" lang="en-US" sz="1200" spc="-1" strike="noStrike">
                <a:solidFill>
                  <a:srgbClr val="000000"/>
                </a:solidFill>
                <a:latin typeface="Arial"/>
                <a:ea typeface="Arial"/>
              </a:rPr>
              <a:t>Market growth effects on Microsoft Office—same data but Microsoft only numbers</a:t>
            </a:r>
            <a:endParaRPr b="0" lang="en-US" sz="12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Here we see the trend even  more pronounced and at a higher level increase from Suite versus percentage of Word Processors.  This can be attributed to:</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Microsoft’s early entry into this market</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Microsoft has been pushing suites longer</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By 1993-94 with the release of Office 4.X—we had the products to help push this trend ahead</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Between 70 and 80 percent of Word processing and Spreadsheets from Microsoft are purchased through Office rather then stand alones.</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Same data for Microsoft.  Shows how we are ahead of the rest of the industr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Market share status for Microsoft (windows individual categories)  </a:t>
            </a:r>
            <a:endParaRPr b="0" lang="en-US" sz="12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Share increase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At the same time we’ve seen large shifts in the market and Microsoft Office mix, Microsoft applications have made significant market share gains in each individual application category. One thing to notice is the share for Access—this is market we were not even in 3 years ago.</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We are very fortunate to have customers who appreciate the product.</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is type of market share performance leads to third parties doing add on products and trainers focusing on products, giving you the benefit of more support for them and their implementation.  There is a really a sense in the market of Microsoft Office becoming a Standards platform.</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Commiment to this market</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We are very commited to this market and are going to continue to develop great products for a long time.</a:t>
            </a: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Microsoft Office applications have made significant market share gains in each individual application category. The most significant growth coming in the Spreadsheet and Word Processing categor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Microsoft development philosophy combines a unique knowledge of technology with an understanding of users.</a:t>
            </a:r>
            <a:endParaRPr b="0" lang="en-US" sz="12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efore getting into detail on Office95, let me give you some background on the development process at Microsoft. There are two elements to the development proces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rst, Microsoft has an advantage in our understanding of the potential of technology.  The applications division at Microsoft sits at the vortex of the industry, both contributing to and seeing new technology as it develops.  We understand the power of a set of diverse technologies such as on-line services, server services, administration, etc. and how it is important for people even trying to do simple tasks on their PCs.  Many of the developments of our applications division, such as OLE or tab dialogs, ends up as industry standards in the operating system.  Our expertise and ability enables us to bridge technologies and bring them to market more quickly than our competitors.  In fact, both on the Macintosh as well as on Windows, we tend to have an 18 month lead on implementing new technologi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t technology its own sake is not good enough. Unless we understand the way users work, we can’t deliver the vision of how technology can help.  So the majority of our development process is spent with users and organizations to determine how to bend technology towards the needs of the organization or us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icrosoft combines a strong knowledge and firm grasp of the potential of technology with a deep understanding of the way users work to deliver products that better meet the needs of the organization or us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5677560"/>
          </a:xfrm>
          <a:prstGeom prst="rect">
            <a:avLst/>
          </a:prstGeom>
          <a:noFill/>
          <a:ln w="0">
            <a:noFill/>
          </a:ln>
        </p:spPr>
        <p:txBody>
          <a:bodyPr lIns="0" rIns="0" tIns="0" bIns="0" anchor="t">
            <a:noAutofit/>
          </a:bodyPr>
          <a:p>
            <a:pPr indent="0">
              <a:lnSpc>
                <a:spcPct val="90000"/>
              </a:lnSpc>
              <a:spcBef>
                <a:spcPts val="961"/>
              </a:spcBef>
              <a:buNone/>
              <a:tabLst>
                <a:tab algn="l" pos="345960"/>
              </a:tabLst>
            </a:pPr>
            <a:r>
              <a:rPr b="1" lang="en-US" sz="1200" spc="-1" strike="noStrike">
                <a:solidFill>
                  <a:srgbClr val="000000"/>
                </a:solidFill>
                <a:latin typeface="Arial"/>
                <a:ea typeface="Arial"/>
              </a:rPr>
              <a:t>Microsoft has an unparalleled development process that ensures our products are the highest quality and are designed with the user in mind.</a:t>
            </a:r>
            <a:endParaRPr b="0" lang="en-US" sz="1200" spc="-1" strike="noStrike">
              <a:solidFill>
                <a:srgbClr val="000000"/>
              </a:solidFill>
              <a:latin typeface="Arial"/>
            </a:endParaRPr>
          </a:p>
          <a:p>
            <a:pPr indent="0">
              <a:lnSpc>
                <a:spcPct val="90000"/>
              </a:lnSpc>
              <a:spcBef>
                <a:spcPts val="961"/>
              </a:spcBef>
              <a:buNone/>
              <a:tabLst>
                <a:tab algn="l" pos="345960"/>
              </a:tabLst>
            </a:pPr>
            <a:endParaRPr b="0" lang="en-US" sz="1000" spc="-1" strike="noStrike">
              <a:solidFill>
                <a:srgbClr val="000000"/>
              </a:solidFill>
              <a:latin typeface="Arial"/>
            </a:endParaRPr>
          </a:p>
          <a:p>
            <a:pPr indent="0">
              <a:lnSpc>
                <a:spcPct val="90000"/>
              </a:lnSpc>
              <a:spcBef>
                <a:spcPts val="961"/>
              </a:spcBef>
              <a:buNone/>
              <a:tabLst>
                <a:tab algn="l" pos="345960"/>
              </a:tabLst>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I like to liken the process of developing applications at Microsoft to the painting of the Golden Gate Bridge.  Does anyone know how often the Golden Gate bridge is painted?  The answer is:  continuously.  Before one painting crew gets to the end of the bridge, another has already started at the beginning.  Likewise here at Microsoft, before we even ship Office95, we have already begun the feature specification of the next version of Office which will ship in the 96/97 timeframe. Products are always in several phases of development simultaneously at Microsof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In general, the development process follows a fairly predictable path, but it has three general areas of focus that includes understanding how existing products are used, studying the potential of technology and design and test.  Let me begin with understanding the existing usage and work closewise around the circle:</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start with one quadrant of the visual and cycle through i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u="sng">
                <a:solidFill>
                  <a:srgbClr val="000000"/>
                </a:solidFill>
                <a:uFillTx/>
                <a:latin typeface="Times New Roman"/>
                <a:ea typeface="Times New Roman"/>
              </a:rPr>
              <a:t>Old Product development process:</a:t>
            </a:r>
            <a:endParaRPr b="0" lang="en-US" sz="1000" spc="-1" strike="noStrike">
              <a:solidFill>
                <a:srgbClr val="000000"/>
              </a:solidFill>
              <a:latin typeface="Arial"/>
            </a:endParaRPr>
          </a:p>
          <a:p>
            <a:pPr marL="338040" indent="0">
              <a:lnSpc>
                <a:spcPct val="90000"/>
              </a:lnSpc>
              <a:spcBef>
                <a:spcPts val="961"/>
              </a:spcBef>
              <a:buNone/>
              <a:tabLst>
                <a:tab algn="l" pos="792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ree years ago our development management process was very different. In the old days we had a bunch of very opinionated people with pet features arguing in a room. The result was a fairly random cut on features and functionality.  But now, the market has evolved, and we need to be much more targeted and focused on where we put our resources.  Our current method of development we call User Driven Development—a continuous process of  improvemen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u="sng">
                <a:solidFill>
                  <a:srgbClr val="000000"/>
                </a:solidFill>
                <a:uFillTx/>
                <a:latin typeface="Times New Roman"/>
                <a:ea typeface="Times New Roman"/>
              </a:rPr>
              <a:t>Product Development process today:</a:t>
            </a:r>
            <a:endParaRPr b="0" lang="en-US" sz="1000" spc="-1" strike="noStrike">
              <a:solidFill>
                <a:srgbClr val="000000"/>
              </a:solidFill>
              <a:latin typeface="Arial"/>
            </a:endParaRPr>
          </a:p>
          <a:p>
            <a:pPr marL="338040" indent="0">
              <a:lnSpc>
                <a:spcPct val="90000"/>
              </a:lnSpc>
              <a:spcBef>
                <a:spcPts val="961"/>
              </a:spcBef>
              <a:buNone/>
              <a:tabLst>
                <a:tab algn="l" pos="7920"/>
              </a:tabLst>
            </a:pPr>
            <a:r>
              <a:rPr b="0" i="1" lang="en-US" sz="1000" spc="-1" strike="noStrike">
                <a:solidFill>
                  <a:srgbClr val="000000"/>
                </a:solidFill>
                <a:latin typeface="Times New Roman"/>
                <a:ea typeface="Times New Roman"/>
              </a:rPr>
              <a:t>Existing Usage</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tabLst>
                <a:tab algn="l" pos="7920"/>
              </a:tabLst>
            </a:pPr>
            <a:r>
              <a:rPr b="0" i="1" lang="en-US" sz="1000" spc="-1" strike="noStrike">
                <a:solidFill>
                  <a:srgbClr val="000000"/>
                </a:solidFill>
                <a:latin typeface="Times New Roman"/>
                <a:ea typeface="Times New Roman"/>
              </a:rPr>
              <a:t>Product Support Services: </a:t>
            </a:r>
            <a:r>
              <a:rPr b="0" lang="en-US" sz="1000" spc="-1" strike="noStrike">
                <a:solidFill>
                  <a:srgbClr val="000000"/>
                </a:solidFill>
                <a:latin typeface="Times New Roman"/>
                <a:ea typeface="Times New Roman"/>
              </a:rPr>
              <a:t>Microsoft is now the only applications developer that offers unlimited, no charge support in the U.S.  We continue to invest in Product Service and support because it provides a number of important benefits. The first is that we want to do everything we can to ensure our users have a good experience with our products.  But more importantly, if they are not having a good experience, we want to know why.  Without knowing the WHY, we won’t know how we need to change our products.  That’s why every PSS call is logged in detail.</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track our PSS calls extensively, keeping records of feature areas, usage and configuration data. We develop a statistically accurate picture of how people are using our products, what problems they might be running into, what machines they are running it on, what other products they are using it with, etc. PSS can offer a very rich—and often embarrassing—source of information.  Let me give you an example that will illustrate this better.  </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7524720"/>
          </a:xfrm>
          <a:prstGeom prst="rect">
            <a:avLst/>
          </a:prstGeom>
          <a:noFill/>
          <a:ln w="0">
            <a:noFill/>
          </a:ln>
        </p:spPr>
        <p:txBody>
          <a:bodyPr lIns="0" rIns="0" tIns="0" bIns="0" anchor="t">
            <a:noAutofit/>
          </a:bodyPr>
          <a:p>
            <a:pPr marL="690480" indent="0">
              <a:lnSpc>
                <a:spcPct val="90000"/>
              </a:lnSpc>
              <a:spcBef>
                <a:spcPts val="961"/>
              </a:spcBef>
              <a:buNone/>
            </a:pPr>
            <a:r>
              <a:rPr b="0" lang="en-US" sz="1000" spc="-1" strike="noStrike">
                <a:solidFill>
                  <a:srgbClr val="000000"/>
                </a:solidFill>
                <a:latin typeface="Times New Roman"/>
                <a:ea typeface="Times New Roman"/>
              </a:rPr>
              <a:t>When we shipped Win Word 1.0, we shipped a new feature called PrintMerge.  PrintMerge provides the ability to attach word document, such as a letter, to a backend database or list and send out customized mailings.  It was a very popular feature, that has now become standard in virtually all word processors.  Six months after we shipped the product, we found out that 25% of our support costs were due to that one feature.  The first problem was that it was a very complex, multi-step function that was so useful that every user wanted to do it.  So the feature generated a large number of calls.  However, not only did we get a lot of calls, but they were also unusually long calls.  The average support call for Word at that time would last 5 minutes; the average printmerge call was 25 minutes.  The calls were so long that we even had a couch in the PSS lab that had a little sign above it that said “The Memorial PrintMerge Couch”.  The PSS reps would take a call, find out it was about printmerge, and go over to sit on the couch because they knew it was going to be a long call.  However, the worst characteristic of printmerge support was that the feature generate a lot of repeat calls.  People would call us up and say “you were so helpful when I called three months ago and you walked me through the process, can you walk me through it again?”  </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yone who is involved with supporting computer users knows that repeat calls are not only disheartening but drive support costs up considerably.  However, any cost we bear in PSS at Microsoft is a great indication of how much cost our customer has to bear as well.  Our goals is to reduce those costs by making our products easier, reducing the work for our PSS staff and the MIS or IT departments of our customers.  As a result of our experience with PrintMerge, we added a new feature to Win Word 2.0, a PrintMerge Wizard. The Wizard essentially reproduced our PSS reps  within the product itself, stepping the user through the process by asking them a few simple question or giving them choice tradeoffs.  It actually dropped our costs of supporting the feature from 25% to less than 3%.</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Microsoft WISH line</a:t>
            </a:r>
            <a:r>
              <a:rPr b="0" lang="en-US" sz="1000" spc="-1" strike="noStrike">
                <a:solidFill>
                  <a:srgbClr val="000000"/>
                </a:solidFill>
                <a:latin typeface="Times New Roman"/>
                <a:ea typeface="Times New Roman"/>
              </a:rPr>
              <a:t>:We also have a wish line— </a:t>
            </a:r>
            <a:r>
              <a:rPr b="1" lang="en-US" sz="1000" spc="-1" strike="noStrike">
                <a:solidFill>
                  <a:srgbClr val="000000"/>
                </a:solidFill>
                <a:latin typeface="Times New Roman"/>
                <a:ea typeface="Times New Roman"/>
              </a:rPr>
              <a:t>206-936-WISH</a:t>
            </a:r>
            <a:r>
              <a:rPr b="0" lang="en-US" sz="1000" spc="-1" strike="noStrike">
                <a:solidFill>
                  <a:srgbClr val="000000"/>
                </a:solidFill>
                <a:latin typeface="Times New Roman"/>
                <a:ea typeface="Times New Roman"/>
              </a:rPr>
              <a:t>—where we get ideas for products and features we may never have even thought of. You can call anytime, day or night and leave a request for a feature you would like to see in our products.</a:t>
            </a:r>
            <a:endParaRPr b="0" lang="en-US" sz="1000" spc="-1" strike="noStrike">
              <a:solidFill>
                <a:srgbClr val="000000"/>
              </a:solidFill>
              <a:latin typeface="Arial"/>
            </a:endParaRPr>
          </a:p>
          <a:p>
            <a:pPr marL="33804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orting information]</a:t>
            </a:r>
            <a:br>
              <a:rPr sz="1000"/>
            </a:br>
            <a:r>
              <a:rPr b="0" lang="en-US" sz="1000" spc="-1" strike="noStrike">
                <a:solidFill>
                  <a:srgbClr val="000000"/>
                </a:solidFill>
                <a:latin typeface="Times New Roman"/>
                <a:ea typeface="Times New Roman"/>
              </a:rPr>
              <a:t>Those calls are keyed into a database which our product designers have access to.  When we create a new specification of our product, we tabulate the Wish list and try to incorporate as much as possible.  With Office 4.X, we implemented 70% of all Wish requests and with Office 95 we have implemented XXX%</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Instrumented Versions:</a:t>
            </a:r>
            <a:r>
              <a:rPr b="0" lang="en-US" sz="1000" spc="-1" strike="noStrike">
                <a:solidFill>
                  <a:srgbClr val="000000"/>
                </a:solidFill>
                <a:latin typeface="Times New Roman"/>
                <a:ea typeface="Times New Roman"/>
              </a:rPr>
              <a:t> This</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s a process where in we send out 400-500 special copies of the product and track everything theuser does—Pause Times, Mouse Clicks, keystrokes, etc. We even track which features are used most frequently, how many times a feature is canceled out of, which dialogs do people stare at and then cancel. And even, which don’t get used as often as they should?</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This enables us to become more predictive about how a person will use a feature and has become the groundwork for a new technology, IntelliSense, that I’ll elaborate on in a few more slides. Features such as the shortcut menus—which at any point you can right-mouse-click and the product will provide the 10 most likely commands you want next—were created from the information from the instrumented versions. </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An example of our learning is the data consolidate dialog box which had an average stare time of 45 seconds and the most common action out of was CANCEL.</a:t>
            </a:r>
            <a:endParaRPr b="0" lang="en-US" sz="1000" spc="-1" strike="noStrike">
              <a:solidFill>
                <a:srgbClr val="000000"/>
              </a:solidFill>
              <a:latin typeface="Arial"/>
            </a:endParaRPr>
          </a:p>
          <a:p>
            <a:pPr marL="338040" indent="0">
              <a:lnSpc>
                <a:spcPct val="90000"/>
              </a:lnSpc>
              <a:spcBef>
                <a:spcPts val="961"/>
              </a:spcBef>
              <a:buNone/>
            </a:pPr>
            <a:r>
              <a:rPr b="0" i="1" lang="en-US" sz="1000" spc="-1" strike="noStrike">
                <a:solidFill>
                  <a:srgbClr val="000000"/>
                </a:solidFill>
                <a:latin typeface="Times New Roman"/>
                <a:ea typeface="Times New Roman"/>
              </a:rPr>
              <a:t>Technology Potential:</a:t>
            </a:r>
            <a:r>
              <a:rPr b="1" lang="en-US" sz="1000" spc="-1" strike="noStrike">
                <a:solidFill>
                  <a:srgbClr val="000000"/>
                </a:solidFill>
                <a:latin typeface="Times New Roman"/>
                <a:ea typeface="Times New Roman"/>
              </a:rPr>
              <a:t> </a:t>
            </a:r>
            <a:br>
              <a:rPr sz="1000"/>
            </a:br>
            <a:r>
              <a:rPr b="0" lang="en-US" sz="1000" spc="-1" strike="noStrike">
                <a:solidFill>
                  <a:srgbClr val="000000"/>
                </a:solidFill>
                <a:latin typeface="Times New Roman"/>
                <a:ea typeface="Times New Roman"/>
              </a:rPr>
              <a:t>Let’s move out of the realm of understanding existing usage and into understanding the potential of technology:  By constantly researching new technology we can go beyond how to simply fix the existing features, and instead start to think about how we can evolve technology to provide entirely new capabilities.  We have a variety of research methodologies that we go through to find out the most about what users can do and how they can incorporate technology.  This area of the design process is concerned with how we take current technology and mold it into what people want to do:</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Activities Based Planning: </a:t>
            </a:r>
            <a:r>
              <a:rPr b="0" lang="en-US" sz="1000" spc="-1" strike="noStrike">
                <a:solidFill>
                  <a:srgbClr val="000000"/>
                </a:solidFill>
                <a:latin typeface="Times New Roman"/>
                <a:ea typeface="Times New Roman"/>
              </a:rPr>
              <a:t>rather then focusing just on features we focus on activities by product:</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The first area is something we call Activities-Based Planning, or ABP.  You’re not going to hear that term anywhere outside of MS.  It’s our own development methodology that describes the process of spending time with customers and finding out what they do rather than asking them what features they want to see in the next version.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7528680"/>
          </a:xfrm>
          <a:prstGeom prst="rect">
            <a:avLst/>
          </a:prstGeom>
          <a:noFill/>
          <a:ln w="0">
            <a:noFill/>
          </a:ln>
        </p:spPr>
        <p:txBody>
          <a:bodyPr lIns="0" rIns="0" tIns="0" bIns="0" anchor="t">
            <a:noAutofit/>
          </a:bodyPr>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ask them ‘what do you do on a daily basis?  How do you run your business? What are the processes involved’?  We actually spend entire days with them trying to understand the processes of their business, whether its a paper-based process or a computer bases process.  We try to determine how to apply technologies to solve their business problem.  We did over 5000 ABP visits and it’s given us a critical insight how to deliver features and functions that cross applications boundaries.  Because, most of often, the solution to a problem doesn’t involve just a word processor or is not just a database, but it’s about bringing a variety of technologies together and creating a business application for that customers needs. Examples of some of the areas we examined inlcude: list management in Excel, long documents in Word, informal presentations in Power Point, management  and recording of data in Access.</a:t>
            </a:r>
            <a:endParaRPr b="0" lang="en-US" sz="1000" spc="-1" strike="noStrike">
              <a:solidFill>
                <a:srgbClr val="000000"/>
              </a:solidFill>
              <a:latin typeface="Arial"/>
            </a:endParaRPr>
          </a:p>
          <a:p>
            <a:pPr marL="457200" indent="0">
              <a:lnSpc>
                <a:spcPct val="90000"/>
              </a:lnSpc>
              <a:spcBef>
                <a:spcPts val="961"/>
              </a:spcBef>
              <a:buNone/>
            </a:pP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Contextual Inquiry</a:t>
            </a:r>
            <a:r>
              <a:rPr b="0" lang="en-US" sz="1000" spc="-1" strike="noStrike">
                <a:solidFill>
                  <a:srgbClr val="000000"/>
                </a:solidFill>
                <a:latin typeface="Times New Roman"/>
                <a:ea typeface="Times New Roman"/>
              </a:rPr>
              <a:t>: We then spend time talking to people and trying to manage the kinds of problems they hav. This evolves to Contextual Inquiry. We look at people who may not even be using our products or even computers.  We look at all people and try to understand their work environment. It’s more of an anthropological study then Computer Science.  Basically we work to understand the process of how people WORK so that when we go into meet with them we look at:</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Contextual inquiry is a science of diagramming and mapping what users are doing on a daily basis.  For example, if someone goes in for a contextual inquiry visit to a customer, what they may do is completely diagram the physical layout of an office or a process.  They’ll note where the phone sits in relation to the computer, where the user keeps their sticky notes, what paper the user touches, when they access their computer, who they talk to, etc.  The designer will develop a process flow of how a piece of info comes into an office, how it is processed, and how it leaves. It allows us to see how information turns from an idea or a spoken word  into paper or PC information into real work or information or data that allows them to get their business done. </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Research and Development</a:t>
            </a:r>
            <a:r>
              <a:rPr b="0" lang="en-US" sz="1000" spc="-1" strike="noStrike">
                <a:solidFill>
                  <a:srgbClr val="000000"/>
                </a:solidFill>
                <a:latin typeface="Times New Roman"/>
                <a:ea typeface="Times New Roman"/>
              </a:rPr>
              <a:t>: Out of the combined efforts of Activities Based Planning and Contextual Inquiry we get a tremendous number of ideas on how we can change the way the computer works so that it is more intuitive, and more fit to the process and tasks that People want to do. Our research fundamentally shows that people see software and computers as tools--They basically want to use to get their jobs done.  Our continued focus has to be on making this possible.  From here we figure out the specifications for the product.</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will spend over 670 million dollars in R&amp;D this next year.  That's more money than any other company makes in software sales.  We are in an enviable position of being able to spend a tremendous amount of resources and effort just understanding new technologies as they are coming down the pipeline.  </a:t>
            </a:r>
            <a:endParaRPr b="0" lang="en-US" sz="1000" spc="-1" strike="noStrike">
              <a:solidFill>
                <a:srgbClr val="000000"/>
              </a:solidFill>
              <a:latin typeface="Arial"/>
            </a:endParaRPr>
          </a:p>
          <a:p>
            <a:pPr marL="338040" indent="0">
              <a:lnSpc>
                <a:spcPct val="90000"/>
              </a:lnSpc>
              <a:spcBef>
                <a:spcPts val="961"/>
              </a:spcBef>
              <a:buNone/>
            </a:pPr>
            <a:r>
              <a:rPr b="0" i="1" lang="en-US" sz="1000" spc="-1" strike="noStrike">
                <a:solidFill>
                  <a:srgbClr val="000000"/>
                </a:solidFill>
                <a:latin typeface="Times New Roman"/>
                <a:ea typeface="Times New Roman"/>
              </a:rPr>
              <a:t>Design and Test:</a:t>
            </a:r>
            <a:r>
              <a:rPr b="0" lang="en-US" sz="1000" spc="-1" strike="noStrike">
                <a:solidFill>
                  <a:srgbClr val="000000"/>
                </a:solidFill>
                <a:latin typeface="Times New Roman"/>
                <a:ea typeface="Times New Roman"/>
              </a:rPr>
              <a:t> </a:t>
            </a:r>
            <a:br>
              <a:rPr sz="1000"/>
            </a:br>
            <a:r>
              <a:rPr b="0" lang="en-US" sz="1000" spc="-1" strike="noStrike">
                <a:solidFill>
                  <a:srgbClr val="000000"/>
                </a:solidFill>
                <a:latin typeface="Times New Roman"/>
                <a:ea typeface="Times New Roman"/>
              </a:rPr>
              <a:t>As we move from existing usage to technology potential to the final area of Design and Test, we enter the realm of determining how to deliver products that are both high quality as well as work more the way users work. We check to see how well it works, whether it meets the requirements we set, and is it ready for customers.</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Usability</a:t>
            </a:r>
            <a:r>
              <a:rPr b="0" lang="en-US" sz="1000" spc="-1" strike="noStrike">
                <a:solidFill>
                  <a:srgbClr val="000000"/>
                </a:solidFill>
                <a:latin typeface="Times New Roman"/>
                <a:ea typeface="Times New Roman"/>
              </a:rPr>
              <a:t>.  The first area, which you’ve probably heard most about is usability labs.  If you haven’t seen the process of usability testing at Microsoft, we have videos available that provide more background.  What we do in Usability testing is take a feature idea, mock up the design in Visual Basic and bring it into a special testing lab.  In the lab, the user sits on one side of a one-way mirror and a research scientist ---as well as the product designer--sit on the other.  The researcher watches the user going through the process of trying out the feature. Then we go back and redesign that feature based on the user feedback.  This happens on an iterative basis.  Until we get that feature usable for 9 out of 10 users, without them having to refer to any outside instructions or manuals, we are not satisfied with the design of that feature.  </a:t>
            </a:r>
            <a:endParaRPr b="0" lang="en-US" sz="1000" spc="-1" strike="noStrike">
              <a:solidFill>
                <a:srgbClr val="000000"/>
              </a:solidFill>
              <a:latin typeface="Arial"/>
            </a:endParaRPr>
          </a:p>
          <a:p>
            <a:pPr marL="33804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have 15 Full Time Usability Lab Engineers on Site whose job it is to test the product.  Many features go through usability testing 3 or 4 times before we are satisfied that any problems have been solved.  Our testing labs are on Site--we can have both development and design people in the lab watching people work with products versus some external third party lab report. For example, in Win Word 6.0, the Border dialog box was usability tested 12 times before we were satisfied.  So you see even very minor features tested a lot.  Complex new features are tested all the way from conception to ship.</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29600" cy="6845400"/>
          </a:xfrm>
          <a:prstGeom prst="rect">
            <a:avLst/>
          </a:prstGeom>
          <a:ln w="0">
            <a:noFill/>
          </a:ln>
        </p:spPr>
      </p:pic>
      <p:sp>
        <p:nvSpPr>
          <p:cNvPr id="122" name=""/>
          <p:cNvSpPr txBox="1"/>
          <p:nvPr/>
        </p:nvSpPr>
        <p:spPr>
          <a:xfrm>
            <a:off x="3652920" y="1403280"/>
            <a:ext cx="4962600" cy="4043520"/>
          </a:xfrm>
          <a:prstGeom prst="rect">
            <a:avLst/>
          </a:prstGeom>
          <a:noFill/>
          <a:ln w="0">
            <a:noFill/>
          </a:ln>
        </p:spPr>
        <p:txBody>
          <a:bodyPr lIns="0" rIns="0" tIns="0" bIns="0" anchor="t">
            <a:noAutofit/>
          </a:bodyPr>
          <a:p>
            <a:pPr>
              <a:lnSpc>
                <a:spcPct val="90000"/>
              </a:lnSpc>
            </a:pPr>
            <a:r>
              <a:rPr b="1" lang="en-US" sz="4800" spc="-1" strike="noStrike">
                <a:solidFill>
                  <a:srgbClr val="000000"/>
                </a:solidFill>
                <a:latin typeface="Times New Roman"/>
                <a:ea typeface="Times New Roman"/>
              </a:rPr>
              <a:t>Microsoft</a:t>
            </a:r>
            <a:r>
              <a:rPr b="1" lang="en-US" sz="3600" spc="-1" strike="noStrike" baseline="50000">
                <a:solidFill>
                  <a:srgbClr val="000000"/>
                </a:solidFill>
                <a:latin typeface="Times New Roman"/>
                <a:ea typeface="Times New Roman"/>
              </a:rPr>
              <a:t>®</a:t>
            </a:r>
            <a:r>
              <a:rPr b="1" lang="en-US" sz="4800" spc="-1" strike="noStrike">
                <a:solidFill>
                  <a:srgbClr val="000000"/>
                </a:solidFill>
                <a:latin typeface="Times New Roman"/>
                <a:ea typeface="Times New Roman"/>
              </a:rPr>
              <a:t> Office Strategy</a:t>
            </a:r>
            <a:br>
              <a:rPr sz="4800"/>
            </a:br>
            <a:br>
              <a:rPr sz="4800"/>
            </a:br>
            <a:r>
              <a:rPr b="1" lang="en-US" sz="3600" spc="-1" strike="noStrike">
                <a:solidFill>
                  <a:srgbClr val="000000"/>
                </a:solidFill>
                <a:latin typeface="Times New Roman"/>
                <a:ea typeface="Times New Roman"/>
              </a:rPr>
              <a:t>Name</a:t>
            </a:r>
            <a:br>
              <a:rPr sz="3600"/>
            </a:br>
            <a:r>
              <a:rPr b="1" lang="en-US" sz="3600" spc="-1" strike="noStrike">
                <a:solidFill>
                  <a:srgbClr val="000000"/>
                </a:solidFill>
                <a:latin typeface="Times New Roman"/>
                <a:ea typeface="Times New Roman"/>
              </a:rPr>
              <a:t>Title</a:t>
            </a:r>
            <a:br>
              <a:rPr sz="3600"/>
            </a:br>
            <a:r>
              <a:rPr b="1" lang="en-US" sz="3600" spc="-1" strike="noStrike">
                <a:solidFill>
                  <a:srgbClr val="000000"/>
                </a:solidFill>
                <a:latin typeface="Times New Roman"/>
                <a:ea typeface="Times New Roman"/>
              </a:rPr>
              <a:t>Desktop Applications</a:t>
            </a:r>
            <a:br>
              <a:rPr sz="3600"/>
            </a:br>
            <a:r>
              <a:rPr b="1" lang="en-US" sz="3600" spc="-1" strike="noStrike">
                <a:solidFill>
                  <a:srgbClr val="000000"/>
                </a:solidFill>
                <a:latin typeface="Times New Roman"/>
                <a:ea typeface="Times New Roman"/>
              </a:rPr>
              <a:t>Microsoft Corporation</a:t>
            </a:r>
            <a:endParaRPr b="0" lang="en-US" sz="3600" spc="-1" strike="noStrike">
              <a:solidFill>
                <a:srgbClr val="000000"/>
              </a:solidFill>
              <a:latin typeface="Arial"/>
            </a:endParaRPr>
          </a:p>
        </p:txBody>
      </p:sp>
      <p:sp>
        <p:nvSpPr>
          <p:cNvPr id="123" name=""/>
          <p:cNvSpPr/>
          <p:nvPr/>
        </p:nvSpPr>
        <p:spPr>
          <a:xfrm>
            <a:off x="838080" y="1905120"/>
            <a:ext cx="7162920" cy="4114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4" name="" descr=""/>
          <p:cNvPicPr/>
          <p:nvPr/>
        </p:nvPicPr>
        <p:blipFill>
          <a:blip r:embed="rId2"/>
          <a:stretch/>
        </p:blipFill>
        <p:spPr>
          <a:xfrm>
            <a:off x="428760" y="1663560"/>
            <a:ext cx="2878200" cy="3522600"/>
          </a:xfrm>
          <a:prstGeom prst="rect">
            <a:avLst/>
          </a:prstGeom>
          <a:ln w="0">
            <a:noFill/>
          </a:ln>
        </p:spPr>
      </p:pic>
      <p:grpSp>
        <p:nvGrpSpPr>
          <p:cNvPr id="125" name=""/>
          <p:cNvGrpSpPr/>
          <p:nvPr/>
        </p:nvGrpSpPr>
        <p:grpSpPr>
          <a:xfrm>
            <a:off x="7864560" y="6264360"/>
            <a:ext cx="1197000" cy="376200"/>
            <a:chOff x="7864560" y="6264360"/>
            <a:chExt cx="1197000" cy="376200"/>
          </a:xfrm>
        </p:grpSpPr>
        <p:pic>
          <p:nvPicPr>
            <p:cNvPr id="126" name="" descr=""/>
            <p:cNvPicPr/>
            <p:nvPr/>
          </p:nvPicPr>
          <p:blipFill>
            <a:blip r:embed="rId3"/>
            <a:stretch/>
          </p:blipFill>
          <p:spPr>
            <a:xfrm>
              <a:off x="7864560" y="6297480"/>
              <a:ext cx="1039680" cy="343080"/>
            </a:xfrm>
            <a:prstGeom prst="rect">
              <a:avLst/>
            </a:prstGeom>
            <a:ln w="0">
              <a:noFill/>
            </a:ln>
          </p:spPr>
        </p:pic>
        <p:sp>
          <p:nvSpPr>
            <p:cNvPr id="127"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12920" y="225360"/>
            <a:ext cx="8356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evelopment Directions</a:t>
            </a:r>
            <a:endParaRPr b="0" lang="en-US" sz="4800" spc="-1" strike="noStrike">
              <a:solidFill>
                <a:srgbClr val="000000"/>
              </a:solidFill>
              <a:latin typeface="Arial"/>
            </a:endParaRPr>
          </a:p>
        </p:txBody>
      </p:sp>
      <p:sp>
        <p:nvSpPr>
          <p:cNvPr id="180" name=""/>
          <p:cNvSpPr txBox="1"/>
          <p:nvPr/>
        </p:nvSpPr>
        <p:spPr>
          <a:xfrm>
            <a:off x="103320" y="1608120"/>
            <a:ext cx="4395960" cy="5105520"/>
          </a:xfrm>
          <a:prstGeom prst="rect">
            <a:avLst/>
          </a:prstGeom>
          <a:noFill/>
          <a:ln w="0">
            <a:noFill/>
          </a:ln>
        </p:spPr>
        <p:txBody>
          <a:bodyPr lIns="0" rIns="0" tIns="0" bIns="0" anchor="t">
            <a:noAutofit/>
          </a:bodyPr>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OS innovations</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erformance</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New OS-enabled capabilities</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mprove ease of use</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Task automation</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scoverability</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ncrease integration</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More seamless environment</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Office Compatible</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Broaden suite</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Time management</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ntent</a:t>
            </a:r>
            <a:endParaRPr b="0" lang="en-US" sz="2400" spc="-1" strike="noStrike">
              <a:solidFill>
                <a:srgbClr val="000000"/>
              </a:solidFill>
              <a:latin typeface="Arial"/>
            </a:endParaRPr>
          </a:p>
        </p:txBody>
      </p:sp>
      <p:sp>
        <p:nvSpPr>
          <p:cNvPr id="181" name=""/>
          <p:cNvSpPr txBox="1"/>
          <p:nvPr/>
        </p:nvSpPr>
        <p:spPr>
          <a:xfrm>
            <a:off x="4645080" y="1608120"/>
            <a:ext cx="4435560" cy="4156200"/>
          </a:xfrm>
          <a:prstGeom prst="rect">
            <a:avLst/>
          </a:prstGeom>
          <a:noFill/>
          <a:ln w="0">
            <a:noFill/>
          </a:ln>
        </p:spPr>
        <p:txBody>
          <a:bodyPr lIns="0" rIns="0" tIns="0" bIns="0" anchor="t">
            <a:noAutofit/>
          </a:bodyPr>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OS innovations</a:t>
            </a:r>
            <a:endParaRPr b="0" lang="en-US" sz="26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erformance/robustness</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Migration/co-existence</a:t>
            </a:r>
            <a:endParaRPr b="0" lang="en-US" sz="24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ncrease productivity</a:t>
            </a:r>
            <a:endParaRPr b="0" lang="en-US" sz="26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Ease of use</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Integration</a:t>
            </a:r>
            <a:endParaRPr b="0" lang="en-US" sz="24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Lower support costs</a:t>
            </a:r>
            <a:endParaRPr b="0" lang="en-US" sz="26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the enterprise</a:t>
            </a:r>
            <a:r>
              <a:rPr b="1"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nfig/admin</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orkgroup tools</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ustom solutions</a:t>
            </a:r>
            <a:endParaRPr b="0" lang="en-US" sz="2400" spc="-1" strike="noStrike">
              <a:solidFill>
                <a:srgbClr val="000000"/>
              </a:solidFill>
              <a:latin typeface="Arial"/>
            </a:endParaRPr>
          </a:p>
        </p:txBody>
      </p:sp>
      <p:sp>
        <p:nvSpPr>
          <p:cNvPr id="182" name=""/>
          <p:cNvSpPr txBox="1"/>
          <p:nvPr/>
        </p:nvSpPr>
        <p:spPr>
          <a:xfrm>
            <a:off x="1311120" y="938160"/>
            <a:ext cx="1979640" cy="579600"/>
          </a:xfrm>
          <a:prstGeom prst="rect">
            <a:avLst/>
          </a:prstGeom>
          <a:noFill/>
          <a:ln w="0">
            <a:noFill/>
          </a:ln>
        </p:spPr>
        <p:txBody>
          <a:bodyPr lIns="0" rIns="0" tIns="0" bIns="0" anchor="t">
            <a:noAutofit/>
          </a:bodyPr>
          <a:p>
            <a:pPr algn="ctr">
              <a:lnSpc>
                <a:spcPct val="100000"/>
              </a:lnSpc>
            </a:pPr>
            <a:r>
              <a:rPr b="1" lang="en-US" sz="3200" spc="-1" strike="noStrike">
                <a:solidFill>
                  <a:srgbClr val="280049"/>
                </a:solidFill>
                <a:latin typeface="Times New Roman"/>
                <a:ea typeface="Times New Roman"/>
              </a:rPr>
              <a:t>End Users</a:t>
            </a:r>
            <a:endParaRPr b="0" lang="en-US" sz="3200" spc="-1" strike="noStrike">
              <a:solidFill>
                <a:srgbClr val="000000"/>
              </a:solidFill>
              <a:latin typeface="Arial"/>
            </a:endParaRPr>
          </a:p>
        </p:txBody>
      </p:sp>
      <p:sp>
        <p:nvSpPr>
          <p:cNvPr id="183" name=""/>
          <p:cNvSpPr txBox="1"/>
          <p:nvPr/>
        </p:nvSpPr>
        <p:spPr>
          <a:xfrm>
            <a:off x="5597640" y="1009800"/>
            <a:ext cx="2532240" cy="482760"/>
          </a:xfrm>
          <a:prstGeom prst="rect">
            <a:avLst/>
          </a:prstGeom>
          <a:noFill/>
          <a:ln w="0">
            <a:noFill/>
          </a:ln>
        </p:spPr>
        <p:txBody>
          <a:bodyPr lIns="0" rIns="0" tIns="0" bIns="0" anchor="t">
            <a:noAutofit/>
          </a:bodyPr>
          <a:p>
            <a:pPr algn="ctr">
              <a:lnSpc>
                <a:spcPct val="80000"/>
              </a:lnSpc>
              <a:spcBef>
                <a:spcPts val="479"/>
              </a:spcBef>
            </a:pPr>
            <a:r>
              <a:rPr b="1" lang="en-US" sz="3200" spc="-1" strike="noStrike">
                <a:solidFill>
                  <a:srgbClr val="280049"/>
                </a:solidFill>
                <a:latin typeface="Times New Roman"/>
                <a:ea typeface="Times New Roman"/>
              </a:rPr>
              <a:t>IS/Enterp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400040" y="225360"/>
            <a:ext cx="6381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185" name=""/>
          <p:cNvSpPr txBox="1"/>
          <p:nvPr/>
        </p:nvSpPr>
        <p:spPr>
          <a:xfrm>
            <a:off x="554040" y="1262160"/>
            <a:ext cx="6567480" cy="5176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cus on your work</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telliSens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Technology</a:t>
            </a:r>
            <a:endParaRPr b="0" lang="en-US" sz="24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Windows 95</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e information easily between application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fficeLink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ffice Compatibl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municate in a connected world</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formation exchange</a:t>
            </a:r>
            <a:endParaRPr b="0" lang="en-US" sz="24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nline</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uild business solutions</a:t>
            </a:r>
            <a:endParaRPr b="0" lang="en-US" sz="2800" spc="-1" strike="noStrike">
              <a:solidFill>
                <a:srgbClr val="000000"/>
              </a:solidFill>
              <a:latin typeface="Arial"/>
            </a:endParaRPr>
          </a:p>
        </p:txBody>
      </p:sp>
      <p:pic>
        <p:nvPicPr>
          <p:cNvPr id="186" name="" descr=""/>
          <p:cNvPicPr/>
          <p:nvPr/>
        </p:nvPicPr>
        <p:blipFill>
          <a:blip r:embed="rId1"/>
          <a:stretch/>
        </p:blipFill>
        <p:spPr>
          <a:xfrm>
            <a:off x="6948360" y="1143000"/>
            <a:ext cx="1679400" cy="2055960"/>
          </a:xfrm>
          <a:prstGeom prst="rect">
            <a:avLst/>
          </a:prstGeom>
          <a:ln w="0">
            <a:noFill/>
          </a:ln>
        </p:spPr>
      </p:pic>
      <p:pic>
        <p:nvPicPr>
          <p:cNvPr id="187" name="" descr=""/>
          <p:cNvPicPr/>
          <p:nvPr/>
        </p:nvPicPr>
        <p:blipFill>
          <a:blip r:embed="rId2"/>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dc06"/>
                </a:solidFill>
                <a:latin typeface="Times New Roman"/>
                <a:ea typeface="Times New Roman"/>
              </a:rPr>
              <a:t>Business Value</a:t>
            </a:r>
            <a:endParaRPr b="0" lang="en-US" sz="4800" spc="-1" strike="noStrike">
              <a:solidFill>
                <a:srgbClr val="000000"/>
              </a:solidFill>
              <a:latin typeface="Arial"/>
            </a:endParaRPr>
          </a:p>
        </p:txBody>
      </p:sp>
      <p:sp>
        <p:nvSpPr>
          <p:cNvPr id="189" name=""/>
          <p:cNvSpPr txBox="1"/>
          <p:nvPr/>
        </p:nvSpPr>
        <p:spPr>
          <a:xfrm>
            <a:off x="133200" y="1171440"/>
            <a:ext cx="8915400" cy="5494320"/>
          </a:xfrm>
          <a:prstGeom prst="rect">
            <a:avLst/>
          </a:prstGeom>
          <a:noFill/>
          <a:ln w="0">
            <a:noFill/>
          </a:ln>
        </p:spPr>
        <p:txBody>
          <a:bodyPr lIns="0" rIns="0" tIns="0" bIns="0" anchor="t">
            <a:noAutofit/>
          </a:bodyPr>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Increased productivity (Kelly Services Study)</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36% greater accuracy, 37% faster task completion</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70% need no additional training</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Lower support costs (Workgroup Tech. Study)</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44% decrease in Office applications related help call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11% reduction in onsite visit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Answer Wizard covers 70-85% of all help calls</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Easier to learn (MASIE Center-Learning Analysis)</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Upgraders:  Self-learn Office in three hour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Switchers:  Self-learn or classroom learn in six hour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New users:  Self-learn in 1.5 days or classroom in 12 hours</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Fast return on investment (IDC)</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Five months R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003560" y="2176560"/>
            <a:ext cx="4856040" cy="1490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Auto” feature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everyday tasks </a:t>
            </a:r>
            <a:br>
              <a:rPr sz="2800"/>
            </a:br>
            <a:r>
              <a:rPr b="1" lang="en-US" sz="2800" spc="-1" strike="noStrike">
                <a:solidFill>
                  <a:srgbClr val="ffffff"/>
                </a:solidFill>
                <a:latin typeface="Times New Roman"/>
                <a:ea typeface="Times New Roman"/>
              </a:rPr>
              <a:t>made automatic</a:t>
            </a:r>
            <a:endParaRPr b="0" lang="en-US" sz="2800" spc="-1" strike="noStrike">
              <a:solidFill>
                <a:srgbClr val="000000"/>
              </a:solidFill>
              <a:latin typeface="Arial"/>
            </a:endParaRPr>
          </a:p>
        </p:txBody>
      </p:sp>
      <p:sp>
        <p:nvSpPr>
          <p:cNvPr id="191" name=""/>
          <p:cNvSpPr txBox="1"/>
          <p:nvPr/>
        </p:nvSpPr>
        <p:spPr>
          <a:xfrm>
            <a:off x="4019400" y="5548320"/>
            <a:ext cx="4865760" cy="1166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Assistanc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orientation</a:t>
            </a:r>
            <a:r>
              <a:rPr b="1" lang="en-US" sz="36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interactive tips</a:t>
            </a:r>
            <a:endParaRPr b="0" lang="en-US" sz="2800" spc="-1" strike="noStrike">
              <a:solidFill>
                <a:srgbClr val="000000"/>
              </a:solidFill>
              <a:latin typeface="Arial"/>
            </a:endParaRPr>
          </a:p>
        </p:txBody>
      </p:sp>
      <p:sp>
        <p:nvSpPr>
          <p:cNvPr id="192" name=""/>
          <p:cNvSpPr/>
          <p:nvPr/>
        </p:nvSpPr>
        <p:spPr>
          <a:xfrm>
            <a:off x="379440" y="555480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79440" y="217332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4019400" y="3840120"/>
            <a:ext cx="4865760" cy="152568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zard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complex tasks </a:t>
            </a:r>
            <a:br>
              <a:rPr sz="2800"/>
            </a:br>
            <a:r>
              <a:rPr b="1" lang="en-US" sz="2800" spc="-1" strike="noStrike">
                <a:solidFill>
                  <a:srgbClr val="ffffff"/>
                </a:solidFill>
                <a:latin typeface="Times New Roman"/>
                <a:ea typeface="Times New Roman"/>
              </a:rPr>
              <a:t>made possible</a:t>
            </a:r>
            <a:endParaRPr b="0" lang="en-US" sz="2800" spc="-1" strike="noStrike">
              <a:solidFill>
                <a:srgbClr val="000000"/>
              </a:solidFill>
              <a:latin typeface="Arial"/>
            </a:endParaRPr>
          </a:p>
        </p:txBody>
      </p:sp>
      <p:sp>
        <p:nvSpPr>
          <p:cNvPr id="195" name=""/>
          <p:cNvSpPr/>
          <p:nvPr/>
        </p:nvSpPr>
        <p:spPr>
          <a:xfrm>
            <a:off x="379440" y="384012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txBox="1"/>
          <p:nvPr/>
        </p:nvSpPr>
        <p:spPr>
          <a:xfrm>
            <a:off x="297000" y="2205000"/>
            <a:ext cx="412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Automates tasks</a:t>
            </a:r>
            <a:endParaRPr b="0" lang="en-US" sz="3600" spc="-1" strike="noStrike">
              <a:solidFill>
                <a:srgbClr val="000000"/>
              </a:solidFill>
              <a:latin typeface="Arial"/>
            </a:endParaRPr>
          </a:p>
        </p:txBody>
      </p:sp>
      <p:sp>
        <p:nvSpPr>
          <p:cNvPr id="197" name=""/>
          <p:cNvSpPr txBox="1"/>
          <p:nvPr/>
        </p:nvSpPr>
        <p:spPr>
          <a:xfrm>
            <a:off x="297000" y="3862440"/>
            <a:ext cx="28893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Reduces steps</a:t>
            </a:r>
            <a:endParaRPr b="0" lang="en-US" sz="3600" spc="-1" strike="noStrike">
              <a:solidFill>
                <a:srgbClr val="000000"/>
              </a:solidFill>
              <a:latin typeface="Arial"/>
            </a:endParaRPr>
          </a:p>
        </p:txBody>
      </p:sp>
      <p:sp>
        <p:nvSpPr>
          <p:cNvPr id="198" name=""/>
          <p:cNvSpPr txBox="1"/>
          <p:nvPr/>
        </p:nvSpPr>
        <p:spPr>
          <a:xfrm>
            <a:off x="504720" y="225360"/>
            <a:ext cx="817236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lliSense</a:t>
            </a:r>
            <a:r>
              <a:rPr b="1" lang="en-US" sz="4800" spc="-1" strike="noStrike">
                <a:solidFill>
                  <a:srgbClr val="fafd00"/>
                </a:solidFill>
                <a:latin typeface="Symbol"/>
                <a:ea typeface="Symbol"/>
              </a:rPr>
              <a:t> </a:t>
            </a:r>
            <a:r>
              <a:rPr b="1" lang="en-US" sz="4800" spc="-1" strike="noStrike">
                <a:solidFill>
                  <a:srgbClr val="fafd00"/>
                </a:solidFill>
                <a:latin typeface="Times New Roman"/>
                <a:ea typeface="Times New Roman"/>
              </a:rPr>
              <a:t>Technology</a:t>
            </a:r>
            <a:br>
              <a:rPr sz="4800"/>
            </a:br>
            <a:r>
              <a:rPr b="1" lang="en-US" sz="4800" spc="-1" strike="noStrike">
                <a:solidFill>
                  <a:srgbClr val="fafd00"/>
                </a:solidFill>
                <a:latin typeface="Times New Roman"/>
                <a:ea typeface="Times New Roman"/>
              </a:rPr>
              <a:t> </a:t>
            </a:r>
            <a:r>
              <a:rPr b="1" lang="en-US" sz="3600" spc="-1" strike="noStrike">
                <a:solidFill>
                  <a:srgbClr val="280049"/>
                </a:solidFill>
                <a:latin typeface="Times New Roman"/>
                <a:ea typeface="Times New Roman"/>
              </a:rPr>
              <a:t>Enable users to focus on </a:t>
            </a:r>
            <a:br>
              <a:rPr sz="3600"/>
            </a:br>
            <a:r>
              <a:rPr b="1" lang="en-US" sz="3600" spc="-1" strike="noStrike">
                <a:solidFill>
                  <a:srgbClr val="280049"/>
                </a:solidFill>
                <a:latin typeface="Times New Roman"/>
                <a:ea typeface="Times New Roman"/>
              </a:rPr>
              <a:t>work, not the software</a:t>
            </a:r>
            <a:r>
              <a:rPr b="1" i="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199" name=""/>
          <p:cNvSpPr txBox="1"/>
          <p:nvPr/>
        </p:nvSpPr>
        <p:spPr>
          <a:xfrm>
            <a:off x="297000" y="5570640"/>
            <a:ext cx="31305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Discover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lliSense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01" name=""/>
          <p:cNvSpPr txBox="1"/>
          <p:nvPr/>
        </p:nvSpPr>
        <p:spPr>
          <a:xfrm>
            <a:off x="479520" y="1814400"/>
            <a:ext cx="8223120" cy="482904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Automates tasks</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ackground tasks (AutoFormat, Spell-it)</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User intent (AutoComplete, Search/Replace)</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Reduces steps</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Complex tasks (DB Wizard, Meeting Wizard)</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iscoverability</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ilt-in assistance (Answer Wizard, ScreenTips)</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Adapt to user (AutoCorrect, Tip Wizard)</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Shared across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95 Support</a:t>
            </a:r>
            <a:endParaRPr b="0" lang="en-US" sz="4800" spc="-1" strike="noStrike">
              <a:solidFill>
                <a:srgbClr val="000000"/>
              </a:solidFill>
              <a:latin typeface="Arial"/>
            </a:endParaRPr>
          </a:p>
        </p:txBody>
      </p:sp>
      <p:sp>
        <p:nvSpPr>
          <p:cNvPr id="203" name=""/>
          <p:cNvSpPr txBox="1"/>
          <p:nvPr/>
        </p:nvSpPr>
        <p:spPr>
          <a:xfrm>
            <a:off x="654120" y="1308240"/>
            <a:ext cx="78739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and integrated</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ng file name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mon design and controls (UI, Dialog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support (colors and metric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 (Shortcuts, Briefcase, Taskba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systems performance</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ative 32-bit application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resources, robustnes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tasking, multithreading</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formance meets or exceeds Office 4.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 For Windows95 Transition</a:t>
            </a:r>
            <a:endParaRPr b="0" lang="en-US" sz="4800" spc="-1" strike="noStrike">
              <a:solidFill>
                <a:srgbClr val="000000"/>
              </a:solidFill>
              <a:latin typeface="Arial"/>
            </a:endParaRPr>
          </a:p>
        </p:txBody>
      </p:sp>
      <p:sp>
        <p:nvSpPr>
          <p:cNvPr id="205" name=""/>
          <p:cNvSpPr txBox="1"/>
          <p:nvPr/>
        </p:nvSpPr>
        <p:spPr>
          <a:xfrm>
            <a:off x="625320" y="1736640"/>
            <a:ext cx="7931160" cy="486900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patible with Office 4.X</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UI consistency</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ame file format (Word, Microsoft Excel)</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Installable converters (PowerPoint)</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nfiguration and administration</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Network Admin Wizard</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ystems Management Server support</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Transition support</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Office Resource Kit</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olution Provider cer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052880" y="1859040"/>
            <a:ext cx="4856040" cy="1490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User interfac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reduce training</a:t>
            </a:r>
            <a:br>
              <a:rPr sz="2800"/>
            </a:br>
            <a:r>
              <a:rPr b="1" lang="en-US" sz="2800" spc="-1" strike="noStrike">
                <a:solidFill>
                  <a:srgbClr val="ffffff"/>
                </a:solidFill>
                <a:latin typeface="Times New Roman"/>
                <a:ea typeface="Times New Roman"/>
              </a:rPr>
              <a:t>/support costs</a:t>
            </a:r>
            <a:endParaRPr b="0" lang="en-US" sz="2800" spc="-1" strike="noStrike">
              <a:solidFill>
                <a:srgbClr val="000000"/>
              </a:solidFill>
              <a:latin typeface="Arial"/>
            </a:endParaRPr>
          </a:p>
        </p:txBody>
      </p:sp>
      <p:sp>
        <p:nvSpPr>
          <p:cNvPr id="207" name=""/>
          <p:cNvSpPr txBox="1"/>
          <p:nvPr/>
        </p:nvSpPr>
        <p:spPr>
          <a:xfrm>
            <a:off x="4068720" y="5230800"/>
            <a:ext cx="4865760" cy="1436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usable component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consistency</a:t>
            </a:r>
            <a:br>
              <a:rPr sz="2800"/>
            </a:br>
            <a:r>
              <a:rPr b="1" lang="en-US" sz="2800" spc="-1" strike="noStrike">
                <a:solidFill>
                  <a:srgbClr val="ffffff"/>
                </a:solidFill>
                <a:latin typeface="Times New Roman"/>
                <a:ea typeface="Times New Roman"/>
              </a:rPr>
              <a:t>/resource efficiency</a:t>
            </a:r>
            <a:endParaRPr b="0" lang="en-US" sz="2800" spc="-1" strike="noStrike">
              <a:solidFill>
                <a:srgbClr val="000000"/>
              </a:solidFill>
              <a:latin typeface="Arial"/>
            </a:endParaRPr>
          </a:p>
        </p:txBody>
      </p:sp>
      <p:sp>
        <p:nvSpPr>
          <p:cNvPr id="208" name=""/>
          <p:cNvSpPr/>
          <p:nvPr/>
        </p:nvSpPr>
        <p:spPr>
          <a:xfrm>
            <a:off x="222120" y="523728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222120" y="185580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 name=""/>
          <p:cNvSpPr txBox="1"/>
          <p:nvPr/>
        </p:nvSpPr>
        <p:spPr>
          <a:xfrm>
            <a:off x="4068720" y="3522600"/>
            <a:ext cx="4865760" cy="152568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OfficeLinks, OL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mix text, data, </a:t>
            </a:r>
            <a:br>
              <a:rPr sz="2800"/>
            </a:br>
            <a:r>
              <a:rPr b="1" lang="en-US" sz="2800" spc="-1" strike="noStrike">
                <a:solidFill>
                  <a:srgbClr val="ffffff"/>
                </a:solidFill>
                <a:latin typeface="Times New Roman"/>
                <a:ea typeface="Times New Roman"/>
              </a:rPr>
              <a:t>and graphics</a:t>
            </a:r>
            <a:endParaRPr b="0" lang="en-US" sz="2800" spc="-1" strike="noStrike">
              <a:solidFill>
                <a:srgbClr val="000000"/>
              </a:solidFill>
              <a:latin typeface="Arial"/>
            </a:endParaRPr>
          </a:p>
        </p:txBody>
      </p:sp>
      <p:sp>
        <p:nvSpPr>
          <p:cNvPr id="211" name=""/>
          <p:cNvSpPr/>
          <p:nvPr/>
        </p:nvSpPr>
        <p:spPr>
          <a:xfrm>
            <a:off x="222120" y="352260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216000" y="1846440"/>
            <a:ext cx="412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Consistent look/feel</a:t>
            </a:r>
            <a:endParaRPr b="0" lang="en-US" sz="3600" spc="-1" strike="noStrike">
              <a:solidFill>
                <a:srgbClr val="000000"/>
              </a:solidFill>
              <a:latin typeface="Arial"/>
            </a:endParaRPr>
          </a:p>
        </p:txBody>
      </p:sp>
      <p:sp>
        <p:nvSpPr>
          <p:cNvPr id="213" name=""/>
          <p:cNvSpPr txBox="1"/>
          <p:nvPr/>
        </p:nvSpPr>
        <p:spPr>
          <a:xfrm>
            <a:off x="216000" y="5243400"/>
            <a:ext cx="304164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Shared code    </a:t>
            </a:r>
            <a:endParaRPr b="0" lang="en-US" sz="3600" spc="-1" strike="noStrike">
              <a:solidFill>
                <a:srgbClr val="000000"/>
              </a:solidFill>
              <a:latin typeface="Arial"/>
            </a:endParaRPr>
          </a:p>
        </p:txBody>
      </p:sp>
      <p:sp>
        <p:nvSpPr>
          <p:cNvPr id="214" name=""/>
          <p:cNvSpPr txBox="1"/>
          <p:nvPr/>
        </p:nvSpPr>
        <p:spPr>
          <a:xfrm>
            <a:off x="216000" y="3533760"/>
            <a:ext cx="429408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Seamless integration</a:t>
            </a:r>
            <a:endParaRPr b="0" lang="en-US" sz="3600" spc="-1" strike="noStrike">
              <a:solidFill>
                <a:srgbClr val="000000"/>
              </a:solidFill>
              <a:latin typeface="Arial"/>
            </a:endParaRPr>
          </a:p>
        </p:txBody>
      </p:sp>
      <p:sp>
        <p:nvSpPr>
          <p:cNvPr id="215" name=""/>
          <p:cNvSpPr txBox="1"/>
          <p:nvPr/>
        </p:nvSpPr>
        <p:spPr>
          <a:xfrm>
            <a:off x="488880" y="22536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Links</a:t>
            </a:r>
            <a:br>
              <a:rPr sz="4800"/>
            </a:br>
            <a:r>
              <a:rPr b="1" lang="en-US" sz="3600" spc="-1" strike="noStrike">
                <a:solidFill>
                  <a:srgbClr val="280049"/>
                </a:solidFill>
                <a:latin typeface="Times New Roman"/>
                <a:ea typeface="Times New Roman"/>
              </a:rPr>
              <a:t>Create a seamless environment</a:t>
            </a:r>
            <a:r>
              <a:rPr b="1" i="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Link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17" name=""/>
          <p:cNvSpPr txBox="1"/>
          <p:nvPr/>
        </p:nvSpPr>
        <p:spPr>
          <a:xfrm>
            <a:off x="291960" y="1627200"/>
            <a:ext cx="8566200" cy="489744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ed code</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FFICE.DLL (AutoCorrect, FastFind, File New/Open)</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mmon components (Mapping)</a:t>
            </a:r>
            <a:endParaRPr b="0" lang="en-US" sz="2400" spc="-1" strike="noStrike">
              <a:solidFill>
                <a:srgbClr val="000000"/>
              </a:solidFill>
              <a:latin typeface="Arial"/>
            </a:endParaRPr>
          </a:p>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icrosoft Access, Microsoft Excel (Import, </a:t>
            </a:r>
            <a:br>
              <a:rPr sz="2400"/>
            </a:br>
            <a:r>
              <a:rPr b="1" lang="en-US" sz="2400" spc="-1" strike="noStrike">
                <a:solidFill>
                  <a:srgbClr val="ffffff"/>
                </a:solidFill>
                <a:latin typeface="Times New Roman"/>
                <a:ea typeface="Times New Roman"/>
              </a:rPr>
              <a:t>pivot tables, forms)</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ched+, Word/Bookshelf (Address Manager)</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owerPoint, Word (Meeting Minder)</a:t>
            </a:r>
            <a:endParaRPr b="0" lang="en-US" sz="2400" spc="-1" strike="noStrike">
              <a:solidFill>
                <a:srgbClr val="000000"/>
              </a:solidFill>
              <a:latin typeface="Arial"/>
            </a:endParaRPr>
          </a:p>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enhancements</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 Objects (Binders, WordMail)</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ustom OLE properties (Microsoft Exchange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endParaRPr b="0" lang="en-US" sz="4800" spc="-1" strike="noStrike">
              <a:solidFill>
                <a:srgbClr val="000000"/>
              </a:solidFill>
              <a:latin typeface="Arial"/>
            </a:endParaRPr>
          </a:p>
        </p:txBody>
      </p:sp>
      <p:sp>
        <p:nvSpPr>
          <p:cNvPr id="129" name=""/>
          <p:cNvSpPr txBox="1"/>
          <p:nvPr/>
        </p:nvSpPr>
        <p:spPr>
          <a:xfrm>
            <a:off x="1009800" y="175104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rket statu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ment strateg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ice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95</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7240" y="230040"/>
            <a:ext cx="8877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Compatible 95</a:t>
            </a:r>
            <a:endParaRPr b="0" lang="en-US" sz="4800" spc="-1" strike="noStrike">
              <a:solidFill>
                <a:srgbClr val="000000"/>
              </a:solidFill>
              <a:latin typeface="Arial"/>
            </a:endParaRPr>
          </a:p>
        </p:txBody>
      </p:sp>
      <p:sp>
        <p:nvSpPr>
          <p:cNvPr id="219" name=""/>
          <p:cNvSpPr txBox="1"/>
          <p:nvPr/>
        </p:nvSpPr>
        <p:spPr>
          <a:xfrm>
            <a:off x="1562040" y="1239840"/>
            <a:ext cx="602604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oks and works like Office</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user interfac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ter integration</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for developer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c Toolki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vanced Development Kit</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oad participatio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100 companie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175 product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ed in 13 languages</a:t>
            </a:r>
            <a:endParaRPr b="0" lang="en-US" sz="2800" spc="-1" strike="noStrike">
              <a:solidFill>
                <a:srgbClr val="000000"/>
              </a:solidFill>
              <a:latin typeface="Arial"/>
            </a:endParaRPr>
          </a:p>
        </p:txBody>
      </p:sp>
      <p:pic>
        <p:nvPicPr>
          <p:cNvPr id="220" name="" descr=""/>
          <p:cNvPicPr/>
          <p:nvPr/>
        </p:nvPicPr>
        <p:blipFill>
          <a:blip r:embed="rId1"/>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277920" y="876240"/>
            <a:ext cx="8595000" cy="2575440"/>
          </a:xfrm>
          <a:custGeom>
            <a:avLst/>
            <a:gdLst/>
            <a:ahLst/>
            <a:rect l="0" t="0" r="r" b="b"/>
            <a:pathLst>
              <a:path w="23875" h="7154">
                <a:moveTo>
                  <a:pt x="7805" y="0"/>
                </a:moveTo>
                <a:lnTo>
                  <a:pt x="0" y="7154"/>
                </a:lnTo>
                <a:lnTo>
                  <a:pt x="23875" y="7154"/>
                </a:lnTo>
                <a:lnTo>
                  <a:pt x="16070" y="44"/>
                </a:lnTo>
                <a:lnTo>
                  <a:pt x="7805" y="0"/>
                </a:lnTo>
                <a:close/>
              </a:path>
            </a:pathLst>
          </a:custGeom>
          <a:gradFill rotWithShape="0">
            <a:gsLst>
              <a:gs pos="0">
                <a:srgbClr val="ffffff"/>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1959120" y="4211640"/>
            <a:ext cx="2489040" cy="217800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Network servic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QL databas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NA Connectivity</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Exchange, Lotus Note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etup, confi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Remote Admi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nline services</a:t>
            </a:r>
            <a:endParaRPr b="0" lang="en-US" sz="1800" spc="-1" strike="noStrike">
              <a:solidFill>
                <a:srgbClr val="000000"/>
              </a:solidFill>
              <a:latin typeface="Arial"/>
            </a:endParaRPr>
          </a:p>
        </p:txBody>
      </p:sp>
      <p:sp>
        <p:nvSpPr>
          <p:cNvPr id="223" name=""/>
          <p:cNvSpPr txBox="1"/>
          <p:nvPr/>
        </p:nvSpPr>
        <p:spPr>
          <a:xfrm>
            <a:off x="174600" y="4211640"/>
            <a:ext cx="1994040" cy="195912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API</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DBC</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TAPI</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FX</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GML/HTML</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DMA</a:t>
            </a:r>
            <a:endParaRPr b="0" lang="en-US" sz="1800" spc="-1" strike="noStrike">
              <a:solidFill>
                <a:srgbClr val="000000"/>
              </a:solidFill>
              <a:latin typeface="Arial"/>
            </a:endParaRPr>
          </a:p>
        </p:txBody>
      </p:sp>
      <p:sp>
        <p:nvSpPr>
          <p:cNvPr id="224" name=""/>
          <p:cNvSpPr txBox="1"/>
          <p:nvPr/>
        </p:nvSpPr>
        <p:spPr>
          <a:xfrm>
            <a:off x="396720" y="225360"/>
            <a:ext cx="8356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Connected Office</a:t>
            </a:r>
            <a:endParaRPr b="0" lang="en-US" sz="4800" spc="-1" strike="noStrike">
              <a:solidFill>
                <a:srgbClr val="000000"/>
              </a:solidFill>
              <a:latin typeface="Arial"/>
            </a:endParaRPr>
          </a:p>
        </p:txBody>
      </p:sp>
      <p:sp>
        <p:nvSpPr>
          <p:cNvPr id="225" name=""/>
          <p:cNvSpPr txBox="1"/>
          <p:nvPr/>
        </p:nvSpPr>
        <p:spPr>
          <a:xfrm>
            <a:off x="4232160" y="4211640"/>
            <a:ext cx="2627280" cy="261612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WordMail, Sched+</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Routing, send mail</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Access replicatio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icrosoft Excel shared list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Word revision mark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Powerpoint conferencin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Internet Asstant, viewers</a:t>
            </a:r>
            <a:endParaRPr b="0" lang="en-US" sz="1800" spc="-1" strike="noStrike">
              <a:solidFill>
                <a:srgbClr val="000000"/>
              </a:solidFill>
              <a:latin typeface="Arial"/>
            </a:endParaRPr>
          </a:p>
        </p:txBody>
      </p:sp>
      <p:sp>
        <p:nvSpPr>
          <p:cNvPr id="226" name=""/>
          <p:cNvSpPr txBox="1"/>
          <p:nvPr/>
        </p:nvSpPr>
        <p:spPr>
          <a:xfrm>
            <a:off x="6757920" y="4211640"/>
            <a:ext cx="2373480" cy="217800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Visual Basic technology</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ffice Compatible</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S Consultin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PSS servic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Tech•Ed, MSTV</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P certificatio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Authorized trainers</a:t>
            </a:r>
            <a:endParaRPr b="0" lang="en-US" sz="1800" spc="-1" strike="noStrike">
              <a:solidFill>
                <a:srgbClr val="000000"/>
              </a:solidFill>
              <a:latin typeface="Arial"/>
            </a:endParaRPr>
          </a:p>
        </p:txBody>
      </p:sp>
      <p:sp>
        <p:nvSpPr>
          <p:cNvPr id="227" name=""/>
          <p:cNvSpPr txBox="1"/>
          <p:nvPr/>
        </p:nvSpPr>
        <p:spPr>
          <a:xfrm>
            <a:off x="270000" y="3456000"/>
            <a:ext cx="182736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Open</a:t>
            </a:r>
            <a:br>
              <a:rPr sz="2200"/>
            </a:br>
            <a:r>
              <a:rPr b="1" lang="en-US" sz="2200" spc="-1" strike="noStrike">
                <a:solidFill>
                  <a:srgbClr val="ffffff"/>
                </a:solidFill>
                <a:latin typeface="Times New Roman"/>
                <a:ea typeface="Times New Roman"/>
              </a:rPr>
              <a:t> standards</a:t>
            </a:r>
            <a:r>
              <a:rPr b="1"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228" name=""/>
          <p:cNvSpPr txBox="1"/>
          <p:nvPr/>
        </p:nvSpPr>
        <p:spPr>
          <a:xfrm>
            <a:off x="2097000" y="3456000"/>
            <a:ext cx="228132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Microsoft BackOffice</a:t>
            </a:r>
            <a:br>
              <a:rPr sz="1800"/>
            </a:br>
            <a:r>
              <a:rPr b="1" lang="en-US" sz="1800" spc="-1" strike="noStrike">
                <a:solidFill>
                  <a:srgbClr val="ffffff"/>
                </a:solidFill>
                <a:latin typeface="Times New Roman"/>
                <a:ea typeface="Times New Roman"/>
              </a:rPr>
              <a:t>services</a:t>
            </a:r>
            <a:endParaRPr b="0" lang="en-US" sz="1800" spc="-1" strike="noStrike">
              <a:solidFill>
                <a:srgbClr val="000000"/>
              </a:solidFill>
              <a:latin typeface="Arial"/>
            </a:endParaRPr>
          </a:p>
        </p:txBody>
      </p:sp>
      <p:sp>
        <p:nvSpPr>
          <p:cNvPr id="229" name=""/>
          <p:cNvSpPr txBox="1"/>
          <p:nvPr/>
        </p:nvSpPr>
        <p:spPr>
          <a:xfrm>
            <a:off x="4383000" y="3456000"/>
            <a:ext cx="244152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orkgroup and</a:t>
            </a:r>
            <a:endParaRPr b="0" lang="en-US" sz="2200" spc="-1" strike="noStrike">
              <a:solidFill>
                <a:srgbClr val="000000"/>
              </a:solidFill>
              <a:latin typeface="Arial"/>
            </a:endParaRPr>
          </a:p>
          <a:p>
            <a:pPr algn="ctr">
              <a:lnSpc>
                <a:spcPct val="85000"/>
              </a:lnSpc>
            </a:pPr>
            <a:r>
              <a:rPr b="1" lang="en-US" sz="2200" spc="-1" strike="noStrike">
                <a:solidFill>
                  <a:srgbClr val="ffffff"/>
                </a:solidFill>
                <a:latin typeface="Times New Roman"/>
                <a:ea typeface="Times New Roman"/>
              </a:rPr>
              <a:t>communications</a:t>
            </a:r>
            <a:endParaRPr b="0" lang="en-US" sz="2200" spc="-1" strike="noStrike">
              <a:solidFill>
                <a:srgbClr val="000000"/>
              </a:solidFill>
              <a:latin typeface="Arial"/>
            </a:endParaRPr>
          </a:p>
        </p:txBody>
      </p:sp>
      <p:sp>
        <p:nvSpPr>
          <p:cNvPr id="230" name=""/>
          <p:cNvSpPr txBox="1"/>
          <p:nvPr/>
        </p:nvSpPr>
        <p:spPr>
          <a:xfrm>
            <a:off x="6815160" y="3456000"/>
            <a:ext cx="206676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Tools and</a:t>
            </a:r>
            <a:br>
              <a:rPr sz="2200"/>
            </a:br>
            <a:r>
              <a:rPr b="1" lang="en-US" sz="2200" spc="-1" strike="noStrike">
                <a:solidFill>
                  <a:srgbClr val="ffffff"/>
                </a:solidFill>
                <a:latin typeface="Times New Roman"/>
                <a:ea typeface="Times New Roman"/>
              </a:rPr>
              <a:t>support</a:t>
            </a:r>
            <a:endParaRPr b="0" lang="en-US" sz="2200" spc="-1" strike="noStrike">
              <a:solidFill>
                <a:srgbClr val="000000"/>
              </a:solidFill>
              <a:latin typeface="Arial"/>
            </a:endParaRPr>
          </a:p>
        </p:txBody>
      </p:sp>
      <p:sp>
        <p:nvSpPr>
          <p:cNvPr id="231" name=""/>
          <p:cNvSpPr/>
          <p:nvPr/>
        </p:nvSpPr>
        <p:spPr>
          <a:xfrm>
            <a:off x="2114640" y="1909800"/>
            <a:ext cx="4953240" cy="1533960"/>
          </a:xfrm>
          <a:custGeom>
            <a:avLst/>
            <a:gdLst/>
            <a:ahLst/>
            <a:rect l="0" t="0" r="r" b="b"/>
            <a:pathLst>
              <a:path w="13759" h="4261">
                <a:moveTo>
                  <a:pt x="4497" y="0"/>
                </a:moveTo>
                <a:lnTo>
                  <a:pt x="0" y="4261"/>
                </a:lnTo>
                <a:lnTo>
                  <a:pt x="13759" y="4261"/>
                </a:lnTo>
                <a:lnTo>
                  <a:pt x="9261" y="26"/>
                </a:lnTo>
                <a:lnTo>
                  <a:pt x="4497" y="0"/>
                </a:lnTo>
                <a:close/>
              </a:path>
            </a:pathLst>
          </a:custGeom>
          <a:gradFill rotWithShape="0">
            <a:gsLst>
              <a:gs pos="0">
                <a:srgbClr val="ffffff"/>
              </a:gs>
              <a:gs pos="100000">
                <a:srgbClr val="0000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32" name="" descr=""/>
          <p:cNvPicPr/>
          <p:nvPr/>
        </p:nvPicPr>
        <p:blipFill>
          <a:blip r:embed="rId1"/>
          <a:stretch/>
        </p:blipFill>
        <p:spPr>
          <a:xfrm>
            <a:off x="3730680" y="876240"/>
            <a:ext cx="1690560" cy="205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formation Exchange In Office For Windows 95</a:t>
            </a:r>
            <a:endParaRPr b="0" lang="en-US" sz="4800" spc="-1" strike="noStrike">
              <a:solidFill>
                <a:srgbClr val="000000"/>
              </a:solidFill>
              <a:latin typeface="Arial"/>
            </a:endParaRPr>
          </a:p>
        </p:txBody>
      </p:sp>
      <p:sp>
        <p:nvSpPr>
          <p:cNvPr id="234" name=""/>
          <p:cNvSpPr txBox="1"/>
          <p:nvPr/>
        </p:nvSpPr>
        <p:spPr>
          <a:xfrm>
            <a:off x="993600" y="1782720"/>
            <a:ext cx="7162920" cy="4861080"/>
          </a:xfrm>
          <a:prstGeom prst="rect">
            <a:avLst/>
          </a:prstGeom>
          <a:noFill/>
          <a:ln w="0">
            <a:noFill/>
          </a:ln>
        </p:spPr>
        <p:txBody>
          <a:bodyPr lIns="0" rIns="0" tIns="0" bIns="0" anchor="t">
            <a:noAutofit/>
          </a:bodyPr>
          <a:p>
            <a:pPr marL="515880" indent="-515880">
              <a:lnSpc>
                <a:spcPct val="90000"/>
              </a:lnSpc>
              <a:spcBef>
                <a:spcPts val="720"/>
              </a:spcBef>
              <a:buClr>
                <a:srgbClr val="fafd00"/>
              </a:buClr>
              <a:buSzPct val="75000"/>
              <a:buFont typeface="Wingdings"/>
              <a:buChar char=""/>
            </a:pPr>
            <a:r>
              <a:rPr b="1" lang="en-US" sz="3000" spc="-1" strike="noStrike">
                <a:solidFill>
                  <a:srgbClr val="ffffff"/>
                </a:solidFill>
                <a:latin typeface="Times New Roman"/>
                <a:ea typeface="Times New Roman"/>
              </a:rPr>
              <a:t>Build functionality into the applications</a:t>
            </a:r>
            <a:endParaRPr b="0" lang="en-US" sz="30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WordMail</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Post to Exchange, Custom Properties</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Access replication</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Microsoft Excel shared lists</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Powerpoint presentation conferencing</a:t>
            </a:r>
            <a:endParaRPr b="0" lang="en-US" sz="2600" spc="-1" strike="noStrike">
              <a:solidFill>
                <a:srgbClr val="000000"/>
              </a:solidFill>
              <a:latin typeface="Arial"/>
            </a:endParaRPr>
          </a:p>
          <a:p>
            <a:pPr marL="515880" indent="-515880">
              <a:lnSpc>
                <a:spcPct val="90000"/>
              </a:lnSpc>
              <a:spcBef>
                <a:spcPts val="720"/>
              </a:spcBef>
              <a:buClr>
                <a:srgbClr val="fafd00"/>
              </a:buClr>
              <a:buSzPct val="75000"/>
              <a:buFont typeface="Wingdings"/>
              <a:buChar char=""/>
            </a:pPr>
            <a:r>
              <a:rPr b="1" lang="en-US" sz="3000" spc="-1" strike="noStrike">
                <a:solidFill>
                  <a:srgbClr val="ffffff"/>
                </a:solidFill>
                <a:latin typeface="Times New Roman"/>
                <a:ea typeface="Times New Roman"/>
              </a:rPr>
              <a:t>Support key technologies</a:t>
            </a:r>
            <a:endParaRPr b="0" lang="en-US" sz="30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Schedule+ with group scheduling</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MS Mail and Exchange support</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Notes suppor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nline Tool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36" name=""/>
          <p:cNvSpPr txBox="1"/>
          <p:nvPr/>
        </p:nvSpPr>
        <p:spPr>
          <a:xfrm>
            <a:off x="574560" y="2075040"/>
            <a:ext cx="800100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uild functionality into the application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Office Forum on MSN </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Internet Assistan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Micorsoft Excel, PowerPoint viewer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highlighte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key technologie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Network</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ld Wid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88880" y="2253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Demonstration #1</a:t>
            </a:r>
            <a:endParaRPr b="0" lang="en-US" sz="4800" spc="-1" strike="noStrike">
              <a:solidFill>
                <a:srgbClr val="000000"/>
              </a:solidFill>
              <a:latin typeface="Arial"/>
            </a:endParaRPr>
          </a:p>
        </p:txBody>
      </p:sp>
      <p:sp>
        <p:nvSpPr>
          <p:cNvPr id="238" name=""/>
          <p:cNvSpPr txBox="1"/>
          <p:nvPr/>
        </p:nvSpPr>
        <p:spPr>
          <a:xfrm>
            <a:off x="819000" y="1825560"/>
            <a:ext cx="3976560" cy="2397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IntelliSense</a:t>
            </a:r>
            <a:endParaRPr b="0" lang="en-US" sz="36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Office Links</a:t>
            </a:r>
            <a:endParaRPr b="0" lang="en-US" sz="36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The Connected Office</a:t>
            </a:r>
            <a:endParaRPr b="0" lang="en-US" sz="3600" spc="-1" strike="noStrike">
              <a:solidFill>
                <a:srgbClr val="000000"/>
              </a:solidFill>
              <a:latin typeface="Arial"/>
            </a:endParaRPr>
          </a:p>
        </p:txBody>
      </p:sp>
      <p:pic>
        <p:nvPicPr>
          <p:cNvPr id="239" name="" descr=""/>
          <p:cNvPicPr/>
          <p:nvPr/>
        </p:nvPicPr>
        <p:blipFill>
          <a:blip r:embed="rId1"/>
          <a:stretch/>
        </p:blipFill>
        <p:spPr>
          <a:xfrm>
            <a:off x="5452920" y="1665360"/>
            <a:ext cx="2878200" cy="352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749520" y="775800"/>
            <a:ext cx="7576920" cy="5724720"/>
          </a:xfrm>
          <a:custGeom>
            <a:avLst/>
            <a:gdLst/>
            <a:ahLst/>
            <a:rect l="0" t="0" r="r" b="b"/>
            <a:pathLst>
              <a:path w="21047" h="15902">
                <a:moveTo>
                  <a:pt x="0" y="13316"/>
                </a:moveTo>
                <a:lnTo>
                  <a:pt x="1878" y="15902"/>
                </a:lnTo>
                <a:lnTo>
                  <a:pt x="15955" y="5675"/>
                </a:lnTo>
                <a:lnTo>
                  <a:pt x="16581" y="6537"/>
                </a:lnTo>
                <a:lnTo>
                  <a:pt x="21047" y="0"/>
                </a:lnTo>
                <a:lnTo>
                  <a:pt x="13449" y="2227"/>
                </a:lnTo>
                <a:lnTo>
                  <a:pt x="14075" y="3089"/>
                </a:lnTo>
                <a:lnTo>
                  <a:pt x="0" y="13316"/>
                </a:lnTo>
                <a:close/>
              </a:path>
            </a:pathLst>
          </a:custGeom>
          <a:gradFill rotWithShape="0">
            <a:gsLst>
              <a:gs pos="0">
                <a:srgbClr val="000080"/>
              </a:gs>
              <a:gs pos="100000">
                <a:srgbClr val="00279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293760" y="225360"/>
            <a:ext cx="59245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s</a:t>
            </a:r>
            <a:endParaRPr b="0" lang="en-US" sz="4800" spc="-1" strike="noStrike">
              <a:solidFill>
                <a:srgbClr val="000000"/>
              </a:solidFill>
              <a:latin typeface="Arial"/>
            </a:endParaRPr>
          </a:p>
        </p:txBody>
      </p:sp>
      <p:sp>
        <p:nvSpPr>
          <p:cNvPr id="242" name=""/>
          <p:cNvSpPr txBox="1"/>
          <p:nvPr/>
        </p:nvSpPr>
        <p:spPr>
          <a:xfrm>
            <a:off x="5543640" y="615960"/>
            <a:ext cx="3222720" cy="172872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280049"/>
                </a:solidFill>
                <a:latin typeface="Times New Roman"/>
                <a:ea typeface="Times New Roman"/>
              </a:rPr>
              <a:t>Results</a:t>
            </a:r>
            <a:endParaRPr b="0" lang="en-US" sz="28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Better decisions</a:t>
            </a:r>
            <a:endParaRPr b="0" lang="en-US" sz="26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Faster response</a:t>
            </a:r>
            <a:endParaRPr b="0" lang="en-US" sz="26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Smarter investment</a:t>
            </a:r>
            <a:endParaRPr b="0" lang="en-US" sz="2600" spc="-1" strike="noStrike">
              <a:solidFill>
                <a:srgbClr val="000000"/>
              </a:solidFill>
              <a:latin typeface="Arial"/>
            </a:endParaRPr>
          </a:p>
        </p:txBody>
      </p:sp>
      <p:sp>
        <p:nvSpPr>
          <p:cNvPr id="243" name=""/>
          <p:cNvSpPr txBox="1"/>
          <p:nvPr/>
        </p:nvSpPr>
        <p:spPr>
          <a:xfrm>
            <a:off x="2584440" y="2425680"/>
            <a:ext cx="4441680" cy="1728720"/>
          </a:xfrm>
          <a:prstGeom prst="rect">
            <a:avLst/>
          </a:prstGeom>
          <a:noFill/>
          <a:ln w="0">
            <a:noFill/>
          </a:ln>
        </p:spPr>
        <p:txBody>
          <a:bodyPr lIns="0" rIns="0" tIns="0" bIns="0" anchor="t">
            <a:noAutofit/>
          </a:bodyPr>
          <a:p>
            <a:pPr algn="ctr">
              <a:lnSpc>
                <a:spcPct val="90000"/>
              </a:lnSpc>
              <a:spcBef>
                <a:spcPts val="720"/>
              </a:spcBef>
            </a:pPr>
            <a:r>
              <a:rPr b="1" lang="en-US" sz="2800" spc="-1" strike="noStrike">
                <a:solidFill>
                  <a:srgbClr val="280049"/>
                </a:solidFill>
                <a:latin typeface="Times New Roman"/>
                <a:ea typeface="Times New Roman"/>
              </a:rPr>
              <a:t>Solutions</a:t>
            </a:r>
            <a:endParaRPr b="0" lang="en-US" sz="28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Line of business application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Information system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Workflow management</a:t>
            </a:r>
            <a:endParaRPr b="0" lang="en-US" sz="2600" spc="-1" strike="noStrike">
              <a:solidFill>
                <a:srgbClr val="000000"/>
              </a:solidFill>
              <a:latin typeface="Arial"/>
            </a:endParaRPr>
          </a:p>
        </p:txBody>
      </p:sp>
      <p:sp>
        <p:nvSpPr>
          <p:cNvPr id="244" name=""/>
          <p:cNvSpPr txBox="1"/>
          <p:nvPr/>
        </p:nvSpPr>
        <p:spPr>
          <a:xfrm>
            <a:off x="279360" y="4068720"/>
            <a:ext cx="4989600" cy="2146320"/>
          </a:xfrm>
          <a:prstGeom prst="rect">
            <a:avLst/>
          </a:prstGeom>
          <a:noFill/>
          <a:ln w="0">
            <a:noFill/>
          </a:ln>
        </p:spPr>
        <p:txBody>
          <a:bodyPr lIns="0" rIns="0" tIns="0" bIns="0" anchor="t">
            <a:noAutofit/>
          </a:bodyPr>
          <a:p>
            <a:pPr>
              <a:lnSpc>
                <a:spcPct val="90000"/>
              </a:lnSpc>
              <a:spcBef>
                <a:spcPts val="720"/>
              </a:spcBef>
            </a:pPr>
            <a:r>
              <a:rPr b="1" lang="en-US" sz="2800" spc="-1" strike="noStrike">
                <a:solidFill>
                  <a:srgbClr val="280049"/>
                </a:solidFill>
                <a:latin typeface="Times New Roman"/>
                <a:ea typeface="Times New Roman"/>
              </a:rPr>
              <a:t>Tools</a:t>
            </a:r>
            <a:endParaRPr b="0" lang="en-US" sz="28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Visual Basic technology</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OLE Automation</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Microsoft BackOffice component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Office objects</a:t>
            </a:r>
            <a:endParaRPr b="0" lang="en-US" sz="2600" spc="-1" strike="noStrike">
              <a:solidFill>
                <a:srgbClr val="000000"/>
              </a:solidFill>
              <a:latin typeface="Arial"/>
            </a:endParaRPr>
          </a:p>
        </p:txBody>
      </p:sp>
      <p:pic>
        <p:nvPicPr>
          <p:cNvPr id="245" name="" descr=""/>
          <p:cNvPicPr/>
          <p:nvPr/>
        </p:nvPicPr>
        <p:blipFill>
          <a:blip r:embed="rId1"/>
          <a:stretch/>
        </p:blipFill>
        <p:spPr>
          <a:xfrm>
            <a:off x="549360" y="1447920"/>
            <a:ext cx="1690560" cy="2055960"/>
          </a:xfrm>
          <a:prstGeom prst="rect">
            <a:avLst/>
          </a:prstGeom>
          <a:ln w="0">
            <a:noFill/>
          </a:ln>
        </p:spPr>
      </p:pic>
      <p:pic>
        <p:nvPicPr>
          <p:cNvPr id="246" name="" descr=""/>
          <p:cNvPicPr/>
          <p:nvPr/>
        </p:nvPicPr>
        <p:blipFill>
          <a:blip r:embed="rId2"/>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47680" y="225360"/>
            <a:ext cx="86551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eloitte &amp; Touche</a:t>
            </a:r>
            <a:br>
              <a:rPr sz="4800"/>
            </a:br>
            <a:r>
              <a:rPr b="1" lang="en-US" sz="3600" spc="-1" strike="noStrike">
                <a:solidFill>
                  <a:srgbClr val="280049"/>
                </a:solidFill>
                <a:latin typeface="Times New Roman"/>
                <a:ea typeface="Times New Roman"/>
              </a:rPr>
              <a:t>Automated multimedia publishing system</a:t>
            </a:r>
            <a:endParaRPr b="0" lang="en-US" sz="3600" spc="-1" strike="noStrike">
              <a:solidFill>
                <a:srgbClr val="000000"/>
              </a:solidFill>
              <a:latin typeface="Arial"/>
            </a:endParaRPr>
          </a:p>
        </p:txBody>
      </p:sp>
      <p:sp>
        <p:nvSpPr>
          <p:cNvPr id="248" name=""/>
          <p:cNvSpPr txBox="1"/>
          <p:nvPr/>
        </p:nvSpPr>
        <p:spPr>
          <a:xfrm>
            <a:off x="990720" y="1735200"/>
            <a:ext cx="7162920" cy="4551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 and distribution costs cut over $1.5 Millio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assembly time cut 90%</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ublishing staffing resources cut 60% </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ofing and publishing time cut 50%</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 system integration proposals developed 16% fas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are accessible on-line in native format from Access reposi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52600" y="203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over Group Ltd. (Europe)</a:t>
            </a:r>
            <a:br>
              <a:rPr sz="4800"/>
            </a:br>
            <a:r>
              <a:rPr b="1" lang="en-US" sz="3600" spc="-1" strike="noStrike">
                <a:solidFill>
                  <a:srgbClr val="280049"/>
                </a:solidFill>
                <a:latin typeface="Times New Roman"/>
                <a:ea typeface="Times New Roman"/>
              </a:rPr>
              <a:t>Dealer order and purchase system</a:t>
            </a:r>
            <a:endParaRPr b="0" lang="en-US" sz="3600" spc="-1" strike="noStrike">
              <a:solidFill>
                <a:srgbClr val="000000"/>
              </a:solidFill>
              <a:latin typeface="Arial"/>
            </a:endParaRPr>
          </a:p>
        </p:txBody>
      </p:sp>
      <p:sp>
        <p:nvSpPr>
          <p:cNvPr id="250" name=""/>
          <p:cNvSpPr txBox="1"/>
          <p:nvPr/>
        </p:nvSpPr>
        <p:spPr>
          <a:xfrm>
            <a:off x="523800" y="1808280"/>
            <a:ext cx="8051760" cy="3743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oubled dealer profitability per sal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d customer satisfaction to 98.2%</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ehicle delivery guaranteed in &lt;15 day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forecasting and reduced dealer stocking requirement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ice, Microsoft BackOffice solution is key to meeting JIT production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52600" y="203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owa Dept. of Human Services</a:t>
            </a:r>
            <a:br>
              <a:rPr sz="4800"/>
            </a:br>
            <a:r>
              <a:rPr b="1" lang="en-US" sz="3600" spc="-1" strike="noStrike">
                <a:solidFill>
                  <a:srgbClr val="280049"/>
                </a:solidFill>
                <a:latin typeface="Times New Roman"/>
                <a:ea typeface="Times New Roman"/>
              </a:rPr>
              <a:t>Foster care and adoption system</a:t>
            </a:r>
            <a:endParaRPr b="0" lang="en-US" sz="3600" spc="-1" strike="noStrike">
              <a:solidFill>
                <a:srgbClr val="000000"/>
              </a:solidFill>
              <a:latin typeface="Arial"/>
            </a:endParaRPr>
          </a:p>
        </p:txBody>
      </p:sp>
      <p:sp>
        <p:nvSpPr>
          <p:cNvPr id="252" name=""/>
          <p:cNvSpPr txBox="1"/>
          <p:nvPr/>
        </p:nvSpPr>
        <p:spPr>
          <a:xfrm>
            <a:off x="804960" y="1860480"/>
            <a:ext cx="754056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enefit application paperwork reduced 87%</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 duplication and errors eliminated</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enefit determination period cut </a:t>
            </a:r>
            <a:br>
              <a:rPr sz="3200"/>
            </a:br>
            <a:r>
              <a:rPr b="1" lang="en-US" sz="3200" spc="-1" strike="noStrike">
                <a:solidFill>
                  <a:srgbClr val="ffffff"/>
                </a:solidFill>
                <a:latin typeface="Times New Roman"/>
                <a:ea typeface="Times New Roman"/>
              </a:rPr>
              <a:t>by 30 day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titlement reports are generated automatically via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for Application and OLE Auto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35080" y="225360"/>
            <a:ext cx="86803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54" name=""/>
          <p:cNvSpPr txBox="1"/>
          <p:nvPr/>
        </p:nvSpPr>
        <p:spPr>
          <a:xfrm>
            <a:off x="493560" y="1714680"/>
            <a:ext cx="8163000" cy="484344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Second generation OLE support</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New OLE extensions</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Extended container support</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Improved fit and finish</a:t>
            </a:r>
            <a:endParaRPr b="0" lang="en-US" sz="2600" spc="-1" strike="noStrike">
              <a:solidFill>
                <a:srgbClr val="000000"/>
              </a:solidFill>
              <a:latin typeface="Arial"/>
            </a:endParaRPr>
          </a:p>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Expanded Visual Basic for Applications support</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Visual Basic for Applications in Microsoft Access</a:t>
            </a:r>
            <a:endParaRPr b="0" lang="en-US" sz="2600" spc="-1" strike="noStrike">
              <a:solidFill>
                <a:srgbClr val="000000"/>
              </a:solidFill>
              <a:latin typeface="Arial"/>
            </a:endParaRPr>
          </a:p>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Enhanced object models</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Object model in PowerPoint, Sched+, </a:t>
            </a:r>
            <a:br>
              <a:rPr sz="2600"/>
            </a:br>
            <a:r>
              <a:rPr b="1" lang="en-US" sz="2600" spc="-1" strike="noStrike">
                <a:solidFill>
                  <a:srgbClr val="ffffff"/>
                </a:solidFill>
                <a:latin typeface="Times New Roman"/>
                <a:ea typeface="Times New Roman"/>
              </a:rPr>
              <a:t>Microsoft Access</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Data Access Objects (DAO) in Microsoft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82680" y="1674720"/>
            <a:ext cx="2222640" cy="137016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ite Category Increasing</a:t>
            </a:r>
            <a:endParaRPr b="0" lang="en-US" sz="4800" spc="-1" strike="noStrike">
              <a:solidFill>
                <a:srgbClr val="000000"/>
              </a:solidFill>
              <a:latin typeface="Arial"/>
            </a:endParaRPr>
          </a:p>
        </p:txBody>
      </p:sp>
      <p:pic>
        <p:nvPicPr>
          <p:cNvPr id="132" name="" descr=""/>
          <p:cNvPicPr/>
          <p:nvPr/>
        </p:nvPicPr>
        <p:blipFill>
          <a:blip r:embed="rId1"/>
          <a:stretch/>
        </p:blipFill>
        <p:spPr>
          <a:xfrm>
            <a:off x="371520" y="1390680"/>
            <a:ext cx="8439120" cy="492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Demonstration #2</a:t>
            </a:r>
            <a:endParaRPr b="0" lang="en-US" sz="4800" spc="-1" strike="noStrike">
              <a:solidFill>
                <a:srgbClr val="000000"/>
              </a:solidFill>
              <a:latin typeface="Arial"/>
            </a:endParaRPr>
          </a:p>
        </p:txBody>
      </p:sp>
      <p:sp>
        <p:nvSpPr>
          <p:cNvPr id="256" name=""/>
          <p:cNvSpPr txBox="1"/>
          <p:nvPr/>
        </p:nvSpPr>
        <p:spPr>
          <a:xfrm>
            <a:off x="789120" y="1808280"/>
            <a:ext cx="4500720" cy="585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Business solutions</a:t>
            </a:r>
            <a:endParaRPr b="0" lang="en-US" sz="3600" spc="-1" strike="noStrike">
              <a:solidFill>
                <a:srgbClr val="000000"/>
              </a:solidFill>
              <a:latin typeface="Arial"/>
            </a:endParaRPr>
          </a:p>
        </p:txBody>
      </p:sp>
      <p:pic>
        <p:nvPicPr>
          <p:cNvPr id="257" name="" descr=""/>
          <p:cNvPicPr/>
          <p:nvPr/>
        </p:nvPicPr>
        <p:blipFill>
          <a:blip r:embed="rId1"/>
          <a:stretch/>
        </p:blipFill>
        <p:spPr>
          <a:xfrm>
            <a:off x="5481720" y="1808280"/>
            <a:ext cx="2878200" cy="352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 Requirements</a:t>
            </a:r>
            <a:endParaRPr b="0" lang="en-US" sz="4800" spc="-1" strike="noStrike">
              <a:solidFill>
                <a:srgbClr val="000000"/>
              </a:solidFill>
              <a:latin typeface="Arial"/>
            </a:endParaRPr>
          </a:p>
        </p:txBody>
      </p:sp>
      <p:sp>
        <p:nvSpPr>
          <p:cNvPr id="259" name=""/>
          <p:cNvSpPr txBox="1"/>
          <p:nvPr/>
        </p:nvSpPr>
        <p:spPr>
          <a:xfrm>
            <a:off x="1006560" y="1068480"/>
            <a:ext cx="7137360" cy="2228760"/>
          </a:xfrm>
          <a:prstGeom prst="rect">
            <a:avLst/>
          </a:prstGeom>
          <a:noFill/>
          <a:ln w="0">
            <a:noFill/>
          </a:ln>
        </p:spPr>
        <p:txBody>
          <a:bodyPr lIns="0" rIns="0" tIns="0" bIns="0" anchor="t">
            <a:noAutofit/>
          </a:bodyPr>
          <a:p>
            <a:pPr algn="ctr">
              <a:lnSpc>
                <a:spcPct val="90000"/>
              </a:lnSpc>
              <a:spcBef>
                <a:spcPts val="720"/>
              </a:spcBef>
              <a:tabLst>
                <a:tab algn="ctr" pos="3827520"/>
                <a:tab algn="ctr" pos="5937120"/>
              </a:tabLst>
            </a:pPr>
            <a:r>
              <a:rPr b="1" lang="en-US" sz="2800" spc="-1" strike="noStrike">
                <a:solidFill>
                  <a:srgbClr val="ffffff"/>
                </a:solidFill>
                <a:latin typeface="Times New Roman"/>
                <a:ea typeface="Times New Roman"/>
              </a:rPr>
              <a:t>       </a:t>
            </a:r>
            <a:r>
              <a:rPr b="1" lang="en-US" sz="2800" spc="-1" strike="noStrike">
                <a:solidFill>
                  <a:srgbClr val="280049"/>
                </a:solidFill>
                <a:latin typeface="Times New Roman"/>
                <a:ea typeface="Times New Roman"/>
              </a:rPr>
              <a:t>Hard disk space</a:t>
            </a:r>
            <a:r>
              <a:rPr b="1" lang="en-US" sz="2400" spc="-1" strike="noStrike" u="sng">
                <a:solidFill>
                  <a:srgbClr val="ffffff"/>
                </a:solidFill>
                <a:uFillTx/>
                <a:latin typeface="Times New Roman"/>
                <a:ea typeface="Times New Roman"/>
              </a:rPr>
              <a:t>	</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Standard</a:t>
            </a:r>
            <a:r>
              <a:rPr b="1" lang="en-US"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Professional</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Compact</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28</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40</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Typica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55</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87</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Custom</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89</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126</a:t>
            </a:r>
            <a:endParaRPr b="0" lang="en-US" sz="2400" spc="-1" strike="noStrike">
              <a:solidFill>
                <a:srgbClr val="000000"/>
              </a:solidFill>
              <a:latin typeface="Arial"/>
            </a:endParaRPr>
          </a:p>
        </p:txBody>
      </p:sp>
      <p:sp>
        <p:nvSpPr>
          <p:cNvPr id="260" name=""/>
          <p:cNvSpPr txBox="1"/>
          <p:nvPr/>
        </p:nvSpPr>
        <p:spPr>
          <a:xfrm>
            <a:off x="955800" y="3351240"/>
            <a:ext cx="7831080" cy="3133800"/>
          </a:xfrm>
          <a:prstGeom prst="rect">
            <a:avLst/>
          </a:prstGeom>
          <a:noFill/>
          <a:ln w="0">
            <a:noFill/>
          </a:ln>
        </p:spPr>
        <p:txBody>
          <a:bodyPr lIns="0" rIns="0" tIns="0" bIns="0" anchor="t">
            <a:noAutofit/>
          </a:bodyPr>
          <a:p>
            <a:pPr marL="339840" indent="-339840">
              <a:lnSpc>
                <a:spcPct val="90000"/>
              </a:lnSpc>
              <a:spcBef>
                <a:spcPts val="720"/>
              </a:spcBef>
            </a:pPr>
            <a:r>
              <a:rPr b="1" lang="en-US" sz="2800" spc="-1" strike="noStrike">
                <a:solidFill>
                  <a:srgbClr val="280049"/>
                </a:solidFill>
                <a:latin typeface="Times New Roman"/>
                <a:ea typeface="Times New Roman"/>
              </a:rPr>
              <a:t>Additional system requirements</a:t>
            </a:r>
            <a:endParaRPr b="0" lang="en-US" sz="28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PC with a 386DX or higher processor (486 recommended)</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Microsoft Windows 95 operating system or Microsoft Windows NT Workstation operating system 3.51 (or later)</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8 MB of memory to run two programs other than Access on Windows 95. 12 MB of memory to run Access.</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16 MB of memory to run two programs on </a:t>
            </a:r>
            <a:br>
              <a:rPr sz="2000"/>
            </a:br>
            <a:r>
              <a:rPr b="1" lang="en-US" sz="2000" spc="-1" strike="noStrike">
                <a:solidFill>
                  <a:srgbClr val="ffffff"/>
                </a:solidFill>
                <a:latin typeface="Times New Roman"/>
                <a:ea typeface="Times New Roman"/>
              </a:rPr>
              <a:t>Windows NT Workstation</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GA or higher resolution video adap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Performance Improvements</a:t>
            </a:r>
            <a:endParaRPr b="0" lang="en-US" sz="4800" spc="-1" strike="noStrike">
              <a:solidFill>
                <a:srgbClr val="000000"/>
              </a:solidFill>
              <a:latin typeface="Arial"/>
            </a:endParaRPr>
          </a:p>
        </p:txBody>
      </p:sp>
      <p:sp>
        <p:nvSpPr>
          <p:cNvPr id="262" name=""/>
          <p:cNvSpPr/>
          <p:nvPr/>
        </p:nvSpPr>
        <p:spPr>
          <a:xfrm>
            <a:off x="423720" y="6066000"/>
            <a:ext cx="193680" cy="144360"/>
          </a:xfrm>
          <a:prstGeom prst="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3720" y="6461280"/>
            <a:ext cx="193680" cy="1443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733320" y="5969160"/>
            <a:ext cx="7956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xcel for Windows 95 vs. Excel 5.0 for Windows - Windows for Workgroups</a:t>
            </a:r>
            <a:endParaRPr b="0" lang="en-US" sz="1600" spc="-1" strike="noStrike">
              <a:solidFill>
                <a:srgbClr val="000000"/>
              </a:solidFill>
              <a:latin typeface="Arial"/>
            </a:endParaRPr>
          </a:p>
        </p:txBody>
      </p:sp>
      <p:sp>
        <p:nvSpPr>
          <p:cNvPr id="265" name=""/>
          <p:cNvSpPr txBox="1"/>
          <p:nvPr/>
        </p:nvSpPr>
        <p:spPr>
          <a:xfrm>
            <a:off x="733320" y="6364440"/>
            <a:ext cx="72136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xcel for Windows 95 vs. Excel 5.0 for Windows - Windows 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423720" y="6066000"/>
            <a:ext cx="193680" cy="144360"/>
          </a:xfrm>
          <a:prstGeom prst="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23720" y="6461280"/>
            <a:ext cx="193680" cy="1443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33320" y="5969160"/>
            <a:ext cx="7956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ord for Windows 95 vs. Word 6.0 for Windows - Windows for Workgroups</a:t>
            </a:r>
            <a:endParaRPr b="0" lang="en-US" sz="1600" spc="-1" strike="noStrike">
              <a:solidFill>
                <a:srgbClr val="000000"/>
              </a:solidFill>
              <a:latin typeface="Arial"/>
            </a:endParaRPr>
          </a:p>
        </p:txBody>
      </p:sp>
      <p:sp>
        <p:nvSpPr>
          <p:cNvPr id="269" name=""/>
          <p:cNvSpPr txBox="1"/>
          <p:nvPr/>
        </p:nvSpPr>
        <p:spPr>
          <a:xfrm>
            <a:off x="733320" y="6364440"/>
            <a:ext cx="72136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ord for Windows 95 vs. Word 6.0 for Windows - Windows 95</a:t>
            </a:r>
            <a:endParaRPr b="0" lang="en-US" sz="1600" spc="-1" strike="noStrike">
              <a:solidFill>
                <a:srgbClr val="000000"/>
              </a:solidFill>
              <a:latin typeface="Arial"/>
            </a:endParaRPr>
          </a:p>
        </p:txBody>
      </p:sp>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Performance Improve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527040" y="225360"/>
            <a:ext cx="8096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nefits Summary</a:t>
            </a:r>
            <a:endParaRPr b="0" lang="en-US" sz="4800" spc="-1" strike="noStrike">
              <a:solidFill>
                <a:srgbClr val="000000"/>
              </a:solidFill>
              <a:latin typeface="Arial"/>
            </a:endParaRPr>
          </a:p>
        </p:txBody>
      </p:sp>
      <p:sp>
        <p:nvSpPr>
          <p:cNvPr id="272" name=""/>
          <p:cNvSpPr/>
          <p:nvPr/>
        </p:nvSpPr>
        <p:spPr>
          <a:xfrm>
            <a:off x="5311800" y="1503360"/>
            <a:ext cx="3427560" cy="4284720"/>
          </a:xfrm>
          <a:prstGeom prst="rect">
            <a:avLst/>
          </a:prstGeom>
          <a:gradFill rotWithShape="0">
            <a:gsLst>
              <a:gs pos="0">
                <a:srgbClr val="b760f9"/>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txBox="1"/>
          <p:nvPr/>
        </p:nvSpPr>
        <p:spPr>
          <a:xfrm>
            <a:off x="5521320" y="4678200"/>
            <a:ext cx="3065400" cy="82404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Communicate in a connected World</a:t>
            </a:r>
            <a:endParaRPr b="0" lang="en-US" sz="2500" spc="-1" strike="noStrike">
              <a:solidFill>
                <a:srgbClr val="000000"/>
              </a:solidFill>
              <a:latin typeface="Arial"/>
            </a:endParaRPr>
          </a:p>
        </p:txBody>
      </p:sp>
      <p:sp>
        <p:nvSpPr>
          <p:cNvPr id="274" name=""/>
          <p:cNvSpPr txBox="1"/>
          <p:nvPr/>
        </p:nvSpPr>
        <p:spPr>
          <a:xfrm>
            <a:off x="5511960" y="3632040"/>
            <a:ext cx="305748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Share information easily</a:t>
            </a:r>
            <a:endParaRPr b="0" lang="en-US" sz="2500" spc="-1" strike="noStrike">
              <a:solidFill>
                <a:srgbClr val="000000"/>
              </a:solidFill>
              <a:latin typeface="Arial"/>
            </a:endParaRPr>
          </a:p>
        </p:txBody>
      </p:sp>
      <p:sp>
        <p:nvSpPr>
          <p:cNvPr id="275" name=""/>
          <p:cNvSpPr/>
          <p:nvPr/>
        </p:nvSpPr>
        <p:spPr>
          <a:xfrm>
            <a:off x="6851520" y="2832120"/>
            <a:ext cx="125280" cy="93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5502240" y="2584440"/>
            <a:ext cx="300996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Work the way they want to</a:t>
            </a:r>
            <a:endParaRPr b="0" lang="en-US" sz="2500" spc="-1" strike="noStrike">
              <a:solidFill>
                <a:srgbClr val="000000"/>
              </a:solidFill>
              <a:latin typeface="Arial"/>
            </a:endParaRPr>
          </a:p>
        </p:txBody>
      </p:sp>
      <p:sp>
        <p:nvSpPr>
          <p:cNvPr id="277" name=""/>
          <p:cNvSpPr txBox="1"/>
          <p:nvPr/>
        </p:nvSpPr>
        <p:spPr>
          <a:xfrm>
            <a:off x="5492880" y="1568520"/>
            <a:ext cx="3019320" cy="825480"/>
          </a:xfrm>
          <a:prstGeom prst="rect">
            <a:avLst/>
          </a:prstGeom>
          <a:solidFill>
            <a:srgbClr val="081d58"/>
          </a:solidFill>
          <a:ln w="0">
            <a:noFill/>
          </a:ln>
          <a:effectLst>
            <a:outerShdw dist="0" dir="0" blurRad="0" rotWithShape="0">
              <a:srgbClr val="000000"/>
            </a:outerShdw>
          </a:effectLst>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Individuals</a:t>
            </a:r>
            <a:endParaRPr b="0" lang="en-US" sz="3200" spc="-1" strike="noStrike">
              <a:solidFill>
                <a:srgbClr val="ffffff"/>
              </a:solidFill>
              <a:latin typeface="Arial"/>
            </a:endParaRPr>
          </a:p>
        </p:txBody>
      </p:sp>
      <p:sp>
        <p:nvSpPr>
          <p:cNvPr id="278" name=""/>
          <p:cNvSpPr/>
          <p:nvPr/>
        </p:nvSpPr>
        <p:spPr>
          <a:xfrm>
            <a:off x="411120" y="1498680"/>
            <a:ext cx="3457440" cy="4257720"/>
          </a:xfrm>
          <a:prstGeom prst="rect">
            <a:avLst/>
          </a:prstGeom>
          <a:gradFill rotWithShape="0">
            <a:gsLst>
              <a:gs pos="0">
                <a:srgbClr val="b760f9"/>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txBox="1"/>
          <p:nvPr/>
        </p:nvSpPr>
        <p:spPr>
          <a:xfrm>
            <a:off x="639720" y="4694400"/>
            <a:ext cx="3065400" cy="82404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Smart investment</a:t>
            </a:r>
            <a:endParaRPr b="0" lang="en-US" sz="2500" spc="-1" strike="noStrike">
              <a:solidFill>
                <a:srgbClr val="000000"/>
              </a:solidFill>
              <a:latin typeface="Arial"/>
            </a:endParaRPr>
          </a:p>
        </p:txBody>
      </p:sp>
      <p:sp>
        <p:nvSpPr>
          <p:cNvPr id="280" name=""/>
          <p:cNvSpPr txBox="1"/>
          <p:nvPr/>
        </p:nvSpPr>
        <p:spPr>
          <a:xfrm>
            <a:off x="630360" y="3648240"/>
            <a:ext cx="305748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Faster response</a:t>
            </a:r>
            <a:endParaRPr b="0" lang="en-US" sz="2500" spc="-1" strike="noStrike">
              <a:solidFill>
                <a:srgbClr val="000000"/>
              </a:solidFill>
              <a:latin typeface="Arial"/>
            </a:endParaRPr>
          </a:p>
        </p:txBody>
      </p:sp>
      <p:sp>
        <p:nvSpPr>
          <p:cNvPr id="281" name=""/>
          <p:cNvSpPr txBox="1"/>
          <p:nvPr/>
        </p:nvSpPr>
        <p:spPr>
          <a:xfrm>
            <a:off x="620640" y="2600280"/>
            <a:ext cx="300996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Better decisions</a:t>
            </a:r>
            <a:endParaRPr b="0" lang="en-US" sz="2500" spc="-1" strike="noStrike">
              <a:solidFill>
                <a:srgbClr val="000000"/>
              </a:solidFill>
              <a:latin typeface="Arial"/>
            </a:endParaRPr>
          </a:p>
        </p:txBody>
      </p:sp>
      <p:sp>
        <p:nvSpPr>
          <p:cNvPr id="282" name=""/>
          <p:cNvSpPr txBox="1"/>
          <p:nvPr/>
        </p:nvSpPr>
        <p:spPr>
          <a:xfrm>
            <a:off x="611280" y="1584360"/>
            <a:ext cx="3019320" cy="825480"/>
          </a:xfrm>
          <a:prstGeom prst="rect">
            <a:avLst/>
          </a:prstGeom>
          <a:solidFill>
            <a:srgbClr val="081d58"/>
          </a:solidFill>
          <a:ln w="0">
            <a:noFill/>
          </a:ln>
          <a:effectLst>
            <a:outerShdw dist="0" dir="0" blurRad="0" rotWithShape="0">
              <a:srgbClr val="000000"/>
            </a:outerShdw>
          </a:effectLst>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Organizations</a:t>
            </a:r>
            <a:endParaRPr b="0" lang="en-US" sz="3200" spc="-1" strike="noStrike">
              <a:solidFill>
                <a:srgbClr val="ffffff"/>
              </a:solidFill>
              <a:latin typeface="Arial"/>
            </a:endParaRPr>
          </a:p>
        </p:txBody>
      </p:sp>
      <p:sp>
        <p:nvSpPr>
          <p:cNvPr id="283" name=""/>
          <p:cNvSpPr/>
          <p:nvPr/>
        </p:nvSpPr>
        <p:spPr>
          <a:xfrm>
            <a:off x="3954600" y="2327400"/>
            <a:ext cx="1257840" cy="714600"/>
          </a:xfrm>
          <a:custGeom>
            <a:avLst/>
            <a:gdLst/>
            <a:ahLst/>
            <a:rect l="0" t="0" r="r" b="b"/>
            <a:pathLst>
              <a:path w="3494" h="1985">
                <a:moveTo>
                  <a:pt x="0" y="660"/>
                </a:moveTo>
                <a:lnTo>
                  <a:pt x="0" y="1322"/>
                </a:lnTo>
                <a:lnTo>
                  <a:pt x="2445" y="1322"/>
                </a:lnTo>
                <a:lnTo>
                  <a:pt x="2445" y="1985"/>
                </a:lnTo>
                <a:lnTo>
                  <a:pt x="3494" y="993"/>
                </a:lnTo>
                <a:lnTo>
                  <a:pt x="2445" y="0"/>
                </a:lnTo>
                <a:lnTo>
                  <a:pt x="2445" y="660"/>
                </a:lnTo>
                <a:lnTo>
                  <a:pt x="0" y="660"/>
                </a:lnTo>
                <a:close/>
              </a:path>
            </a:pathLst>
          </a:custGeom>
          <a:gradFill rotWithShape="0">
            <a:gsLst>
              <a:gs pos="0">
                <a:srgbClr val="ffffff"/>
              </a:gs>
              <a:gs pos="100000">
                <a:srgbClr val="00279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954600" y="3780000"/>
            <a:ext cx="1257840" cy="714600"/>
          </a:xfrm>
          <a:custGeom>
            <a:avLst/>
            <a:gdLst/>
            <a:ahLst/>
            <a:rect l="0" t="0" r="r" b="b"/>
            <a:pathLst>
              <a:path w="3494" h="1985">
                <a:moveTo>
                  <a:pt x="3494" y="660"/>
                </a:moveTo>
                <a:lnTo>
                  <a:pt x="3494" y="1322"/>
                </a:lnTo>
                <a:lnTo>
                  <a:pt x="1048" y="1322"/>
                </a:lnTo>
                <a:lnTo>
                  <a:pt x="1048" y="1985"/>
                </a:lnTo>
                <a:lnTo>
                  <a:pt x="0" y="993"/>
                </a:lnTo>
                <a:lnTo>
                  <a:pt x="1048" y="0"/>
                </a:lnTo>
                <a:lnTo>
                  <a:pt x="1048" y="660"/>
                </a:lnTo>
                <a:lnTo>
                  <a:pt x="3494" y="660"/>
                </a:lnTo>
                <a:close/>
              </a:path>
            </a:pathLst>
          </a:custGeom>
          <a:gradFill rotWithShape="0">
            <a:gsLst>
              <a:gs pos="0">
                <a:srgbClr val="00279f"/>
              </a:gs>
              <a:gs pos="100000">
                <a:srgbClr val="fffff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88880" y="1514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2560" cy="6856560"/>
          </a:xfrm>
          <a:prstGeom prst="rect">
            <a:avLst/>
          </a:prstGeom>
          <a:ln w="0">
            <a:noFill/>
          </a:ln>
        </p:spPr>
      </p:pic>
      <p:grpSp>
        <p:nvGrpSpPr>
          <p:cNvPr id="287" name=""/>
          <p:cNvGrpSpPr/>
          <p:nvPr/>
        </p:nvGrpSpPr>
        <p:grpSpPr>
          <a:xfrm>
            <a:off x="7864560" y="6264360"/>
            <a:ext cx="1197000" cy="376200"/>
            <a:chOff x="7864560" y="6264360"/>
            <a:chExt cx="1197000" cy="376200"/>
          </a:xfrm>
        </p:grpSpPr>
        <p:pic>
          <p:nvPicPr>
            <p:cNvPr id="288" name="" descr=""/>
            <p:cNvPicPr/>
            <p:nvPr/>
          </p:nvPicPr>
          <p:blipFill>
            <a:blip r:embed="rId2"/>
            <a:stretch/>
          </p:blipFill>
          <p:spPr>
            <a:xfrm>
              <a:off x="7864560" y="6297480"/>
              <a:ext cx="1039680" cy="343080"/>
            </a:xfrm>
            <a:prstGeom prst="rect">
              <a:avLst/>
            </a:prstGeom>
            <a:ln w="0">
              <a:noFill/>
            </a:ln>
          </p:spPr>
        </p:pic>
        <p:sp>
          <p:nvSpPr>
            <p:cNvPr id="289"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2217600" y="1974960"/>
            <a:ext cx="2289240" cy="143676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txBox="1"/>
          <p:nvPr/>
        </p:nvSpPr>
        <p:spPr>
          <a:xfrm>
            <a:off x="119160" y="225360"/>
            <a:ext cx="8943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Mix Increasing</a:t>
            </a:r>
            <a:endParaRPr b="0" lang="en-US" sz="4800" spc="-1" strike="noStrike">
              <a:solidFill>
                <a:srgbClr val="000000"/>
              </a:solidFill>
              <a:latin typeface="Arial"/>
            </a:endParaRPr>
          </a:p>
        </p:txBody>
      </p:sp>
      <p:pic>
        <p:nvPicPr>
          <p:cNvPr id="135" name="" descr=""/>
          <p:cNvPicPr/>
          <p:nvPr/>
        </p:nvPicPr>
        <p:blipFill>
          <a:blip r:embed="rId1"/>
          <a:stretch/>
        </p:blipFill>
        <p:spPr>
          <a:xfrm>
            <a:off x="195120" y="1473120"/>
            <a:ext cx="8456760" cy="496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751120" y="2108160"/>
            <a:ext cx="1469880" cy="75240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Market Share Status Worldwide</a:t>
            </a:r>
            <a:endParaRPr b="0" lang="en-US" sz="4800" spc="-1" strike="noStrike">
              <a:solidFill>
                <a:srgbClr val="000000"/>
              </a:solidFill>
              <a:latin typeface="Arial"/>
            </a:endParaRPr>
          </a:p>
        </p:txBody>
      </p:sp>
      <p:sp>
        <p:nvSpPr>
          <p:cNvPr id="140" name=""/>
          <p:cNvSpPr txBox="1"/>
          <p:nvPr/>
        </p:nvSpPr>
        <p:spPr>
          <a:xfrm>
            <a:off x="0" y="6546960"/>
            <a:ext cx="47721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Times New Roman"/>
                <a:ea typeface="Times New Roman"/>
              </a:rPr>
              <a:t>Source:  Microsoft analysis of internal and industry data</a:t>
            </a:r>
            <a:endParaRPr b="0" lang="en-US" sz="1400" spc="-1" strike="noStrike">
              <a:solidFill>
                <a:srgbClr val="000000"/>
              </a:solidFill>
              <a:latin typeface="Arial"/>
            </a:endParaRPr>
          </a:p>
        </p:txBody>
      </p:sp>
      <p:pic>
        <p:nvPicPr>
          <p:cNvPr id="141" name="" descr=""/>
          <p:cNvPicPr/>
          <p:nvPr/>
        </p:nvPicPr>
        <p:blipFill>
          <a:blip r:embed="rId1"/>
          <a:stretch/>
        </p:blipFill>
        <p:spPr>
          <a:xfrm>
            <a:off x="277920" y="1724040"/>
            <a:ext cx="8454960" cy="4595760"/>
          </a:xfrm>
          <a:prstGeom prst="rect">
            <a:avLst/>
          </a:prstGeom>
          <a:ln w="0">
            <a:noFill/>
          </a:ln>
        </p:spPr>
      </p:pic>
      <p:sp>
        <p:nvSpPr>
          <p:cNvPr id="142" name=""/>
          <p:cNvSpPr txBox="1"/>
          <p:nvPr/>
        </p:nvSpPr>
        <p:spPr>
          <a:xfrm>
            <a:off x="981000" y="5626080"/>
            <a:ext cx="1812960" cy="64152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Microsft </a:t>
            </a:r>
            <a:br>
              <a:rPr sz="2000"/>
            </a:br>
            <a:r>
              <a:rPr b="1" lang="en-US" sz="2000" spc="-1" strike="noStrike">
                <a:solidFill>
                  <a:srgbClr val="ffffff"/>
                </a:solidFill>
                <a:latin typeface="Times New Roman"/>
                <a:ea typeface="Times New Roman"/>
              </a:rPr>
              <a:t>Excel</a:t>
            </a:r>
            <a:endParaRPr b="0" lang="en-US" sz="2000" spc="-1" strike="noStrike">
              <a:solidFill>
                <a:srgbClr val="000000"/>
              </a:solidFill>
              <a:latin typeface="Arial"/>
            </a:endParaRPr>
          </a:p>
        </p:txBody>
      </p:sp>
      <p:sp>
        <p:nvSpPr>
          <p:cNvPr id="143" name=""/>
          <p:cNvSpPr txBox="1"/>
          <p:nvPr/>
        </p:nvSpPr>
        <p:spPr>
          <a:xfrm>
            <a:off x="2886120" y="5626080"/>
            <a:ext cx="82872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Word</a:t>
            </a:r>
            <a:endParaRPr b="0" lang="en-US" sz="2000" spc="-1" strike="noStrike">
              <a:solidFill>
                <a:srgbClr val="000000"/>
              </a:solidFill>
              <a:latin typeface="Arial"/>
            </a:endParaRPr>
          </a:p>
        </p:txBody>
      </p:sp>
      <p:sp>
        <p:nvSpPr>
          <p:cNvPr id="144" name=""/>
          <p:cNvSpPr txBox="1"/>
          <p:nvPr/>
        </p:nvSpPr>
        <p:spPr>
          <a:xfrm>
            <a:off x="3822840" y="5626080"/>
            <a:ext cx="181296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Powerpoint</a:t>
            </a:r>
            <a:endParaRPr b="0" lang="en-US" sz="2000" spc="-1" strike="noStrike">
              <a:solidFill>
                <a:srgbClr val="000000"/>
              </a:solidFill>
              <a:latin typeface="Arial"/>
            </a:endParaRPr>
          </a:p>
        </p:txBody>
      </p:sp>
      <p:sp>
        <p:nvSpPr>
          <p:cNvPr id="145" name=""/>
          <p:cNvSpPr txBox="1"/>
          <p:nvPr/>
        </p:nvSpPr>
        <p:spPr>
          <a:xfrm>
            <a:off x="5219640" y="5626080"/>
            <a:ext cx="1812960" cy="64152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Microsft Access</a:t>
            </a:r>
            <a:endParaRPr b="0" lang="en-US" sz="2000" spc="-1" strike="noStrike">
              <a:solidFill>
                <a:srgbClr val="000000"/>
              </a:solidFill>
              <a:latin typeface="Arial"/>
            </a:endParaRPr>
          </a:p>
        </p:txBody>
      </p:sp>
      <p:sp>
        <p:nvSpPr>
          <p:cNvPr id="146" name=""/>
          <p:cNvSpPr txBox="1"/>
          <p:nvPr/>
        </p:nvSpPr>
        <p:spPr>
          <a:xfrm>
            <a:off x="6600960" y="5626080"/>
            <a:ext cx="181296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Office</a:t>
            </a:r>
            <a:endParaRPr b="0" lang="en-US" sz="2000" spc="-1" strike="noStrike">
              <a:solidFill>
                <a:srgbClr val="000000"/>
              </a:solidFill>
              <a:latin typeface="Arial"/>
            </a:endParaRPr>
          </a:p>
        </p:txBody>
      </p:sp>
      <p:grpSp>
        <p:nvGrpSpPr>
          <p:cNvPr id="147" name=""/>
          <p:cNvGrpSpPr/>
          <p:nvPr/>
        </p:nvGrpSpPr>
        <p:grpSpPr>
          <a:xfrm>
            <a:off x="1200240" y="5616720"/>
            <a:ext cx="7005600" cy="69840"/>
            <a:chOff x="1200240" y="5616720"/>
            <a:chExt cx="7005600" cy="69840"/>
          </a:xfrm>
        </p:grpSpPr>
        <p:sp>
          <p:nvSpPr>
            <p:cNvPr id="148" name=""/>
            <p:cNvSpPr/>
            <p:nvPr/>
          </p:nvSpPr>
          <p:spPr>
            <a:xfrm>
              <a:off x="1200240" y="5616720"/>
              <a:ext cx="700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00536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0" name=""/>
            <p:cNvSpPr/>
            <p:nvPr/>
          </p:nvSpPr>
          <p:spPr>
            <a:xfrm>
              <a:off x="53960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1" name=""/>
            <p:cNvSpPr/>
            <p:nvPr/>
          </p:nvSpPr>
          <p:spPr>
            <a:xfrm>
              <a:off x="68342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2" name=""/>
            <p:cNvSpPr/>
            <p:nvPr/>
          </p:nvSpPr>
          <p:spPr>
            <a:xfrm>
              <a:off x="261936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3" name=""/>
            <p:cNvSpPr/>
            <p:nvPr/>
          </p:nvSpPr>
          <p:spPr>
            <a:xfrm>
              <a:off x="120492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4" name=""/>
            <p:cNvSpPr/>
            <p:nvPr/>
          </p:nvSpPr>
          <p:spPr>
            <a:xfrm>
              <a:off x="82058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iving Innovation Forward</a:t>
            </a:r>
            <a:endParaRPr b="0" lang="en-US" sz="4800" spc="-1" strike="noStrike">
              <a:solidFill>
                <a:srgbClr val="000000"/>
              </a:solidFill>
              <a:latin typeface="Arial"/>
            </a:endParaRPr>
          </a:p>
        </p:txBody>
      </p:sp>
      <p:sp>
        <p:nvSpPr>
          <p:cNvPr id="156" name=""/>
          <p:cNvSpPr txBox="1"/>
          <p:nvPr/>
        </p:nvSpPr>
        <p:spPr>
          <a:xfrm>
            <a:off x="1311120" y="5430960"/>
            <a:ext cx="245736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Understanding</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technology</a:t>
            </a:r>
            <a:endParaRPr b="0" lang="en-US" sz="2800" spc="-1" strike="noStrike">
              <a:solidFill>
                <a:srgbClr val="000000"/>
              </a:solidFill>
              <a:latin typeface="Arial"/>
            </a:endParaRPr>
          </a:p>
        </p:txBody>
      </p:sp>
      <p:sp>
        <p:nvSpPr>
          <p:cNvPr id="157" name=""/>
          <p:cNvSpPr txBox="1"/>
          <p:nvPr/>
        </p:nvSpPr>
        <p:spPr>
          <a:xfrm>
            <a:off x="4721400" y="5430960"/>
            <a:ext cx="314964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Understanding</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the way users work</a:t>
            </a:r>
            <a:endParaRPr b="0" lang="en-US" sz="2800" spc="-1" strike="noStrike">
              <a:solidFill>
                <a:srgbClr val="000000"/>
              </a:solidFill>
              <a:latin typeface="Arial"/>
            </a:endParaRPr>
          </a:p>
        </p:txBody>
      </p:sp>
      <p:grpSp>
        <p:nvGrpSpPr>
          <p:cNvPr id="158" name=""/>
          <p:cNvGrpSpPr/>
          <p:nvPr/>
        </p:nvGrpSpPr>
        <p:grpSpPr>
          <a:xfrm>
            <a:off x="2073240" y="1685880"/>
            <a:ext cx="2467440" cy="4181760"/>
            <a:chOff x="2073240" y="1685880"/>
            <a:chExt cx="2467440" cy="4181760"/>
          </a:xfrm>
        </p:grpSpPr>
        <p:sp>
          <p:nvSpPr>
            <p:cNvPr id="159" name=""/>
            <p:cNvSpPr/>
            <p:nvPr/>
          </p:nvSpPr>
          <p:spPr>
            <a:xfrm>
              <a:off x="2073240" y="1685880"/>
              <a:ext cx="1238760" cy="2454480"/>
            </a:xfrm>
            <a:custGeom>
              <a:avLst/>
              <a:gdLst/>
              <a:ahLst/>
              <a:rect l="0" t="0" r="r" b="b"/>
              <a:pathLst>
                <a:path w="3441" h="6818">
                  <a:moveTo>
                    <a:pt x="0" y="3528"/>
                  </a:moveTo>
                  <a:lnTo>
                    <a:pt x="0" y="6818"/>
                  </a:lnTo>
                  <a:lnTo>
                    <a:pt x="92" y="6328"/>
                  </a:lnTo>
                  <a:lnTo>
                    <a:pt x="242" y="5892"/>
                  </a:lnTo>
                  <a:lnTo>
                    <a:pt x="445" y="5521"/>
                  </a:lnTo>
                  <a:lnTo>
                    <a:pt x="670" y="5169"/>
                  </a:lnTo>
                  <a:lnTo>
                    <a:pt x="1002" y="4816"/>
                  </a:lnTo>
                  <a:lnTo>
                    <a:pt x="1350" y="4516"/>
                  </a:lnTo>
                  <a:lnTo>
                    <a:pt x="1742" y="4256"/>
                  </a:lnTo>
                  <a:lnTo>
                    <a:pt x="2236" y="4018"/>
                  </a:lnTo>
                  <a:lnTo>
                    <a:pt x="2656" y="3859"/>
                  </a:lnTo>
                  <a:lnTo>
                    <a:pt x="3093" y="3718"/>
                  </a:lnTo>
                  <a:lnTo>
                    <a:pt x="3441" y="3652"/>
                  </a:lnTo>
                  <a:lnTo>
                    <a:pt x="3441" y="0"/>
                  </a:lnTo>
                  <a:lnTo>
                    <a:pt x="3150" y="61"/>
                  </a:lnTo>
                  <a:lnTo>
                    <a:pt x="2837" y="145"/>
                  </a:lnTo>
                  <a:lnTo>
                    <a:pt x="2558" y="238"/>
                  </a:lnTo>
                  <a:lnTo>
                    <a:pt x="2338" y="308"/>
                  </a:lnTo>
                  <a:lnTo>
                    <a:pt x="2060" y="427"/>
                  </a:lnTo>
                  <a:lnTo>
                    <a:pt x="1742" y="599"/>
                  </a:lnTo>
                  <a:lnTo>
                    <a:pt x="1509" y="749"/>
                  </a:lnTo>
                  <a:lnTo>
                    <a:pt x="1266" y="934"/>
                  </a:lnTo>
                  <a:lnTo>
                    <a:pt x="1143" y="1045"/>
                  </a:lnTo>
                  <a:lnTo>
                    <a:pt x="979" y="1172"/>
                  </a:lnTo>
                  <a:lnTo>
                    <a:pt x="829" y="1327"/>
                  </a:lnTo>
                  <a:lnTo>
                    <a:pt x="648" y="1543"/>
                  </a:lnTo>
                  <a:lnTo>
                    <a:pt x="537" y="1702"/>
                  </a:lnTo>
                  <a:lnTo>
                    <a:pt x="445" y="1838"/>
                  </a:lnTo>
                  <a:lnTo>
                    <a:pt x="348" y="2010"/>
                  </a:lnTo>
                  <a:lnTo>
                    <a:pt x="251" y="2200"/>
                  </a:lnTo>
                  <a:lnTo>
                    <a:pt x="176" y="2376"/>
                  </a:lnTo>
                  <a:lnTo>
                    <a:pt x="92" y="2614"/>
                  </a:lnTo>
                  <a:lnTo>
                    <a:pt x="39" y="2861"/>
                  </a:lnTo>
                  <a:lnTo>
                    <a:pt x="13" y="3069"/>
                  </a:lnTo>
                  <a:lnTo>
                    <a:pt x="0" y="3280"/>
                  </a:lnTo>
                  <a:lnTo>
                    <a:pt x="0" y="3528"/>
                  </a:lnTo>
                  <a:close/>
                </a:path>
              </a:pathLst>
            </a:custGeom>
            <a:gradFill rotWithShape="0">
              <a:gsLst>
                <a:gs pos="0">
                  <a:srgbClr val="b760f9"/>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073240" y="2949480"/>
              <a:ext cx="2467440" cy="2918160"/>
            </a:xfrm>
            <a:custGeom>
              <a:avLst/>
              <a:gdLst/>
              <a:ahLst/>
              <a:rect l="0" t="0" r="r" b="b"/>
              <a:pathLst>
                <a:path w="6854" h="8106">
                  <a:moveTo>
                    <a:pt x="0" y="3355"/>
                  </a:moveTo>
                  <a:lnTo>
                    <a:pt x="0" y="3554"/>
                  </a:lnTo>
                  <a:lnTo>
                    <a:pt x="26" y="3876"/>
                  </a:lnTo>
                  <a:lnTo>
                    <a:pt x="105" y="4243"/>
                  </a:lnTo>
                  <a:lnTo>
                    <a:pt x="246" y="4512"/>
                  </a:lnTo>
                  <a:lnTo>
                    <a:pt x="414" y="4789"/>
                  </a:lnTo>
                  <a:lnTo>
                    <a:pt x="595" y="5019"/>
                  </a:lnTo>
                  <a:lnTo>
                    <a:pt x="789" y="5204"/>
                  </a:lnTo>
                  <a:lnTo>
                    <a:pt x="1058" y="5447"/>
                  </a:lnTo>
                  <a:lnTo>
                    <a:pt x="1331" y="5663"/>
                  </a:lnTo>
                  <a:lnTo>
                    <a:pt x="1622" y="5861"/>
                  </a:lnTo>
                  <a:lnTo>
                    <a:pt x="1998" y="6068"/>
                  </a:lnTo>
                  <a:lnTo>
                    <a:pt x="2421" y="6267"/>
                  </a:lnTo>
                  <a:lnTo>
                    <a:pt x="2721" y="6390"/>
                  </a:lnTo>
                  <a:lnTo>
                    <a:pt x="3021" y="6487"/>
                  </a:lnTo>
                  <a:lnTo>
                    <a:pt x="3317" y="6580"/>
                  </a:lnTo>
                  <a:lnTo>
                    <a:pt x="3577" y="6650"/>
                  </a:lnTo>
                  <a:lnTo>
                    <a:pt x="3793" y="6703"/>
                  </a:lnTo>
                  <a:lnTo>
                    <a:pt x="4053" y="6756"/>
                  </a:lnTo>
                  <a:lnTo>
                    <a:pt x="4331" y="6809"/>
                  </a:lnTo>
                  <a:lnTo>
                    <a:pt x="4679" y="6858"/>
                  </a:lnTo>
                  <a:lnTo>
                    <a:pt x="5094" y="6924"/>
                  </a:lnTo>
                  <a:lnTo>
                    <a:pt x="5094" y="8106"/>
                  </a:lnTo>
                  <a:lnTo>
                    <a:pt x="6854" y="5292"/>
                  </a:lnTo>
                  <a:lnTo>
                    <a:pt x="5094" y="1913"/>
                  </a:lnTo>
                  <a:lnTo>
                    <a:pt x="5094" y="3241"/>
                  </a:lnTo>
                  <a:lnTo>
                    <a:pt x="4820" y="3192"/>
                  </a:lnTo>
                  <a:lnTo>
                    <a:pt x="4498" y="3135"/>
                  </a:lnTo>
                  <a:lnTo>
                    <a:pt x="4150" y="3064"/>
                  </a:lnTo>
                  <a:lnTo>
                    <a:pt x="3806" y="3003"/>
                  </a:lnTo>
                  <a:lnTo>
                    <a:pt x="3497" y="2910"/>
                  </a:lnTo>
                  <a:lnTo>
                    <a:pt x="3224" y="2844"/>
                  </a:lnTo>
                  <a:lnTo>
                    <a:pt x="2757" y="2681"/>
                  </a:lnTo>
                  <a:lnTo>
                    <a:pt x="2346" y="2522"/>
                  </a:lnTo>
                  <a:lnTo>
                    <a:pt x="2060" y="2381"/>
                  </a:lnTo>
                  <a:lnTo>
                    <a:pt x="1817" y="2266"/>
                  </a:lnTo>
                  <a:lnTo>
                    <a:pt x="1583" y="2129"/>
                  </a:lnTo>
                  <a:lnTo>
                    <a:pt x="1402" y="2028"/>
                  </a:lnTo>
                  <a:lnTo>
                    <a:pt x="1208" y="1891"/>
                  </a:lnTo>
                  <a:lnTo>
                    <a:pt x="1058" y="1777"/>
                  </a:lnTo>
                  <a:lnTo>
                    <a:pt x="917" y="1649"/>
                  </a:lnTo>
                  <a:lnTo>
                    <a:pt x="789" y="1525"/>
                  </a:lnTo>
                  <a:lnTo>
                    <a:pt x="635" y="1362"/>
                  </a:lnTo>
                  <a:lnTo>
                    <a:pt x="520" y="1225"/>
                  </a:lnTo>
                  <a:lnTo>
                    <a:pt x="401" y="1071"/>
                  </a:lnTo>
                  <a:lnTo>
                    <a:pt x="299" y="917"/>
                  </a:lnTo>
                  <a:lnTo>
                    <a:pt x="216" y="767"/>
                  </a:lnTo>
                  <a:lnTo>
                    <a:pt x="145" y="612"/>
                  </a:lnTo>
                  <a:lnTo>
                    <a:pt x="92" y="449"/>
                  </a:lnTo>
                  <a:lnTo>
                    <a:pt x="52" y="304"/>
                  </a:lnTo>
                  <a:lnTo>
                    <a:pt x="26" y="185"/>
                  </a:lnTo>
                  <a:lnTo>
                    <a:pt x="0" y="0"/>
                  </a:lnTo>
                  <a:lnTo>
                    <a:pt x="0" y="3355"/>
                  </a:lnTo>
                  <a:close/>
                </a:path>
              </a:pathLst>
            </a:custGeom>
            <a:gradFill rotWithShape="0">
              <a:gsLst>
                <a:gs pos="0">
                  <a:srgbClr val="b760f9"/>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1" name=""/>
          <p:cNvGrpSpPr/>
          <p:nvPr/>
        </p:nvGrpSpPr>
        <p:grpSpPr>
          <a:xfrm>
            <a:off x="4626000" y="1371600"/>
            <a:ext cx="1886400" cy="4152960"/>
            <a:chOff x="4626000" y="1371600"/>
            <a:chExt cx="1886400" cy="4152960"/>
          </a:xfrm>
        </p:grpSpPr>
        <p:sp>
          <p:nvSpPr>
            <p:cNvPr id="162" name=""/>
            <p:cNvSpPr/>
            <p:nvPr/>
          </p:nvSpPr>
          <p:spPr>
            <a:xfrm>
              <a:off x="5083200" y="1371600"/>
              <a:ext cx="1429200" cy="2918160"/>
            </a:xfrm>
            <a:custGeom>
              <a:avLst/>
              <a:gdLst/>
              <a:ahLst/>
              <a:rect l="0" t="0" r="r" b="b"/>
              <a:pathLst>
                <a:path w="3970" h="8106">
                  <a:moveTo>
                    <a:pt x="3970" y="4750"/>
                  </a:moveTo>
                  <a:lnTo>
                    <a:pt x="3970" y="4551"/>
                  </a:lnTo>
                  <a:lnTo>
                    <a:pt x="3953" y="4229"/>
                  </a:lnTo>
                  <a:lnTo>
                    <a:pt x="3909" y="3862"/>
                  </a:lnTo>
                  <a:lnTo>
                    <a:pt x="3829" y="3593"/>
                  </a:lnTo>
                  <a:lnTo>
                    <a:pt x="3732" y="3316"/>
                  </a:lnTo>
                  <a:lnTo>
                    <a:pt x="3626" y="3086"/>
                  </a:lnTo>
                  <a:lnTo>
                    <a:pt x="3512" y="2901"/>
                  </a:lnTo>
                  <a:lnTo>
                    <a:pt x="3357" y="2659"/>
                  </a:lnTo>
                  <a:lnTo>
                    <a:pt x="3199" y="2442"/>
                  </a:lnTo>
                  <a:lnTo>
                    <a:pt x="3031" y="2244"/>
                  </a:lnTo>
                  <a:lnTo>
                    <a:pt x="2809" y="2046"/>
                  </a:lnTo>
                  <a:lnTo>
                    <a:pt x="2567" y="1847"/>
                  </a:lnTo>
                  <a:lnTo>
                    <a:pt x="2395" y="1724"/>
                  </a:lnTo>
                  <a:lnTo>
                    <a:pt x="2219" y="1618"/>
                  </a:lnTo>
                  <a:lnTo>
                    <a:pt x="2047" y="1525"/>
                  </a:lnTo>
                  <a:lnTo>
                    <a:pt x="1897" y="1455"/>
                  </a:lnTo>
                  <a:lnTo>
                    <a:pt x="1773" y="1402"/>
                  </a:lnTo>
                  <a:lnTo>
                    <a:pt x="1623" y="1349"/>
                  </a:lnTo>
                  <a:lnTo>
                    <a:pt x="1460" y="1296"/>
                  </a:lnTo>
                  <a:lnTo>
                    <a:pt x="1257" y="1247"/>
                  </a:lnTo>
                  <a:lnTo>
                    <a:pt x="1019" y="1181"/>
                  </a:lnTo>
                  <a:lnTo>
                    <a:pt x="1019" y="0"/>
                  </a:lnTo>
                  <a:lnTo>
                    <a:pt x="0" y="2813"/>
                  </a:lnTo>
                  <a:lnTo>
                    <a:pt x="1019" y="6196"/>
                  </a:lnTo>
                  <a:lnTo>
                    <a:pt x="1019" y="4864"/>
                  </a:lnTo>
                  <a:lnTo>
                    <a:pt x="1178" y="4913"/>
                  </a:lnTo>
                  <a:lnTo>
                    <a:pt x="1363" y="4970"/>
                  </a:lnTo>
                  <a:lnTo>
                    <a:pt x="1566" y="5041"/>
                  </a:lnTo>
                  <a:lnTo>
                    <a:pt x="1764" y="5103"/>
                  </a:lnTo>
                  <a:lnTo>
                    <a:pt x="1945" y="5195"/>
                  </a:lnTo>
                  <a:lnTo>
                    <a:pt x="2104" y="5261"/>
                  </a:lnTo>
                  <a:lnTo>
                    <a:pt x="2373" y="5424"/>
                  </a:lnTo>
                  <a:lnTo>
                    <a:pt x="2611" y="5583"/>
                  </a:lnTo>
                  <a:lnTo>
                    <a:pt x="2779" y="5724"/>
                  </a:lnTo>
                  <a:lnTo>
                    <a:pt x="2915" y="5839"/>
                  </a:lnTo>
                  <a:lnTo>
                    <a:pt x="3053" y="5976"/>
                  </a:lnTo>
                  <a:lnTo>
                    <a:pt x="3159" y="6082"/>
                  </a:lnTo>
                  <a:lnTo>
                    <a:pt x="3269" y="6223"/>
                  </a:lnTo>
                  <a:lnTo>
                    <a:pt x="3357" y="6337"/>
                  </a:lnTo>
                  <a:lnTo>
                    <a:pt x="3441" y="6465"/>
                  </a:lnTo>
                  <a:lnTo>
                    <a:pt x="3512" y="6580"/>
                  </a:lnTo>
                  <a:lnTo>
                    <a:pt x="3604" y="6743"/>
                  </a:lnTo>
                  <a:lnTo>
                    <a:pt x="3670" y="6880"/>
                  </a:lnTo>
                  <a:lnTo>
                    <a:pt x="3737" y="7034"/>
                  </a:lnTo>
                  <a:lnTo>
                    <a:pt x="3794" y="7188"/>
                  </a:lnTo>
                  <a:lnTo>
                    <a:pt x="3847" y="7338"/>
                  </a:lnTo>
                  <a:lnTo>
                    <a:pt x="3886" y="7493"/>
                  </a:lnTo>
                  <a:lnTo>
                    <a:pt x="3917" y="7656"/>
                  </a:lnTo>
                  <a:lnTo>
                    <a:pt x="3939" y="7801"/>
                  </a:lnTo>
                  <a:lnTo>
                    <a:pt x="3953" y="7920"/>
                  </a:lnTo>
                  <a:lnTo>
                    <a:pt x="3970" y="8106"/>
                  </a:lnTo>
                  <a:lnTo>
                    <a:pt x="3970" y="4750"/>
                  </a:lnTo>
                  <a:close/>
                </a:path>
              </a:pathLst>
            </a:cu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626000" y="3070080"/>
              <a:ext cx="1886400" cy="2454480"/>
            </a:xfrm>
            <a:custGeom>
              <a:avLst/>
              <a:gdLst/>
              <a:ahLst/>
              <a:rect l="0" t="0" r="r" b="b"/>
              <a:pathLst>
                <a:path w="5240" h="6818">
                  <a:moveTo>
                    <a:pt x="5240" y="3289"/>
                  </a:moveTo>
                  <a:lnTo>
                    <a:pt x="5240" y="0"/>
                  </a:lnTo>
                  <a:lnTo>
                    <a:pt x="5095" y="489"/>
                  </a:lnTo>
                  <a:lnTo>
                    <a:pt x="4870" y="926"/>
                  </a:lnTo>
                  <a:lnTo>
                    <a:pt x="4561" y="1305"/>
                  </a:lnTo>
                  <a:lnTo>
                    <a:pt x="4217" y="1658"/>
                  </a:lnTo>
                  <a:lnTo>
                    <a:pt x="3713" y="2002"/>
                  </a:lnTo>
                  <a:lnTo>
                    <a:pt x="3184" y="2301"/>
                  </a:lnTo>
                  <a:lnTo>
                    <a:pt x="2589" y="2562"/>
                  </a:lnTo>
                  <a:lnTo>
                    <a:pt x="1835" y="2800"/>
                  </a:lnTo>
                  <a:lnTo>
                    <a:pt x="1195" y="2958"/>
                  </a:lnTo>
                  <a:lnTo>
                    <a:pt x="529" y="3100"/>
                  </a:lnTo>
                  <a:lnTo>
                    <a:pt x="0" y="3166"/>
                  </a:lnTo>
                  <a:lnTo>
                    <a:pt x="0" y="6818"/>
                  </a:lnTo>
                  <a:lnTo>
                    <a:pt x="445" y="6756"/>
                  </a:lnTo>
                  <a:lnTo>
                    <a:pt x="921" y="6672"/>
                  </a:lnTo>
                  <a:lnTo>
                    <a:pt x="1345" y="6580"/>
                  </a:lnTo>
                  <a:lnTo>
                    <a:pt x="1681" y="6509"/>
                  </a:lnTo>
                  <a:lnTo>
                    <a:pt x="2100" y="6390"/>
                  </a:lnTo>
                  <a:lnTo>
                    <a:pt x="2589" y="6218"/>
                  </a:lnTo>
                  <a:lnTo>
                    <a:pt x="2937" y="6073"/>
                  </a:lnTo>
                  <a:lnTo>
                    <a:pt x="3308" y="5892"/>
                  </a:lnTo>
                  <a:lnTo>
                    <a:pt x="3502" y="5782"/>
                  </a:lnTo>
                  <a:lnTo>
                    <a:pt x="3749" y="5645"/>
                  </a:lnTo>
                  <a:lnTo>
                    <a:pt x="3979" y="5491"/>
                  </a:lnTo>
                  <a:lnTo>
                    <a:pt x="4252" y="5275"/>
                  </a:lnTo>
                  <a:lnTo>
                    <a:pt x="4424" y="5116"/>
                  </a:lnTo>
                  <a:lnTo>
                    <a:pt x="4561" y="4979"/>
                  </a:lnTo>
                  <a:lnTo>
                    <a:pt x="4711" y="4807"/>
                  </a:lnTo>
                  <a:lnTo>
                    <a:pt x="4857" y="4617"/>
                  </a:lnTo>
                  <a:lnTo>
                    <a:pt x="4971" y="4441"/>
                  </a:lnTo>
                  <a:lnTo>
                    <a:pt x="5095" y="4203"/>
                  </a:lnTo>
                  <a:lnTo>
                    <a:pt x="5179" y="3956"/>
                  </a:lnTo>
                  <a:lnTo>
                    <a:pt x="5218" y="3749"/>
                  </a:lnTo>
                  <a:lnTo>
                    <a:pt x="5240" y="3537"/>
                  </a:lnTo>
                  <a:lnTo>
                    <a:pt x="5240" y="3289"/>
                  </a:lnTo>
                  <a:close/>
                </a:path>
              </a:pathLst>
            </a:custGeom>
            <a:gradFill rotWithShape="0">
              <a:gsLst>
                <a:gs pos="0">
                  <a:srgbClr val="ffffff"/>
                </a:gs>
                <a:gs pos="100000">
                  <a:srgbClr val="009688"/>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64" name="" descr=""/>
          <p:cNvPicPr/>
          <p:nvPr/>
        </p:nvPicPr>
        <p:blipFill>
          <a:blip r:embed="rId1"/>
          <a:stretch/>
        </p:blipFill>
        <p:spPr>
          <a:xfrm>
            <a:off x="3319560" y="1333440"/>
            <a:ext cx="1679400" cy="20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 descr=""/>
          <p:cNvPicPr/>
          <p:nvPr/>
        </p:nvPicPr>
        <p:blipFill>
          <a:blip r:embed="rId1"/>
          <a:stretch/>
        </p:blipFill>
        <p:spPr>
          <a:xfrm>
            <a:off x="3063960" y="2693880"/>
            <a:ext cx="2660760" cy="2414520"/>
          </a:xfrm>
          <a:prstGeom prst="rect">
            <a:avLst/>
          </a:prstGeom>
          <a:ln w="0">
            <a:noFill/>
          </a:ln>
        </p:spPr>
      </p:pic>
      <p:grpSp>
        <p:nvGrpSpPr>
          <p:cNvPr id="166" name=""/>
          <p:cNvGrpSpPr/>
          <p:nvPr/>
        </p:nvGrpSpPr>
        <p:grpSpPr>
          <a:xfrm>
            <a:off x="1701720" y="963720"/>
            <a:ext cx="5232960" cy="5294520"/>
            <a:chOff x="1701720" y="963720"/>
            <a:chExt cx="5232960" cy="5294520"/>
          </a:xfrm>
        </p:grpSpPr>
        <p:sp>
          <p:nvSpPr>
            <p:cNvPr id="167" name=""/>
            <p:cNvSpPr/>
            <p:nvPr/>
          </p:nvSpPr>
          <p:spPr>
            <a:xfrm>
              <a:off x="1701720" y="3976560"/>
              <a:ext cx="4501080" cy="2281680"/>
            </a:xfrm>
            <a:custGeom>
              <a:avLst/>
              <a:gdLst/>
              <a:ahLst/>
              <a:rect l="0" t="0" r="r" b="b"/>
              <a:pathLst>
                <a:path w="12503" h="6338">
                  <a:moveTo>
                    <a:pt x="6221" y="6265"/>
                  </a:moveTo>
                  <a:lnTo>
                    <a:pt x="6092" y="6242"/>
                  </a:lnTo>
                  <a:lnTo>
                    <a:pt x="5922" y="6214"/>
                  </a:lnTo>
                  <a:lnTo>
                    <a:pt x="5752" y="6182"/>
                  </a:lnTo>
                  <a:lnTo>
                    <a:pt x="5627" y="6154"/>
                  </a:lnTo>
                  <a:lnTo>
                    <a:pt x="5485" y="6117"/>
                  </a:lnTo>
                  <a:lnTo>
                    <a:pt x="5342" y="6076"/>
                  </a:lnTo>
                  <a:lnTo>
                    <a:pt x="5199" y="6044"/>
                  </a:lnTo>
                  <a:lnTo>
                    <a:pt x="5070" y="6002"/>
                  </a:lnTo>
                  <a:lnTo>
                    <a:pt x="4923" y="5947"/>
                  </a:lnTo>
                  <a:lnTo>
                    <a:pt x="4748" y="5883"/>
                  </a:lnTo>
                  <a:lnTo>
                    <a:pt x="4596" y="5823"/>
                  </a:lnTo>
                  <a:lnTo>
                    <a:pt x="4453" y="5758"/>
                  </a:lnTo>
                  <a:lnTo>
                    <a:pt x="4287" y="5689"/>
                  </a:lnTo>
                  <a:lnTo>
                    <a:pt x="4131" y="5616"/>
                  </a:lnTo>
                  <a:lnTo>
                    <a:pt x="3988" y="5547"/>
                  </a:lnTo>
                  <a:lnTo>
                    <a:pt x="3859" y="5464"/>
                  </a:lnTo>
                  <a:lnTo>
                    <a:pt x="3735" y="5395"/>
                  </a:lnTo>
                  <a:lnTo>
                    <a:pt x="3615" y="5312"/>
                  </a:lnTo>
                  <a:lnTo>
                    <a:pt x="3477" y="5234"/>
                  </a:lnTo>
                  <a:lnTo>
                    <a:pt x="3325" y="5137"/>
                  </a:lnTo>
                  <a:lnTo>
                    <a:pt x="3192" y="5041"/>
                  </a:lnTo>
                  <a:lnTo>
                    <a:pt x="3062" y="4944"/>
                  </a:lnTo>
                  <a:lnTo>
                    <a:pt x="2946" y="4861"/>
                  </a:lnTo>
                  <a:lnTo>
                    <a:pt x="2744" y="4708"/>
                  </a:lnTo>
                  <a:lnTo>
                    <a:pt x="2564" y="4556"/>
                  </a:lnTo>
                  <a:lnTo>
                    <a:pt x="2385" y="4386"/>
                  </a:lnTo>
                  <a:lnTo>
                    <a:pt x="2201" y="4184"/>
                  </a:lnTo>
                  <a:lnTo>
                    <a:pt x="2072" y="4041"/>
                  </a:lnTo>
                  <a:lnTo>
                    <a:pt x="1929" y="3875"/>
                  </a:lnTo>
                  <a:lnTo>
                    <a:pt x="1772" y="3696"/>
                  </a:lnTo>
                  <a:lnTo>
                    <a:pt x="1634" y="3516"/>
                  </a:lnTo>
                  <a:lnTo>
                    <a:pt x="1505" y="3323"/>
                  </a:lnTo>
                  <a:lnTo>
                    <a:pt x="1349" y="3102"/>
                  </a:lnTo>
                  <a:lnTo>
                    <a:pt x="0" y="3861"/>
                  </a:lnTo>
                  <a:lnTo>
                    <a:pt x="1316" y="0"/>
                  </a:lnTo>
                  <a:lnTo>
                    <a:pt x="5600" y="731"/>
                  </a:lnTo>
                  <a:lnTo>
                    <a:pt x="4158" y="1518"/>
                  </a:lnTo>
                  <a:lnTo>
                    <a:pt x="4278" y="1685"/>
                  </a:lnTo>
                  <a:lnTo>
                    <a:pt x="4407" y="1832"/>
                  </a:lnTo>
                  <a:lnTo>
                    <a:pt x="4536" y="1975"/>
                  </a:lnTo>
                  <a:lnTo>
                    <a:pt x="4665" y="2113"/>
                  </a:lnTo>
                  <a:lnTo>
                    <a:pt x="4775" y="2219"/>
                  </a:lnTo>
                  <a:lnTo>
                    <a:pt x="4891" y="2334"/>
                  </a:lnTo>
                  <a:lnTo>
                    <a:pt x="5020" y="2430"/>
                  </a:lnTo>
                  <a:lnTo>
                    <a:pt x="5162" y="2536"/>
                  </a:lnTo>
                  <a:lnTo>
                    <a:pt x="5333" y="2647"/>
                  </a:lnTo>
                  <a:lnTo>
                    <a:pt x="5475" y="2734"/>
                  </a:lnTo>
                  <a:lnTo>
                    <a:pt x="5600" y="2803"/>
                  </a:lnTo>
                  <a:lnTo>
                    <a:pt x="5779" y="2900"/>
                  </a:lnTo>
                  <a:lnTo>
                    <a:pt x="5936" y="2964"/>
                  </a:lnTo>
                  <a:lnTo>
                    <a:pt x="6074" y="3006"/>
                  </a:lnTo>
                  <a:lnTo>
                    <a:pt x="6217" y="3052"/>
                  </a:lnTo>
                  <a:lnTo>
                    <a:pt x="6424" y="3107"/>
                  </a:lnTo>
                  <a:lnTo>
                    <a:pt x="6631" y="3134"/>
                  </a:lnTo>
                  <a:lnTo>
                    <a:pt x="6838" y="3157"/>
                  </a:lnTo>
                  <a:lnTo>
                    <a:pt x="7147" y="3171"/>
                  </a:lnTo>
                  <a:lnTo>
                    <a:pt x="7543" y="3176"/>
                  </a:lnTo>
                  <a:lnTo>
                    <a:pt x="7851" y="3134"/>
                  </a:lnTo>
                  <a:lnTo>
                    <a:pt x="8128" y="3075"/>
                  </a:lnTo>
                  <a:lnTo>
                    <a:pt x="8450" y="2983"/>
                  </a:lnTo>
                  <a:lnTo>
                    <a:pt x="8740" y="2867"/>
                  </a:lnTo>
                  <a:lnTo>
                    <a:pt x="9026" y="2729"/>
                  </a:lnTo>
                  <a:lnTo>
                    <a:pt x="9283" y="2568"/>
                  </a:lnTo>
                  <a:lnTo>
                    <a:pt x="9533" y="2357"/>
                  </a:lnTo>
                  <a:lnTo>
                    <a:pt x="12503" y="4004"/>
                  </a:lnTo>
                  <a:lnTo>
                    <a:pt x="12383" y="4142"/>
                  </a:lnTo>
                  <a:lnTo>
                    <a:pt x="12208" y="4303"/>
                  </a:lnTo>
                  <a:lnTo>
                    <a:pt x="12066" y="4441"/>
                  </a:lnTo>
                  <a:lnTo>
                    <a:pt x="11923" y="4570"/>
                  </a:lnTo>
                  <a:lnTo>
                    <a:pt x="11780" y="4704"/>
                  </a:lnTo>
                  <a:lnTo>
                    <a:pt x="11605" y="4843"/>
                  </a:lnTo>
                  <a:lnTo>
                    <a:pt x="11449" y="4958"/>
                  </a:lnTo>
                  <a:lnTo>
                    <a:pt x="11292" y="5068"/>
                  </a:lnTo>
                  <a:lnTo>
                    <a:pt x="11112" y="5179"/>
                  </a:lnTo>
                  <a:lnTo>
                    <a:pt x="10942" y="5298"/>
                  </a:lnTo>
                  <a:lnTo>
                    <a:pt x="10763" y="5409"/>
                  </a:lnTo>
                  <a:lnTo>
                    <a:pt x="10597" y="5496"/>
                  </a:lnTo>
                  <a:lnTo>
                    <a:pt x="10431" y="5588"/>
                  </a:lnTo>
                  <a:lnTo>
                    <a:pt x="10274" y="5662"/>
                  </a:lnTo>
                  <a:lnTo>
                    <a:pt x="10058" y="5758"/>
                  </a:lnTo>
                  <a:lnTo>
                    <a:pt x="9860" y="5841"/>
                  </a:lnTo>
                  <a:lnTo>
                    <a:pt x="9630" y="5924"/>
                  </a:lnTo>
                  <a:lnTo>
                    <a:pt x="9455" y="5989"/>
                  </a:lnTo>
                  <a:lnTo>
                    <a:pt x="9293" y="6048"/>
                  </a:lnTo>
                  <a:lnTo>
                    <a:pt x="9099" y="6104"/>
                  </a:lnTo>
                  <a:lnTo>
                    <a:pt x="8910" y="6154"/>
                  </a:lnTo>
                  <a:lnTo>
                    <a:pt x="8726" y="6196"/>
                  </a:lnTo>
                  <a:lnTo>
                    <a:pt x="8510" y="6237"/>
                  </a:lnTo>
                  <a:lnTo>
                    <a:pt x="8293" y="6269"/>
                  </a:lnTo>
                  <a:lnTo>
                    <a:pt x="8072" y="6297"/>
                  </a:lnTo>
                  <a:lnTo>
                    <a:pt x="7842" y="6320"/>
                  </a:lnTo>
                  <a:lnTo>
                    <a:pt x="7672" y="6324"/>
                  </a:lnTo>
                  <a:lnTo>
                    <a:pt x="7432" y="6338"/>
                  </a:lnTo>
                  <a:lnTo>
                    <a:pt x="7207" y="6338"/>
                  </a:lnTo>
                  <a:lnTo>
                    <a:pt x="7018" y="6334"/>
                  </a:lnTo>
                  <a:lnTo>
                    <a:pt x="6815" y="6324"/>
                  </a:lnTo>
                  <a:lnTo>
                    <a:pt x="6594" y="6311"/>
                  </a:lnTo>
                  <a:lnTo>
                    <a:pt x="6396" y="6283"/>
                  </a:lnTo>
                  <a:lnTo>
                    <a:pt x="6221" y="626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4660920" y="1498680"/>
              <a:ext cx="2273760" cy="4081680"/>
            </a:xfrm>
            <a:custGeom>
              <a:avLst/>
              <a:gdLst/>
              <a:ahLst/>
              <a:rect l="0" t="0" r="r" b="b"/>
              <a:pathLst>
                <a:path w="6316" h="11338">
                  <a:moveTo>
                    <a:pt x="0" y="0"/>
                  </a:moveTo>
                  <a:lnTo>
                    <a:pt x="133" y="23"/>
                  </a:lnTo>
                  <a:lnTo>
                    <a:pt x="271" y="41"/>
                  </a:lnTo>
                  <a:lnTo>
                    <a:pt x="455" y="82"/>
                  </a:lnTo>
                  <a:lnTo>
                    <a:pt x="594" y="110"/>
                  </a:lnTo>
                  <a:lnTo>
                    <a:pt x="736" y="151"/>
                  </a:lnTo>
                  <a:lnTo>
                    <a:pt x="870" y="193"/>
                  </a:lnTo>
                  <a:lnTo>
                    <a:pt x="1013" y="230"/>
                  </a:lnTo>
                  <a:lnTo>
                    <a:pt x="1146" y="271"/>
                  </a:lnTo>
                  <a:lnTo>
                    <a:pt x="1289" y="326"/>
                  </a:lnTo>
                  <a:lnTo>
                    <a:pt x="1464" y="386"/>
                  </a:lnTo>
                  <a:lnTo>
                    <a:pt x="1608" y="451"/>
                  </a:lnTo>
                  <a:lnTo>
                    <a:pt x="1755" y="510"/>
                  </a:lnTo>
                  <a:lnTo>
                    <a:pt x="1912" y="579"/>
                  </a:lnTo>
                  <a:lnTo>
                    <a:pt x="2069" y="658"/>
                  </a:lnTo>
                  <a:lnTo>
                    <a:pt x="2211" y="727"/>
                  </a:lnTo>
                  <a:lnTo>
                    <a:pt x="2350" y="810"/>
                  </a:lnTo>
                  <a:lnTo>
                    <a:pt x="2469" y="879"/>
                  </a:lnTo>
                  <a:lnTo>
                    <a:pt x="2589" y="962"/>
                  </a:lnTo>
                  <a:lnTo>
                    <a:pt x="2727" y="1040"/>
                  </a:lnTo>
                  <a:lnTo>
                    <a:pt x="2875" y="1136"/>
                  </a:lnTo>
                  <a:lnTo>
                    <a:pt x="3013" y="1238"/>
                  </a:lnTo>
                  <a:lnTo>
                    <a:pt x="3142" y="1339"/>
                  </a:lnTo>
                  <a:lnTo>
                    <a:pt x="3261" y="1422"/>
                  </a:lnTo>
                  <a:lnTo>
                    <a:pt x="3460" y="1578"/>
                  </a:lnTo>
                  <a:lnTo>
                    <a:pt x="3662" y="1767"/>
                  </a:lnTo>
                  <a:lnTo>
                    <a:pt x="3819" y="1905"/>
                  </a:lnTo>
                  <a:lnTo>
                    <a:pt x="4003" y="2108"/>
                  </a:lnTo>
                  <a:lnTo>
                    <a:pt x="4132" y="2250"/>
                  </a:lnTo>
                  <a:lnTo>
                    <a:pt x="4275" y="2416"/>
                  </a:lnTo>
                  <a:lnTo>
                    <a:pt x="4431" y="2605"/>
                  </a:lnTo>
                  <a:lnTo>
                    <a:pt x="4560" y="2780"/>
                  </a:lnTo>
                  <a:lnTo>
                    <a:pt x="4689" y="2978"/>
                  </a:lnTo>
                  <a:lnTo>
                    <a:pt x="4819" y="3176"/>
                  </a:lnTo>
                  <a:lnTo>
                    <a:pt x="4948" y="3383"/>
                  </a:lnTo>
                  <a:lnTo>
                    <a:pt x="5054" y="3562"/>
                  </a:lnTo>
                  <a:lnTo>
                    <a:pt x="5151" y="3783"/>
                  </a:lnTo>
                  <a:lnTo>
                    <a:pt x="5252" y="4000"/>
                  </a:lnTo>
                  <a:lnTo>
                    <a:pt x="5340" y="4221"/>
                  </a:lnTo>
                  <a:lnTo>
                    <a:pt x="5423" y="4464"/>
                  </a:lnTo>
                  <a:lnTo>
                    <a:pt x="5533" y="4759"/>
                  </a:lnTo>
                  <a:lnTo>
                    <a:pt x="5602" y="5035"/>
                  </a:lnTo>
                  <a:lnTo>
                    <a:pt x="5676" y="5321"/>
                  </a:lnTo>
                  <a:lnTo>
                    <a:pt x="5708" y="5597"/>
                  </a:lnTo>
                  <a:lnTo>
                    <a:pt x="5759" y="5920"/>
                  </a:lnTo>
                  <a:lnTo>
                    <a:pt x="5796" y="6321"/>
                  </a:lnTo>
                  <a:lnTo>
                    <a:pt x="5800" y="6638"/>
                  </a:lnTo>
                  <a:lnTo>
                    <a:pt x="5796" y="6951"/>
                  </a:lnTo>
                  <a:lnTo>
                    <a:pt x="5768" y="7250"/>
                  </a:lnTo>
                  <a:lnTo>
                    <a:pt x="5731" y="7527"/>
                  </a:lnTo>
                  <a:lnTo>
                    <a:pt x="5694" y="7817"/>
                  </a:lnTo>
                  <a:lnTo>
                    <a:pt x="5630" y="8116"/>
                  </a:lnTo>
                  <a:lnTo>
                    <a:pt x="5547" y="8433"/>
                  </a:lnTo>
                  <a:lnTo>
                    <a:pt x="5436" y="8760"/>
                  </a:lnTo>
                  <a:lnTo>
                    <a:pt x="5331" y="9064"/>
                  </a:lnTo>
                  <a:lnTo>
                    <a:pt x="5211" y="9363"/>
                  </a:lnTo>
                  <a:lnTo>
                    <a:pt x="5068" y="9653"/>
                  </a:lnTo>
                  <a:lnTo>
                    <a:pt x="4898" y="9929"/>
                  </a:lnTo>
                  <a:lnTo>
                    <a:pt x="6316" y="10716"/>
                  </a:lnTo>
                  <a:lnTo>
                    <a:pt x="1986" y="11338"/>
                  </a:lnTo>
                  <a:lnTo>
                    <a:pt x="391" y="7471"/>
                  </a:lnTo>
                  <a:lnTo>
                    <a:pt x="2055" y="8337"/>
                  </a:lnTo>
                  <a:lnTo>
                    <a:pt x="2221" y="8088"/>
                  </a:lnTo>
                  <a:lnTo>
                    <a:pt x="2317" y="7867"/>
                  </a:lnTo>
                  <a:lnTo>
                    <a:pt x="2414" y="7637"/>
                  </a:lnTo>
                  <a:lnTo>
                    <a:pt x="2478" y="7407"/>
                  </a:lnTo>
                  <a:lnTo>
                    <a:pt x="2520" y="7186"/>
                  </a:lnTo>
                  <a:lnTo>
                    <a:pt x="2534" y="6974"/>
                  </a:lnTo>
                  <a:lnTo>
                    <a:pt x="2557" y="6758"/>
                  </a:lnTo>
                  <a:lnTo>
                    <a:pt x="2557" y="6541"/>
                  </a:lnTo>
                  <a:lnTo>
                    <a:pt x="2538" y="6284"/>
                  </a:lnTo>
                  <a:lnTo>
                    <a:pt x="2511" y="6035"/>
                  </a:lnTo>
                  <a:lnTo>
                    <a:pt x="2455" y="5768"/>
                  </a:lnTo>
                  <a:lnTo>
                    <a:pt x="2391" y="5542"/>
                  </a:lnTo>
                  <a:lnTo>
                    <a:pt x="2290" y="5293"/>
                  </a:lnTo>
                  <a:lnTo>
                    <a:pt x="2207" y="5081"/>
                  </a:lnTo>
                  <a:lnTo>
                    <a:pt x="2082" y="4870"/>
                  </a:lnTo>
                  <a:lnTo>
                    <a:pt x="1986" y="4713"/>
                  </a:lnTo>
                  <a:lnTo>
                    <a:pt x="1884" y="4580"/>
                  </a:lnTo>
                  <a:lnTo>
                    <a:pt x="1783" y="4451"/>
                  </a:lnTo>
                  <a:lnTo>
                    <a:pt x="1672" y="4317"/>
                  </a:lnTo>
                  <a:lnTo>
                    <a:pt x="1547" y="4179"/>
                  </a:lnTo>
                  <a:lnTo>
                    <a:pt x="1441" y="4082"/>
                  </a:lnTo>
                  <a:lnTo>
                    <a:pt x="1321" y="3958"/>
                  </a:lnTo>
                  <a:lnTo>
                    <a:pt x="1197" y="3861"/>
                  </a:lnTo>
                  <a:lnTo>
                    <a:pt x="1054" y="3756"/>
                  </a:lnTo>
                  <a:lnTo>
                    <a:pt x="884" y="3645"/>
                  </a:lnTo>
                  <a:lnTo>
                    <a:pt x="741" y="3553"/>
                  </a:lnTo>
                  <a:lnTo>
                    <a:pt x="621" y="3484"/>
                  </a:lnTo>
                  <a:lnTo>
                    <a:pt x="442" y="3387"/>
                  </a:lnTo>
                  <a:lnTo>
                    <a:pt x="271" y="3318"/>
                  </a:lnTo>
                  <a:lnTo>
                    <a:pt x="0" y="3245"/>
                  </a:lnTo>
                  <a:lnTo>
                    <a:pt x="0"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1793880" y="963720"/>
              <a:ext cx="3385080" cy="3554640"/>
            </a:xfrm>
            <a:custGeom>
              <a:avLst/>
              <a:gdLst/>
              <a:ahLst/>
              <a:rect l="0" t="0" r="r" b="b"/>
              <a:pathLst>
                <a:path w="9403" h="9874">
                  <a:moveTo>
                    <a:pt x="5825" y="1445"/>
                  </a:moveTo>
                  <a:lnTo>
                    <a:pt x="5696" y="1468"/>
                  </a:lnTo>
                  <a:lnTo>
                    <a:pt x="5525" y="1491"/>
                  </a:lnTo>
                  <a:lnTo>
                    <a:pt x="5350" y="1532"/>
                  </a:lnTo>
                  <a:lnTo>
                    <a:pt x="5231" y="1560"/>
                  </a:lnTo>
                  <a:lnTo>
                    <a:pt x="5088" y="1592"/>
                  </a:lnTo>
                  <a:lnTo>
                    <a:pt x="4950" y="1634"/>
                  </a:lnTo>
                  <a:lnTo>
                    <a:pt x="4807" y="1675"/>
                  </a:lnTo>
                  <a:lnTo>
                    <a:pt x="4678" y="1707"/>
                  </a:lnTo>
                  <a:lnTo>
                    <a:pt x="4531" y="1758"/>
                  </a:lnTo>
                  <a:lnTo>
                    <a:pt x="4356" y="1827"/>
                  </a:lnTo>
                  <a:lnTo>
                    <a:pt x="4209" y="1878"/>
                  </a:lnTo>
                  <a:lnTo>
                    <a:pt x="4066" y="1937"/>
                  </a:lnTo>
                  <a:lnTo>
                    <a:pt x="3900" y="2006"/>
                  </a:lnTo>
                  <a:lnTo>
                    <a:pt x="3744" y="2080"/>
                  </a:lnTo>
                  <a:lnTo>
                    <a:pt x="3601" y="2144"/>
                  </a:lnTo>
                  <a:lnTo>
                    <a:pt x="3463" y="2227"/>
                  </a:lnTo>
                  <a:lnTo>
                    <a:pt x="3343" y="2292"/>
                  </a:lnTo>
                  <a:lnTo>
                    <a:pt x="3219" y="2375"/>
                  </a:lnTo>
                  <a:lnTo>
                    <a:pt x="3085" y="2448"/>
                  </a:lnTo>
                  <a:lnTo>
                    <a:pt x="2933" y="2540"/>
                  </a:lnTo>
                  <a:lnTo>
                    <a:pt x="2800" y="2632"/>
                  </a:lnTo>
                  <a:lnTo>
                    <a:pt x="2671" y="2724"/>
                  </a:lnTo>
                  <a:lnTo>
                    <a:pt x="2547" y="2812"/>
                  </a:lnTo>
                  <a:lnTo>
                    <a:pt x="2353" y="2968"/>
                  </a:lnTo>
                  <a:lnTo>
                    <a:pt x="2154" y="3139"/>
                  </a:lnTo>
                  <a:lnTo>
                    <a:pt x="1998" y="3272"/>
                  </a:lnTo>
                  <a:lnTo>
                    <a:pt x="1809" y="3466"/>
                  </a:lnTo>
                  <a:lnTo>
                    <a:pt x="1680" y="3608"/>
                  </a:lnTo>
                  <a:lnTo>
                    <a:pt x="1537" y="3765"/>
                  </a:lnTo>
                  <a:lnTo>
                    <a:pt x="1381" y="3944"/>
                  </a:lnTo>
                  <a:lnTo>
                    <a:pt x="1252" y="4119"/>
                  </a:lnTo>
                  <a:lnTo>
                    <a:pt x="1123" y="4312"/>
                  </a:lnTo>
                  <a:lnTo>
                    <a:pt x="985" y="4501"/>
                  </a:lnTo>
                  <a:lnTo>
                    <a:pt x="874" y="4699"/>
                  </a:lnTo>
                  <a:lnTo>
                    <a:pt x="759" y="4874"/>
                  </a:lnTo>
                  <a:lnTo>
                    <a:pt x="649" y="5087"/>
                  </a:lnTo>
                  <a:lnTo>
                    <a:pt x="552" y="5294"/>
                  </a:lnTo>
                  <a:lnTo>
                    <a:pt x="465" y="5506"/>
                  </a:lnTo>
                  <a:lnTo>
                    <a:pt x="377" y="5740"/>
                  </a:lnTo>
                  <a:lnTo>
                    <a:pt x="271" y="6026"/>
                  </a:lnTo>
                  <a:lnTo>
                    <a:pt x="202" y="6293"/>
                  </a:lnTo>
                  <a:lnTo>
                    <a:pt x="128" y="6569"/>
                  </a:lnTo>
                  <a:lnTo>
                    <a:pt x="92" y="6836"/>
                  </a:lnTo>
                  <a:lnTo>
                    <a:pt x="41" y="7140"/>
                  </a:lnTo>
                  <a:lnTo>
                    <a:pt x="9" y="7526"/>
                  </a:lnTo>
                  <a:lnTo>
                    <a:pt x="0" y="7826"/>
                  </a:lnTo>
                  <a:lnTo>
                    <a:pt x="9" y="8129"/>
                  </a:lnTo>
                  <a:lnTo>
                    <a:pt x="36" y="8415"/>
                  </a:lnTo>
                  <a:lnTo>
                    <a:pt x="73" y="8682"/>
                  </a:lnTo>
                  <a:lnTo>
                    <a:pt x="105" y="8962"/>
                  </a:lnTo>
                  <a:lnTo>
                    <a:pt x="170" y="9248"/>
                  </a:lnTo>
                  <a:lnTo>
                    <a:pt x="257" y="9552"/>
                  </a:lnTo>
                  <a:lnTo>
                    <a:pt x="363" y="9874"/>
                  </a:lnTo>
                  <a:lnTo>
                    <a:pt x="980" y="8088"/>
                  </a:lnTo>
                  <a:lnTo>
                    <a:pt x="3329" y="8461"/>
                  </a:lnTo>
                  <a:lnTo>
                    <a:pt x="3279" y="8148"/>
                  </a:lnTo>
                  <a:lnTo>
                    <a:pt x="3256" y="7945"/>
                  </a:lnTo>
                  <a:lnTo>
                    <a:pt x="3256" y="7733"/>
                  </a:lnTo>
                  <a:lnTo>
                    <a:pt x="3269" y="7485"/>
                  </a:lnTo>
                  <a:lnTo>
                    <a:pt x="3306" y="7255"/>
                  </a:lnTo>
                  <a:lnTo>
                    <a:pt x="3357" y="6992"/>
                  </a:lnTo>
                  <a:lnTo>
                    <a:pt x="3421" y="6781"/>
                  </a:lnTo>
                  <a:lnTo>
                    <a:pt x="3523" y="6541"/>
                  </a:lnTo>
                  <a:lnTo>
                    <a:pt x="3615" y="6334"/>
                  </a:lnTo>
                  <a:lnTo>
                    <a:pt x="3730" y="6132"/>
                  </a:lnTo>
                  <a:lnTo>
                    <a:pt x="3826" y="5980"/>
                  </a:lnTo>
                  <a:lnTo>
                    <a:pt x="3928" y="5855"/>
                  </a:lnTo>
                  <a:lnTo>
                    <a:pt x="4029" y="5727"/>
                  </a:lnTo>
                  <a:lnTo>
                    <a:pt x="4144" y="5602"/>
                  </a:lnTo>
                  <a:lnTo>
                    <a:pt x="4273" y="5469"/>
                  </a:lnTo>
                  <a:lnTo>
                    <a:pt x="4379" y="5372"/>
                  </a:lnTo>
                  <a:lnTo>
                    <a:pt x="4499" y="5262"/>
                  </a:lnTo>
                  <a:lnTo>
                    <a:pt x="4623" y="5160"/>
                  </a:lnTo>
                  <a:lnTo>
                    <a:pt x="4766" y="5059"/>
                  </a:lnTo>
                  <a:lnTo>
                    <a:pt x="4936" y="4963"/>
                  </a:lnTo>
                  <a:lnTo>
                    <a:pt x="5079" y="4865"/>
                  </a:lnTo>
                  <a:lnTo>
                    <a:pt x="5203" y="4805"/>
                  </a:lnTo>
                  <a:lnTo>
                    <a:pt x="5383" y="4708"/>
                  </a:lnTo>
                  <a:lnTo>
                    <a:pt x="5539" y="4653"/>
                  </a:lnTo>
                  <a:lnTo>
                    <a:pt x="5673" y="4607"/>
                  </a:lnTo>
                  <a:lnTo>
                    <a:pt x="5815" y="4561"/>
                  </a:lnTo>
                  <a:lnTo>
                    <a:pt x="6032" y="4515"/>
                  </a:lnTo>
                  <a:lnTo>
                    <a:pt x="6234" y="4478"/>
                  </a:lnTo>
                  <a:lnTo>
                    <a:pt x="6442" y="4460"/>
                  </a:lnTo>
                  <a:lnTo>
                    <a:pt x="6649" y="4446"/>
                  </a:lnTo>
                  <a:lnTo>
                    <a:pt x="6764" y="4441"/>
                  </a:lnTo>
                  <a:lnTo>
                    <a:pt x="6764" y="6049"/>
                  </a:lnTo>
                  <a:lnTo>
                    <a:pt x="9403" y="3065"/>
                  </a:lnTo>
                  <a:lnTo>
                    <a:pt x="6768" y="0"/>
                  </a:lnTo>
                  <a:lnTo>
                    <a:pt x="6768" y="1380"/>
                  </a:lnTo>
                  <a:lnTo>
                    <a:pt x="6626" y="1385"/>
                  </a:lnTo>
                  <a:lnTo>
                    <a:pt x="6419" y="1394"/>
                  </a:lnTo>
                  <a:lnTo>
                    <a:pt x="6202" y="1408"/>
                  </a:lnTo>
                  <a:lnTo>
                    <a:pt x="5995" y="1426"/>
                  </a:lnTo>
                  <a:lnTo>
                    <a:pt x="5825" y="1445"/>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0" name=""/>
          <p:cNvSpPr txBox="1"/>
          <p:nvPr/>
        </p:nvSpPr>
        <p:spPr>
          <a:xfrm>
            <a:off x="2225520" y="2320920"/>
            <a:ext cx="141444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Existing</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usage</a:t>
            </a:r>
            <a:endParaRPr b="0" lang="en-US" sz="2400" spc="-1" strike="noStrike">
              <a:solidFill>
                <a:srgbClr val="000000"/>
              </a:solidFill>
              <a:latin typeface="Arial"/>
            </a:endParaRPr>
          </a:p>
        </p:txBody>
      </p:sp>
      <p:sp>
        <p:nvSpPr>
          <p:cNvPr id="171" name=""/>
          <p:cNvSpPr txBox="1"/>
          <p:nvPr/>
        </p:nvSpPr>
        <p:spPr>
          <a:xfrm>
            <a:off x="5481720" y="3238560"/>
            <a:ext cx="176544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Technology</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potential</a:t>
            </a:r>
            <a:endParaRPr b="0" lang="en-US" sz="2400" spc="-1" strike="noStrike">
              <a:solidFill>
                <a:srgbClr val="000000"/>
              </a:solidFill>
              <a:latin typeface="Arial"/>
            </a:endParaRPr>
          </a:p>
        </p:txBody>
      </p:sp>
      <p:sp>
        <p:nvSpPr>
          <p:cNvPr id="172" name=""/>
          <p:cNvSpPr txBox="1"/>
          <p:nvPr/>
        </p:nvSpPr>
        <p:spPr>
          <a:xfrm>
            <a:off x="3618000" y="5311800"/>
            <a:ext cx="111276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Design</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test</a:t>
            </a:r>
            <a:endParaRPr b="0" lang="en-US" sz="2400" spc="-1" strike="noStrike">
              <a:solidFill>
                <a:srgbClr val="000000"/>
              </a:solidFill>
              <a:latin typeface="Arial"/>
            </a:endParaRPr>
          </a:p>
        </p:txBody>
      </p:sp>
      <p:sp>
        <p:nvSpPr>
          <p:cNvPr id="173" name=""/>
          <p:cNvSpPr txBox="1"/>
          <p:nvPr/>
        </p:nvSpPr>
        <p:spPr>
          <a:xfrm>
            <a:off x="330120" y="225360"/>
            <a:ext cx="85215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r-Driven Development</a:t>
            </a:r>
            <a:endParaRPr b="0" lang="en-US" sz="4800" spc="-1" strike="noStrike">
              <a:solidFill>
                <a:srgbClr val="000000"/>
              </a:solidFill>
              <a:latin typeface="Arial"/>
            </a:endParaRPr>
          </a:p>
        </p:txBody>
      </p:sp>
      <p:sp>
        <p:nvSpPr>
          <p:cNvPr id="174" name=""/>
          <p:cNvSpPr txBox="1"/>
          <p:nvPr/>
        </p:nvSpPr>
        <p:spPr>
          <a:xfrm>
            <a:off x="365040" y="1363680"/>
            <a:ext cx="2540160" cy="2635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strumente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versions</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sh</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SS</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p:txBody>
      </p:sp>
      <p:sp>
        <p:nvSpPr>
          <p:cNvPr id="175" name=""/>
          <p:cNvSpPr txBox="1"/>
          <p:nvPr/>
        </p:nvSpPr>
        <p:spPr>
          <a:xfrm>
            <a:off x="6470640" y="1652760"/>
            <a:ext cx="2403360" cy="2581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Activities-based </a:t>
            </a:r>
            <a:br>
              <a:rPr sz="2400"/>
            </a:br>
            <a:r>
              <a:rPr b="1" lang="en-US" sz="2400" spc="-1" strike="noStrike">
                <a:solidFill>
                  <a:srgbClr val="ffffff"/>
                </a:solidFill>
                <a:latin typeface="Times New Roman"/>
                <a:ea typeface="Times New Roman"/>
              </a:rPr>
              <a:t>planning</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textual </a:t>
            </a:r>
            <a:br>
              <a:rPr sz="2400"/>
            </a:br>
            <a:r>
              <a:rPr b="1" lang="en-US" sz="2400" spc="-1" strike="noStrike">
                <a:solidFill>
                  <a:srgbClr val="ffffff"/>
                </a:solidFill>
                <a:latin typeface="Times New Roman"/>
                <a:ea typeface="Times New Roman"/>
              </a:rPr>
              <a:t>     inquiry</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amp;D</a:t>
            </a:r>
            <a:endParaRPr b="0" lang="en-US" sz="2400" spc="-1" strike="noStrike">
              <a:solidFill>
                <a:srgbClr val="000000"/>
              </a:solidFill>
              <a:latin typeface="Arial"/>
            </a:endParaRPr>
          </a:p>
        </p:txBody>
      </p:sp>
      <p:sp>
        <p:nvSpPr>
          <p:cNvPr id="176" name=""/>
          <p:cNvSpPr txBox="1"/>
          <p:nvPr/>
        </p:nvSpPr>
        <p:spPr>
          <a:xfrm>
            <a:off x="1457280" y="5519880"/>
            <a:ext cx="1574640" cy="71424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Quality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assurance</a:t>
            </a:r>
            <a:endParaRPr b="0" lang="en-US" sz="2400" spc="-1" strike="noStrike">
              <a:solidFill>
                <a:srgbClr val="000000"/>
              </a:solidFill>
              <a:latin typeface="Arial"/>
            </a:endParaRPr>
          </a:p>
        </p:txBody>
      </p:sp>
      <p:sp>
        <p:nvSpPr>
          <p:cNvPr id="177" name=""/>
          <p:cNvSpPr txBox="1"/>
          <p:nvPr/>
        </p:nvSpPr>
        <p:spPr>
          <a:xfrm>
            <a:off x="5978520" y="5859360"/>
            <a:ext cx="2394000" cy="403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Usability testing</a:t>
            </a:r>
            <a:endParaRPr b="0" lang="en-US" sz="2400" spc="-1" strike="noStrike">
              <a:solidFill>
                <a:srgbClr val="000000"/>
              </a:solidFill>
              <a:latin typeface="Arial"/>
            </a:endParaRPr>
          </a:p>
        </p:txBody>
      </p:sp>
      <p:sp>
        <p:nvSpPr>
          <p:cNvPr id="178" name=""/>
          <p:cNvSpPr txBox="1"/>
          <p:nvPr/>
        </p:nvSpPr>
        <p:spPr>
          <a:xfrm>
            <a:off x="3178080" y="6383160"/>
            <a:ext cx="2711520" cy="403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Benchmarking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S. O'Rourke</dc:creator>
  <dc:description/>
  <dc:language>en-US</dc:language>
  <cp:lastModifiedBy>John S. O'Rourke</cp:lastModifiedBy>
  <cp:revision>0</cp:revision>
  <dc:subject/>
  <dc:title>Microsoft® Office Strategy</dc:title>
</cp:coreProperties>
</file>