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C1EDA-67D0-4A2C-BAC5-72894D4D6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2B749-F7FC-4FFF-813D-61BB4FAA0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A6DE0-22A9-49C9-9ECA-C2AC95E8A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ED6A1-65B5-4083-BF69-FB5DDC5CD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076C0-B4BB-4196-A72E-2A15BB4DF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2359A-CADA-4329-B84E-5F1A6BC74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EDB11-78F6-4BC7-B626-E1C0E3FB2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7E89B-E718-492D-8755-538918C60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560"/>
            <a:ext cx="8382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644F-1A4E-4B16-9E99-31754F59A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300C-58C0-4F5F-BF10-5F35571F9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C02B-A361-4608-8FBB-4EDFB4B7E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CDC82-9083-4C14-ADE6-CD2D5BF1E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4583-67AA-4AB2-8AF9-1E833D319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obertob@microsoft.com" TargetMode="External"/><Relationship Id="rId2" Type="http://schemas.openxmlformats.org/officeDocument/2006/relationships/hyperlink" Target="mailto:robertob@microsoft.com" TargetMode="External"/><Relationship Id="rId3" Type="http://schemas.openxmlformats.org/officeDocument/2006/relationships/hyperlink" Target="mailto:robertob@microsoft.com" TargetMode="External"/><Relationship Id="rId4" Type="http://schemas.openxmlformats.org/officeDocument/2006/relationships/hyperlink" Target="mailto:robertob@microsoft.com"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tp://ftp.microsoft.com/services/isn/svcPvdrs/postings.x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microsoft.com/IsnN" TargetMode="External"/><Relationship Id="rId2" Type="http://schemas.openxmlformats.org/officeDocument/2006/relationships/hyperlink" Target="http://www.microsoft.com/IsnN"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tp://ftp.microsoft.com/services/isn/svcPvdrs/postings.xml" TargetMode="External"/><Relationship Id="rId2" Type="http://schemas.openxmlformats.org/officeDocument/2006/relationships/hyperlink" Target="ftp://ftp.microsoft.com/services/isn/svcPvdrs/postings.xml" TargetMode="External"/><Relationship Id="rId3" Type="http://schemas.openxmlformats.org/officeDocument/2006/relationships/hyperlink" Target="http://www.microsoft.com/ISN/tech_columnists.asp" TargetMode="External"/><Relationship Id="rId4" Type="http://schemas.openxmlformats.org/officeDocument/2006/relationships/hyperlink" Target="mailto:robertob@microsoft.co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plication Usage Tracking Service</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533160" y="3886200"/>
            <a:ext cx="8001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Network Service Provider Group</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
              </a:rPr>
              <a:t>robertob</a:t>
            </a:r>
            <a:r>
              <a:rPr b="0" lang="en-US" sz="3200" spc="-1" strike="noStrike" u="sng">
                <a:solidFill>
                  <a:srgbClr val="000000"/>
                </a:solidFill>
                <a:uFillTx/>
                <a:latin typeface="Times New Roman"/>
                <a:hlinkClick r:id="rId2"/>
              </a:rPr>
              <a:t>@</a:t>
            </a:r>
            <a:r>
              <a:rPr b="0" lang="en-US" sz="3200" spc="-1" strike="noStrike" u="sng">
                <a:solidFill>
                  <a:srgbClr val="000000"/>
                </a:solidFill>
                <a:uFillTx/>
                <a:latin typeface="Times New Roman"/>
                <a:hlinkClick r:id="rId3"/>
              </a:rPr>
              <a:t>microsoft</a:t>
            </a:r>
            <a:r>
              <a:rPr b="0" lang="en-US" sz="3200" spc="-1" strike="noStrike" u="sng">
                <a:solidFill>
                  <a:srgbClr val="000000"/>
                </a:solidFill>
                <a:uFillTx/>
                <a:latin typeface="Times New Roman"/>
                <a:hlinkClick r:id="rId4"/>
              </a:rPr>
              <a:t>.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 = 04feb0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Options</a:t>
            </a:r>
            <a:endParaRPr b="0" lang="en-US" sz="4400" spc="-1" strike="noStrike">
              <a:solidFill>
                <a:srgbClr val="000000"/>
              </a:solidFill>
              <a:latin typeface="Times New Roman"/>
            </a:endParaRPr>
          </a:p>
        </p:txBody>
      </p:sp>
      <p:sp>
        <p:nvSpPr>
          <p:cNvPr id="72" name=""/>
          <p:cNvSpPr txBox="1"/>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1676520" y="1447920"/>
            <a:ext cx="5995800" cy="461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Overview</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 “Centralized RDMS Configuration” once on your RDMS Ho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 “Application Usage Tracking Service” on every host where you want to enabled centralized logging of application/process create and terminate events, eventlog entries and services stop/pending/running state cha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Run “System Updates” to install latest Microsoft Xml Parser release, currently September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Command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Install/Uninstall –</a:t>
            </a:r>
            <a:endParaRPr b="0" lang="en-US" sz="36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click AppUseTrkSvc.msi</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ttended Install –</a:t>
            </a:r>
            <a:endParaRPr b="0" lang="en-US" sz="36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iexec /i AppUseTrkSvc.msi RDMSHOST=myRdms</a:t>
            </a:r>
            <a:endParaRPr b="0" lang="en-US" sz="28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ttended Uninstall –</a:t>
            </a:r>
            <a:endParaRPr b="0" lang="en-US" sz="36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iexec /x AppUseTrkSvc.msi RDMSHOST=myRdm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 Setup Op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that are tracked by default</a:t>
            </a:r>
            <a:endParaRPr b="0" lang="en-US" sz="32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tasks = cmd.exe cscript.exe kill.exe isql.exe isqlw.exe mmc.exe mofcomp.exe msiexec.exe net.exe netsh.exe pview.exe regedit.exe regedt32.exe robocopy.exe shutdown.exe taskmgr.exe tlist.exe wbemtest.exe wscript.exe xcopy.exe</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p hosted tasks = explorer.exe excel.exe iexplore.exe msaccess.exe notepad.exe outlook.exe powerpnt.exe winword.exe</a:t>
            </a:r>
            <a:endParaRPr b="0" lang="en-US" sz="20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hange default list</a:t>
            </a:r>
            <a:endParaRPr b="0" lang="en-US" sz="32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iexec /i appUseTrkSvc.msi rdmsHost=myrdms wmiAppsAdm="cmd.exe netsh.exe foo.exe" wmiAppsAasp="explorer.exe iexplore.exe bar.exe“</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iexec /i appUseTrkSvc.msi rdmsHost=myrdms wmiAppsAdm=“*” wmiAppsAsp=“*”</a:t>
            </a:r>
            <a:endParaRPr b="0" lang="en-US" sz="2000" spc="-1" strike="noStrike">
              <a:solidFill>
                <a:srgbClr val="000000"/>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 Setup Options, cont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Application polling interval = 15 seco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hange default polling interv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iexec /i appUseTrkSvc.msi … WMIPLNGITVL=“&lt;#seconds&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ebugging, evaluation WMIPLNGITVL=“5” works wel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information on interactive and setup command line interface (CLI) options see readMe.t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Admin Integratio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microsoft.com/ISN/downloads.asp</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s will display context sensitive view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ing at a User obje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Usage.asp shows user recor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ing at a Computer obje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Usage.asp shows computer recor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be included in next WebAdmin posting upda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Purpose Event Provider</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1"/>
              </a:rPr>
              <a:t>ftp://ftp.microsoft.com/services/isn/svcPvdrs/postings.xm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we can only track wmi events for process based applications, I.e. myapp.ex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ep allows any COM capable environment to generate events with two lines of code</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ar oGpep = new ActiveXObject("GnlPpsEvntPvdr.Gpe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oGpep.Fire(“app.js", "johnd@mydom.com", 1001, c:\\path\\test.j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used to include .ASP application tracking, see “WebApp” included with application usage tracking servi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pep, contd</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lt;myrdms&gt;/reports/default.asp enabled as an examp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onDate value carried in QueryString for .ASP applicatio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s in load balanced, zero session enabled environm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lobal.asa Session_OnStart/OnEnd for session enabled applications or keep CreationDate in Cookie, QueryString or Centralized Rdms temporary table</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Star “AdminEvent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 of MCS Financial services initiativ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structured eventing model</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i events for &lt; ## events/sec</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e events (ie local file log) for &gt; ## events/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of ATL template wizards for generating provider cod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tudio.net will encapsulate the best practices learned from these material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MSFT rep contact MCS Financial services for acces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future updat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 any user highlighted bugs and apply appropriate feature/function change sugges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e windows installer 1.5 support when whistler releases to enable reports ui url bootstrapped installs that don't require relaxed browser security settings and fix wmi information dialog tab order being affixed to check box initially even though its not first in tab ord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off Who/What is NSP?</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unit, not a product group</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Network and Telco markets</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r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providers</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Development Team</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censing, partnerships, etc.</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ering Team</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s, Deployments and Shareware solutions</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Team</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studies, Press Releases, </a:t>
            </a:r>
            <a:r>
              <a:rPr b="0" lang="en-US" sz="2400" spc="-1" strike="noStrike" u="sng">
                <a:solidFill>
                  <a:srgbClr val="000000"/>
                </a:solidFill>
                <a:uFillTx/>
                <a:latin typeface="Times New Roman"/>
                <a:hlinkClick r:id="rId1"/>
              </a:rPr>
              <a:t>http://www.microsoft.com/</a:t>
            </a:r>
            <a:r>
              <a:rPr b="0" lang="en-US" sz="2400" spc="-1" strike="noStrike" u="sng">
                <a:solidFill>
                  <a:srgbClr val="000000"/>
                </a:solidFill>
                <a:uFillTx/>
                <a:latin typeface="Times New Roman"/>
                <a:hlinkClick r:id="rId2"/>
              </a:rPr>
              <a:t>Isn</a:t>
            </a:r>
            <a:r>
              <a:rPr b="0" lang="en-US" sz="2400" spc="-1" strike="noStrike">
                <a:solidFill>
                  <a:srgbClr val="000000"/>
                </a:solidFill>
                <a:latin typeface="Times New Roman"/>
              </a:rPr>
              <a:t> and /AppHos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 Additional Inform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I get it</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1"/>
              </a:rPr>
              <a:t>ftp://ftp.microsoft.com/services/isn/svcPvdrs/postings.</a:t>
            </a:r>
            <a:r>
              <a:rPr b="0" lang="en-US" sz="2000" spc="-1" strike="noStrike" u="sng">
                <a:solidFill>
                  <a:srgbClr val="000000"/>
                </a:solidFill>
                <a:uFillTx/>
                <a:latin typeface="Times New Roman"/>
                <a:hlinkClick r:id="rId2"/>
              </a:rPr>
              <a:t>xm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3"/>
              </a:rPr>
              <a:t>http://www.microsoft.com/ISN/tech_columnists.as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UseTrkSvc.zip, appUseTrkSvcSrc.zip</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questions, ide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4"/>
              </a:rPr>
              <a:t>robertob@microsoft.co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Ps and DataCenter Op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 hosted web site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meet service level agreements (SLA),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roubles arise need to decipher if delegated customer admins or ASP admins broke service</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 hosted line of business application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able to provide application usage report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optionally want to enable per minute billing</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center Op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be able to track down why problems arise</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be able to profile Ops staff task cycles to locate opportunities for creation of one step alternati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W2KS Retail Offering</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easy in-the-box way to track the following</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started what application/proces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an application/process was run</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 who was running what application/process last before host stopped</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 routinely executed processes by Ops staff</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ly log all W2KS EventLog entries and Services state changes (i.e. stop/pending/running)</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to above events to daily local log file when network is down or temporary congestion ex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Usage Tracking Servic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ware solution written and posted along with source co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way of dealing with requirements listed on previous sl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ll in-the-box components so no additional licensing is required to u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ware solution so you may customize as you pleas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362320" y="4978440"/>
            <a:ext cx="28954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006640" y="4673520"/>
            <a:ext cx="28954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638360" y="4356000"/>
            <a:ext cx="28954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a:t>
            </a:r>
            <a:endParaRPr b="0" lang="en-US" sz="4400" spc="-1" strike="noStrike">
              <a:solidFill>
                <a:srgbClr val="000000"/>
              </a:solidFill>
              <a:latin typeface="Times New Roman"/>
            </a:endParaRPr>
          </a:p>
        </p:txBody>
      </p:sp>
      <p:sp>
        <p:nvSpPr>
          <p:cNvPr id="55" name=""/>
          <p:cNvSpPr/>
          <p:nvPr/>
        </p:nvSpPr>
        <p:spPr>
          <a:xfrm>
            <a:off x="1486080" y="1778040"/>
            <a:ext cx="3504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zed RDMS Host with Database, Tables and Web reports installed</a:t>
            </a:r>
            <a:endParaRPr b="0" lang="en-US" sz="2400" spc="-1" strike="noStrike">
              <a:solidFill>
                <a:srgbClr val="000000"/>
              </a:solidFill>
              <a:latin typeface="Times New Roman"/>
            </a:endParaRPr>
          </a:p>
        </p:txBody>
      </p:sp>
      <p:sp>
        <p:nvSpPr>
          <p:cNvPr id="56" name=""/>
          <p:cNvSpPr/>
          <p:nvPr/>
        </p:nvSpPr>
        <p:spPr>
          <a:xfrm>
            <a:off x="1219320" y="4038480"/>
            <a:ext cx="28954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s with Wmi Event Generator and Processor installed</a:t>
            </a:r>
            <a:endParaRPr b="0" lang="en-US" sz="2400" spc="-1" strike="noStrike">
              <a:solidFill>
                <a:srgbClr val="000000"/>
              </a:solidFill>
              <a:latin typeface="Times New Roman"/>
            </a:endParaRPr>
          </a:p>
        </p:txBody>
      </p:sp>
      <p:sp>
        <p:nvSpPr>
          <p:cNvPr id="57" name=""/>
          <p:cNvSpPr/>
          <p:nvPr/>
        </p:nvSpPr>
        <p:spPr>
          <a:xfrm flipH="1" flipV="1">
            <a:off x="3390480" y="2997000"/>
            <a:ext cx="6858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3619080" y="299736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flipV="1">
            <a:off x="3848040" y="2997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flipV="1">
            <a:off x="4076280" y="2997000"/>
            <a:ext cx="114300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572000" y="304812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ml/http event data submission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cally logs when network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s Menu</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1141560" y="1370160"/>
            <a:ext cx="6827760" cy="491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ption 1 – Formatted Dat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7" name="" descr=""/>
          <p:cNvPicPr/>
          <p:nvPr/>
        </p:nvPicPr>
        <p:blipFill>
          <a:blip r:embed="rId1"/>
          <a:stretch/>
        </p:blipFill>
        <p:spPr>
          <a:xfrm>
            <a:off x="1141560" y="1370160"/>
            <a:ext cx="6827760" cy="49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ption 4 – Raw Xml Data</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 descr=""/>
          <p:cNvPicPr/>
          <p:nvPr/>
        </p:nvPicPr>
        <p:blipFill>
          <a:blip r:embed="rId1"/>
          <a:stretch/>
        </p:blipFill>
        <p:spPr>
          <a:xfrm>
            <a:off x="1141560" y="1370160"/>
            <a:ext cx="6827760" cy="491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19:54:58Z</dcterms:created>
  <dc:creator>Administrator</dc:creator>
  <dc:description/>
  <dc:language>en-US</dc:language>
  <cp:lastModifiedBy>Administrator</cp:lastModifiedBy>
  <dcterms:modified xsi:type="dcterms:W3CDTF">2001-02-05T08:54:44Z</dcterms:modified>
  <cp:revision>117</cp:revision>
  <dc:subject/>
  <dc:title>PowerPoint Presentation</dc:title>
</cp:coreProperties>
</file>