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94863" cy="6858000"/>
  <p:notesSz cx="7034213" cy="9104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D10F-7257-4EF7-A982-ED0843630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8238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7200" y="4130640"/>
            <a:ext cx="8238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5191-2106-41E3-80CE-750788548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8920" y="198108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7200" y="413064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8920" y="413064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0913-CAC5-494B-B754-47E00DBF4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2652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3240" y="1981080"/>
            <a:ext cx="2652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98920" y="1981080"/>
            <a:ext cx="2652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7200" y="4130640"/>
            <a:ext cx="2652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3240" y="4130640"/>
            <a:ext cx="2652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98920" y="4130640"/>
            <a:ext cx="2652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0C21-E7C1-4C25-AA51-B9794272A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7200" y="1981080"/>
            <a:ext cx="8238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33F6-D4F2-4B81-B4F7-FBE89B254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8238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BD52-FF8E-421A-8336-8105FEBE2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402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8920" y="1981080"/>
            <a:ext cx="402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3A2F-DAB4-41AC-8CC7-A6605CF9B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72CC-CE53-4396-A2B7-147CDDE5D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7200" y="609120"/>
            <a:ext cx="8238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85B8-01F9-4420-B738-3B7FF4193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8920" y="1981080"/>
            <a:ext cx="402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7200" y="413064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D990-B497-4475-ADC7-31400F235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402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8920" y="198108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8920" y="413064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F5E0-CBFF-4180-80AF-F549659BB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8920" y="198108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7200" y="4130640"/>
            <a:ext cx="8238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AAF7-949F-415D-9651-FAA6F4CAC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27200" y="1981080"/>
            <a:ext cx="8238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26840" y="6248520"/>
            <a:ext cx="2019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11640" y="6248520"/>
            <a:ext cx="307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46560" y="6248520"/>
            <a:ext cx="2019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E1934-ABDF-4CE1-99DF-6D0C260438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810560" y="5591160"/>
            <a:ext cx="20286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Power Cord: IEC320-C13 to NEMA 5-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03541-xxx Power Cords 13-20 Amp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-001 USA/Japan  -011 Aus/N.Zeal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-021 C.Europe     -031 UK/Ireland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-511 Switzerland -481 Denmar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-461 Italy             -AR1 India/S.Africa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-BT1  Israe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87440" y="4441680"/>
            <a:ext cx="19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28520" y="0"/>
            <a:ext cx="4183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A8000/EMA12000 CI Product S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778040" y="2562120"/>
            <a:ext cx="24361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torage controllers, cache, batteries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04305-B21   HSJ80 RAID Array Controller w/ 512MB Cac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35823-B21   Single external cache batter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81240" y="365760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81240" y="365760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038480" y="3809880"/>
            <a:ext cx="1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1778040" y="380880"/>
            <a:ext cx="7920" cy="6477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842240" y="2876400"/>
            <a:ext cx="0" cy="398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846920" y="5638680"/>
            <a:ext cx="184644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76240" y="2946240"/>
            <a:ext cx="2470320" cy="12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upported Hard Driv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649-B22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9.1GB Ultra2 SCSI 7200 RPM 1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28939-B22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9.1GB Ultra2 SCSI 10K RPM 1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2671-B22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9.1GB Ultra3 SCSI 10K RPM 1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38144-B22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2GB Ultra2 SCSI 7200 RPM 1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8418-B22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2GB Ultra2 SCSI 10K RPM 1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2673-B22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2GB Ultra3 SCSI 10K RPM 1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76496-B22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6.4GB Ultra3 SCSI 10K RPM 1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76494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72.8GB Ultra3 SCSI 10K RPM 1.6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649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6”Drive Extenders (Pack of 4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747440" y="4160880"/>
            <a:ext cx="2856960" cy="1919160"/>
            <a:chOff x="1747440" y="4160880"/>
            <a:chExt cx="2856960" cy="1919160"/>
          </a:xfrm>
        </p:grpSpPr>
        <p:sp>
          <p:nvSpPr>
            <p:cNvPr id="53" name=""/>
            <p:cNvSpPr/>
            <p:nvPr/>
          </p:nvSpPr>
          <p:spPr>
            <a:xfrm>
              <a:off x="2329920" y="4160880"/>
              <a:ext cx="2274480" cy="19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ompaq 9142 Rack, options: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20663-B21   9142 42U Cab (opal) No PDU- Flat Palle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20663-B22   9142 42U Cab (opal) No PDU- Shock Palle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20663-B23   9142 42U Cab (opal) No PDU- Crate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20670-B21 Side Pane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20673-B21 Rack Stabilize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20669-B21 Multi-Bay Ki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20677/678-B21 Fan Kit 110/220V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69940-B21 Blank Panel Kit (Qty 4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295363-001 PDU DOM Low - Zero U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            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2 ft L5-30P Pdu supports 6 p/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295363-002 PDU DOM 16 Amp - Zero U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             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6-20P  Pdu supports 6 p/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295363-003 PDU DOM 32 Amp - Zero U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            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2 ft L6-30P  Pdu supports 6 p/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Order 9142  with 1 or 2 PDU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Note: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Not all options show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1747440" y="4240080"/>
              <a:ext cx="674280" cy="1474560"/>
              <a:chOff x="1747440" y="4240080"/>
              <a:chExt cx="674280" cy="1474560"/>
            </a:xfrm>
          </p:grpSpPr>
          <p:grpSp>
            <p:nvGrpSpPr>
              <p:cNvPr id="55" name=""/>
              <p:cNvGrpSpPr/>
              <p:nvPr/>
            </p:nvGrpSpPr>
            <p:grpSpPr>
              <a:xfrm>
                <a:off x="1801800" y="4240080"/>
                <a:ext cx="574560" cy="1474560"/>
                <a:chOff x="1801800" y="4240080"/>
                <a:chExt cx="574560" cy="1474560"/>
              </a:xfrm>
            </p:grpSpPr>
            <p:sp>
              <p:nvSpPr>
                <p:cNvPr id="56" name=""/>
                <p:cNvSpPr/>
                <p:nvPr/>
              </p:nvSpPr>
              <p:spPr>
                <a:xfrm>
                  <a:off x="1801800" y="4240080"/>
                  <a:ext cx="574560" cy="140796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114480"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114480"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1801800" y="5660640"/>
                  <a:ext cx="149760" cy="52560"/>
                </a:xfrm>
                <a:prstGeom prst="ellipse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360" bIns="-9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2226600" y="5662440"/>
                  <a:ext cx="149400" cy="52200"/>
                </a:xfrm>
                <a:prstGeom prst="ellipse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" name=""/>
              <p:cNvSpPr/>
              <p:nvPr/>
            </p:nvSpPr>
            <p:spPr>
              <a:xfrm>
                <a:off x="1761120" y="4316400"/>
                <a:ext cx="660600" cy="70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Compaq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914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Rack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Retm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OPAL only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747440" y="5421240"/>
                <a:ext cx="6314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42U Rack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01800" y="5110200"/>
                <a:ext cx="5605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No CT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" name=""/>
          <p:cNvSpPr/>
          <p:nvPr/>
        </p:nvSpPr>
        <p:spPr>
          <a:xfrm>
            <a:off x="7763040" y="6399360"/>
            <a:ext cx="201924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Power Cord: IEC320-C13 to IEC320-C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N35S-02    2.5M IEC cable, black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N30B-02    2.5M IEC cable, gra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17360" y="2009880"/>
            <a:ext cx="185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87840" y="2863800"/>
            <a:ext cx="266688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Enclosure  op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65-B21   180 Watt Power Supply for M2200 Enclosu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9826-B21   4214R Redundant power suppl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9829-B21   4214R Dual Bus I/O Module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191280" y="81000"/>
            <a:ext cx="1186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17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85960" y="4191120"/>
            <a:ext cx="274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1795320" y="2501640"/>
            <a:ext cx="274824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65160" y="5587920"/>
            <a:ext cx="210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747520" y="30492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33840" y="2514600"/>
            <a:ext cx="0" cy="167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38520" y="3416400"/>
            <a:ext cx="329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-12240" y="144360"/>
            <a:ext cx="1867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del 2200 (M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troller Enclosure - 4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511200"/>
            <a:ext cx="1765440" cy="2034000"/>
            <a:chOff x="0" y="511200"/>
            <a:chExt cx="1765440" cy="2034000"/>
          </a:xfrm>
        </p:grpSpPr>
        <p:sp>
          <p:nvSpPr>
            <p:cNvPr id="74" name=""/>
            <p:cNvSpPr/>
            <p:nvPr/>
          </p:nvSpPr>
          <p:spPr>
            <a:xfrm>
              <a:off x="576720" y="511200"/>
              <a:ext cx="430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Fron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97240" y="1241280"/>
              <a:ext cx="4154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Back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0960" y="1990800"/>
              <a:ext cx="184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26000" y="1963800"/>
              <a:ext cx="144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             </a:t>
              </a: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135820-B21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cludes:</a:t>
              </a: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 (2) 180W Power Supplies, (3)</a:t>
              </a:r>
              <a:br>
                <a:rPr sz="600"/>
              </a:b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ans, (6) Ultra SCSI I/O Modules, EMU,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(2) IEC C13-C14 Power Cords, RETMA</a:t>
              </a:r>
              <a:br>
                <a:rPr sz="600"/>
              </a:b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mounting ki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0" y="2533680"/>
              <a:ext cx="176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0" y="2530440"/>
            <a:ext cx="177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odel 42xx /43xx Device Enclosure - 3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3195720"/>
            <a:ext cx="175896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03381-001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- 4214R (Ultra 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90209-001 -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4314R (Ultra 3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- Single Bus, 14 Bay Device Enclosure, RETMA mounting kit, (2) Blower, (1) Power Supply, (1) IEC-C13 to            NEMA 5-15P Power Cord, (1) 3.7M VHD - VHD SCSI Cabl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38151-001 -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4254R (Ultra 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90211-00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- 4354R (Ultra 3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- Dual Bus, 14 Bay Device Enclosure, RETMA mounting kit, (2) Blowers, (2) Power Supplies, (2) IEC-C13 to NEMA 5-15P Power Cords , (2) IEC-C13 to IEC-C14 Power Cords, (2) 3.7M VHD - VHD SCSI Cabl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87840" y="3419640"/>
            <a:ext cx="311328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CSI Cables - VHDCI to VHDCI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(for CT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68256-B21  1Meter, 168257-B21  2M, 189505-B21 3M, 400983-005  5M, 400985-010 10M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CI Cab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NCIA-10  10M, BNCIA-20  20M, BNCIA-45  45M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tar Coupl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C008-AC  8 ports, dual CI path w/ Cabin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C008-AD  8 ports, dual CI path. Upgrades SC008-A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o 16 CI ports - installs inside SC008-A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32400" y="4191120"/>
            <a:ext cx="0" cy="2654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833480" y="6008760"/>
            <a:ext cx="2923920" cy="9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Other 9000 Series Racks Support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0664-B21  9136 -36U Cab (opal) No PDU- Flat Pallet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0664-B22  9136 -36U Cab (opal) No PDU- Shock Pallet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0664-B23  9136 -36U Cab (opal) No PDU- Crated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0665-B21  9122 -22U Cab (opal) No PDU- Flat Pallet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0665-B22  9122 -22U Cab (opal) No PDU- Shock Pall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0665-B23  9122 -22U Cab (opal) No PDU- Crated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4513680" y="5091120"/>
            <a:ext cx="3411000" cy="1600920"/>
            <a:chOff x="4513680" y="5091120"/>
            <a:chExt cx="3411000" cy="1600920"/>
          </a:xfrm>
        </p:grpSpPr>
        <p:sp>
          <p:nvSpPr>
            <p:cNvPr id="85" name=""/>
            <p:cNvSpPr/>
            <p:nvPr/>
          </p:nvSpPr>
          <p:spPr>
            <a:xfrm>
              <a:off x="5073480" y="5091120"/>
              <a:ext cx="2851200" cy="160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Modular Storage Cabinet 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80311-B21  42U  (opal) 60Hz w/ (26) IEC320-C13 to C14 Power Cord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80312-B22  42U  (opal) 50Hz w/ (26) IEC320-C13 to C14 Power Cord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80313-B21  36U  (opal) 60Hz w/ (22) IEC320-C13 to C14 Power Cord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80314-B22  36U  (opal) 50Hz w/ (22) IEC320-C13 to C14 Power Cord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80315-B21  22U  (opal) 60Hz w/ (12) IEC320-C13 to C14 Power Cord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80316-B22  22U  (opal) 50Hz w/ (12) IEC320-C13 to C14 Power Cord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80317-B21  41U  (</a:t>
              </a: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blue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) 60Hz w/ (26) IEC320-C13 to C14 Power Cords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80318-B22  41U  (</a:t>
              </a: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blue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) 50Hz w/ (26) IEC320-C13 to C14 Power Cord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All Modular Storage Cabs include: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Front &amp; back doors, Side panels, (2) 2U 24Amp PDUs each with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1) 15’ L6-30P input Power Cord, (16) IEC320-C13 receptacl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4513680" y="5163840"/>
              <a:ext cx="694080" cy="1289520"/>
              <a:chOff x="4513680" y="5163840"/>
              <a:chExt cx="694080" cy="1289520"/>
            </a:xfrm>
          </p:grpSpPr>
          <p:grpSp>
            <p:nvGrpSpPr>
              <p:cNvPr id="87" name=""/>
              <p:cNvGrpSpPr/>
              <p:nvPr/>
            </p:nvGrpSpPr>
            <p:grpSpPr>
              <a:xfrm>
                <a:off x="4579920" y="5208120"/>
                <a:ext cx="555480" cy="1245240"/>
                <a:chOff x="4579920" y="5208120"/>
                <a:chExt cx="555480" cy="124524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4579920" y="5208120"/>
                  <a:ext cx="555480" cy="118908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114480"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114480"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4579920" y="6408000"/>
                  <a:ext cx="144720" cy="44280"/>
                </a:xfrm>
                <a:prstGeom prst="ellipse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4990680" y="6409440"/>
                  <a:ext cx="144720" cy="43920"/>
                </a:xfrm>
                <a:prstGeom prst="ellipse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1" name=""/>
              <p:cNvSpPr/>
              <p:nvPr/>
            </p:nvSpPr>
            <p:spPr>
              <a:xfrm>
                <a:off x="4513680" y="5163840"/>
                <a:ext cx="694080" cy="120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Modular</a:t>
                </a:r>
                <a:br>
                  <a:rPr sz="800"/>
                </a:b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Storag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Cabine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(22U, 36U, 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42U are 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Pre-Configured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9000 Series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Racks)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(41U is 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Pre-configured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ESA12000 Cab)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CTO avail.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2" name=""/>
          <p:cNvSpPr/>
          <p:nvPr/>
        </p:nvSpPr>
        <p:spPr>
          <a:xfrm>
            <a:off x="8582760" y="1830240"/>
            <a:ext cx="95940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75993-B21/60H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1) 41U Modula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torage Cab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1) M2200 Enclosu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3) 4254 Enclos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6) SCSI VHD-VH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bl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NO Controllers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che or D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547840" y="82440"/>
            <a:ext cx="99288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EMA12000 Blu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8723160" y="295200"/>
            <a:ext cx="633240" cy="1550880"/>
            <a:chOff x="8723160" y="295200"/>
            <a:chExt cx="633240" cy="1550880"/>
          </a:xfrm>
        </p:grpSpPr>
        <p:sp>
          <p:nvSpPr>
            <p:cNvPr id="95" name=""/>
            <p:cNvSpPr/>
            <p:nvPr/>
          </p:nvSpPr>
          <p:spPr>
            <a:xfrm>
              <a:off x="8723160" y="295200"/>
              <a:ext cx="633240" cy="148104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723160" y="1788840"/>
              <a:ext cx="164880" cy="5580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9191520" y="1790640"/>
              <a:ext cx="164880" cy="5544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8697960" y="2844720"/>
            <a:ext cx="1044000" cy="2820960"/>
            <a:chOff x="8697960" y="2844720"/>
            <a:chExt cx="1044000" cy="2820960"/>
          </a:xfrm>
        </p:grpSpPr>
        <p:grpSp>
          <p:nvGrpSpPr>
            <p:cNvPr id="99" name=""/>
            <p:cNvGrpSpPr/>
            <p:nvPr/>
          </p:nvGrpSpPr>
          <p:grpSpPr>
            <a:xfrm>
              <a:off x="8861400" y="3057480"/>
              <a:ext cx="633240" cy="1550880"/>
              <a:chOff x="8861400" y="3057480"/>
              <a:chExt cx="633240" cy="1550880"/>
            </a:xfrm>
          </p:grpSpPr>
          <p:sp>
            <p:nvSpPr>
              <p:cNvPr id="100" name=""/>
              <p:cNvSpPr/>
              <p:nvPr/>
            </p:nvSpPr>
            <p:spPr>
              <a:xfrm>
                <a:off x="8861400" y="3057480"/>
                <a:ext cx="633240" cy="148104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861400" y="4551120"/>
                <a:ext cx="164880" cy="558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9329760" y="4552920"/>
                <a:ext cx="164880" cy="5544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" name=""/>
            <p:cNvSpPr/>
            <p:nvPr/>
          </p:nvSpPr>
          <p:spPr>
            <a:xfrm>
              <a:off x="8697960" y="2844720"/>
              <a:ext cx="968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EMA12000 D1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718840" y="4599000"/>
              <a:ext cx="102312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75990-B21/60Hz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1)   42U Modula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Storage Cab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3)   M2200 Enclosur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9)   4254 Enclosur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18) SCSI VHD-VH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Cables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NO Controllers,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Cache or Disk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4546440" y="2857680"/>
            <a:ext cx="514692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66960" y="700200"/>
            <a:ext cx="4511520" cy="17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Platform kit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 required per cluster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,  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adapters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 per host connection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HSJ80 Solution Kit: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OpenVMS, V8.5A, 203694-001;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OSs Supported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Adapters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HA softwar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VAX OpenVMS 6.2               CIXCD                        VMSClus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VAX OpenVMS 7.1                   “                                        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VAX OpenVMS 7.2                   “                                        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pha OpenVMS 6.2-1H3      CIPCA                         VMSCluster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pha OpenVMS 7.1H1             “                                        “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pha OpenVMS 7.2                  “                                        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pha OpenVMS 7.2-1              “                                         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HSJ80 Storage Controller Softwar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(1 per controll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03693-B21  ACS V8.5J-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45000" y="5022720"/>
            <a:ext cx="329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0" y="4848120"/>
            <a:ext cx="177624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6438960" y="466560"/>
            <a:ext cx="0" cy="2400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7649280" y="142920"/>
            <a:ext cx="1003320" cy="2762280"/>
            <a:chOff x="7649280" y="142920"/>
            <a:chExt cx="1003320" cy="2762280"/>
          </a:xfrm>
        </p:grpSpPr>
        <p:sp>
          <p:nvSpPr>
            <p:cNvPr id="111" name=""/>
            <p:cNvSpPr/>
            <p:nvPr/>
          </p:nvSpPr>
          <p:spPr>
            <a:xfrm>
              <a:off x="7665840" y="142920"/>
              <a:ext cx="9500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EMA12000 S1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649280" y="1731960"/>
              <a:ext cx="1003320" cy="11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75991-B21/60Hz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1)  36U Modula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Storage Cab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1)   M2200 Enclosur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6)   4214 Enclosur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6) SCSI VHD-VH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Cabl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Controllers, Batteri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and Disks ordered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eparatel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7765920" y="336600"/>
            <a:ext cx="633240" cy="1417320"/>
            <a:chOff x="7765920" y="336600"/>
            <a:chExt cx="633240" cy="1417320"/>
          </a:xfrm>
        </p:grpSpPr>
        <p:sp>
          <p:nvSpPr>
            <p:cNvPr id="114" name=""/>
            <p:cNvSpPr/>
            <p:nvPr/>
          </p:nvSpPr>
          <p:spPr>
            <a:xfrm>
              <a:off x="7765920" y="336600"/>
              <a:ext cx="633240" cy="135360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765920" y="1701720"/>
              <a:ext cx="164880" cy="5076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234280" y="1703520"/>
              <a:ext cx="164880" cy="5040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7" name="front" descr=""/>
          <p:cNvPicPr/>
          <p:nvPr/>
        </p:nvPicPr>
        <p:blipFill>
          <a:blip r:embed="rId1"/>
          <a:stretch/>
        </p:blipFill>
        <p:spPr>
          <a:xfrm>
            <a:off x="8007480" y="3733920"/>
            <a:ext cx="581040" cy="16488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7823880" y="2813040"/>
            <a:ext cx="1003320" cy="2876760"/>
            <a:chOff x="7823880" y="2813040"/>
            <a:chExt cx="1003320" cy="2876760"/>
          </a:xfrm>
        </p:grpSpPr>
        <p:grpSp>
          <p:nvGrpSpPr>
            <p:cNvPr id="119" name=""/>
            <p:cNvGrpSpPr/>
            <p:nvPr/>
          </p:nvGrpSpPr>
          <p:grpSpPr>
            <a:xfrm>
              <a:off x="7940520" y="2997360"/>
              <a:ext cx="633240" cy="1540800"/>
              <a:chOff x="7940520" y="2997360"/>
              <a:chExt cx="633240" cy="1540800"/>
            </a:xfrm>
          </p:grpSpPr>
          <p:sp>
            <p:nvSpPr>
              <p:cNvPr id="120" name=""/>
              <p:cNvSpPr/>
              <p:nvPr/>
            </p:nvSpPr>
            <p:spPr>
              <a:xfrm>
                <a:off x="7940520" y="2997360"/>
                <a:ext cx="633240" cy="147168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940520" y="4481640"/>
                <a:ext cx="164880" cy="55440"/>
              </a:xfrm>
              <a:prstGeom prst="ellipse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408880" y="4483080"/>
                <a:ext cx="164880" cy="55080"/>
              </a:xfrm>
              <a:prstGeom prst="ellipse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7830720" y="2813040"/>
              <a:ext cx="9500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EMA12000 S1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823880" y="4516560"/>
              <a:ext cx="1003320" cy="11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75994-B21/60Hz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1)  42U Modula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Storage Cab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1)   M2200 Enclosur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6)   4310 Enclosur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6) SCSI VHD-VH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Cabl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Controllers, Batteri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and Disks ordered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eparatel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6591960" y="1571760"/>
            <a:ext cx="100332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75992-B21/60H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1) 22U Modula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torage Cab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1) M2200 Enclosu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3) 4254 Enclos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6) SCSI VHD-VH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bl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ontrollers, Batteri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nd Disks ordere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eparatel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6718320" y="395280"/>
            <a:ext cx="651960" cy="1131840"/>
            <a:chOff x="6718320" y="395280"/>
            <a:chExt cx="651960" cy="1131840"/>
          </a:xfrm>
        </p:grpSpPr>
        <p:sp>
          <p:nvSpPr>
            <p:cNvPr id="127" name=""/>
            <p:cNvSpPr/>
            <p:nvPr/>
          </p:nvSpPr>
          <p:spPr>
            <a:xfrm>
              <a:off x="6718320" y="395280"/>
              <a:ext cx="651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MA8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6737400" y="579600"/>
              <a:ext cx="632880" cy="947520"/>
              <a:chOff x="6737400" y="579600"/>
              <a:chExt cx="632880" cy="947520"/>
            </a:xfrm>
          </p:grpSpPr>
          <p:sp>
            <p:nvSpPr>
              <p:cNvPr id="129" name=""/>
              <p:cNvSpPr/>
              <p:nvPr/>
            </p:nvSpPr>
            <p:spPr>
              <a:xfrm>
                <a:off x="6737400" y="579600"/>
                <a:ext cx="632880" cy="90468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737400" y="1492200"/>
                <a:ext cx="164880" cy="33840"/>
              </a:xfrm>
              <a:prstGeom prst="ellipse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205400" y="1493280"/>
                <a:ext cx="164880" cy="33840"/>
              </a:xfrm>
              <a:prstGeom prst="ellipse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2" name=""/>
          <p:cNvSpPr/>
          <p:nvPr/>
        </p:nvSpPr>
        <p:spPr>
          <a:xfrm>
            <a:off x="2136600" y="355680"/>
            <a:ext cx="350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CTO orders require Part Number118102-888 on the first 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38520" y="4540320"/>
            <a:ext cx="329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3800" y="4548240"/>
            <a:ext cx="3257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CSI Extenders / Translators for External (to cabinet) Device Sup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S-DWZZC-AA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E Ultra SCSI to SE Ultra SCSI, Tableto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S-DWZZC-DA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E Ultra SCSI to Diff Ultra SCSI, Tableto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5383080"/>
            <a:ext cx="1758960" cy="14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4631-001 -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4310R (Ultra 3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- Single Bus, 10 Bay Device Enclosure, RETMA mounting kit, (2) Blower, (2) Power Supply, (1) IEC-C13 to            NEMA 5-15P Power Cord, (1) 3.7M VHD - VHD SCSI Cabl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4630-00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- 4350R (Ultra 3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- Dual Bus, 10 Bay Device Enclosure, RETMA mounting kit, (2) Blowers, (2) Power Supplies, (2) IEC-C13 to NEMA 5-15P Power Cords , (2) IEC-C13 to IEC-C14 Power Cords, (2) 3.7M VHD - VHD SCSI Cabl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753240" y="903240"/>
            <a:ext cx="590400" cy="342720"/>
            <a:chOff x="6753240" y="903240"/>
            <a:chExt cx="590400" cy="342720"/>
          </a:xfrm>
        </p:grpSpPr>
        <p:sp>
          <p:nvSpPr>
            <p:cNvPr id="137" name=""/>
            <p:cNvSpPr/>
            <p:nvPr/>
          </p:nvSpPr>
          <p:spPr>
            <a:xfrm>
              <a:off x="6753240" y="903240"/>
              <a:ext cx="590400" cy="34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759720" y="925200"/>
              <a:ext cx="56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3) 14 Ba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closur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6753240" y="741240"/>
            <a:ext cx="590400" cy="215640"/>
            <a:chOff x="6753240" y="741240"/>
            <a:chExt cx="590400" cy="215640"/>
          </a:xfrm>
        </p:grpSpPr>
        <p:sp>
          <p:nvSpPr>
            <p:cNvPr id="140" name=""/>
            <p:cNvSpPr/>
            <p:nvPr/>
          </p:nvSpPr>
          <p:spPr>
            <a:xfrm>
              <a:off x="6753240" y="784080"/>
              <a:ext cx="590400" cy="114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61240" y="741240"/>
              <a:ext cx="407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ont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7781760" y="512640"/>
            <a:ext cx="590400" cy="215640"/>
            <a:chOff x="7781760" y="512640"/>
            <a:chExt cx="590400" cy="215640"/>
          </a:xfrm>
        </p:grpSpPr>
        <p:sp>
          <p:nvSpPr>
            <p:cNvPr id="143" name=""/>
            <p:cNvSpPr/>
            <p:nvPr/>
          </p:nvSpPr>
          <p:spPr>
            <a:xfrm>
              <a:off x="7781760" y="555480"/>
              <a:ext cx="590400" cy="114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889760" y="512640"/>
              <a:ext cx="407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ont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7775640" y="674640"/>
            <a:ext cx="626760" cy="714240"/>
            <a:chOff x="7775640" y="674640"/>
            <a:chExt cx="626760" cy="714240"/>
          </a:xfrm>
        </p:grpSpPr>
        <p:sp>
          <p:nvSpPr>
            <p:cNvPr id="146" name=""/>
            <p:cNvSpPr/>
            <p:nvPr/>
          </p:nvSpPr>
          <p:spPr>
            <a:xfrm>
              <a:off x="7781760" y="674640"/>
              <a:ext cx="599760" cy="714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775640" y="874440"/>
              <a:ext cx="626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6) 14 Ba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closur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8744040" y="874800"/>
            <a:ext cx="590400" cy="342720"/>
            <a:chOff x="8744040" y="874800"/>
            <a:chExt cx="590400" cy="342720"/>
          </a:xfrm>
        </p:grpSpPr>
        <p:sp>
          <p:nvSpPr>
            <p:cNvPr id="149" name=""/>
            <p:cNvSpPr/>
            <p:nvPr/>
          </p:nvSpPr>
          <p:spPr>
            <a:xfrm>
              <a:off x="8744040" y="874800"/>
              <a:ext cx="590400" cy="34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750520" y="896760"/>
              <a:ext cx="56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3) 14 Ba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closur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8744040" y="712800"/>
            <a:ext cx="590400" cy="215640"/>
            <a:chOff x="8744040" y="712800"/>
            <a:chExt cx="590400" cy="215640"/>
          </a:xfrm>
        </p:grpSpPr>
        <p:sp>
          <p:nvSpPr>
            <p:cNvPr id="152" name=""/>
            <p:cNvSpPr/>
            <p:nvPr/>
          </p:nvSpPr>
          <p:spPr>
            <a:xfrm>
              <a:off x="8744040" y="755280"/>
              <a:ext cx="590400" cy="114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852040" y="712800"/>
              <a:ext cx="407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ont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7962840" y="3218040"/>
            <a:ext cx="590400" cy="215640"/>
            <a:chOff x="7962840" y="3218040"/>
            <a:chExt cx="590400" cy="215640"/>
          </a:xfrm>
        </p:grpSpPr>
        <p:sp>
          <p:nvSpPr>
            <p:cNvPr id="155" name=""/>
            <p:cNvSpPr/>
            <p:nvPr/>
          </p:nvSpPr>
          <p:spPr>
            <a:xfrm>
              <a:off x="7962840" y="3260520"/>
              <a:ext cx="590400" cy="114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070840" y="3218040"/>
              <a:ext cx="407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ont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7956720" y="3379680"/>
            <a:ext cx="617400" cy="714240"/>
            <a:chOff x="7956720" y="3379680"/>
            <a:chExt cx="617400" cy="714240"/>
          </a:xfrm>
        </p:grpSpPr>
        <p:sp>
          <p:nvSpPr>
            <p:cNvPr id="158" name=""/>
            <p:cNvSpPr/>
            <p:nvPr/>
          </p:nvSpPr>
          <p:spPr>
            <a:xfrm>
              <a:off x="7962840" y="3379680"/>
              <a:ext cx="590760" cy="714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956720" y="3579480"/>
              <a:ext cx="61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6) 10 Ba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closur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877240" y="3198960"/>
            <a:ext cx="590400" cy="342720"/>
            <a:chOff x="8877240" y="3198960"/>
            <a:chExt cx="590400" cy="342720"/>
          </a:xfrm>
        </p:grpSpPr>
        <p:sp>
          <p:nvSpPr>
            <p:cNvPr id="161" name=""/>
            <p:cNvSpPr/>
            <p:nvPr/>
          </p:nvSpPr>
          <p:spPr>
            <a:xfrm>
              <a:off x="8877240" y="3198960"/>
              <a:ext cx="590400" cy="34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883720" y="3220920"/>
              <a:ext cx="56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3) 14 Ba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closur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8877240" y="3036960"/>
            <a:ext cx="590400" cy="215640"/>
            <a:chOff x="8877240" y="3036960"/>
            <a:chExt cx="590400" cy="215640"/>
          </a:xfrm>
        </p:grpSpPr>
        <p:sp>
          <p:nvSpPr>
            <p:cNvPr id="164" name=""/>
            <p:cNvSpPr/>
            <p:nvPr/>
          </p:nvSpPr>
          <p:spPr>
            <a:xfrm>
              <a:off x="8877240" y="3079440"/>
              <a:ext cx="590400" cy="114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985240" y="3036960"/>
              <a:ext cx="407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ont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8877240" y="3684600"/>
            <a:ext cx="590400" cy="342720"/>
            <a:chOff x="8877240" y="3684600"/>
            <a:chExt cx="590400" cy="342720"/>
          </a:xfrm>
        </p:grpSpPr>
        <p:sp>
          <p:nvSpPr>
            <p:cNvPr id="167" name=""/>
            <p:cNvSpPr/>
            <p:nvPr/>
          </p:nvSpPr>
          <p:spPr>
            <a:xfrm>
              <a:off x="8877240" y="3684600"/>
              <a:ext cx="590400" cy="34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883720" y="3706560"/>
              <a:ext cx="56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3) 14 Ba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closur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8877240" y="3522600"/>
            <a:ext cx="590400" cy="215640"/>
            <a:chOff x="8877240" y="3522600"/>
            <a:chExt cx="590400" cy="215640"/>
          </a:xfrm>
        </p:grpSpPr>
        <p:sp>
          <p:nvSpPr>
            <p:cNvPr id="170" name=""/>
            <p:cNvSpPr/>
            <p:nvPr/>
          </p:nvSpPr>
          <p:spPr>
            <a:xfrm>
              <a:off x="8877240" y="3565080"/>
              <a:ext cx="590400" cy="114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985240" y="3522600"/>
              <a:ext cx="407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ont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8877240" y="4170240"/>
            <a:ext cx="590400" cy="342720"/>
            <a:chOff x="8877240" y="4170240"/>
            <a:chExt cx="590400" cy="342720"/>
          </a:xfrm>
        </p:grpSpPr>
        <p:sp>
          <p:nvSpPr>
            <p:cNvPr id="173" name=""/>
            <p:cNvSpPr/>
            <p:nvPr/>
          </p:nvSpPr>
          <p:spPr>
            <a:xfrm>
              <a:off x="8877240" y="4170240"/>
              <a:ext cx="590400" cy="34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883720" y="4192200"/>
              <a:ext cx="56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3) 14 Ba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closur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8877240" y="4008600"/>
            <a:ext cx="590400" cy="215640"/>
            <a:chOff x="8877240" y="4008600"/>
            <a:chExt cx="590400" cy="215640"/>
          </a:xfrm>
        </p:grpSpPr>
        <p:sp>
          <p:nvSpPr>
            <p:cNvPr id="176" name=""/>
            <p:cNvSpPr/>
            <p:nvPr/>
          </p:nvSpPr>
          <p:spPr>
            <a:xfrm>
              <a:off x="8877240" y="4051080"/>
              <a:ext cx="590400" cy="114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985240" y="4008600"/>
              <a:ext cx="407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ont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78" name=""/>
          <p:cNvGraphicFramePr/>
          <p:nvPr/>
        </p:nvGraphicFramePr>
        <p:xfrm>
          <a:off x="179280" y="1427040"/>
          <a:ext cx="1371600" cy="514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427040"/>
                    <a:ext cx="137160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69920" y="746280"/>
          <a:ext cx="1447920" cy="504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9920" y="746280"/>
                    <a:ext cx="144792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181080" y="2708280"/>
          <a:ext cx="1380960" cy="523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81080" y="2708280"/>
                    <a:ext cx="13809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179280" y="4897440"/>
          <a:ext cx="1409760" cy="514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79280" y="4897440"/>
                    <a:ext cx="140976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0T16:16:58Z</dcterms:created>
  <dc:creator>Brian Montaquila</dc:creator>
  <dc:description/>
  <dc:language>en-US</dc:language>
  <cp:lastModifiedBy>GurnickJ</cp:lastModifiedBy>
  <cp:lastPrinted>2000-06-09T14:02:01Z</cp:lastPrinted>
  <dcterms:modified xsi:type="dcterms:W3CDTF">2000-07-17T21:36:48Z</dcterms:modified>
  <cp:revision>74</cp:revision>
  <dc:subject/>
  <dc:title>No Slide Title</dc:title>
</cp:coreProperties>
</file>