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94863" cy="6858000"/>
  <p:notesSz cx="69342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A3FE-6FF7-48A6-96BC-72CDC2E25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8238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7200" y="4130640"/>
            <a:ext cx="8238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31C2-5F7B-44E3-B9CB-BEB58B5BD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8920" y="198108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7200" y="413064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8920" y="413064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5CB5-9C39-4F26-9DF2-5922FF5C7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3240" y="198108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98920" y="198108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7200" y="413064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3240" y="413064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98920" y="413064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13C8-AD99-4709-9E76-57ED13D13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7200" y="1981080"/>
            <a:ext cx="8238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C8AA-3D67-455C-BC37-B7A4FEDA8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8238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DA7B-9876-4602-BBD1-5F93159F8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402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8920" y="1981080"/>
            <a:ext cx="402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25DD-D70C-4C39-8B5A-E89136034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0AC1-113B-4E17-84BC-1872CA8DE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7200" y="609120"/>
            <a:ext cx="8238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7E33-1EB9-4B35-9F67-45C61C08F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8920" y="1981080"/>
            <a:ext cx="402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7200" y="413064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AF86-D331-4DC4-BE0B-8B143FA6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402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8920" y="198108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8920" y="413064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8630-7C88-4DD6-92D9-810804F4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8920" y="198108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7200" y="4130640"/>
            <a:ext cx="8238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18D5-73E2-46DD-8482-D46D72DC5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7200" y="1981080"/>
            <a:ext cx="8238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6840" y="6248520"/>
            <a:ext cx="2019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11640" y="6248520"/>
            <a:ext cx="307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46560" y="6248520"/>
            <a:ext cx="2019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79C23-9876-4537-8555-6605DBB47A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87440" y="4441680"/>
            <a:ext cx="19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26720" y="0"/>
            <a:ext cx="5477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A8000/EMA12000 Fibre Channel Product S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21120" y="3324240"/>
            <a:ext cx="246852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Times New Roman"/>
              </a:rPr>
              <a:t>Storage controllers, cache, batterie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76622-B21   HSG80 RAID Array Controller w/ 256MB Cac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674-B21   HSx80 256MB cache (2*128MB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76623-B21   HSG80 Cache bulkhead upgrad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35823-B21   Single external cache batter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181240" y="365760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81240" y="365760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135360" y="5321160"/>
            <a:ext cx="340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038480" y="3809880"/>
            <a:ext cx="1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1225440" y="533520"/>
            <a:ext cx="7920" cy="215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991200" y="552600"/>
            <a:ext cx="0" cy="24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859880" y="6391440"/>
            <a:ext cx="183348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0" y="5435640"/>
            <a:ext cx="178920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96040" y="3724200"/>
            <a:ext cx="2394000" cy="12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Supported Hard Driv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28939-B22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9.1GB Ultra2 SCSI 10K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2671-B22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9.1GB Ultra3 SCSI 10K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8418-B22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2GB Ultra2 SCSI 10K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2673-B22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2GB Ultra3 SCSI 10K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3065-B22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9.1GB Ultra2 SCSI 7200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8144-B22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2GB Ultra2 SCSI 7200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76496-B22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6.4GB Ultra3 SCSI 10K RPM 1</a:t>
            </a:r>
            <a:r>
              <a:rPr b="0" lang="en-US" sz="700" spc="-1" strike="noStrike">
                <a:solidFill>
                  <a:srgbClr val="000000"/>
                </a:solidFill>
                <a:latin typeface="Symbol"/>
                <a:ea typeface="Symbol"/>
              </a:rPr>
              <a:t>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649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6” Drive Extenders (Pack of 4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76494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72.8GB Ultra3 SCSI 10K RPM 1.6”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365200" y="5030640"/>
            <a:ext cx="2310120" cy="17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Compaq 9000 Series Rack, option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63-B22  9142 42U Cab (opal) No PDU- Shock Pall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64-B22  9136 -36U Cab (opal) No PDU- Shock Pallet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65-B22  9122 -22U Cab (opal) No PDU- Shock Pall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70-B21 Side Pane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73-B21 Rack Stabiliz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69-B21 Multi-Bay K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77/678-B21 Fan Kit 110/220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69940-B21 Blank Panel Kit (Qty 4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95363-002 PDU DOM 16 Amp - Zero U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6-20P  PDU supports 6 p/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95363-003 PDU DOM 32 Amp - Zero U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 ft L6-30P  PDU supports 6 p/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rder 91xx  with 1 or 2 PDU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Not all options show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833480" y="5249880"/>
            <a:ext cx="574920" cy="1474560"/>
            <a:chOff x="1833480" y="5249880"/>
            <a:chExt cx="574920" cy="1474560"/>
          </a:xfrm>
        </p:grpSpPr>
        <p:sp>
          <p:nvSpPr>
            <p:cNvPr id="55" name=""/>
            <p:cNvSpPr/>
            <p:nvPr/>
          </p:nvSpPr>
          <p:spPr>
            <a:xfrm>
              <a:off x="1833480" y="5249880"/>
              <a:ext cx="574920" cy="140796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144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144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3480" y="6670440"/>
              <a:ext cx="150120" cy="5256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258280" y="6672240"/>
              <a:ext cx="149760" cy="5220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1761120" y="5326200"/>
            <a:ext cx="7275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Compa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9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er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R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t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OPAL onl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33480" y="6119640"/>
            <a:ext cx="5605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No C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763040" y="6399360"/>
            <a:ext cx="201924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Power Cord: IEC320-C13 to IEC320-C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N35S-02    2.5M IEC cable, black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N30B-02    2.5M IEC cable, gra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-91080" y="5934240"/>
            <a:ext cx="210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240400" y="0"/>
            <a:ext cx="113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ugust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826240" y="2911320"/>
            <a:ext cx="184140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Multi-path Softw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65989-B21 Secure Path V3.1 for W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65991-B21 Secure Path V2.1 for SU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HA/F500 Clust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asic 103250-B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3045960" y="2698560"/>
            <a:ext cx="3240" cy="223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6999120" y="3015720"/>
            <a:ext cx="88128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365160" y="5587920"/>
            <a:ext cx="210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747520" y="30492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4608360" y="5454360"/>
            <a:ext cx="3225960" cy="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36600" y="298440"/>
            <a:ext cx="350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CTO orders require Part Number118102-888 on the first 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23840"/>
            <a:ext cx="1384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odel 2200 (M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ontroller Enclos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3440" y="1095480"/>
            <a:ext cx="430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1680" y="1711440"/>
            <a:ext cx="415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ac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51768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35820-B2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906560"/>
            <a:ext cx="1230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cludes: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(2) 180W Power Supplies, (3) Fans,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6) UltraSCSI I/O Modules, EMU, (2) IEC C13-C14 Power Cords, RETMA</a:t>
            </a:r>
            <a:br>
              <a:rPr sz="700"/>
            </a:b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mounting k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14480" y="2673360"/>
            <a:ext cx="688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95440" y="4191120"/>
            <a:ext cx="1682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3U Model 43x0 Device Enclos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608000" y="4946760"/>
            <a:ext cx="3240" cy="19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11600" y="4873680"/>
            <a:ext cx="3061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SCSI Cables - VHDCI to VHDCI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68256-B21  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Meter, 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68257-B21  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2M, 189505-B21 3M, 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400983-005  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5M, 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400985-010 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0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643280" y="5506920"/>
            <a:ext cx="555840" cy="1226880"/>
            <a:chOff x="4643280" y="5506920"/>
            <a:chExt cx="555840" cy="1226880"/>
          </a:xfrm>
        </p:grpSpPr>
        <p:sp>
          <p:nvSpPr>
            <p:cNvPr id="80" name=""/>
            <p:cNvSpPr/>
            <p:nvPr/>
          </p:nvSpPr>
          <p:spPr>
            <a:xfrm>
              <a:off x="4643280" y="5506920"/>
              <a:ext cx="555840" cy="11718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144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144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643280" y="6689160"/>
              <a:ext cx="145080" cy="4356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054040" y="6690600"/>
              <a:ext cx="144720" cy="4320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5153040" y="5433840"/>
            <a:ext cx="2851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Modular Storage Cabinets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0311-B21  42U  (opal) 60Hz w/ (26) IEC320-C13 - C14 Power Cord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0312-B22  42U  (opal) 50Hz w/ (26) IEC320-C13 - C14 Power Cord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0313-B21  36U  (opal) 60Hz w/ (22) IEC320-C13 - C14 Power Cord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0314-B22  36U  (opal) 50Hz w/ (22) IEC320-C13 - C14 Power Cord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0315-B21  22U  (opal) 60Hz w/ (12) IEC320-C13 - C14 Power Cord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0316-B22  22U  (opal) 50Hz w/ (12) IEC320-C13 - C14 Power Cord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0317-B21  41U  (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) 60Hz w/ (26) IEC320-C13 - C14 Power Cords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0318-B22  41U  (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) 50Hz w/ (26) IEC320-C13 - C14 Power Cord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4160" y="5608800"/>
            <a:ext cx="694080" cy="7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odular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Cabin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TO avail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10360" y="6446880"/>
            <a:ext cx="2515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ll Modular Storage Cabs include: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ront &amp; back doors, Side panels, (2) 2U 24Amp PDUs each with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1) 15’ L6-30P input Power Cord, (16) IEC320-C13 receptac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85160" y="598320"/>
            <a:ext cx="651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A8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958800" y="1774800"/>
            <a:ext cx="100332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75992-B21/60H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1) 22U Modula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torage Cab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1) M2200 Enclosu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3) 4354 Enclos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6) SCSI VHD-VH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b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ontrollers, Batteri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nd Disks ordere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eparatel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7104240" y="820800"/>
            <a:ext cx="632880" cy="947520"/>
            <a:chOff x="7104240" y="820800"/>
            <a:chExt cx="632880" cy="947520"/>
          </a:xfrm>
        </p:grpSpPr>
        <p:sp>
          <p:nvSpPr>
            <p:cNvPr id="89" name=""/>
            <p:cNvSpPr/>
            <p:nvPr/>
          </p:nvSpPr>
          <p:spPr>
            <a:xfrm>
              <a:off x="7104240" y="820800"/>
              <a:ext cx="632880" cy="90468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104240" y="1733400"/>
              <a:ext cx="164880" cy="3384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72240" y="1734480"/>
              <a:ext cx="164880" cy="3384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8620560" y="368280"/>
            <a:ext cx="9928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MA12000 Blu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687520" y="2097000"/>
            <a:ext cx="1003320" cy="12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75993-B21/60H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1) 41U Modula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torage Cab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1) M2200 enclosu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3) 4354 Enclos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6) SCSI VHD-VH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b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ontrollers, Batteri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nd Disks ordere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eparatel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8799480" y="561960"/>
            <a:ext cx="633240" cy="1550880"/>
            <a:chOff x="8799480" y="561960"/>
            <a:chExt cx="633240" cy="1550880"/>
          </a:xfrm>
        </p:grpSpPr>
        <p:sp>
          <p:nvSpPr>
            <p:cNvPr id="95" name=""/>
            <p:cNvSpPr/>
            <p:nvPr/>
          </p:nvSpPr>
          <p:spPr>
            <a:xfrm>
              <a:off x="8799480" y="561960"/>
              <a:ext cx="633240" cy="14810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799480" y="2055600"/>
              <a:ext cx="164880" cy="5580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9267840" y="2057400"/>
              <a:ext cx="164880" cy="5544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 flipH="1" flipV="1">
            <a:off x="7838640" y="3022560"/>
            <a:ext cx="1260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-6840" y="5442120"/>
            <a:ext cx="1902960" cy="14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FC Storage Area Network Compon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FC  SAN Switche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58223-B21  FC SAN Switch 16 por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58222-B21  FC SAN Switch 8 por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76219-B21  FC SAN Switch 8-E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67365-B21  8/16 SAN Switch Brac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60407-B21  8/16 SAN Switch Power o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GBICs, Connection Ki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61-B21 Optical Short Wave GB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79-B21 Kit 3 SW  GBIC, 2-2M cab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96-B21 Kit 2 SW GBIC, 2-2M cab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7508-B21 Optical Long Wave GB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7520" y="5769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71440" y="523800"/>
            <a:ext cx="5862600" cy="23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Platform kits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 required per platform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, adapters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 per host connection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O.S. Versions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G80 SFT Kit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FC Adapters(AKA);Bus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ACS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Multi Path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High Availability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FC Sup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NT X86 NT4.0/W2K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51-00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76479-B21(DS-KGPSA-CB);PCI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G,F,S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ecure Path V2.2.2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MSCSV1.0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witch, Loop      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T   4.0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8696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74-001 (KGPSA-BC);PCI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P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ecure Path V2.2.2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MSCSV1.0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u64 4.0F/5.0A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53-00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68794-B21(DS-KGPSA-CA);PCI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G,F,S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 Tru64 5.0A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uCluster 1.6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witch    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u64 UNIX 4.0F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Configured and ordered through CSS only)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P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u64 UNIX 5.0A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8693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68794-B21(KGPSA-CA);PCI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P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 OS    (NOT YET AVAILABLE)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penVMS 7.2-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55-00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68794-B21(DS-KGPSA-CA);PCI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G,F,S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 OS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penVMS Clusters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witch           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penVMS 7.2-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8694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74-001(KGPSA-BC);PCI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P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 OS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penVMS Cluster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olaris 2.6, 7.0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54-00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3503-001(DS-SWSA4-SC); SBU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G,F,S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ecure Path  V2.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irstWatch onV2.6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witch, Loo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76-001(SWSA4-PC);PCI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VCS V1.01 on V2.6,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7.0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etWare  4.2,5.0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59-00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186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G,F,S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CSV1.0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oo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GI IRIX 6.5..3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56-00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rigin 2000 SGI XT-FC-2P:XIO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G,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rigin 200 SGI PCI-FC-IP;PCI (requires X-F-OE-KIT (MIA)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HP-UX 10.2, 11.0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57-00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HP9000/800 K Class A3404A;HSC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G,F         Pvlinks in HP-UX 10.2 MC Service Guard Switch,Loo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HP9000/800 D Class A3591A;GS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BM AIX 4.2.1, 4.3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58-00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9841-B21 PCI for RS/6000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G,F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HACMP V4.3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oo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nux Alpha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60088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67432-001 PCI for Linux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G,F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oo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nux ProLiant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60088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67432-001 PCI for Linux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G,F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oo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25800" y="2685960"/>
            <a:ext cx="28288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514440"/>
                <a:tab algn="l" pos="74304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HSG80 Array Controller Softwar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(1 per controll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14440"/>
                <a:tab algn="l" pos="74304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77-00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CS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V8.5G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C-AL Softwa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14440"/>
                <a:tab algn="l" pos="74304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8697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CS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V8.5F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C-AL/SW  Software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14440"/>
                <a:tab algn="l" pos="74304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60091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CS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V8.5S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C/SW Software w/CLONE+SNAPSHOT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14440"/>
                <a:tab algn="l" pos="74304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8698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S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V8.5P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C/SW Data Replication Softwa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 flipV="1">
            <a:off x="1809720" y="4946400"/>
            <a:ext cx="1440" cy="19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05040" y="4930920"/>
            <a:ext cx="603576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3880" y="355680"/>
            <a:ext cx="119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Predefined 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956720" y="785880"/>
            <a:ext cx="632880" cy="1417320"/>
            <a:chOff x="7956720" y="785880"/>
            <a:chExt cx="632880" cy="1417320"/>
          </a:xfrm>
        </p:grpSpPr>
        <p:sp>
          <p:nvSpPr>
            <p:cNvPr id="107" name=""/>
            <p:cNvSpPr/>
            <p:nvPr/>
          </p:nvSpPr>
          <p:spPr>
            <a:xfrm>
              <a:off x="7956720" y="785880"/>
              <a:ext cx="632880" cy="13536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956720" y="2151000"/>
              <a:ext cx="164880" cy="5076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24720" y="2152800"/>
              <a:ext cx="164880" cy="5040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7856280" y="592200"/>
            <a:ext cx="9500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MA12000 S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839720" y="2181240"/>
            <a:ext cx="100332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75991-B21/60H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1)  36U Modula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torage Cab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1)   M2200 Enclosu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6)   4314 Enclos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6) SCSI VHD-VH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b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ontrollers, Batteri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nd Disks ordered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eparatel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04760" y="5113440"/>
            <a:ext cx="29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FC Cables 50 Micron Short Wave Multi mo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34457-B21/B22/B23/B24/B25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Optical cables (2/5/15/30/50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081240"/>
            <a:ext cx="3040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03381-001 -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4214R (Ultra 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90209-001 -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4314R - Single Bus, 14 Bay Device Enclosure, RETMA mounting kit, (2) Blowers, (1) Power Supply, (1) IEC-C13 to NEMA 5-15P Power Cord, (1) 3.7M VHD - VHD SCSI Cabl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557520"/>
            <a:ext cx="31370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38151-00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- 4254 (Ultra 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90211-001 -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4354R - Dual Bus, 14 Bay Device Enclosure, RETMA mounting kit, (2) Blowers,  (2) Power Supplies, (2) IEC-C13 to NEMA 5-15P Power Cords, (2) IEC-C13 to IEC-C14 Power Cords. (2) 3.7M VHD - VHD SCSI Cab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4500720"/>
            <a:ext cx="3030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74631-B21 -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4310R - Single Bus, 10 Bay Device Enclosure, RETMA mounting kit, (2) Blowers, (2) Power Supplies, (1) IEC-C13 to NEMA 5-15P Power Cord, (1) 3.7M VHD - VHD SCSI Cabl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4834080"/>
            <a:ext cx="18032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74630-B21 -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4350R - Dual Bus, 10 Bay Device Enclosure, RETMA mounting kit, (2) Blowers, (2) Power Supplies (2) IEC-C13 to NEMA 5-15P Power Cords, (2) 3.7M VHD - VHD SCSI Cab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24000" y="2805120"/>
            <a:ext cx="186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3U Model 42x4, 43x4 Device Enclos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05680" y="971640"/>
            <a:ext cx="622440" cy="19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137360" y="939960"/>
            <a:ext cx="5842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(1) M2200 enclos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112160" y="1181160"/>
            <a:ext cx="61596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124760" y="120636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3 dual bus 14-bay drive enclosur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950240" y="1066680"/>
            <a:ext cx="635040" cy="19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981920" y="1035000"/>
            <a:ext cx="5842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(1) M2200 enclos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956720" y="1276200"/>
            <a:ext cx="622080" cy="5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969320" y="130176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6 single bus 14-bay drive enclosur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7801560" y="3359160"/>
            <a:ext cx="1003320" cy="2876760"/>
            <a:chOff x="7801560" y="3359160"/>
            <a:chExt cx="1003320" cy="2876760"/>
          </a:xfrm>
        </p:grpSpPr>
        <p:grpSp>
          <p:nvGrpSpPr>
            <p:cNvPr id="127" name=""/>
            <p:cNvGrpSpPr/>
            <p:nvPr/>
          </p:nvGrpSpPr>
          <p:grpSpPr>
            <a:xfrm>
              <a:off x="7918560" y="3543480"/>
              <a:ext cx="632880" cy="1540800"/>
              <a:chOff x="7918560" y="3543480"/>
              <a:chExt cx="632880" cy="1540800"/>
            </a:xfrm>
          </p:grpSpPr>
          <p:sp>
            <p:nvSpPr>
              <p:cNvPr id="128" name=""/>
              <p:cNvSpPr/>
              <p:nvPr/>
            </p:nvSpPr>
            <p:spPr>
              <a:xfrm>
                <a:off x="7918560" y="3543480"/>
                <a:ext cx="632880" cy="147168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918560" y="5027760"/>
                <a:ext cx="164880" cy="5544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386560" y="5029200"/>
                <a:ext cx="164880" cy="5508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7801560" y="3359160"/>
              <a:ext cx="1003320" cy="2876760"/>
              <a:chOff x="7801560" y="3359160"/>
              <a:chExt cx="1003320" cy="2876760"/>
            </a:xfrm>
          </p:grpSpPr>
          <p:sp>
            <p:nvSpPr>
              <p:cNvPr id="132" name=""/>
              <p:cNvSpPr/>
              <p:nvPr/>
            </p:nvSpPr>
            <p:spPr>
              <a:xfrm>
                <a:off x="7808760" y="3359160"/>
                <a:ext cx="95004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EMA12000 S1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801560" y="5062680"/>
                <a:ext cx="1003320" cy="117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175994-B21/60Hz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(1)  42U Modula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       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Storage Cab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(1)   M2200 Enclosur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(6)   4310 Enclosure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(6) SCSI VHD-VH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        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Cable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Controllers, Batterie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and Disks ordered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separately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912080" y="3962520"/>
                <a:ext cx="635040" cy="196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943760" y="3930480"/>
                <a:ext cx="584280" cy="2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(1) M2200 enclosur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918560" y="4172040"/>
                <a:ext cx="628560" cy="584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931160" y="4197240"/>
                <a:ext cx="59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6 single bus 10-bay drive enclosure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8" name=""/>
          <p:cNvSpPr/>
          <p:nvPr/>
        </p:nvSpPr>
        <p:spPr>
          <a:xfrm>
            <a:off x="8807400" y="882720"/>
            <a:ext cx="622440" cy="19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839080" y="841320"/>
            <a:ext cx="5842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(1) M2200 enclos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807400" y="1092240"/>
            <a:ext cx="62244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826480" y="111744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3 single bus 14-bay drive enclosur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8643960" y="3314880"/>
            <a:ext cx="1047240" cy="2927160"/>
            <a:chOff x="8643960" y="3314880"/>
            <a:chExt cx="1047240" cy="2927160"/>
          </a:xfrm>
        </p:grpSpPr>
        <p:grpSp>
          <p:nvGrpSpPr>
            <p:cNvPr id="143" name=""/>
            <p:cNvGrpSpPr/>
            <p:nvPr/>
          </p:nvGrpSpPr>
          <p:grpSpPr>
            <a:xfrm>
              <a:off x="8643960" y="3314880"/>
              <a:ext cx="1047240" cy="2927160"/>
              <a:chOff x="8643960" y="3314880"/>
              <a:chExt cx="1047240" cy="2927160"/>
            </a:xfrm>
          </p:grpSpPr>
          <p:grpSp>
            <p:nvGrpSpPr>
              <p:cNvPr id="144" name=""/>
              <p:cNvGrpSpPr/>
              <p:nvPr/>
            </p:nvGrpSpPr>
            <p:grpSpPr>
              <a:xfrm>
                <a:off x="8807400" y="3527280"/>
                <a:ext cx="633240" cy="1550880"/>
                <a:chOff x="8807400" y="3527280"/>
                <a:chExt cx="633240" cy="1550880"/>
              </a:xfrm>
            </p:grpSpPr>
            <p:grpSp>
              <p:nvGrpSpPr>
                <p:cNvPr id="145" name=""/>
                <p:cNvGrpSpPr/>
                <p:nvPr/>
              </p:nvGrpSpPr>
              <p:grpSpPr>
                <a:xfrm>
                  <a:off x="8807400" y="3527280"/>
                  <a:ext cx="633240" cy="1550880"/>
                  <a:chOff x="8807400" y="3527280"/>
                  <a:chExt cx="633240" cy="155088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>
                    <a:off x="8807400" y="3527280"/>
                    <a:ext cx="633240" cy="1481040"/>
                  </a:xfrm>
                  <a:prstGeom prst="rect">
                    <a:avLst/>
                  </a:prstGeom>
                  <a:solidFill>
                    <a:srgbClr val="b2b2b2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8807400" y="5020920"/>
                    <a:ext cx="164880" cy="55800"/>
                  </a:xfrm>
                  <a:prstGeom prst="ellipse">
                    <a:avLst/>
                  </a:prstGeom>
                  <a:solidFill>
                    <a:srgbClr val="b2b2b2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9275760" y="5022720"/>
                    <a:ext cx="164880" cy="55440"/>
                  </a:xfrm>
                  <a:prstGeom prst="ellipse">
                    <a:avLst/>
                  </a:prstGeom>
                  <a:solidFill>
                    <a:srgbClr val="b2b2b2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9" name=""/>
                <p:cNvSpPr/>
                <p:nvPr/>
              </p:nvSpPr>
              <p:spPr>
                <a:xfrm>
                  <a:off x="8807400" y="3543480"/>
                  <a:ext cx="622440" cy="1965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8813880" y="3746520"/>
                  <a:ext cx="615960" cy="272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8807400" y="4019400"/>
                  <a:ext cx="622440" cy="196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813880" y="4222800"/>
                  <a:ext cx="615960" cy="272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8807400" y="4502160"/>
                  <a:ext cx="622440" cy="196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813880" y="4705200"/>
                  <a:ext cx="615960" cy="273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5" name=""/>
              <p:cNvSpPr/>
              <p:nvPr/>
            </p:nvSpPr>
            <p:spPr>
              <a:xfrm>
                <a:off x="8643960" y="3314880"/>
                <a:ext cx="96840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EMA12000 D14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664840" y="5068800"/>
                <a:ext cx="1026360" cy="117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175990-B21/60Hz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(1)   42U Modula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       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Storage Cab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(3)   M2200 Enclosure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(9)   4354 Enclosure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(18) SCSI VHD-VH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       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Cables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Controllers, Batteries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and Disks ordere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separately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8807400" y="3508200"/>
              <a:ext cx="58428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(1) M2200 enclosur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826480" y="3701880"/>
              <a:ext cx="59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3 dual bus 14-bay drive enclosur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807400" y="3984480"/>
              <a:ext cx="58428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(1) M2200 enclosur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826480" y="4178160"/>
              <a:ext cx="59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3 dual bus 14-bay drive enclosur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807400" y="4467240"/>
              <a:ext cx="58428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(1) M2200 enclosur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826480" y="4660920"/>
              <a:ext cx="59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3 dual bus 14-bay drive enclosur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3038400" y="4133880"/>
            <a:ext cx="187668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Times New Roman"/>
              </a:rPr>
              <a:t>Enclosure  op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9826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4214R Redundant power suppl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9829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4214R Dual Bus I/O Modul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0212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Ultra3 Single Bus I/O Modul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0213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Ultra3 Dual Bus I/0 Modul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M2_Front" descr=""/>
          <p:cNvPicPr/>
          <p:nvPr/>
        </p:nvPicPr>
        <p:blipFill>
          <a:blip r:embed="rId1"/>
          <a:stretch/>
        </p:blipFill>
        <p:spPr>
          <a:xfrm>
            <a:off x="160200" y="766800"/>
            <a:ext cx="1009800" cy="314280"/>
          </a:xfrm>
          <a:prstGeom prst="rect">
            <a:avLst/>
          </a:prstGeom>
          <a:ln w="0">
            <a:noFill/>
          </a:ln>
        </p:spPr>
      </p:pic>
      <p:pic>
        <p:nvPicPr>
          <p:cNvPr id="165" name="M2_Rear" descr=""/>
          <p:cNvPicPr/>
          <p:nvPr/>
        </p:nvPicPr>
        <p:blipFill>
          <a:blip r:embed="rId2"/>
          <a:stretch/>
        </p:blipFill>
        <p:spPr>
          <a:xfrm>
            <a:off x="160200" y="1355760"/>
            <a:ext cx="951120" cy="353880"/>
          </a:xfrm>
          <a:prstGeom prst="rect">
            <a:avLst/>
          </a:prstGeom>
          <a:ln w="0">
            <a:noFill/>
          </a:ln>
        </p:spPr>
      </p:pic>
      <p:pic>
        <p:nvPicPr>
          <p:cNvPr id="166" name="Star10c" descr=""/>
          <p:cNvPicPr/>
          <p:nvPr/>
        </p:nvPicPr>
        <p:blipFill>
          <a:blip r:embed="rId3"/>
          <a:stretch/>
        </p:blipFill>
        <p:spPr>
          <a:xfrm>
            <a:off x="125280" y="4133880"/>
            <a:ext cx="1155960" cy="380880"/>
          </a:xfrm>
          <a:prstGeom prst="rect">
            <a:avLst/>
          </a:prstGeom>
          <a:ln w="0">
            <a:noFill/>
          </a:ln>
        </p:spPr>
      </p:pic>
      <p:pic>
        <p:nvPicPr>
          <p:cNvPr id="167" name="Star14a" descr=""/>
          <p:cNvPicPr/>
          <p:nvPr/>
        </p:nvPicPr>
        <p:blipFill>
          <a:blip r:embed="rId4"/>
          <a:stretch/>
        </p:blipFill>
        <p:spPr>
          <a:xfrm>
            <a:off x="0" y="2705040"/>
            <a:ext cx="1257480" cy="4190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819440" y="3171960"/>
            <a:ext cx="5019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76219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C SAN Switch 8-E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0T16:16:58Z</dcterms:created>
  <dc:creator>Brian Montaquila</dc:creator>
  <dc:description/>
  <dc:language>en-US</dc:language>
  <cp:lastModifiedBy>GilmerK</cp:lastModifiedBy>
  <cp:lastPrinted>2000-07-18T16:33:02Z</cp:lastPrinted>
  <dcterms:modified xsi:type="dcterms:W3CDTF">2000-08-01T16:51:07Z</dcterms:modified>
  <cp:revision>72</cp:revision>
  <dc:subject/>
  <dc:title>No Slide Title</dc:title>
</cp:coreProperties>
</file>