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9753-B2BF-42D7-8410-169003195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88B5-AB1B-47D6-9901-A08159E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F52A-611E-4B8E-8BB4-77679FA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21D3-F388-4DE4-80E8-E895A37F5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85B8D-0905-4D7C-BA5D-39CA8E31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71412-6B2A-4937-831C-FC35F7A6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6D1C-42FE-4863-ACBE-B671023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3FD2-E9E9-425D-A2FA-ABF1809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33E1C-BEB6-49E1-BAF3-DF958AA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8F7B7-A931-41D6-847E-5073C9D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56F9-6A87-4014-8B11-E16582A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8F86-F525-44CE-947D-1F54BD23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593F0-F763-4ADC-8602-26644BF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5C5BE-AC91-4FD6-BC8C-7E77BAD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F87C2-F528-47D8-A485-63CE72A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97589-2894-45EF-A3B4-5BDE05D2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BE078-0652-400C-AC1B-EF733E7A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F9B0-BA7F-4B9E-B61B-2215BCB2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97B8-09CE-463A-AD0D-A27773E1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4BEA-3FD1-45AC-87C1-A80826D7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9890-E98C-4D1D-B4DF-389230F7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9D87-8533-4662-82F5-B9086956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62D5-8356-4DA4-9D80-3947A5F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9E0A-2AC8-4CB7-A8EE-4CE0DA0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A6C-40B9-4CFF-B3D7-9D3D0B936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BE3-EF3B-4924-A474-3F85475EE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araguay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259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0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7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2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2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8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6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5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3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4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5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79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2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5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7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1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7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3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4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4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334120"/>
            <a:ext cx="1752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718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7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0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7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2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8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2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0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3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5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8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8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0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2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29Z</dcterms:modified>
  <cp:revision>565</cp:revision>
  <dc:subject/>
  <dc:title>Michael Capellas</dc:title>
</cp:coreProperties>
</file>