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0D93-EF47-4B3C-B0B9-439B33829F0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施行地點之顏色含意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白色」：使用者可使用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Cli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與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We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介面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藍色」：使用者可使用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Cli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介面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橘色」：使用者可使用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eam We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介面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「灰色」：使用者尚無法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DM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系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272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00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272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9240" y="301320"/>
            <a:ext cx="76024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0272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0000" y="113652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0272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0000" y="3872160"/>
            <a:ext cx="25873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19240" y="301320"/>
            <a:ext cx="76024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3840" y="387216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840" y="1136520"/>
            <a:ext cx="392148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8035920" cy="24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36520"/>
            <a:ext cx="803592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4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1" marL="952560" indent="-380880"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2" marL="1428840" indent="-285840"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3" marL="1809720" indent="-190440">
              <a:spcBef>
                <a:spcPts val="1400"/>
              </a:spcBef>
              <a:buClr>
                <a:srgbClr val="120c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4" marL="2381400" indent="-187560">
              <a:spcBef>
                <a:spcPts val="1400"/>
              </a:spcBef>
              <a:buClr>
                <a:srgbClr val="120c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5" marL="2381400" indent="-18756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  <a:p>
            <a:pPr lvl="6" marL="2381400" indent="-187560">
              <a:spcBef>
                <a:spcPts val="1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c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0c80"/>
              </a:solidFill>
              <a:latin typeface="Arial"/>
            </a:endParaRPr>
          </a:p>
        </p:txBody>
      </p:sp>
      <p:pic>
        <p:nvPicPr>
          <p:cNvPr id="2" name="IBM_logo_black%20copier" descr=""/>
          <p:cNvPicPr/>
          <p:nvPr/>
        </p:nvPicPr>
        <p:blipFill>
          <a:blip r:embed="rId6"/>
          <a:stretch/>
        </p:blipFill>
        <p:spPr>
          <a:xfrm>
            <a:off x="8128080" y="6373800"/>
            <a:ext cx="1015920" cy="363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9360">
            <a:solidFill>
              <a:srgbClr val="f906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DS" descr=""/>
          <p:cNvPicPr/>
          <p:nvPr/>
        </p:nvPicPr>
        <p:blipFill>
          <a:blip r:embed="rId7"/>
          <a:stretch/>
        </p:blipFill>
        <p:spPr>
          <a:xfrm>
            <a:off x="0" y="6132600"/>
            <a:ext cx="963720" cy="725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0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024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DS" descr=""/>
          <p:cNvPicPr/>
          <p:nvPr/>
        </p:nvPicPr>
        <p:blipFill>
          <a:blip r:embed="rId3"/>
          <a:stretch/>
        </p:blipFill>
        <p:spPr>
          <a:xfrm>
            <a:off x="179280" y="5600880"/>
            <a:ext cx="1257480" cy="946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410080"/>
            <a:ext cx="228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7" name="DS" descr=""/>
          <p:cNvPicPr/>
          <p:nvPr/>
        </p:nvPicPr>
        <p:blipFill>
          <a:blip r:embed="rId5"/>
          <a:stretch/>
        </p:blipFill>
        <p:spPr>
          <a:xfrm>
            <a:off x="304920" y="5943600"/>
            <a:ext cx="963360" cy="725400"/>
          </a:xfrm>
          <a:prstGeom prst="rect">
            <a:avLst/>
          </a:prstGeom>
          <a:ln w="0">
            <a:noFill/>
          </a:ln>
        </p:spPr>
      </p:pic>
      <p:pic>
        <p:nvPicPr>
          <p:cNvPr id="48" name="IBM_blanc_trans" descr=""/>
          <p:cNvPicPr/>
          <p:nvPr/>
        </p:nvPicPr>
        <p:blipFill>
          <a:blip r:embed="rId6"/>
          <a:stretch/>
        </p:blipFill>
        <p:spPr>
          <a:xfrm>
            <a:off x="7861320" y="6167520"/>
            <a:ext cx="114300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9240" y="301320"/>
            <a:ext cx="760248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24128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PDM Implementation Roadmap</a:t>
            </a:r>
            <a:endParaRPr b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02400" y="1225440"/>
            <a:ext cx="3974400" cy="2581200"/>
            <a:chOff x="4802400" y="1225440"/>
            <a:chExt cx="3974400" cy="2581200"/>
          </a:xfrm>
        </p:grpSpPr>
        <p:sp>
          <p:nvSpPr>
            <p:cNvPr id="94" name=""/>
            <p:cNvSpPr/>
            <p:nvPr/>
          </p:nvSpPr>
          <p:spPr>
            <a:xfrm flipV="1">
              <a:off x="6321600" y="3348000"/>
              <a:ext cx="2880" cy="45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02400" y="1225440"/>
              <a:ext cx="3974400" cy="2057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Multi Location/Heterologous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Integ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MultiSite Re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ERP/Legacy System Integration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Visual SourceSafe Inte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Lab 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FAE Support (Enhanceme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682000" y="4075200"/>
            <a:ext cx="5227560" cy="2178360"/>
            <a:chOff x="2682000" y="4075200"/>
            <a:chExt cx="5227560" cy="2178360"/>
          </a:xfrm>
        </p:grpSpPr>
        <p:sp>
          <p:nvSpPr>
            <p:cNvPr id="97" name=""/>
            <p:cNvSpPr/>
            <p:nvPr/>
          </p:nvSpPr>
          <p:spPr>
            <a:xfrm>
              <a:off x="2682000" y="4686120"/>
              <a:ext cx="5227560" cy="1567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Enhancement/Tuning of 4 Rollout Syst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e-D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P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BOM Mgmt./Collabo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581280" y="4075200"/>
              <a:ext cx="3240" cy="45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33520" y="3701880"/>
            <a:ext cx="8188200" cy="488880"/>
            <a:chOff x="533520" y="3701880"/>
            <a:chExt cx="8188200" cy="488880"/>
          </a:xfrm>
        </p:grpSpPr>
        <p:sp>
          <p:nvSpPr>
            <p:cNvPr id="100" name=""/>
            <p:cNvSpPr/>
            <p:nvPr/>
          </p:nvSpPr>
          <p:spPr>
            <a:xfrm>
              <a:off x="533520" y="3701880"/>
              <a:ext cx="8188200" cy="488880"/>
            </a:xfrm>
            <a:prstGeom prst="rightArrow">
              <a:avLst>
                <a:gd name="adj1" fmla="val 49611"/>
                <a:gd name="adj2" fmla="val 801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73320" y="376704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8160" y="376704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120c80"/>
                  </a:solidFill>
                  <a:latin typeface="Arial"/>
                </a:rPr>
                <a:t>2003/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36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0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356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0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2892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ffffff"/>
                  </a:solidFill>
                  <a:latin typeface="Arial"/>
                </a:rPr>
                <a:t>2002/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3376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120c80"/>
                  </a:solidFill>
                  <a:latin typeface="Arial"/>
                </a:rPr>
                <a:t>2003/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89720" y="3765600"/>
              <a:ext cx="94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TW" sz="1800" spc="-1" strike="noStrike">
                  <a:solidFill>
                    <a:srgbClr val="120c80"/>
                  </a:solidFill>
                  <a:latin typeface="Arial"/>
                </a:rPr>
                <a:t>2003/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23520" y="1219320"/>
            <a:ext cx="3718800" cy="2589840"/>
            <a:chOff x="623520" y="1219320"/>
            <a:chExt cx="3718800" cy="2589840"/>
          </a:xfrm>
        </p:grpSpPr>
        <p:sp>
          <p:nvSpPr>
            <p:cNvPr id="109" name=""/>
            <p:cNvSpPr/>
            <p:nvPr/>
          </p:nvSpPr>
          <p:spPr>
            <a:xfrm>
              <a:off x="623520" y="1219320"/>
              <a:ext cx="3718800" cy="20300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PDM Foundation/Architecture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Build-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e-DC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P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120c80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120c80"/>
                  </a:solidFill>
                  <a:latin typeface="Arial"/>
                </a:rPr>
                <a:t>BOM Mgmt./Collabo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292400" y="3350880"/>
              <a:ext cx="2880" cy="4582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229600" y="2286000"/>
            <a:ext cx="673200" cy="1066680"/>
            <a:chOff x="8229600" y="2286000"/>
            <a:chExt cx="673200" cy="1066680"/>
          </a:xfrm>
        </p:grpSpPr>
        <p:sp>
          <p:nvSpPr>
            <p:cNvPr id="112" name=""/>
            <p:cNvSpPr/>
            <p:nvPr/>
          </p:nvSpPr>
          <p:spPr>
            <a:xfrm>
              <a:off x="8229600" y="228600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9600" y="2552760"/>
              <a:ext cx="67320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29600" y="281916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9600" y="308592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22840" y="2286000"/>
            <a:ext cx="672840" cy="1066320"/>
            <a:chOff x="3822840" y="2286000"/>
            <a:chExt cx="672840" cy="1066320"/>
          </a:xfrm>
        </p:grpSpPr>
        <p:sp>
          <p:nvSpPr>
            <p:cNvPr id="117" name=""/>
            <p:cNvSpPr/>
            <p:nvPr/>
          </p:nvSpPr>
          <p:spPr>
            <a:xfrm>
              <a:off x="3822840" y="228600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"/>
                </a:rPr>
                <a:t>P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22840" y="255240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P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22840" y="281916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P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22840" y="3085920"/>
              <a:ext cx="67284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P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404120" y="5257800"/>
            <a:ext cx="673200" cy="1066680"/>
            <a:chOff x="7404120" y="5257800"/>
            <a:chExt cx="673200" cy="1066680"/>
          </a:xfrm>
        </p:grpSpPr>
        <p:sp>
          <p:nvSpPr>
            <p:cNvPr id="122" name=""/>
            <p:cNvSpPr/>
            <p:nvPr/>
          </p:nvSpPr>
          <p:spPr>
            <a:xfrm>
              <a:off x="7404120" y="525780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T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04120" y="5524560"/>
              <a:ext cx="673200" cy="26640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4120" y="579096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04120" y="6057720"/>
              <a:ext cx="673200" cy="2667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3333cc">
                    <a:alpha val="50196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PT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394440" y="3503520"/>
            <a:ext cx="4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20c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01200" y="3187800"/>
            <a:ext cx="2360880" cy="678240"/>
            <a:chOff x="2401200" y="3187800"/>
            <a:chExt cx="2360880" cy="678240"/>
          </a:xfrm>
        </p:grpSpPr>
        <p:sp>
          <p:nvSpPr>
            <p:cNvPr id="128" name=""/>
            <p:cNvSpPr/>
            <p:nvPr/>
          </p:nvSpPr>
          <p:spPr>
            <a:xfrm>
              <a:off x="3362040" y="3187800"/>
              <a:ext cx="6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Clr>
                  <a:srgbClr val="120c80"/>
                </a:buClr>
                <a:buFont typeface="Monotype Sorts" charset="2"/>
                <a:buChar char="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lang="zh-TW" sz="24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01200" y="3558960"/>
              <a:ext cx="23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20c80"/>
                  </a:solidFill>
                  <a:latin typeface="Arial"/>
                </a:rPr>
                <a:t>Phase I PDM System roll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362920" y="3975120"/>
            <a:ext cx="4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120c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36200" y="4038480"/>
            <a:ext cx="2440080" cy="764280"/>
            <a:chOff x="4336200" y="4038480"/>
            <a:chExt cx="2440080" cy="764280"/>
          </a:xfrm>
        </p:grpSpPr>
        <p:sp>
          <p:nvSpPr>
            <p:cNvPr id="132" name=""/>
            <p:cNvSpPr/>
            <p:nvPr/>
          </p:nvSpPr>
          <p:spPr>
            <a:xfrm>
              <a:off x="5265720" y="4038480"/>
              <a:ext cx="877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buClr>
                  <a:srgbClr val="120c80"/>
                </a:buClr>
                <a:buFont typeface="Monotype Sorts" charset="2"/>
                <a:buChar char="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4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r>
                <a:rPr b="0" lang="zh-TW" sz="3600" spc="-1" strike="noStrike">
                  <a:solidFill>
                    <a:srgbClr val="120c8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36200" y="404640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36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120c80"/>
                  </a:solidFill>
                  <a:latin typeface="Arial"/>
                </a:rPr>
                <a:t>Phase I PDM System Go-l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1:57:26Z</dcterms:created>
  <dc:creator>Alan Lai</dc:creator>
  <dc:description/>
  <dc:language>en-US</dc:language>
  <cp:lastModifiedBy>Patrick Kao</cp:lastModifiedBy>
  <dcterms:modified xsi:type="dcterms:W3CDTF">2002-08-20T07:34:43Z</dcterms:modified>
  <cp:revision>1158</cp:revision>
  <dc:subject/>
  <dc:title>PowerPoint Presentation</dc:title>
</cp:coreProperties>
</file>