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E44-76BC-4797-B186-5F34D79873C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施行地點之顏色含意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白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與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藍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橘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灰色」：使用者尚無法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400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400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2" name="IBM_logo_black%20copier" descr=""/>
          <p:cNvPicPr/>
          <p:nvPr/>
        </p:nvPicPr>
        <p:blipFill>
          <a:blip r:embed="rId6"/>
          <a:stretch/>
        </p:blipFill>
        <p:spPr>
          <a:xfrm>
            <a:off x="8128080" y="6373800"/>
            <a:ext cx="1015920" cy="363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f90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S" descr=""/>
          <p:cNvPicPr/>
          <p:nvPr/>
        </p:nvPicPr>
        <p:blipFill>
          <a:blip r:embed="rId7"/>
          <a:stretch/>
        </p:blipFill>
        <p:spPr>
          <a:xfrm>
            <a:off x="0" y="6132600"/>
            <a:ext cx="963720" cy="72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DS" descr=""/>
          <p:cNvPicPr/>
          <p:nvPr/>
        </p:nvPicPr>
        <p:blipFill>
          <a:blip r:embed="rId5"/>
          <a:stretch/>
        </p:blipFill>
        <p:spPr>
          <a:xfrm>
            <a:off x="304920" y="5943600"/>
            <a:ext cx="963360" cy="725400"/>
          </a:xfrm>
          <a:prstGeom prst="rect">
            <a:avLst/>
          </a:prstGeom>
          <a:ln w="0">
            <a:noFill/>
          </a:ln>
        </p:spPr>
      </p:pic>
      <p:pic>
        <p:nvPicPr>
          <p:cNvPr id="48" name="IBM_blanc_trans" descr=""/>
          <p:cNvPicPr/>
          <p:nvPr/>
        </p:nvPicPr>
        <p:blipFill>
          <a:blip r:embed="rId6"/>
          <a:stretch/>
        </p:blipFill>
        <p:spPr>
          <a:xfrm>
            <a:off x="7861320" y="6167520"/>
            <a:ext cx="114300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DM Implementation Roadmap</a:t>
            </a:r>
            <a:endParaRPr b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2400" y="1225440"/>
            <a:ext cx="3974400" cy="2581200"/>
            <a:chOff x="4802400" y="1225440"/>
            <a:chExt cx="3974400" cy="2581200"/>
          </a:xfrm>
        </p:grpSpPr>
        <p:sp>
          <p:nvSpPr>
            <p:cNvPr id="94" name=""/>
            <p:cNvSpPr/>
            <p:nvPr/>
          </p:nvSpPr>
          <p:spPr>
            <a:xfrm flipV="1">
              <a:off x="6321600" y="3348000"/>
              <a:ext cx="288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2400" y="1225440"/>
              <a:ext cx="3974400" cy="2057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Multi Location/Heterolog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MultiSite Re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RP/Legacy System Integration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Visual SourceSafe Inte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Lab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FAE Support (Enhance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82000" y="4075200"/>
            <a:ext cx="5227560" cy="2178360"/>
            <a:chOff x="2682000" y="4075200"/>
            <a:chExt cx="5227560" cy="2178360"/>
          </a:xfrm>
        </p:grpSpPr>
        <p:sp>
          <p:nvSpPr>
            <p:cNvPr id="97" name=""/>
            <p:cNvSpPr/>
            <p:nvPr/>
          </p:nvSpPr>
          <p:spPr>
            <a:xfrm>
              <a:off x="2682000" y="4686120"/>
              <a:ext cx="5227560" cy="1567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nhancement/Tuning of 4 Rollout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4075200"/>
              <a:ext cx="324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520" y="3701880"/>
            <a:ext cx="8188200" cy="488880"/>
            <a:chOff x="533520" y="3701880"/>
            <a:chExt cx="8188200" cy="488880"/>
          </a:xfrm>
        </p:grpSpPr>
        <p:sp>
          <p:nvSpPr>
            <p:cNvPr id="100" name=""/>
            <p:cNvSpPr/>
            <p:nvPr/>
          </p:nvSpPr>
          <p:spPr>
            <a:xfrm>
              <a:off x="533520" y="3701880"/>
              <a:ext cx="8188200" cy="488880"/>
            </a:xfrm>
            <a:prstGeom prst="rightArrow">
              <a:avLst>
                <a:gd name="adj1" fmla="val 49611"/>
                <a:gd name="adj2" fmla="val 801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332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816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3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5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289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37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897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23520" y="1219320"/>
            <a:ext cx="3718800" cy="2589840"/>
            <a:chOff x="623520" y="1219320"/>
            <a:chExt cx="3718800" cy="2589840"/>
          </a:xfrm>
        </p:grpSpPr>
        <p:sp>
          <p:nvSpPr>
            <p:cNvPr id="109" name=""/>
            <p:cNvSpPr/>
            <p:nvPr/>
          </p:nvSpPr>
          <p:spPr>
            <a:xfrm>
              <a:off x="623520" y="1219320"/>
              <a:ext cx="3718800" cy="20300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DM Foundation/Architectur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Build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92400" y="3350880"/>
              <a:ext cx="2880" cy="458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229600" y="2286000"/>
            <a:ext cx="673200" cy="1066680"/>
            <a:chOff x="8229600" y="2286000"/>
            <a:chExt cx="673200" cy="1066680"/>
          </a:xfrm>
        </p:grpSpPr>
        <p:sp>
          <p:nvSpPr>
            <p:cNvPr id="112" name=""/>
            <p:cNvSpPr/>
            <p:nvPr/>
          </p:nvSpPr>
          <p:spPr>
            <a:xfrm>
              <a:off x="8229600" y="22860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25527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28191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30859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22840" y="2286000"/>
            <a:ext cx="672840" cy="1066320"/>
            <a:chOff x="3822840" y="2286000"/>
            <a:chExt cx="672840" cy="1066320"/>
          </a:xfrm>
        </p:grpSpPr>
        <p:sp>
          <p:nvSpPr>
            <p:cNvPr id="117" name=""/>
            <p:cNvSpPr/>
            <p:nvPr/>
          </p:nvSpPr>
          <p:spPr>
            <a:xfrm>
              <a:off x="3822840" y="22860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22840" y="25524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2840" y="281916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2840" y="308592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04120" y="5257800"/>
            <a:ext cx="673200" cy="1066680"/>
            <a:chOff x="7404120" y="5257800"/>
            <a:chExt cx="673200" cy="1066680"/>
          </a:xfrm>
        </p:grpSpPr>
        <p:sp>
          <p:nvSpPr>
            <p:cNvPr id="122" name=""/>
            <p:cNvSpPr/>
            <p:nvPr/>
          </p:nvSpPr>
          <p:spPr>
            <a:xfrm>
              <a:off x="7404120" y="52578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4120" y="55245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4120" y="57909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04120" y="60577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94440" y="35035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01200" y="3187800"/>
            <a:ext cx="2360880" cy="678240"/>
            <a:chOff x="2401200" y="3187800"/>
            <a:chExt cx="2360880" cy="678240"/>
          </a:xfrm>
        </p:grpSpPr>
        <p:sp>
          <p:nvSpPr>
            <p:cNvPr id="128" name=""/>
            <p:cNvSpPr/>
            <p:nvPr/>
          </p:nvSpPr>
          <p:spPr>
            <a:xfrm>
              <a:off x="3362040" y="3187800"/>
              <a:ext cx="6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120c80"/>
                </a:buClr>
                <a:buFont typeface="Monotype Sorts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2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200" y="3558960"/>
              <a:ext cx="23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roll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2920" y="39751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36200" y="4038480"/>
            <a:ext cx="2440080" cy="764280"/>
            <a:chOff x="4336200" y="4038480"/>
            <a:chExt cx="2440080" cy="764280"/>
          </a:xfrm>
        </p:grpSpPr>
        <p:sp>
          <p:nvSpPr>
            <p:cNvPr id="132" name=""/>
            <p:cNvSpPr/>
            <p:nvPr/>
          </p:nvSpPr>
          <p:spPr>
            <a:xfrm>
              <a:off x="5265720" y="4038480"/>
              <a:ext cx="87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buClr>
                  <a:srgbClr val="120c80"/>
                </a:buClr>
                <a:buFont typeface="Monotype Sorts" charset="2"/>
                <a:buChar char="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36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36200" y="40464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Go-l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1:57:26Z</dcterms:created>
  <dc:creator>Alan Lai</dc:creator>
  <dc:description/>
  <dc:language>en-US</dc:language>
  <cp:lastModifiedBy>Patrick Kao</cp:lastModifiedBy>
  <dcterms:modified xsi:type="dcterms:W3CDTF">2002-08-20T07:34:43Z</dcterms:modified>
  <cp:revision>1158</cp:revision>
  <dc:subject/>
  <dc:title>PowerPoint Presentation</dc:title>
</cp:coreProperties>
</file>