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381C-5B0F-4FFE-8E4F-B2C4A0659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D6BF-4629-44C4-BDBF-AB5F3AD13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EC3F-ED04-45E3-8AFF-76498AB2D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sldImg"/>
          </p:nvPr>
        </p:nvSpPr>
        <p:spPr>
          <a:xfrm>
            <a:off x="1152360" y="692280"/>
            <a:ext cx="455472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C64DE-3216-4F4E-9A95-13084A1EB9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64FC1097-5092-444E-984B-052C5767E0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014630BC-E551-48C5-A989-D570633A7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9FC58561-F58C-4727-AB23-010DCE5FDF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BAB9D50F-7F44-4AC6-B78D-85C6FF99C5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A395229-5312-4D7F-A179-DDE712E273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81F7510E-F742-456F-A7A8-006109B86B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B132CF47-62AD-48DB-A4AD-17993C0EA5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1724AEB1-3794-426E-B04C-66C309AA5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7D929305-FBC0-4BEA-BD95-59CC47ACB4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D24CFEF8-62B8-46BB-9C8C-8FD8C09CB6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48DEDEAF-30EE-4586-832D-DCB7E553DE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75C4-A61F-447A-8550-FF652AC24C63}"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C490FA4B-1FCD-48A2-8A53-636AA1C27A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A7A109F7-DCFF-4EE8-9A45-CED45D2171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224F34C-4761-4BCF-B3E2-76ECAAF1A6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0E243019-5CEF-4E6B-8817-98258FF388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E7A0F264-BAFB-427D-A167-E6F6B71C57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186EDE2F-A34E-4362-83DB-5FBBA686E6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2"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EA5C0E4D-20FC-4F5A-94FB-6A4CACB48F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4"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051AEFB-B2FE-486E-8451-9FC041348C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782B9B7-0479-4C54-881C-6DCECA7CFE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2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09D830F7-D4FE-42AF-9AE5-84601EE710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C5DCD1C-F680-40A7-8475-6F9E02BDA3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8E1FAD9D-5D59-4746-9284-DF8EC1B4A6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2" name=""/>
          <p:cNvGrpSpPr/>
          <p:nvPr/>
        </p:nvGrpSpPr>
        <p:grpSpPr>
          <a:xfrm>
            <a:off x="304920" y="1447920"/>
            <a:ext cx="8237520" cy="3580920"/>
            <a:chOff x="304920" y="1447920"/>
            <a:chExt cx="8237520" cy="3580920"/>
          </a:xfrm>
        </p:grpSpPr>
        <p:sp>
          <p:nvSpPr>
            <p:cNvPr id="13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6" name=""/>
            <p:cNvGrpSpPr/>
            <p:nvPr/>
          </p:nvGrpSpPr>
          <p:grpSpPr>
            <a:xfrm>
              <a:off x="304920" y="1447920"/>
              <a:ext cx="8237520" cy="3580560"/>
              <a:chOff x="304920" y="1447920"/>
              <a:chExt cx="8237520" cy="3580560"/>
            </a:xfrm>
          </p:grpSpPr>
          <p:sp>
            <p:nvSpPr>
              <p:cNvPr id="13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0341E6D2-0104-4C1F-B68E-D932A91E40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B29AB764-EBB7-4FC2-8F76-50D7068FE7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6AC29E1B-E740-4955-868C-A6D729D894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613CF448-CCF3-4662-9F5A-B063F4D6DC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0"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3D4CDFD-8B1F-4D77-912A-D8C579472C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DBEFCFE-628F-41C3-9C1D-097687F478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7A8DBEE-4153-40D0-9E0F-A9E80D9E5E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6"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DB786B04-9B90-4A75-9AD9-514DB89ACF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DF7CA4FC-7CD6-4EA4-B971-0C32CB1A4D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FA8E7B78-AE9E-400E-A5D6-44F63BA8A3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0" name=""/>
          <p:cNvGrpSpPr/>
          <p:nvPr/>
        </p:nvGrpSpPr>
        <p:grpSpPr>
          <a:xfrm>
            <a:off x="304920" y="1447920"/>
            <a:ext cx="8237520" cy="3580920"/>
            <a:chOff x="304920" y="1447920"/>
            <a:chExt cx="8237520" cy="3580920"/>
          </a:xfrm>
        </p:grpSpPr>
        <p:sp>
          <p:nvSpPr>
            <p:cNvPr id="161"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2"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3"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4" name=""/>
            <p:cNvGrpSpPr/>
            <p:nvPr/>
          </p:nvGrpSpPr>
          <p:grpSpPr>
            <a:xfrm>
              <a:off x="304920" y="1447920"/>
              <a:ext cx="8237520" cy="3580560"/>
              <a:chOff x="304920" y="1447920"/>
              <a:chExt cx="8237520" cy="3580560"/>
            </a:xfrm>
          </p:grpSpPr>
          <p:sp>
            <p:nvSpPr>
              <p:cNvPr id="165"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784B6229-7D83-4874-8B16-BB0EEB28DF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2" name=""/>
          <p:cNvGrpSpPr/>
          <p:nvPr/>
        </p:nvGrpSpPr>
        <p:grpSpPr>
          <a:xfrm>
            <a:off x="304920" y="1447920"/>
            <a:ext cx="8237520" cy="3580920"/>
            <a:chOff x="304920" y="1447920"/>
            <a:chExt cx="8237520" cy="3580920"/>
          </a:xfrm>
        </p:grpSpPr>
        <p:sp>
          <p:nvSpPr>
            <p:cNvPr id="17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or Master Teachers:</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Facilitation Guid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earning to Facilitate</a:t>
              </a:r>
              <a:endParaRPr b="0" lang="en-US" sz="2000" spc="-1" strike="noStrike">
                <a:solidFill>
                  <a:srgbClr val="ffffff"/>
                </a:solidFill>
                <a:latin typeface="Times New Roman"/>
              </a:endParaRPr>
            </a:p>
          </p:txBody>
        </p:sp>
        <p:sp>
          <p:nvSpPr>
            <p:cNvPr id="17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6" name=""/>
            <p:cNvGrpSpPr/>
            <p:nvPr/>
          </p:nvGrpSpPr>
          <p:grpSpPr>
            <a:xfrm>
              <a:off x="304920" y="1447920"/>
              <a:ext cx="8237520" cy="3580560"/>
              <a:chOff x="304920" y="1447920"/>
              <a:chExt cx="8237520" cy="3580560"/>
            </a:xfrm>
          </p:grpSpPr>
          <p:sp>
            <p:nvSpPr>
              <p:cNvPr id="17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9A45387C-6833-4488-9F45-CCCF69F77E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E5278E13-DDAD-4152-A1DF-99037AB092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9F3D370-1354-4552-B50C-0A361E0027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Guid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44A8A33-80E7-4199-958C-9C78212DE5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9712CC7-15A4-4DBF-AAC8-92B9266D8AD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17600" y="1908000"/>
            <a:ext cx="4953240" cy="2475000"/>
          </a:xfrm>
          <a:prstGeom prst="rect">
            <a:avLst/>
          </a:prstGeom>
          <a:ln w="0">
            <a:noFill/>
          </a:ln>
        </p:spPr>
      </p:pic>
      <p:sp>
        <p:nvSpPr>
          <p:cNvPr id="192"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6C66E6F7-FF64-454D-AA1A-BD6EF81F65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A51010CB-0718-4885-9EEF-A15095D129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ACD2A032-6D74-4EDF-A26B-B469D31DC12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3F0CBEB3-3AFB-4595-97CC-EF5CA7FED5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B16749AD-9E48-407E-982B-BBE8A3B0A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19B1980-7480-4C49-B496-F3C3E45E1B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4D3AD370-C5D6-449E-A5FC-584DB8D70D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E0CA7F7-1CA4-40E4-80F9-AC3C03738F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49B3B9B7-C5A9-46CB-85AB-95D33619E8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B0926BB-0D48-4469-865A-477D2A2C39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5-08T22:47:05Z</dcterms:modified>
  <cp:revision>543</cp:revision>
  <dc:subject/>
  <dc:title>Module 1</dc:title>
</cp:coreProperties>
</file>