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BF3-BCC2-4873-B28E-19BF5D997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1B3-4CA8-43FE-A667-6F4456C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2D3-3472-4261-A2CC-9D0E8F8C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410-B524-4957-AABA-EF79E5E5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09B-2C23-4F37-B3B4-DA84223B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7CA-F5C1-448F-8574-2EC54775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5B87-F133-4F3D-83B8-F51E179A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269-E2CB-4C04-943D-A5981B1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120B-CD64-43C1-8DD0-C6629E26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160F-E2B1-4701-AB6C-4AC0E7AB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D158-E7F5-4A02-87CE-1F3FD244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A39-2EC9-4DE0-9E43-4A1230A0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C308-5274-4CD4-BE7C-26A952412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784728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Trash the Earth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การศึกษาแบบสหวิทยาการ</a:t>
            </a:r>
            <a:br>
              <a:rPr sz="4000"/>
            </a:br>
            <a:r>
              <a:rPr b="0" lang="th-TH" sz="4000" spc="-1" strike="noStrike">
                <a:solidFill>
                  <a:srgbClr val="000000"/>
                </a:solidFill>
                <a:latin typeface="Arial"/>
              </a:rPr>
              <a:t>เรื่องการนำกลับมาใช้อีกของระดับเกรดห้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Mrs. Davis, Mrs. Dugger, and Mrs. McB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ort Neches Middl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Port Neches-Groves I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Texas Recycling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ingsummi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ed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nrcc.state.tx.us/exec/sbea/rtol/index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nrcc.state.tx.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texasrecyclesday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ktb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</a:rPr>
              <a:t>www.recycletx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คำถามสร้างพลังคิ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ความรับผิดชอบต่อสังคม – ใครกำหน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นิยามความรับผิดชอบทางสังค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ห้นิยาม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กำลังเกิดอะไรขึ้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ื้นที่ว่างในชุมชนกำลังปิดลงในไม่ช้านี้โดยพวกเราไม่ได้ช่วยเหลือแต่อย่างใด ทางเมืองต้องการแนวทางแก้ไขเพื่อลดปริมาณขยะที่นำมาทิ้งในบริเวณนี้อย่างเร่งด่วน คุณได้รับการว่าจ้างอย่างเป็นทางการให้เป็นที่ปรึกษาด้านการจัดการกับเศษขยะ วางแผนและเตรียมข้อเสนอของคุณนำเสนอต่อคณะกรรมการในอีกสองสัปดาห์ ข้อเสนอห้าอันดับแรกจะได้รับรางวัลพิเศ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วิทยาศาสต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จัยการอนุรักษ์พลังงานและแหล่งพลัง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ำรวจกระบวนการและวิทยาศาสตร์ที่อยู่เบื้องหลังการนำกลับมาใช้อี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วิจัยนโยบายปัจจุบันของการนำกลับมาใช้อีกของโรงเรียน และการปฏิบัต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สำรวจแผนการจัดการกับ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ช้ข้อมูลเพื่อพัฒนาแผนทางเลือ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สไลด์งานนำเสนอโดยใช้ความคิดสร้างสรรค์และความรู้โดยคำนึงถึงข้อเสนอเรื่องการจัดการกับเศษขยะที่จะทำให้คณะกรรมการประทับใ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คณิตศาสตร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การวิเคราะห์ค่าใช้จ่ายเรื่องการจัดการกับเศษขยะของโรงเรีย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หรือชุมช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และการนำกลับมาใช้อีก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เก็บข้อมูลที่เกี่ยวกับการบริโภคข้อมูลในบ้าน โรงเรียน ชุมชนและ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ใส่ข้อมูลลงในตารางทำการและกราฟเพื่อช่วยในการตีความข้อค้นพ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งานกับผู้เชี่ยวชาญด้านการจัดการกับเศษขยะเพื่อตัดสินว่าจะสามารถลดค่าใช้จ่ายได้อย่างไ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พิจารณามาตรการตัดค่าใช้จ่ายและตัดสินความเป็นไปได้ของการเปลี่ยนแปลงการปฏิบัติ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ทำอะไรในชั่วโมงศิลป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ทำงานเดี่ยวหรือกับเพื่อนคู่หูเพื่อจัดทำงานศิลปะหรือสิ่งประดิษฐ์จาก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ถ่ายภาพดิจิทัลของงาน เขียนคำบรรยายสำหรับภาพ และพัฒนางานแสดงสำหรับโรงเรียนหรือ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สังคมศึกษ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ทำการศึกษาด้านประวัติศาสตร์ของการจัดการกับเศษขยะในชุมชน ประเทศและโลกให้เสร็จสมบูรณ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ศึกษาประเด็นเศษขยะจากทั่ว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ัดทำประวัติเทคโนโลยีใหม่และความก้าวหน้าในด้านการนำกลับมาใช้อี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จัดทำเว็บไซต์ของกลุ่มที่แสดงให้เห็นสภาพของดาวเคราะห์และเน้นถึงความสำคัญของการลด การนำกลับมาใช้ซ้ำและการนำกลับมาใช้ใหม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เราจะทำอะไรในชั่วโมงภาษาศิลป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สำรวจทัศนคติและการปฏิบัติ โดยทั่วไปของเจ้าหน้าที่นักเรียนที่เกี่ยวกับการนำกลับมาใช้อีกและการจัดการกับเศษขย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ใช้ข้อมูลจากการสำรวจเพื่อจัดทำแผ่นพับที่จะสื่อ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เรียกร้องให้ท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และโน้มน้าวผู้คนที่ต้องมีส่วนร่วมในแผนการอนุรักษ์ในโรงเรียนและหรือชุมช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rial"/>
              </a:rPr>
              <a:t>ฝึกทักษะการพูดเพื่อโน้มน้าว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Arial"/>
              </a:rPr>
              <a:t>โชคดี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ดาวเคราะห์ของเรารอคอยความช่วยเหลือจากคุ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3:38:47Z</dcterms:created>
  <dc:creator>Passara</dc:creator>
  <dc:description/>
  <dc:language>en-US</dc:language>
  <cp:lastModifiedBy>Passara</cp:lastModifiedBy>
  <dcterms:modified xsi:type="dcterms:W3CDTF">2008-06-06T04:01:54Z</dcterms:modified>
  <cp:revision>9</cp:revision>
  <dc:subject/>
  <dc:title>Don’t Trash the Earth การศึกษาแบบสหวิทยาการ เรื่องการนำกลับมาใช้อีกของระดับเกรดห้า</dc:title>
</cp:coreProperties>
</file>