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0063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6D6-6B79-4344-8EB6-38EA04A7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C96-F410-45DB-A085-2EC42D01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4BC-7CAE-40F9-8EFC-F66C4BEA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961-664F-444B-A88F-6A1A6368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F1B-BDA4-483C-B7CE-4A13247C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44E-380A-4047-9128-1A28B23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388-4DEC-4CC8-B25A-FDE6D380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2D0-F8FF-40BC-B8A6-D8936979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C79-30C0-4A20-9DC9-31F40910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CF2-7E05-4565-9868-EB3F5F9D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AB8-314F-4634-8107-395DB16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F46-6C23-44D0-B242-F9BC9A3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avi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E11F-1106-4382-B623-DB81B3C0C4D3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i.com/calc/docs/83plus.htm" TargetMode="External"/><Relationship Id="rId3" Type="http://schemas.openxmlformats.org/officeDocument/2006/relationships/hyperlink" Target="http://overpop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00"/>
                </a:solidFill>
                <a:latin typeface="Ravie"/>
                <a:cs typeface="Angsana New"/>
              </a:rPr>
              <a:t>ติดตามแนวโน้ม – </a:t>
            </a:r>
            <a:br>
              <a:rPr sz="6600"/>
            </a:br>
            <a:r>
              <a:rPr b="0" lang="th-TH" sz="6600" spc="-1" strike="noStrike">
                <a:solidFill>
                  <a:srgbClr val="ffff00"/>
                </a:solidFill>
                <a:latin typeface="Ravie"/>
                <a:cs typeface="Angsana New"/>
              </a:rPr>
              <a:t>คาดคะเนอนาคต</a:t>
            </a:r>
            <a:br>
              <a:rPr sz="4400"/>
            </a:br>
            <a:br>
              <a:rPr sz="4400"/>
            </a:br>
            <a:br>
              <a:rPr sz="1600"/>
            </a:br>
            <a:r>
              <a:rPr b="0" lang="th-TH" sz="4800" spc="-1" strike="noStrike">
                <a:solidFill>
                  <a:srgbClr val="ffffff"/>
                </a:solidFill>
                <a:latin typeface="Ravie"/>
                <a:cs typeface="Angsana New"/>
              </a:rPr>
              <a:t>แคลิฟอร์เนีย </a:t>
            </a:r>
            <a:r>
              <a:rPr b="0" lang="en-US" sz="4800" spc="-1" strike="noStrike">
                <a:solidFill>
                  <a:srgbClr val="ffffff"/>
                </a:solidFill>
                <a:latin typeface="Ravie"/>
                <a:ea typeface="Angsana New"/>
              </a:rPr>
              <a:t>: </a:t>
            </a:r>
            <a:r>
              <a:rPr b="0" lang="th-TH" sz="4800" spc="-1" strike="noStrike">
                <a:solidFill>
                  <a:srgbClr val="ffffff"/>
                </a:solidFill>
                <a:latin typeface="Ravie"/>
                <a:cs typeface="Angsana New"/>
              </a:rPr>
              <a:t>ยังเป็นมลรัฐทองคำอยู่หรือ</a:t>
            </a:r>
            <a:br>
              <a:rPr sz="8800"/>
            </a:br>
            <a:br>
              <a:rPr sz="8800"/>
            </a:br>
            <a:br>
              <a:rPr sz="8800"/>
            </a:br>
            <a:r>
              <a:rPr b="0" i="1" lang="th-TH" sz="2000" spc="-1" strike="noStrike">
                <a:solidFill>
                  <a:srgbClr val="ffff00"/>
                </a:solidFill>
                <a:latin typeface="Ravie"/>
                <a:cs typeface="Angsana New"/>
              </a:rPr>
              <a:t>โดย</a:t>
            </a:r>
            <a:r>
              <a:rPr b="0" i="1" lang="en-US" sz="2000" spc="-1" strike="noStrike">
                <a:solidFill>
                  <a:srgbClr val="ffff00"/>
                </a:solidFill>
                <a:latin typeface="Ravie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Ravie"/>
              </a:rPr>
              <a:t>Kristina &amp; Marc</a:t>
            </a:r>
            <a:endParaRPr b="0" lang="en-US" sz="2000" spc="-1" strike="noStrike">
              <a:solidFill>
                <a:srgbClr val="ffffff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ข้อเสนอแนะของเรา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จำเป็นต้องมีการศึกษาต่อเนื่องและการวิเคราะห์แนวโน้มของข้อมูลถึงผลกระทบที่เป็นไปได้ของจำนวนประชากรที่มากเกินไปต่อทรัพยากร และคุณภาพชีวิต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รา 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แนะนำ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ว่า การวิเคราะห์ข้อมูลให้เสร็จสมบูรณ์เพื่อนำข้อมูลเกี่ยวกับความสัมพันธ์ระหว่างจำนวนประชากรมากเกินไปและผลกระทบต่าง ๆ เช่น การหนาแน่นของยานพาหนะ การขาดแคลนพลังงานและน้ำ การเสื่อมโทรมของสภาพแวดล้อม และอาชญากรรมที่เพิ่มขึ้น ทำให้เราสามารถใช้ข้อมูลในการเตรียมการและแก้ไขปัญหาของรัฐ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แหล่งอ้างอิงที่ใช้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286000"/>
            <a:ext cx="8153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I-83 Plus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xas Instru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 2000,  Texas Instruments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corporated.  21 Jul 2000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 Unicode MS"/>
                <a:hlinkClick r:id="rId2"/>
              </a:rPr>
              <a:t>http://www.ti.com/calc/docs/83plus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&gt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op Overpopulatio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Save Ourselves, Save The Eart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8 July 2000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verpopulation Group.  21 July 2000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 Unicode MS"/>
                <a:ea typeface="Times New Roman"/>
                <a:hlinkClick r:id="rId3"/>
              </a:rPr>
              <a:t>http://overpop.org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ภาพรวม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ราเป็นใคร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คณะกรรมการของกลุ่มประชากรศาสตร์ในแผนกการคลังแห่งรัฐ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ราทำอะไร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ศึกษาแนวโน้มประชากรในรัฐ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คาดเดาผลกระทบจากการมีจำนวนประชากรมากเกินไป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วิเคราะห์นัยยะที่มีต่อแหล่งทรัพยากรและคุณภาพของชีวิต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ทำไมจึงสำคัญ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สามารถเตรียมและวางแผนสำหรับนัยยะที่เป็นไปได้จากการมีประชากรมากเกินไปและผลกระทบก่อนที่จะเกิดขึ้น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งานนำเสนอของเรา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วิเคราะห์แนวโน้มจำนวนประชากรของแคลิฟอร์เนีย และการคาดเดาอนาคต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นัยยะและผลกระทบ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ข้อเสนอแนะ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8580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จำนวนประชากรของแคลิฟอร์เนีย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ใช้เว็บไซต์การสำรวจสำมะโนประชากรสหรัฐฯ เราพบข้อมูลประชากรต่อไปนี้ 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ป็นหลักล้าน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90800" y="3583080"/>
          <a:ext cx="2892600" cy="25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0800" y="3583080"/>
                    <a:ext cx="2892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rcRect l="0" t="21008" r="0" b="16007"/>
          <a:stretch/>
        </p:blipFill>
        <p:spPr>
          <a:xfrm>
            <a:off x="6172200" y="3733920"/>
            <a:ext cx="1828800" cy="1168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13032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การสร้างสูตรจากข้อมูล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x =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ีตั้งแต่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890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y =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ของแคลิฟอร์เนีย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ูตร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y = 1.323 • 1.033</a:t>
            </a:r>
            <a:r>
              <a:rPr b="0" lang="en-US" sz="3200" spc="-1" strike="noStrike" baseline="50000">
                <a:solidFill>
                  <a:srgbClr val="0000ff"/>
                </a:solidFill>
                <a:latin typeface="Angsana New"/>
                <a:ea typeface="Angsana New"/>
              </a:rPr>
              <a:t>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หสัมพันธ์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r = .994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ูตรนี้หมายความถึงจำนวนประชากรที่เริ่มจาก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.323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คน และเพิ่มขึ้น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3.3%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่อปีโดยเฉลี่ยตั้งแต่ปี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890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กราฟแสดงผลลัพธ์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สูตรสมการถดถอยที่เกือบจะตรงกับข้อมูลทางประวัติศาสตร์ที่เป็นจริง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79360" y="2971800"/>
          <a:ext cx="8864640" cy="370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2971800"/>
                    <a:ext cx="886464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การคาดคะเนสำหรับอนาคต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ช้สูตร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y = 1.323 • 1.033</a:t>
            </a:r>
            <a:r>
              <a:rPr b="0" lang="en-US" sz="3600" spc="-1" strike="noStrike" baseline="50000">
                <a:solidFill>
                  <a:srgbClr val="0000ff"/>
                </a:solidFill>
                <a:latin typeface="Angsana New"/>
                <a:ea typeface="Angsana New"/>
              </a:rPr>
              <a:t>x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 ,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การคาดคะเนสำหรับจำนวนประชากรในอนาคตของแคลิฟอร์เนีย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ัวอย่างเช่น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2050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คืออีก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160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ปีนับตั้งแต่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1890 1.323 X 1.033</a:t>
            </a:r>
            <a:r>
              <a:rPr b="0" lang="en-US" sz="3600" spc="-1" strike="noStrike" baseline="50000">
                <a:solidFill>
                  <a:srgbClr val="0000ff"/>
                </a:solidFill>
                <a:latin typeface="Angsana New"/>
                <a:ea typeface="Angsana New"/>
              </a:rPr>
              <a:t>160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 = 238.6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5105520"/>
          <a:ext cx="8076960" cy="87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5105520"/>
                    <a:ext cx="80769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นัยยะสำคัญ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คลิฟอร์เนียจะมีประชากรมากเกินไป และหนาแน่นเกินไป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นปี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99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เท่ากับ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3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นปี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201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จะเท่ากับ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65 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คน มากกว่าสองเท่าของจำนวนประชากรในปี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990 mill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นปี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205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เกือบจะเท่ากับจำนวนประชากรทั้งหมดของสหรัฐอเมริกาในปัจจุบัน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ผลกระทบที่เป็นไปได้จากการมีจำนวนประชากรมากเกินไป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หนาแน่นของยานพาหนะ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ขาดแคลนพลังงาน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ขาดแคลนน้ำ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เสื่อมลงของสภาพแวดล้อม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อาชญกรรมเพิ่มขึ้น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20:34:54Z</dcterms:created>
  <dc:creator>Pittsburg High School</dc:creator>
  <dc:description/>
  <dc:language>en-US</dc:language>
  <cp:lastModifiedBy>Passara</cp:lastModifiedBy>
  <cp:lastPrinted>2004-12-14T21:27:47Z</cp:lastPrinted>
  <dcterms:modified xsi:type="dcterms:W3CDTF">2008-02-18T12:33:18Z</dcterms:modified>
  <cp:revision>95</cp:revision>
  <dc:subject/>
  <dc:title>The Future of California Will it still be golden?</dc:title>
</cp:coreProperties>
</file>