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679-0DF1-46DC-95A7-579A8EDC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CE8-44B8-463C-95A5-428CE6AE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4342-DA38-4C55-A4F6-3444BCC4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8519-71E0-488F-979C-89328C4A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3A527-CEDE-4D86-93F2-EF09E441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04105-FAF9-445A-8411-F55F551A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E75DA-F352-419F-AC03-CD063751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39CB3-F31D-40AD-9511-D70317C3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75AC3-6000-400A-AADF-359E5844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16176-243E-4946-B3B4-E708A815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A4E99-6A08-43A3-BB38-AC601D4C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086C-7A87-4B05-B169-C5D069DB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403CE-FEBA-41EE-A2CC-B079D9C6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7285E-7933-4184-ADE3-7886DB17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D697A-DF56-4CD6-85FE-D9DCDD15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9478B-7885-4ADB-8266-42DB14FC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803F5-9650-41FF-AE1F-97732FC4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EDF-6327-4F61-B6DB-30ECC61F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F77A-142A-44AF-841C-FD7378E7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892D-B1C1-4E04-A560-46C78207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D211-43D4-4BA6-804C-DF100CEE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AE0D-C2FF-47D9-A14C-5392E5B8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110-5EE4-4E19-9DC2-2226ABFA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276-906A-4187-9D9F-D83F0290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FF4C-8852-4FF1-9322-43CFFF589D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3321-F4D0-4DF3-913E-C12F2668B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acedaily.com/news/oped-o4b.html" TargetMode="External"/><Relationship Id="rId3" Type="http://schemas.openxmlformats.org/officeDocument/2006/relationships/hyperlink" Target="http://liftoff.msfc.nasa.gov/news/2003/news-human.asp" TargetMode="External"/><Relationship Id="rId4" Type="http://schemas.openxmlformats.org/officeDocument/2006/relationships/hyperlink" Target="http://www.whitehouse.gov/news/releases/2004/01/20040114-3.html" TargetMode="External"/><Relationship Id="rId5" Type="http://schemas.openxmlformats.org/officeDocument/2006/relationships/hyperlink" Target="http://aerospacescholars.jsc.nasa.gov/HAS/cirr/ss/3/5.cfm" TargetMode="External"/><Relationship Id="rId6" Type="http://schemas.openxmlformats.org/officeDocument/2006/relationships/hyperlink" Target="http://office.microsoft.com/clipart/default.aspx?lc=en-us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Tahoma"/>
                <a:cs typeface="Tahoma"/>
              </a:rPr>
              <a:t>โลกของการสำรวจอวกาศ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โด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รีเบคก้าและ ชายลี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1830240" cy="166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086600" y="2438280"/>
            <a:ext cx="166068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91600"/>
            <a:ext cx="815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h-TH" sz="3600" spc="-1" strike="noStrike">
                <a:solidFill>
                  <a:srgbClr val="ffffff"/>
                </a:solidFill>
                <a:latin typeface="Tahoma"/>
                <a:cs typeface="Tahoma"/>
              </a:rPr>
              <a:t>สารบั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ความคิดเห็นของเร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มนุษย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s 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หุ่นยนต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ค่าใช้จ่ายของการสำรวจอวกา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ความก้าวหน้าทางเทคโนโลย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แบบสำรวจการสำรวจอวกา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โดยสรุป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บรรณานุกร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32767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th-TH" sz="4400" spc="-1" strike="noStrike">
                <a:solidFill>
                  <a:srgbClr val="ffffff"/>
                </a:solidFill>
                <a:latin typeface="Tahoma"/>
                <a:cs typeface="Tahoma"/>
              </a:rPr>
              <a:t>ความคิดเห็นของเรา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Tahoma"/>
                <a:cs typeface="Tahoma"/>
              </a:rPr>
              <a:t>ความคิดเห็นของเราเกี่ยวกับว่าเราควรจะดำเนินการต่อไปหรือไม่ในการสำรวจอวกาศ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Tahoma"/>
                <a:cs typeface="Tahoma"/>
              </a:rPr>
              <a:t>เราคิดว่าเราควรดำเนินการสำรวจอวกาศต่อไปและส่งมนุษย์ขึ้นไปยังอวกาศ เราคิดว่าอวกาศเป็นส่วนสำคัญของโลกและเรายังควรสำรวจต่อไป เพราะเราสามารถเรียนรู้เท่าที่จะเป็นไปได้เกี่ยวกับโลกของเราเอ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h-TH" sz="4400" spc="-1" strike="noStrike">
                <a:solidFill>
                  <a:srgbClr val="ffffff"/>
                </a:solidFill>
                <a:latin typeface="Tahoma"/>
                <a:cs typeface="Tahoma"/>
              </a:rPr>
              <a:t>มนุษย์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s. </a:t>
            </a:r>
            <a:r>
              <a:rPr b="0" lang="th-TH" sz="4400" spc="-1" strike="noStrike">
                <a:solidFill>
                  <a:srgbClr val="ffffff"/>
                </a:solidFill>
                <a:latin typeface="Tahoma"/>
                <a:cs typeface="Tahoma"/>
              </a:rPr>
              <a:t>หุ่นยนต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4920" y="2133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ข้อเรียกร้อง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                                                                 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มนุษย์ทำได้มากกว่าเวลาที่เราส่งขึ้นไปยังอวกา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เครื่องยนต์สามารถทำงานได้เฉพาะสิ่งที่เราตั้งโปรแกรมไว้ให้ทำ อย่างไรก็ตามจิตใจของมนุษย์ สามารถวิเคราะห์สถานการณ์และปรับแผนได้ตามสภาพ เมื่อมนุษย์อวกาศขึ้นไปยังอวกาศพวกเขาสามารถนำเครื่องมือพิเศษติดตัวไปด้วย ไม่แต่เฉพาะมือของมนุษย์เท่านั้น แต่สิ่งที่สำคัญที่สุดคือคอมพิวเตอร์ที่มีความสามารถหลากหลายที่สุดของโลก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--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นั้นคือใจของมนุษย์นั้นเอ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342200" y="374760"/>
            <a:ext cx="1776240" cy="1823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66720" y="477720"/>
            <a:ext cx="743040" cy="17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Tahoma"/>
                <a:cs typeface="Tahoma"/>
              </a:rPr>
              <a:t>ค่าใช้จ่ายของการสำรวจอวกาศ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79250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ข้อเรียกร้อง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5.47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พันล้านเหรียญสหรัฐฯ เป็นงบประมาณขององค์การนาซ่า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นี่คือ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$976.3 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พันล้านเหรียญสหรัฐฯ– เกือบสามเท่า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ที่ใช้ไปในทุก ๆ ปีสำหรับสัตว์เลี้ยง ของเล่น การพนัน แอลกอฮอล์และยาสูบ เป็นจำนวน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63 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เท่าของจำนวนที่ใช้ในการสำรวจอวกาศ – ซึ่งที่แตกต่างซึ่งองค์การนาซ่าไม่ได้ทำลายล้างชีวิตเหมือนกับที่แอลกอฮอล์ ยาสูบและการพนันทำกับมนุษย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886200" y="5257800"/>
            <a:ext cx="1814400" cy="1241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315200" y="4876920"/>
            <a:ext cx="1490760" cy="1784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90720" y="5029200"/>
            <a:ext cx="181296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th-TH" sz="4400" spc="-1" strike="noStrike">
                <a:solidFill>
                  <a:srgbClr val="ffffff"/>
                </a:solidFill>
                <a:latin typeface="Tahoma"/>
                <a:cs typeface="Tahoma"/>
              </a:rPr>
              <a:t>ความก้าวหน้าทางเทคโนโลย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การสำรวจอวกาศนำความก้าวหน้าในการพยากรณ์อากาศ ในการสื่อสาร ในด้านคอมพิวเตอร์ การค้นหาและช่วยฟื้นฟูทางเทคโนโลยี การทำหุ่นยนต์และทางอิเล็คทรอนิคส์ การลงทุนของเราในการสำรวจอวกาศช่วยในการทำเครือข่ายการสื่อสารทางไกลผ่านดาวเทียมและระบบตำแหน่งของโลก เทคโนโลยีทางการแพทย์ที่ช่วยชีวิตให้ยืนยาวขึ้น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–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เช่น ระกบวนการฉายภาพที่ใช้ในเครื่องสแกนเนอร์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AT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แล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MRI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เพื่อค้นหาร่องรอยจุดกำเนิดที่นำไปสู่วิศวกรรมเทคโนโลยีสำหรับการใช้งานในอวกาศ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371600"/>
            <a:ext cx="830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ข้อเรียกร้อง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ความก้าวหน้าทางเทคโนโลยีคุ้มค่ากับค่าใช้จ่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Tahoma"/>
                <a:cs typeface="Tahoma"/>
              </a:rPr>
              <a:t>ผลจากการสำรวจอวกาศ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23800" y="1447920"/>
          <a:ext cx="771372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3800" y="1447920"/>
                    <a:ext cx="7713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57200" y="579132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ในแบบสำรวจ เราดำเนินการจำนวนทั้งหมด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10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คน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แต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%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รู้สึกว่าเราควรดำเนินการสำรวจอวกาศต่อไป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th-TH" sz="4400" spc="-1" strike="noStrike">
                <a:solidFill>
                  <a:srgbClr val="ffffff"/>
                </a:solidFill>
                <a:latin typeface="Tahoma"/>
                <a:cs typeface="Tahoma"/>
              </a:rPr>
              <a:t>โดยสรุป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โดยสรุป ควรส่งมนุษย์ขึ้นไปยังอวกาศแม้ว่าเป็นการเสี่ยงมากก็ตาม ถือเป็นรางวัลที่ยิ่งใหญ่เพราะมนุษย์สามารถวิเคราะห์สถานการณ์ได้ดีกว่า พวกเขายังสามารถค้นหาหลักฐาน ในทางตรงกันข้ามหุ่นยนต์สามารถทำได้เฉพาะสิ่งที่ตั้งโปรแกรมไว้ให้ทำเท่านั้น และมนุษย์บางคนยังคิดอีกว่าการสำรวจอวกาศเสียค่าใช้จ่ายสูงมาก แต่พวกเขาคิดผิด การสำรวจอวกาศใช้ค่าใช้จ่าย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15.47 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พันล้านเหรียญสหรัฐฯ ในขณะที่ทุกปีอเมริกันสูญเสีย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2-63 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เท่าของเงินจำนวนนี้ให้กับยาเสพติด แอลกอฮอล์ ของเล่นและสัตว์เลี้ย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ด้วยเหตุผลเหล่านี้ เราคิดว่าการสำรวจอวกาศควรดำเนินต่อไปและเราควรยังควรส่งมนุษย์ขึ้นไปยังอวกาศต่อไ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Tahoma"/>
                <a:cs typeface="Tahoma"/>
              </a:rPr>
              <a:t>บรรณานุกรม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คุณสามารถค้นหาข้อมูลทั้งหมดได้ที่เว็บไซต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2400" indent="-212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spacedaily.com/news/oped-o4b.htm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2400" indent="-212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liftoff.msfc.nasa.gov/news/2003/news-human.as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2400" indent="-212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http://www.whitehouse.gov/news/releases/2004/01/20040114-3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2400" indent="-212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http://aerospacescholars.jsc.nasa.gov/HAS/cirr/ss/3/5.cf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2400" indent="-212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http://office.microsoft.com/clipart/default.aspx?lc=en-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2400" indent="-212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ขอบคุณที่ชมการนำเสนอของเร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-21240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than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5:44:00Z</dcterms:created>
  <dc:creator>Student</dc:creator>
  <dc:description/>
  <dc:language>en-US</dc:language>
  <cp:lastModifiedBy>Passara</cp:lastModifiedBy>
  <dcterms:modified xsi:type="dcterms:W3CDTF">2008-06-08T01:45:54Z</dcterms:modified>
  <cp:revision>40</cp:revision>
  <dc:subject/>
  <dc:title>The World of Space exploration</dc:title>
</cp:coreProperties>
</file>