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4.jpeg" ContentType="image/jpeg"/>
  <Override PartName="/ppt/media/image3.jpeg" ContentType="image/jpeg"/>
  <Override PartName="/ppt/media/image6.jpeg" ContentType="image/jpeg"/>
  <Override PartName="/ppt/media/image21.jpeg" ContentType="image/jpeg"/>
  <Override PartName="/ppt/media/chimes.wav" ContentType="audio/x-wav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F6B-AEA1-42BA-A241-C7D12C50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6BF-BEE2-4FF5-B976-3EF001D3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88C-3990-4BFC-8E38-C93E0401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9649-0646-40D2-A5B1-A26B9413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66A-26AA-42D5-9EFE-120D2019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A74-242B-4B24-A52D-E721B4DC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A95-5A4B-4BF5-A9F8-AB4343B5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3EC-CD3D-4664-B185-6D85C759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9E6-B9C6-4334-BAB1-1704CD84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8675-05F4-4A3E-8AF8-3AAF8FBF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C7D-9743-496F-A07D-395C6345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2B1-E82F-45D1-BFED-B125D441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FF56-800F-46BB-97BA-732BFEDAE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cc0000"/>
                </a:solidFill>
                <a:latin typeface="Tempus Sans ITC"/>
                <a:cs typeface="Angsana New"/>
              </a:rPr>
              <a:t>ความลึกลับของอาณาจักรมายั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495680"/>
            <a:ext cx="6477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3333cc"/>
                </a:solidFill>
                <a:latin typeface="Tempus Sans ITC"/>
                <a:cs typeface="Angsana New"/>
              </a:rPr>
              <a:t>เกิดอะไรขึ้นกับอาณาจักรมายั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079960" cy="16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990033"/>
                </a:solidFill>
                <a:latin typeface="Tempus Sans ITC"/>
                <a:cs typeface="Angsana New"/>
              </a:rPr>
              <a:t>สถาปัตยกรร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สร้างวัดที่วิจิตรบรรจงเป็นจำนวนมากเพื่อชบูชาพระเจ้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สร้างวัดใหม่บนวัดเก่าที่มีอยู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สร้างพระราชวังที่ยิ่งใหญ่ประดับด้วยประติมากรรมให้กับพระมหากษัตริย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ยังสร้างสุสานที่ประดับด้วยคำจารึกสำหรับพระมหากษัตริย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3810240" cy="2158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724280" y="3886200"/>
            <a:ext cx="3975120" cy="24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9900"/>
                </a:solidFill>
                <a:latin typeface="Tempus Sans ITC"/>
                <a:cs typeface="Angsana New"/>
              </a:rPr>
              <a:t>วิทยาศาสตร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43400" y="106632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สงฆ์ควบคุมความรู้ทั้งมว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สงฆ์กำหนดการสังเกตทางดาราศาสตร์เพื่อคำณวนการเคลื่อนที่ของดาวนพเคราะห์และดวงดา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สงฆ์คิดแนวคิดทางคณิตศาสตร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สงฆ์สร้างปฏิทินที่ถูกต้องแม่นย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317484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3300"/>
                </a:solidFill>
                <a:latin typeface="Tempus Sans ITC"/>
                <a:cs typeface="Angsana New"/>
              </a:rPr>
              <a:t>โครงสร้างทางการเมือ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แต่ละเมืองก่อขึ้นด้วยรัฐที่เป็นอิสร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ไม่เคยรวบรวมเมืองต่าง ๆ เข้าเป็นอาณาจัก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หลาย ๆ เมืองรวมกันเข้าเป็นพันธมิตรเพื่อการเมืองหรือการค้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286000" y="1143000"/>
            <a:ext cx="4444920" cy="34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8080"/>
                </a:solidFill>
                <a:latin typeface="Tempus Sans ITC"/>
                <a:cs typeface="Angsana New"/>
              </a:rPr>
              <a:t>การค้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ขายผลผลิตไปทั่วดินแดน </a:t>
            </a:r>
            <a:r>
              <a:rPr b="1" lang="fr-FR" sz="32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Mesoameri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มืองต่าง ๆ แข่งขันซึ่งกันและกันเพื่อครอบครองเส้นทางการค้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ค้าขยายวัฒนธรรมครอบคลุมทั่วภูมิภาคทั้งหมด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3809880"/>
            <a:ext cx="456084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808000"/>
                </a:solidFill>
                <a:latin typeface="Tempus Sans ITC"/>
                <a:cs typeface="Angsana New"/>
              </a:rPr>
              <a:t>เกษตรกรร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มีความหลากหลายที่ยิ่งใหญ่ของแหล่งอาหารในภูมิภา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รัฐจัดการและชี้แนะงานทางการเกษตรและผลผลิ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พัฒนาคลองชลประทานและไร่ยกระดั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มีผลผลิตทางการเกษตรเป็นจำนวนมากเพียงพอที่จะส่งออ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ความสำเร็จของระบบเกษตรกรรมนำมาซึ่งการเพิ่มขึ้นอย่างรวดเร็วของจำนวนประชาก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24480" y="1676520"/>
            <a:ext cx="2502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8000"/>
                </a:solidFill>
                <a:latin typeface="Tempus Sans ITC"/>
                <a:cs typeface="Angsana New"/>
              </a:rPr>
              <a:t>อย่างไรก็ตาม ระบบการเกษตรล้มเหลวเนื่องจากแรงกดดันทางสิ่งแวดล้อ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3962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ทำลายต้นไม้ในป่าเป็นจำนวนมา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ใช้ที่ดินจนหม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ความแห้งแล้งทำลายที่ดิ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Tempus Sans ITC"/>
                <a:cs typeface="Angsana New"/>
              </a:rPr>
              <a:t>เนื่องจากความแห้งแล้ว ทำให้เกิดการขาดแคลนอาห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2362320"/>
            <a:ext cx="444528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Tempus Sans ITC"/>
                <a:cs typeface="Angsana New"/>
              </a:rPr>
              <a:t>สงครามเปลี่ยนแปลงสิ่งต่าง ๆ </a:t>
            </a:r>
            <a:r>
              <a:rPr b="1" lang="en-US" sz="2400" spc="-1" strike="noStrike">
                <a:solidFill>
                  <a:srgbClr val="3333cc"/>
                </a:solidFill>
                <a:latin typeface="Tempus Sans ITC"/>
              </a:rPr>
              <a:t>700-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่อให้เกิดการแข่งขันเพื่อยึดครองเส้นทางการค้า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ความถี่ของการทำสงครามเพิ่มขึ้นอย่างรวดเร็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มีการจับเหยื่อเป็นจำนวนมากเพื่อบูช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มหากษัตริย์ถูกจับและลอบสังหารเป็นจำนวนมา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เมืองเริ่มละทิ้งเมืองต่าง 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ไม่มีการบันทึกทางประวัติศาสตร์เก็บรักษาไว้ในบางเมือ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867280" y="1295280"/>
            <a:ext cx="232416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Tempus Sans ITC"/>
                <a:cs typeface="Angsana New"/>
              </a:rPr>
              <a:t>เมื่อไ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32763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71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761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Dos Pilas: 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จารึกครั้งสุดท้า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799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Palenque: 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จารึกครั้งสุดท้า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819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opán: 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จารึกครั้งสุดท้า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859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ikal: 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จารึกครั้งสุดท้าย 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879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aracól: 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จารึกครั้งสุดท้า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890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ความแห้งแล้งปกคลุมไปทั่วภูมิภาค ความล้มเหลวของการเก็บเกี่ยวพืชไร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689616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0000"/>
                </a:solidFill>
                <a:latin typeface="Tempus Sans ITC"/>
                <a:cs typeface="Angsana New"/>
              </a:rPr>
              <a:t>ทฤษฏีบางประการเกี่ยวกับการล่มสลาย</a:t>
            </a:r>
            <a:br>
              <a:rPr sz="3600"/>
            </a:br>
            <a:r>
              <a:rPr b="1" lang="th-TH" sz="3600" spc="-1" strike="noStrike">
                <a:solidFill>
                  <a:srgbClr val="cc0000"/>
                </a:solidFill>
                <a:latin typeface="Tempus Sans ITC"/>
                <a:cs typeface="Angsana New"/>
              </a:rPr>
              <a:t>ของอารยธรร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800000"/>
                </a:solidFill>
                <a:latin typeface="Tempus Sans ITC"/>
                <a:cs typeface="Angsana New"/>
              </a:rPr>
              <a:t>ความกดดันด้านสิ่งแวดล้อมและความหายนะทางธรรมชาติเป็นต้นเหตุของความล้มเหลวของระบบเกษตรกร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800000"/>
                </a:solidFill>
                <a:latin typeface="Tempus Sans ITC"/>
                <a:cs typeface="Angsana New"/>
              </a:rPr>
              <a:t>ความล้มเหลวของระบบเกษตรกรรมนำมาซึ่งการแข่งขันเพื่อยึดครองเส้นทางการค้า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800000"/>
                </a:solidFill>
                <a:latin typeface="Tempus Sans ITC"/>
                <a:cs typeface="Angsana New"/>
              </a:rPr>
              <a:t>สงครามเพิ่มขึ้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800000"/>
                </a:solidFill>
                <a:latin typeface="Tempus Sans ITC"/>
                <a:cs typeface="Angsana New"/>
              </a:rPr>
              <a:t>จำนวนประชากรลดลงเนื่องจากความอดหยา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8840" y="19810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800000"/>
                </a:solidFill>
                <a:latin typeface="Angsana New"/>
                <a:cs typeface="Angsana New"/>
              </a:rPr>
              <a:t>การลอบสังหารพระมหากษัตริย์นำมาซึ่งการเสื่อมสลายของสังค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800000"/>
                </a:solidFill>
                <a:latin typeface="Angsana New"/>
                <a:cs typeface="Angsana New"/>
              </a:rPr>
              <a:t>ชนชั้นขุนนางต่อสู้กันเองเพื่อควบคุมสังค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800000"/>
                </a:solidFill>
                <a:latin typeface="Angsana New"/>
                <a:cs typeface="Angsana New"/>
              </a:rPr>
              <a:t>ความสมดุลของจักรวาลสั่นคลอ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800000"/>
                </a:solidFill>
                <a:latin typeface="Angsana New"/>
                <a:cs typeface="Angsana New"/>
              </a:rPr>
              <a:t>ประชากรลุกฮือขึ้นต่อต้านชนชั้นสู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236196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5079960" cy="32385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cc00"/>
                </a:solidFill>
                <a:latin typeface="Tempus Sans ITC"/>
                <a:cs typeface="Angsana New"/>
              </a:rPr>
              <a:t>ชาวเมืองละทิ้งเมืองต่าง ๆ ไปอยู่รวมกันเป็นกลุ่มเล็ก ๆ ในป่าลึ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49525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empus Sans IT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cc"/>
                </a:solidFill>
                <a:latin typeface="Tempus Sans ITC"/>
                <a:cs typeface="Angsana New"/>
              </a:rPr>
              <a:t>อารยธรรมและวัฒนธรรมได้รับการเก็บรักษาไว้จนกระทั่งทุกวันนี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cc"/>
                </a:solidFill>
                <a:latin typeface="Tempus Sans ITC"/>
                <a:cs typeface="Angsana New"/>
              </a:rPr>
              <a:t>เกิดอะไรขึ้นกับอาณาจักรมายั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800000"/>
                </a:solidFill>
                <a:latin typeface="Tempus Sans ITC"/>
                <a:cs typeface="Angsana New"/>
              </a:rPr>
              <a:t>วัฒนธรรมของชาวมายันในยุคคลาสิคทันสมัยมา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800000"/>
                </a:solidFill>
                <a:latin typeface="Tempus Sans ITC"/>
                <a:cs typeface="Angsana New"/>
              </a:rPr>
              <a:t>สังคมมายันมีเสถียรภาพมา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800000"/>
                </a:solidFill>
                <a:latin typeface="Tempus Sans ITC"/>
                <a:cs typeface="Angsana New"/>
              </a:rPr>
              <a:t>ชาวมายันพัฒนาศิลปะ การเขียน ดาราศาสตร์ เกษตรกรรมและสถาปัตยกร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Tempus Sans ITC"/>
                <a:cs typeface="Angsana New"/>
              </a:rPr>
              <a:t>อย่างไรก็ตาม </a:t>
            </a:r>
            <a:r>
              <a:rPr b="1" lang="en-US" sz="3600" spc="-1" strike="noStrike">
                <a:solidFill>
                  <a:srgbClr val="3333cc"/>
                </a:solidFill>
                <a:latin typeface="Tempus Sans ITC"/>
                <a:ea typeface="Times New Roman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2670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empus Sans ITC"/>
                <a:cs typeface="Angsana New"/>
              </a:rPr>
              <a:t>อารยธรรมที่รุ่งเรืองนี้สูญหายไปก่อนการเข้ามาของชาวยุโร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4864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cc"/>
                </a:solidFill>
                <a:latin typeface="Tempus Sans ITC"/>
                <a:cs typeface="Angsana New"/>
              </a:rPr>
              <a:t>ทำไมเมืองมายันสูญหายไปก่อนศตวรรษที่ </a:t>
            </a:r>
            <a:r>
              <a:rPr b="1" lang="en-US" sz="2000" spc="-1" strike="noStrike">
                <a:solidFill>
                  <a:srgbClr val="0000cc"/>
                </a:solidFill>
                <a:latin typeface="Tempus Sans ITC"/>
                <a:ea typeface="Angsana New"/>
              </a:rPr>
              <a:t>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5880" y="3200400"/>
            <a:ext cx="228600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รอดพ้นจากความเสื่อมสลายของอารยธรรมโดยการรักษาประเพณีของตนไว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3886200"/>
            <a:ext cx="7848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Tempus Sans ITC"/>
                <a:cs typeface="Angsana New"/>
              </a:rPr>
              <a:t>ชาวมายันปฏิบัติตามพิธีกรรมด้านการเพาะปลูก และการเก็บเกี่ย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Tempus Sans ITC"/>
                <a:cs typeface="Angsana New"/>
              </a:rPr>
              <a:t>ชาวมายันผสมผสานพิธีการทางศาสนาแบบโบราณเข้ากับของคริสเตีย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Tempus Sans ITC"/>
                <a:cs typeface="Angsana New"/>
              </a:rPr>
              <a:t>ชาวมายันสะท้อนค่านิยมออกทางงานศิลป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Tempus Sans ITC"/>
                <a:cs typeface="Angsana New"/>
              </a:rPr>
              <a:t>ชาวมายันพูดภาษาของตนเอง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52480" y="2438280"/>
            <a:ext cx="5715000" cy="1270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77120" y="617220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s by Rosa Hem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Tempus Sans ITC"/>
                <a:cs typeface="Angsana New"/>
              </a:rPr>
              <a:t>เมื่อไ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038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200-600</a:t>
            </a: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ก่อสร้างเมืองที่ยิ่งใหญ่จากหิ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300-700</a:t>
            </a:r>
            <a:r>
              <a:rPr b="1" lang="th-TH" sz="3200" spc="-1" strike="noStrike">
                <a:solidFill>
                  <a:srgbClr val="000000"/>
                </a:solidFill>
                <a:latin typeface="Tempus Sans ITC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พัฒนาของวํฒนธรรม ช่วงเวลาของความรุ่งเรืองที่ยิ่งใหญ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700-800</a:t>
            </a:r>
            <a:r>
              <a:rPr b="1" lang="th-TH" sz="3200" spc="-1" strike="noStrike">
                <a:solidFill>
                  <a:srgbClr val="000000"/>
                </a:solidFill>
                <a:latin typeface="Tempus Sans ITC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ขยายตัวของประชากรอย่างมากถึง </a:t>
            </a:r>
            <a:r>
              <a:rPr b="1" lang="en-US" sz="3200" spc="-1" strike="noStrike">
                <a:solidFill>
                  <a:srgbClr val="000000"/>
                </a:solidFill>
                <a:latin typeface="Tempus Sans ITC"/>
                <a:ea typeface="Angsana New"/>
              </a:rPr>
              <a:t>3 </a:t>
            </a: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ล้า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444920" cy="39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Tempus Sans ITC"/>
                <a:cs typeface="Angsana New"/>
              </a:rPr>
              <a:t>ที่ไห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5562360" cy="4246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638680" y="457200"/>
            <a:ext cx="298476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238880" y="380880"/>
            <a:ext cx="1295640" cy="1219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00"/>
                </a:solidFill>
                <a:latin typeface="Tempus Sans ITC"/>
                <a:cs typeface="Angsana New"/>
              </a:rPr>
              <a:t>บทนำสู่อารยธรรมยุคคลาสิค </a:t>
            </a:r>
            <a:r>
              <a:rPr b="1" lang="en-US" sz="2400" spc="-1" strike="noStrike">
                <a:solidFill>
                  <a:srgbClr val="ff0000"/>
                </a:solidFill>
                <a:latin typeface="Tempus Sans ITC"/>
                <a:ea typeface="Times New Roman"/>
              </a:rPr>
              <a:t>(200-9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สร้างเมืองที่สวยงามเต็มไปด้วยวัด พระราชวังและศูนย์การค้าขนาดใหญ่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ขาพัฒนาสังคมที่มีชนชั้นทางสังคมเป็นลำดับชั้น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ขาคิดปฏิทินที่แม่นยำและมีประสิทธิภาพ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ขาคิดระบบการเขียนเพื่อบันทึกวันที่ทางประวัติศาสตร์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ขาสร้างประติมากรรม เซรามิก และสิ่งประดับต่าง ๆ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ขาพัฒนาเส้นทางตลาดสู่ที่ที่ห่างไกล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ขาขายผลผลิตทางอาหาร เซรามิก สิ่งทอและผลิตภัณฑ์ที่สะดวกสบาย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ขาพัฒนาระบบเกษตรกรรมที่ทันสมัย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0066"/>
                </a:solidFill>
                <a:latin typeface="Tempus Sans ITC"/>
                <a:cs typeface="Angsana New"/>
              </a:rPr>
              <a:t>สังคมมายันแบ่งออกเป็นชนชั้นตามลำดับชั้นที่ออกแบบอย่างด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ราชา 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ea typeface="Angsana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ahau) 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ป็นตัวแทนของพระเจ้าบนโล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สงฆ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ขุนนา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นักร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่างฝีมื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สถาปนิ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ประติมาก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่างทำเซรามิ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น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คนรับใช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ทา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08400" y="2895480"/>
            <a:ext cx="19256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171880" cy="4889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9999"/>
                </a:solidFill>
                <a:latin typeface="Tempus Sans ITC"/>
                <a:cs typeface="Angsana New"/>
              </a:rPr>
              <a:t>ความเชื่อและพิธีกรรมทางศาสน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6248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ิธีกรรมทางศาสนารักษาดุลยภาพของจักรวาล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ศาสนามีบทบาทสำคัญในวิถีชีวิตของชาวมายัน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มหากษัตริย์และพระสงฆ์เป็นบุคคลที่สามารถประกอบพิธีทางศาสนาและพิธีต่าง ๆ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มหากษัตริย์หลั่งเลือดของพระองค์เพื่อเป็นอาหารให้พระเจ้าและกำหนดชะตากรรม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บูชามนุษย์เป็นการให้เกียรติแก่พระเจ้า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เจ้ามอบพืชผลที่ดีและความสำเร็จให้กับเมืองต่าง ๆ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เล่นเกมลูกบอกในสนามขนาดใหญ่เพื่อรักษาดุลยภาพของจักรวา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59436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Chichén Itzá:   Cancha de Pel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9999"/>
                </a:solidFill>
                <a:latin typeface="Tempus Sans ITC"/>
                <a:cs typeface="Angsana New"/>
              </a:rPr>
              <a:t>พระเจ้า</a:t>
            </a:r>
            <a:r>
              <a:rPr b="1" lang="en-US" sz="3200" spc="-1" strike="noStrike">
                <a:solidFill>
                  <a:srgbClr val="009999"/>
                </a:solidFill>
                <a:latin typeface="Tempus Sans ITC"/>
              </a:rPr>
              <a:t>: </a:t>
            </a:r>
            <a:r>
              <a:rPr b="1" lang="th-TH" sz="3200" spc="-1" strike="noStrike">
                <a:solidFill>
                  <a:srgbClr val="009999"/>
                </a:solidFill>
                <a:latin typeface="Tempus Sans ITC"/>
                <a:cs typeface="Angsana New"/>
              </a:rPr>
              <a:t>ชาวมายันบูชาพระเจ้าหลายองค์ในเวลาเดียวกัน เช่น</a:t>
            </a:r>
            <a:r>
              <a:rPr b="1" lang="en-US" sz="3200" spc="-1" strike="noStrike">
                <a:solidFill>
                  <a:srgbClr val="009999"/>
                </a:solidFill>
                <a:latin typeface="Tempus Sans ITC"/>
              </a:rPr>
              <a:t>...</a:t>
            </a:r>
            <a:r>
              <a:rPr b="1" lang="fr-FR" sz="32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8191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2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Hunab Ku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ผู้สร้า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2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Ah Puch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เจ้าแห่งความตา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2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hak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เจ้าแห่งฝ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2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Itzamná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เจ้าแห่งความรู้ทางศาสน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2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Ik 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เจ้าแห่งล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2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Yum Kax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เจ้าแห่งพืชผล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2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Ix Chel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ทพีแห่งพระจันทร์และความอุดมสมบูรณ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98772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66720" y="228240"/>
            <a:ext cx="221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00cc"/>
                </a:solidFill>
                <a:latin typeface="Tempus Sans ITC"/>
                <a:cs typeface="Angsana New"/>
              </a:rPr>
              <a:t>สงครา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ัยชนะแห่งสงครามขึ้นอยู่กับพิธีกรรมบางประการเพื่อเป็นเกียรติแก่พระเจ้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มหากษัตริย์เป็นผู้กำหนดเวลาที่จะเริ่มทำสงครา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นักรบต่อสู้เพื่อเป็นเกียรติแก่เมือ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มืองที่ชนะสงคราม สามารถเรียกร้องบรรณาการจากคนของอีกเมืองได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2960640" cy="456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0T12:03:13Z</dcterms:created>
  <dc:creator>Vanessa G. Donnelly</dc:creator>
  <dc:description/>
  <dc:language>en-US</dc:language>
  <cp:lastModifiedBy>Passara</cp:lastModifiedBy>
  <dcterms:modified xsi:type="dcterms:W3CDTF">2008-01-04T11:01:38Z</dcterms:modified>
  <cp:revision>153</cp:revision>
  <dc:subject/>
  <dc:title>EL MISTERIO DE LOS MAYAS</dc:title>
</cp:coreProperties>
</file>