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DAF-DCC8-4A07-848D-B64DE0D9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826-32AC-4F91-A857-05C91C1B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EF8-E661-4C2B-826F-6F86B325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E1B-E6C8-4679-8BB5-EBAEFBC6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066-0B36-4554-A517-B531B17A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87B-2E24-4BB7-8178-F89F7426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1B4-5DD6-41D2-B4B2-AE2CA679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C08-71AF-4DC6-ABF1-5A828DA0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CC2-A6FB-47F7-BB0C-9C4DD2A4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A45-5F23-42A7-9FE7-9BD2D13C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F7D-F8B0-40D0-812C-8627FF33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7D6-08BE-4E88-A451-EA1CD43F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AF1A-DAA0-41E0-8AAC-DF25FC0EC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47960" y="4191120"/>
            <a:ext cx="419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r. Fran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Jun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1652760" cy="175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90920" y="3733920"/>
            <a:ext cx="1981080" cy="170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886200" y="3276720"/>
            <a:ext cx="100476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943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4880" y="2936880"/>
            <a:ext cx="329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457200"/>
            <a:ext cx="5867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เศษส่วนพื้นฐาน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คืออะไ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หมายถึงชิ้นของสิ่งของชนิดใดชนิดหนึ่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ี้คือ ครึ่งหนึ่งของคุกกี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477120" y="2666880"/>
            <a:ext cx="1143000" cy="982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4280" y="3886200"/>
            <a:ext cx="8305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หมายถึงส่วนหนึ่งของกลุ่มของสิ่งขอ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หนึ่งส่วนสาม หรือ หนึ่งชิ้นในสามชิ้นของชอกโกแลตชิพคุ๊กกี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133720" y="5257800"/>
            <a:ext cx="1131840" cy="971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657600" y="5334120"/>
            <a:ext cx="1371600" cy="93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34120" y="5334120"/>
            <a:ext cx="1371600" cy="93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บันทึกเกี่ยวกับเศษส่ว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4572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3581280"/>
            <a:ext cx="1523880" cy="946440"/>
          </a:xfrm>
          <a:prstGeom prst="wedgeRectCallout">
            <a:avLst>
              <a:gd name="adj1" fmla="val -138851"/>
              <a:gd name="adj2" fmla="val 59083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ี่คือ เศ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5638680"/>
            <a:ext cx="1981080" cy="581400"/>
          </a:xfrm>
          <a:prstGeom prst="wedgeRectCallout">
            <a:avLst>
              <a:gd name="adj1" fmla="val 108393"/>
              <a:gd name="adj2" fmla="val -70111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ี่คือ ส่ว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5181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705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คือตัวเลขที่ใช้เรียกส่วนหนึ่งของกลุ่ม หรือส่วนหนึ่งของทั้งหม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581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99ff"/>
                </a:solidFill>
                <a:latin typeface="Arial Rounded MT Bold"/>
                <a:cs typeface="Angsana New"/>
              </a:rPr>
              <a:t>เศษหนึ่งส่วนสี่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เขียนได้ดังนี้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5304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ตัวเลขที่อยู่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Arial Rounded MT Bold"/>
                <a:cs typeface="Angsana New"/>
              </a:rPr>
              <a:t>ด้านบน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ของเส้น เรียกว่า เศ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ตัวเลขที่อยู่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 Rounded MT Bold"/>
                <a:cs typeface="Angsana New"/>
              </a:rPr>
              <a:t>ด้านล่าง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ของเส้น เรียกว่า ส่ว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แม่แบบเศษส่ว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สามารถแสดงเป็นส่วนต่าง ๆ ของวงกล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2406600"/>
            <a:ext cx="1600200" cy="147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5800" y="2406600"/>
            <a:ext cx="1600200" cy="1479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43200" y="2438280"/>
            <a:ext cx="6095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ี่คือ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1/4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ของวงกล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ใน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ที่ถูกระบายสีไว้ ดังนั้นเราจึงเรียกว่า </a:t>
            </a:r>
            <a:r>
              <a:rPr b="0" lang="th-TH" sz="2800" spc="-1" strike="noStrike">
                <a:solidFill>
                  <a:srgbClr val="ff0000"/>
                </a:solidFill>
                <a:latin typeface="Arial Rounded MT Bold"/>
                <a:cs typeface="Angsana New"/>
              </a:rPr>
              <a:t>เศษหนึ่งส่วนสี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หรือ แสดงเป็นส่วนต่าง ๆ ของสี่เหลี่ย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168880" y="4218120"/>
            <a:ext cx="3679920" cy="2639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181480" y="4218120"/>
            <a:ext cx="3679920" cy="2639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510552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ื่คือ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3/4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ของสี่เหลี่ย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ใน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ูกระบายไว้ ดังนั้นเราจึงเรียกว่า เศษสามส่วนสี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21:20:32Z</dcterms:created>
  <dc:creator>Lancer</dc:creator>
  <dc:description/>
  <dc:language>en-US</dc:language>
  <cp:lastModifiedBy>Passara</cp:lastModifiedBy>
  <dcterms:modified xsi:type="dcterms:W3CDTF">2008-04-09T11:27:39Z</dcterms:modified>
  <cp:revision>34</cp:revision>
  <dc:subject/>
  <dc:title>Fraction Basics</dc:title>
</cp:coreProperties>
</file>