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2962-A695-464B-B29F-0D983D85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36F3-D9D8-48FE-8FAD-E82B25BD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54D4-919C-4205-882F-8DDAE40E2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6300-7009-4870-90F6-57B61E2C1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0868-D811-4348-9B24-430F7A21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638E-AE06-47D6-818F-E9789E49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894C-80CB-4CC5-8EB4-ADA04B4C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C5AE-47DF-4FC9-B782-FB3446FC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FB51-B6F1-441C-8469-F381A1BD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7744-91C9-4592-B6F2-53254296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C8D8-C70F-4923-AD60-71412A57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5BE5-18A3-4194-B722-8E60A9B2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C05A-7B91-406F-8FF7-396D7C62BD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6699ff"/>
                </a:solidFill>
                <a:latin typeface="Arial"/>
                <a:cs typeface="Angsana New"/>
              </a:rPr>
              <a:t>การแบ่งแยกเหตุการณ์ในเทพนิยาย</a:t>
            </a:r>
            <a:br>
              <a:rPr sz="4800"/>
            </a:br>
            <a:r>
              <a:rPr b="0" lang="th-TH" sz="4800" spc="-1" strike="noStrike">
                <a:solidFill>
                  <a:srgbClr val="6699ff"/>
                </a:solidFill>
                <a:latin typeface="Arial"/>
                <a:cs typeface="Angsana New"/>
              </a:rPr>
              <a:t>ว่าเป็นแฟนตาซีหรือเป็นจริ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6699ff"/>
                </a:solidFill>
                <a:latin typeface="Arial"/>
                <a:cs typeface="Angsana New"/>
              </a:rPr>
              <a:t>ความแตกต่างระหว่างแฟนตาซี และ ความเป็นจริ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Arial"/>
                <a:cs typeface="Angsana New"/>
              </a:rPr>
              <a:t>ประโยคใดบอกว่าเหตุการณ์นั้นอาจเกิดขึ้นได้ในชีวิตจริ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Arial"/>
                <a:cs typeface="Angsana New"/>
              </a:rPr>
              <a:t>เซนดริลลอน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ngsana New"/>
              </a:rPr>
              <a:t>(Cendrillon) </a:t>
            </a:r>
            <a:r>
              <a:rPr b="0" lang="th-TH" sz="3600" spc="-1" strike="noStrike">
                <a:solidFill>
                  <a:srgbClr val="ffffff"/>
                </a:solidFill>
                <a:latin typeface="Arial"/>
                <a:cs typeface="Angsana New"/>
              </a:rPr>
              <a:t>มีกิ้งก่าอ้วนอยู่ในมือ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Arial"/>
                <a:cs typeface="Angsana New"/>
              </a:rPr>
              <a:t>กิ้งก่าอ้าปาก และพูดกับเธ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518148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6699ff"/>
                </a:solidFill>
                <a:latin typeface="Arial"/>
                <a:cs typeface="Angsana New"/>
              </a:rPr>
              <a:t>อะไรคือเหตุผลสำหรับการเลือกของเร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ffff"/>
                </a:solidFill>
                <a:latin typeface="Arial"/>
                <a:cs typeface="Angsana New"/>
              </a:rPr>
              <a:t>เซนดริลลอนเป็นการผสมผสา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Arial"/>
                <a:cs typeface="Angsana New"/>
              </a:rPr>
              <a:t>เหตุการณ์ที่ไม่เคยเกิดขึ้นในชีวิตจริงทำให้เทพนิยายสนุกสนาน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Arial"/>
                <a:cs typeface="Angsana New"/>
              </a:rPr>
              <a:t>เหตุการณ์ที่เป็นจริงช่วยให้เราเชื่อมโยงเข้ากับตัวละครในเรื่องได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flipH="1">
            <a:off x="914400" y="3048120"/>
            <a:ext cx="10288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path" presetID="44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01042 -0.13055 L 0.12639 -0.22106 C 0.15087 -0.24143 0.18715 -0.25277 0.22517 -0.25277 C 0.2684 -0.25277 0.30295 -0.24143 0.32743 -0.22106 L 0.44375 -0.13055 E">
                                      <p:cBhvr>
                                        <p:cTn id="15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6699ff"/>
                </a:solidFill>
                <a:latin typeface="Arial"/>
                <a:cs typeface="Angsana New"/>
              </a:rPr>
              <a:t>ช่วยฉันตัดสินใจเหตุการณ์ในเซนดริลลอ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  <a:cs typeface="Angsana New"/>
              </a:rPr>
              <a:t>เหตุการณ์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  <a:ea typeface="Angsana New"/>
              </a:rPr>
              <a:t>/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  <a:cs typeface="Angsana New"/>
              </a:rPr>
              <a:t>รายละเอีย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00400" y="198108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  <a:cs typeface="Angsana New"/>
              </a:rPr>
              <a:t>แฟนตาซี หรื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  <a:cs typeface="Angsana New"/>
              </a:rPr>
              <a:t>เรื่องจริ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1981080"/>
            <a:ext cx="304812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  <a:cs typeface="Angsana New"/>
              </a:rPr>
              <a:t>ฉันรู้ได้อย่างไ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360" y="2530440"/>
            <a:ext cx="8640720" cy="18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6699ff"/>
                </a:solidFill>
                <a:latin typeface="Arial"/>
                <a:cs typeface="Angsana New"/>
              </a:rPr>
              <a:t>คิดว่า จะนำแฟนตาซีและเรื่องจริงมาใช้ในเทพนิยาย</a:t>
            </a:r>
            <a:br>
              <a:rPr sz="4400"/>
            </a:br>
            <a:r>
              <a:rPr b="0" lang="th-TH" sz="4400" spc="-1" strike="noStrike">
                <a:solidFill>
                  <a:srgbClr val="6699ff"/>
                </a:solidFill>
                <a:latin typeface="Arial"/>
                <a:cs typeface="Angsana New"/>
              </a:rPr>
              <a:t>ซินเดอเรลลาเรื่องถัดไปที่คุณอ่านได้อย่างไร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3:58:39Z</dcterms:created>
  <dc:creator> </dc:creator>
  <dc:description/>
  <dc:language>en-US</dc:language>
  <cp:lastModifiedBy>Passara</cp:lastModifiedBy>
  <dcterms:modified xsi:type="dcterms:W3CDTF">2008-03-04T03:07:39Z</dcterms:modified>
  <cp:revision>10</cp:revision>
  <dc:subject/>
  <dc:title>Classifying Fairy Tale Events as Fantasy or Realism</dc:title>
</cp:coreProperties>
</file>