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4.wmf" ContentType="image/x-wmf"/>
  <Override PartName="/ppt/media/image2.gif" ContentType="image/gif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DC3-F1A8-4569-AF5D-A5500E6F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1D66-3CAD-4E7C-8EEF-B3F9325B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5984-57D4-473A-88BE-5A955333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2B76-44E0-47C9-9B2B-100F5A4A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DF5-3D0F-48BB-9DE3-0FCC16CE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013-8C6D-438E-AB6D-113EB95C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9E7-A604-475F-93B4-3D8162BD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F55A-7CD6-4CFD-9788-93B51095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D0DB-34B1-408C-AD9C-C75049C5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32C-DC29-4664-A48F-AB2DD571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C541-E81A-434F-A4D2-BB01DF23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C64-3DBA-4609-BDB7-E39D70AD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1F4C-C00A-4567-B431-36DCD36B61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99cc"/>
                </a:solidFill>
                <a:latin typeface="Arial"/>
                <a:cs typeface="Angsana New"/>
              </a:rPr>
              <a:t>รองเท้าทำให้ </a:t>
            </a:r>
            <a:r>
              <a:rPr b="0" lang="en-US" sz="4400" spc="-1" strike="noStrike">
                <a:solidFill>
                  <a:srgbClr val="ff99cc"/>
                </a:solidFill>
                <a:latin typeface="Arial"/>
                <a:ea typeface="Angsana New"/>
              </a:rPr>
              <a:t>“</a:t>
            </a:r>
            <a:r>
              <a:rPr b="0" lang="th-TH" sz="4400" spc="-1" strike="noStrike">
                <a:solidFill>
                  <a:srgbClr val="ff99cc"/>
                </a:solidFill>
                <a:latin typeface="Arial"/>
                <a:cs typeface="Angsana New"/>
              </a:rPr>
              <a:t>อยู่ด้วยกันอย่างมีความสุขตลอดไป</a:t>
            </a:r>
            <a:r>
              <a:rPr b="0" lang="en-US" sz="4400" spc="-1" strike="noStrike">
                <a:solidFill>
                  <a:srgbClr val="ff99cc"/>
                </a:solidFill>
                <a:latin typeface="Arial"/>
                <a:ea typeface="Angsana New"/>
              </a:rPr>
              <a:t>” </a:t>
            </a:r>
            <a:r>
              <a:rPr b="0" lang="th-TH" sz="4400" spc="-1" strike="noStrike">
                <a:solidFill>
                  <a:srgbClr val="ff99cc"/>
                </a:solidFill>
                <a:latin typeface="Arial"/>
                <a:cs typeface="Angsana New"/>
              </a:rPr>
              <a:t>แตกต่างกั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 . . </a:t>
            </a:r>
            <a:r>
              <a:rPr b="0" i="1" lang="th-TH" sz="4000" spc="-1" strike="noStrike">
                <a:solidFill>
                  <a:srgbClr val="ffffff"/>
                </a:solidFill>
                <a:latin typeface="Arial"/>
                <a:cs typeface="Angsana New"/>
              </a:rPr>
              <a:t>นิทานเรื่องซินเดอเรลล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000" spc="-1" strike="noStrike">
                <a:solidFill>
                  <a:srgbClr val="ffffff"/>
                </a:solidFill>
                <a:latin typeface="Arial"/>
                <a:cs typeface="Angsana New"/>
              </a:rPr>
              <a:t>และเซนดริลลอน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ngsana New"/>
              </a:rPr>
              <a:t>…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ngsana New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Arial"/>
                <a:cs typeface="Angsana New"/>
              </a:rPr>
              <a:t>จะเป็นอย่างไรถ้าซินเดอเรลลา และเซนดริลลอนไม่ได้ทิ้งรองเท้าไว้ที่งานเลี้ย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4864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rial"/>
                <a:cs typeface="Angsana New"/>
              </a:rPr>
              <a:t>เจ้าชายและพอลจะไม่รู้ว่าจะหาตัวทั้งสองคนได้อย่างไร และจะไม่เกิด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ngsana New"/>
              </a:rPr>
              <a:t>“</a:t>
            </a:r>
            <a:r>
              <a:rPr b="0" lang="th-TH" sz="3600" spc="-1" strike="noStrike">
                <a:solidFill>
                  <a:srgbClr val="ffffff"/>
                </a:solidFill>
                <a:latin typeface="Arial"/>
                <a:cs typeface="Angsana New"/>
              </a:rPr>
              <a:t>แล้วเราก็อยู่ด้วยกันอย่างมีความสุขตลอดไ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00400" y="22096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19151400">
            <a:off x="158760" y="3521160"/>
            <a:ext cx="34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99ccff"/>
                </a:solidFill>
                <a:latin typeface="Times New Roman"/>
                <a:cs typeface="Angsana New"/>
              </a:rPr>
              <a:t>รองเท้าแก้วของซินเดอเรลล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236200">
            <a:off x="5901480" y="3531600"/>
            <a:ext cx="32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33cc"/>
                </a:solidFill>
                <a:latin typeface="Times New Roman"/>
                <a:cs typeface="Angsana New"/>
              </a:rPr>
              <a:t>รองเท้าสีชมพูของเซนดริลลอ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th-TH" sz="4800" spc="-1" strike="noStrike">
                <a:solidFill>
                  <a:srgbClr val="ffffff"/>
                </a:solidFill>
                <a:latin typeface="Arial"/>
                <a:cs typeface="Angsana New"/>
              </a:rPr>
              <a:t>รองเท้าพิเศษ มันเป็นส่วนหนึ่งของ</a:t>
            </a:r>
            <a:br>
              <a:rPr sz="4800"/>
            </a:br>
            <a:r>
              <a:rPr b="0" lang="th-TH" sz="4800" spc="-1" strike="noStrike">
                <a:solidFill>
                  <a:srgbClr val="ffffff"/>
                </a:solidFill>
                <a:latin typeface="Arial"/>
                <a:cs typeface="Angsana New"/>
              </a:rPr>
              <a:t>ของขวัญที่วิเศษ</a:t>
            </a:r>
            <a:r>
              <a:rPr b="0" lang="th-TH" sz="4800" spc="-1" strike="noStrike">
                <a:solidFill>
                  <a:srgbClr val="ffffff"/>
                </a:solidFill>
                <a:latin typeface="Arial"/>
                <a:ea typeface="Angsana New"/>
              </a:rPr>
              <a:t>......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5181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จาก</a:t>
            </a:r>
            <a:r>
              <a:rPr b="0" i="1" lang="th-TH" sz="3600" spc="-1" strike="noStrike">
                <a:solidFill>
                  <a:srgbClr val="ffffff"/>
                </a:solidFill>
                <a:latin typeface="Arial"/>
                <a:cs typeface="Angsana New"/>
              </a:rPr>
              <a:t>แม่ทูลหัว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ของซินเดอเรลลา และจาก </a:t>
            </a:r>
            <a:r>
              <a:rPr b="0" i="1" lang="th-TH" sz="3600" spc="-1" strike="noStrike">
                <a:solidFill>
                  <a:srgbClr val="ffffff"/>
                </a:solidFill>
                <a:latin typeface="Arial"/>
                <a:cs typeface="Angsana New"/>
              </a:rPr>
              <a:t>แนนนิน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  <a:ea typeface="Angsana New"/>
              </a:rPr>
              <a:t> ของเซนดริลล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20868600">
            <a:off x="3504960" y="23619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ffffff"/>
                </a:solidFill>
                <a:latin typeface="Arial"/>
                <a:cs typeface="Angsana New"/>
              </a:rPr>
              <a:t>เสื้อคลุม รถม้า ม้า คนรับใช้ที่เป็นชาย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ffffff"/>
                </a:solidFill>
                <a:latin typeface="Arial"/>
                <a:cs typeface="Angsana New"/>
              </a:rPr>
              <a:t>เสื้อสำหรับงานเลี้ยงสวยงาม มันมหัศจรรย์มากที่ทำรถม้าจากผลแตง จากนั้นแม่ทูนหัวเสกคนรับใช้จากหนู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4125960" cy="30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83520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99cc"/>
                </a:solidFill>
                <a:latin typeface="Arial"/>
                <a:cs typeface="Angsana New"/>
              </a:rPr>
              <a:t>นิทานเรื่องซินเดอเรลลา และเซนดริลลอน เหมือนกัน แต่ทั้งสองเรื่องมีส่วนที่แตกต่า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ff99cc"/>
                </a:solidFill>
                <a:latin typeface="Arial"/>
                <a:cs typeface="Angsana New"/>
              </a:rPr>
              <a:t>ส่วนที่แตกต่างในนิทานเรื่องเซนดริลลอ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นิทานเรื่องนี้เกิดขึ้นบนเกาะมาร์ทินิค ไม่ใช่ในยุโรป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ตัวละครมีชื่อเป็นภาษาฝรั่งเศส และใช้คำในภาษาฝรั่งเศสสำหรับอาหาร เช่น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fruit à pain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หมายถึง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breadfru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นนนิน เสก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agouti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ิ้งจก และ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manicou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ให้กลายเป็นม้า รถม้าและคนรับใช้ สัตว์เหล่านี้อาศัยอยู่ในมาร์ทินิค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คนแต่งกายแตกต่างกัน มีผ้าพันคอทำจากเส้นไหมที่สวยงาม หมวกโพกศีรษะ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(turbans)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ละลูกปัดมากมายพร้อมทั้งกำไลข้อมื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4100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99cc"/>
                </a:solidFill>
                <a:latin typeface="Arial"/>
                <a:cs typeface="Angsana New"/>
              </a:rPr>
              <a:t>การเพิ่มความแตกต่างของประเทศ ทำให้นิทานน่าสนใจ</a:t>
            </a:r>
            <a:r>
              <a:rPr b="0" lang="en-US" sz="3600" spc="-1" strike="noStrike">
                <a:solidFill>
                  <a:srgbClr val="ff99cc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99cc"/>
                </a:solidFill>
                <a:latin typeface="Arial"/>
                <a:cs typeface="Angsana New"/>
              </a:rPr>
              <a:t>ซินเดอเรลลา และ เซนดริลลอ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2133720"/>
            <a:ext cx="4647960" cy="4114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981080"/>
            <a:ext cx="4647960" cy="411480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1981080"/>
            <a:ext cx="4648320" cy="411480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19360" y="1494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99cc"/>
                </a:solidFill>
                <a:latin typeface="Times New Roman"/>
                <a:cs typeface="Angsana New"/>
              </a:rPr>
              <a:t>เหมือ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5334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99cc"/>
                </a:solidFill>
                <a:latin typeface="Times New Roman"/>
                <a:cs typeface="Angsana New"/>
              </a:rPr>
              <a:t>แตกต่า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257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99cc"/>
                </a:solidFill>
                <a:latin typeface="Times New Roman"/>
                <a:cs typeface="Angsana New"/>
              </a:rPr>
              <a:t>แตกต่า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22800" y="1935000"/>
            <a:ext cx="28796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h-TH" sz="2600" spc="-1" strike="noStrike">
                <a:solidFill>
                  <a:srgbClr val="ffffff"/>
                </a:solidFill>
                <a:latin typeface="Times New Roman"/>
                <a:cs typeface="Angsana New"/>
              </a:rPr>
              <a:t>พี่สาวต่างมารดา และแม่เลี้ยงใจร้า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imes New Roman"/>
                <a:cs typeface="Angsana New"/>
              </a:rPr>
              <a:t>งานบ้านตลอดเวล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imes New Roman"/>
                <a:cs typeface="Angsana New"/>
              </a:rPr>
              <a:t>เป็นคนสวย ที่ถ่อมตน – แต่งกายด้วยเสื้อผ้ามอซ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imes New Roman"/>
                <a:cs typeface="Angsana New"/>
              </a:rPr>
              <a:t>ใจดีมีเมตตา – ตั้งใจจะช่วยแม้แต่พี่สาวต่างมารด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Angsana New"/>
              </a:rPr>
              <a:t> </a:t>
            </a:r>
            <a:r>
              <a:rPr b="0" lang="th-TH" sz="2600" spc="-1" strike="noStrike">
                <a:solidFill>
                  <a:srgbClr val="ffffff"/>
                </a:solidFill>
                <a:latin typeface="Times New Roman"/>
                <a:cs typeface="Angsana New"/>
              </a:rPr>
              <a:t>อยู่ด้วยกันอย่างมีความสุขตลอดไ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2514600"/>
            <a:ext cx="29718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99ccff"/>
                </a:solidFill>
                <a:latin typeface="Times New Roman"/>
                <a:cs typeface="Angsana New"/>
              </a:rPr>
              <a:t>ชุดที่สวมทำจากกำมะหยี่สีฟ้า พร้อมผ้าพันคอรอบคอสีกุหลาบ และผ้าโพกศีรษะที่ประดับด้วยเพชรนิลจินดา </a:t>
            </a: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tremblant” je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99ccff"/>
                </a:solidFill>
                <a:latin typeface="Times New Roman"/>
                <a:cs typeface="Angsana New"/>
              </a:rPr>
              <a:t>รองเท้าสีชมพ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99ccff"/>
                </a:solidFill>
                <a:latin typeface="Times New Roman"/>
                <a:cs typeface="Angsana New"/>
              </a:rPr>
              <a:t>งานเลี้ยงวันเกิดของพอ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590920"/>
            <a:ext cx="31701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99ccff"/>
                </a:solidFill>
                <a:latin typeface="Times New Roman"/>
                <a:cs typeface="Angsana New"/>
              </a:rPr>
              <a:t>ชุดแต่งกายสำหรับงานเลี้ยงเหมือนชุดที่พระราชินีสวมและมงกุฎฝังเพช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99ccff"/>
                </a:solidFill>
                <a:latin typeface="Times New Roman"/>
                <a:cs typeface="Angsana New"/>
              </a:rPr>
              <a:t>รองเท้าแก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99ccff"/>
                </a:solidFill>
                <a:latin typeface="Times New Roman"/>
                <a:cs typeface="Angsana New"/>
              </a:rPr>
              <a:t>การเต้นรำจัดขึ้นสำหรับเจ้าชา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72480" y="3199320"/>
            <a:ext cx="41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nhances understanding of s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057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33cc"/>
                </a:solidFill>
                <a:latin typeface="Times New Roman"/>
                <a:cs typeface="Angsana New"/>
              </a:rPr>
              <a:t>ซินเดอเรล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1981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33cc"/>
                </a:solidFill>
                <a:latin typeface="Times New Roman"/>
                <a:cs typeface="Angsana New"/>
              </a:rPr>
              <a:t>เซนดริลลอ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99cc"/>
                </a:solidFill>
                <a:latin typeface="Arial"/>
                <a:cs typeface="Angsana New"/>
              </a:rPr>
              <a:t>สิ่งที่สำคัญที่สุด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99cc"/>
                </a:solidFill>
                <a:latin typeface="Arial"/>
                <a:cs typeface="Angsana New"/>
              </a:rPr>
              <a:t>ประเด็นของนิทานทั้งสองเรื่องคือ</a:t>
            </a:r>
            <a:r>
              <a:rPr b="0" lang="th-TH" sz="4400" spc="-1" strike="noStrike">
                <a:solidFill>
                  <a:srgbClr val="ff99cc"/>
                </a:solidFill>
                <a:latin typeface="Arial"/>
                <a:ea typeface="Angsana New"/>
              </a:rPr>
              <a:t>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52578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99cc"/>
                </a:solidFill>
                <a:latin typeface="Arial"/>
                <a:cs typeface="Angsana New"/>
              </a:rPr>
              <a:t>ความดีของเราจะเอาชนะปัญหาที่รายล้อมได้เสม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ซินเดอเรลล่า และ เซนดริลลอน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มีความสุขที่ได้ช่วยเหลือผู้อื่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ทำงานบ้านทุกอย่างที่แม่เลี้ยงให้ทำ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  <a:ea typeface="Angsana New"/>
              </a:rPr>
              <a:t>(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ด้วยความช่วยเหลือเล็ก ๆ น้อย ๆ จากเพื่อน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  <a:ea typeface="Angsana New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มีรอยยิ้มที่นำแสงสว่างมาสู่ในวันที่ฝนต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ใจดีกับทุกคน – ทั้งคนและสัตว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22:47:52Z</dcterms:created>
  <dc:creator> </dc:creator>
  <dc:description/>
  <dc:language>en-US</dc:language>
  <cp:lastModifiedBy>Passara</cp:lastModifiedBy>
  <dcterms:modified xsi:type="dcterms:W3CDTF">2008-03-05T08:57:51Z</dcterms:modified>
  <cp:revision>50</cp:revision>
  <dc:subject/>
  <dc:title>Yes, Shoes Can Make a Difference!</dc:title>
</cp:coreProperties>
</file>