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3B66-071E-468C-80D1-5F057942F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615F-7B7A-4B70-91D6-05A0CF150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E85C-95E0-4A3E-A030-458C40677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D07F-92C6-49F3-8251-C1B7071DF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BBC4-AC2A-4E72-9B45-F515049C0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DC3D-DDD7-4347-81BA-D4BE1DBF8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FB5F-A9B7-42C6-820B-760E5F96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ADE3-7A5C-4D43-BC3B-D4FA65D71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1080-1549-42E0-B070-5FD0898BA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7743-B3C8-4D53-B24B-450CA8A1C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29F0-C223-430A-9E4D-D246493E2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42D8-8D8D-48F1-BA0B-9A46C862A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400440"/>
            <a:ext cx="83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A7D2-44A6-40DE-A8D9-531F2B75F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03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6397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3975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560" y="289548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ัศนคติในเทพนิยา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ัศนคติในศิลป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ในศิลปะเป็นมุมมองจากสิ่งที่คนเราเห็นภาพหรือฉา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องดูภาพถ่าย แล้วกำหนด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“</a:t>
            </a: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732480" cy="495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713400" cy="4953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2133720"/>
            <a:ext cx="2209680" cy="28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783" y="6336"/>
                </a:moveTo>
                <a:lnTo>
                  <a:pt x="-745" y="864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  <a:cs typeface="Angsana New"/>
              </a:rPr>
              <a:t>อะไรที่อยู่ไกลเกินกว่าต้นไม้สีเขียวที่อยู่ด้านหน้าของภา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ใหม่ในภาพถ่า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ัศนคติในเรื่องก็เช่นเดียวกับมุมมองในภาพถ่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ที่แตกต่างในภาพ ให้วิธีใหม่ในการคิดเกี่ยวกับเรื่องนั้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ในวรรณกรร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6019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ในวรรณกรรม ทัศนคติเป็นมุมมองซึ่งผู้อ่านเชื่อมโยงกับเรื่อง – โดยทั่วไปเป็นคนที่เล่าเรื่องนั้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ในเซนดริลลอน เรารู้ว่าคนที่เล่าเรื่องคือ แนนนิน ซึ่งเป็นแม่ทูนหัวของเซนดริลลอ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คนที่เล่านิทา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ีตัวละครที่เชื่อมโยงเหตุการณ์ทำให้นิทานมีความเป็นส่วนตัวมากขึ้น และช่วยให้ผู้อ่านรู้สึกมีส่วนเกี่ยวข้อ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แม่ทูนหัวของเซนดริลลอน สามารถมองเห็นสิ่งต่าง ๆ จากความเข้าใจของเธอเ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ยกตัวอย่างเช่น เธอไม่รู้ความคิดของเซนดริลลอน แต่เธอสามารถบอกได้ว่าเซนดริลลอนคิดอะไรจากการกระทำและคำพู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เกิดอะไรขึ้นเมื่อทัศนคติเปลี่ย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อย่างไร ถ้ามาดามพรอสเพอไรน์ แม่เลี้ยงเป็นผู้เล่าเรื่อ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อย่างไร ถ้าพอลเล่าเรื่อ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างเลือกของทัศนคติอื่น 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นิทานจะเปลี่ยนไปอย่างไร ถ้าคนที่รู้เรื่องที่อยู่แดนไกลเป็นคนเล่าเรื่อง คนคนนี้เรียกว่าคนเล่าเรื่องคนที่สา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อย่างไรถ้าเราในฐานะ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“</a:t>
            </a: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ฉัน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” </a:t>
            </a: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เป็นคนเล่านิทาน นิทานจะเปลี่ยนไปอย่างไร คนคนนี้เรียกว่าคนเล่าเรื่องที่หนึ่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คุณตัดสินใ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เซนดริลลอน</a:t>
            </a: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เทพนิยายที่ดีขึ้นหรือไม่ ถ้าตัวละครคนอื่น ๆ เป็นคนเล่าเรื่อ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คิดถึงเรื่องนี้เมื่อคุณเลือกเทพนิยายซินเดอเรลล่าที่จะอ่านเรื่องถัดไ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1:47:06Z</dcterms:created>
  <dc:creator> </dc:creator>
  <dc:description/>
  <dc:language>en-US</dc:language>
  <cp:lastModifiedBy>Passara</cp:lastModifiedBy>
  <dcterms:modified xsi:type="dcterms:W3CDTF">2008-03-04T03:33:43Z</dcterms:modified>
  <cp:revision>15</cp:revision>
  <dc:subject/>
  <dc:title>Point of View in Fairy Tales</dc:title>
</cp:coreProperties>
</file>