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3.xml.rels" ContentType="application/vnd.openxmlformats-package.relationships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9144000" cy="6858000"/>
  <p:notesSz cx="6858000" cy="9144000"/>
  <p:custShowLst>
    <p:custShow name="Custom Show 1" id="0">
      <p:sldLst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cc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C368-8A96-4DDB-9944-AD26FCBE7A44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5F3A1-36F7-4934-A88C-4B94A51C9100}" type="slidenum">
              <a:rPr b="1" lang="en-US" sz="1200" spc="-1" strike="noStrike">
                <a:solidFill>
                  <a:srgbClr val="00cc9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1FF17-81C5-49A7-A68B-450C804FCE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EFC702-0378-4787-8F42-DAA2B5FA39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1132B4-EAB9-4054-B836-363BB2D825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E5AB5-D324-495A-ABB4-002C3BB551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FEFDB-F1C9-4655-9563-4B686ABCD79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5CF3B-0F7E-441D-818B-BE00F253DC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CB4127-D31D-4EC6-89C0-C9B10C77FD7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F78B4-05AD-40FD-BB83-A2DD30535F8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C5CBBA-8291-4625-B511-0F184459659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D0B3D0-20A4-40D5-B296-2E7DE96239A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0767E6-902D-436C-9552-34B1A198AA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CF81F-A0A3-4C45-A5E2-F4726EB6407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E482A-2D95-426F-8AB3-CA6D6322CEB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DE2D65-8EBA-431D-AA53-278666B2A3E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51AFA2-5E46-478F-AA33-1DD4BC0D1D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E5867A-09F0-4DA8-B34E-D9C846DA700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B908F7-6D71-42D4-9EDA-2C918FD5A7B8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0B285-5246-4F4B-A5E6-0E08A00C8E2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45B7F6-57AA-4CAB-AF3E-931F9C9AFCA2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41A85F-0730-4A68-A67F-905BB98511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0F0BDB-0508-417B-8EB9-D2FAD870439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F9E87-4F47-47A2-9A01-999517771B4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16882-8E2E-4D07-BCC6-43781701B15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EE1EB-63AC-4BF2-A77F-CFBDE24D8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55400" y="6357600"/>
            <a:ext cx="4158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A9FBD-13F4-4C6D-BE60-1377BE25BC5F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1727280" y="5856120"/>
            <a:ext cx="3908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6, Intel Corporation. All rights reserved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5" name="Picture 7" descr="intelEDU_wht_lrg [Converted]"/>
          <p:cNvPicPr/>
          <p:nvPr/>
        </p:nvPicPr>
        <p:blipFill>
          <a:blip r:embed="rId2"/>
          <a:stretch/>
        </p:blipFill>
        <p:spPr>
          <a:xfrm>
            <a:off x="7547040" y="6178680"/>
            <a:ext cx="1116000" cy="556920"/>
          </a:xfrm>
          <a:prstGeom prst="rect">
            <a:avLst/>
          </a:prstGeom>
          <a:ln w="0">
            <a:noFill/>
          </a:ln>
        </p:spPr>
      </p:pic>
      <p:sp>
        <p:nvSpPr>
          <p:cNvPr id="6" name="Text Box 8"/>
          <p:cNvSpPr/>
          <p:nvPr/>
        </p:nvSpPr>
        <p:spPr>
          <a:xfrm>
            <a:off x="903240" y="649116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ffffff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ffffff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c2e8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Num" idx="2"/>
          </p:nvPr>
        </p:nvSpPr>
        <p:spPr>
          <a:xfrm>
            <a:off x="45684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D644-62BF-45FB-A1F5-1D51D479D424}" type="slidenum">
              <a:rPr b="1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7" name="Picture 6" descr="intelEDU_wht_lrg [Converted]"/>
          <p:cNvPicPr/>
          <p:nvPr/>
        </p:nvPicPr>
        <p:blipFill>
          <a:blip r:embed="rId2"/>
          <a:stretch/>
        </p:blipFill>
        <p:spPr>
          <a:xfrm>
            <a:off x="7547040" y="6114960"/>
            <a:ext cx="1116000" cy="557280"/>
          </a:xfrm>
          <a:prstGeom prst="rect">
            <a:avLst/>
          </a:prstGeom>
          <a:ln w="0">
            <a:noFill/>
          </a:ln>
        </p:spPr>
      </p:pic>
      <p:sp>
        <p:nvSpPr>
          <p:cNvPr id="48" name="Text Box 7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intelEDU_4c_lrg [Converted]"/>
          <p:cNvPicPr/>
          <p:nvPr/>
        </p:nvPicPr>
        <p:blipFill>
          <a:blip r:embed="rId2"/>
          <a:stretch/>
        </p:blipFill>
        <p:spPr>
          <a:xfrm>
            <a:off x="6480000" y="307800"/>
            <a:ext cx="2184480" cy="109224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5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360360" y="647208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760" y="272880"/>
            <a:ext cx="8237520" cy="88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455760" y="137124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3080" indent="-34308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343080" indent="-3430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343080" indent="-34308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343080" indent="-343080">
              <a:spcBef>
                <a:spcPts val="1349"/>
              </a:spcBef>
              <a:buClr>
                <a:srgbClr val="ffffff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860a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intelEDU_wht_lrg [Converted]"/>
          <p:cNvPicPr/>
          <p:nvPr/>
        </p:nvPicPr>
        <p:blipFill>
          <a:blip r:embed="rId2"/>
          <a:stretch/>
        </p:blipFill>
        <p:spPr>
          <a:xfrm>
            <a:off x="6478560" y="309600"/>
            <a:ext cx="2179800" cy="1089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5" descr="PPT_pic copy"/>
          <p:cNvPicPr/>
          <p:nvPr/>
        </p:nvPicPr>
        <p:blipFill>
          <a:blip r:embed="rId3"/>
          <a:stretch/>
        </p:blipFill>
        <p:spPr>
          <a:xfrm>
            <a:off x="444600" y="1725480"/>
            <a:ext cx="8253360" cy="25416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6"/>
          <p:cNvSpPr/>
          <p:nvPr/>
        </p:nvSpPr>
        <p:spPr>
          <a:xfrm>
            <a:off x="966960" y="635004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Derechos de autor © 2008, Corporación Intel. Todos los derechos reservados. Intel, el logo de la Iniciativa Intel Educación y el Programa Intel Educar son marcas registradas de la Corporación Intel en los Estados Unidos y otros países. 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ffffff"/>
                </a:solidFill>
                <a:latin typeface="Verdana"/>
              </a:rPr>
              <a:t>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0" y="6070680"/>
            <a:ext cx="4827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457200" y="5486400"/>
            <a:ext cx="64515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Programs of the Intel Education Initiative are funded by the Intel Foundation and Intel Corporation.  </a:t>
            </a:r>
            <a:br>
              <a:rPr sz="700"/>
            </a:b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Copyright © 2007 Intel Corporation. All rights reserved. Intel and Intel</a:t>
            </a:r>
            <a:r>
              <a:rPr b="0" lang="en-US" sz="700" spc="-1" strike="noStrike" baseline="30000">
                <a:solidFill>
                  <a:srgbClr val="0860a8"/>
                </a:solidFill>
                <a:latin typeface="Symbol"/>
                <a:ea typeface="Symbol"/>
              </a:rPr>
              <a:t></a:t>
            </a:r>
            <a:r>
              <a:rPr b="0" lang="en-US" sz="700" spc="-1" strike="noStrike">
                <a:solidFill>
                  <a:srgbClr val="0860a8"/>
                </a:solidFill>
                <a:latin typeface="Verdana"/>
              </a:rPr>
              <a:t> Education are trademarks or registered trademarks of Intel Corporation or its subsidiaries in the United States and other countries.  *Other names and brands may be claimed as the property of other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4241520"/>
            <a:ext cx="7772400" cy="105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600" spc="-1" strike="noStrike">
                <a:solidFill>
                  <a:srgbClr val="ffffff"/>
                </a:solidFill>
                <a:latin typeface="Verdana"/>
              </a:rPr>
              <a:t>Preguntas orientadoras del currículo</a:t>
            </a:r>
            <a:endParaRPr b="1" lang="en-US" sz="36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6D0D3-6786-40F7-8AA4-F45167BA8B45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Preguntas de contenido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Tiene un limitado  grupo de respuestas correctas, respuestas basadas en hech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 menudo se refieren a definiciones,  identificaciones y, en general, a la recodar información (ejemplo: las preguntas se encuentran en una prueba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yudan a responder a las preguntas un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99"/>
                </a:solidFill>
                <a:latin typeface="Verdana"/>
              </a:rPr>
              <a:t>Ejemplos:</a:t>
            </a:r>
            <a:r>
              <a:rPr b="0" i="1" lang="es-CR" sz="20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1800" spc="-1" strike="noStrike">
                <a:solidFill>
                  <a:srgbClr val="ffffff"/>
                </a:solidFill>
                <a:latin typeface="Verdana"/>
              </a:rPr>
              <a:t>PE:  ¿Por qué necesitamos de los otros?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ff"/>
                </a:solidFill>
                <a:latin typeface="Verdana"/>
              </a:rPr>
              <a:t>PU: </a:t>
            </a:r>
            <a:r>
              <a:rPr b="1" i="1" lang="es-CR" sz="1800" spc="-1" strike="noStrike">
                <a:solidFill>
                  <a:srgbClr val="ffffff"/>
                </a:solidFill>
                <a:latin typeface="Verdana"/>
              </a:rPr>
              <a:t>¿Cuál de nuestros ayudantes comunitarios es el más importante?  O ¿Cuál ayudante comunitario le gustaría ser?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99"/>
                </a:solidFill>
                <a:latin typeface="Verdana"/>
              </a:rPr>
              <a:t>CQ: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Quienes son algunos de los ayudantes comunitarios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Qué hace un ayudante comunitario?</a:t>
            </a:r>
            <a:r>
              <a:rPr b="1" i="1" lang="es-CR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934751-9C88-48F0-83B2-EE38288BE8C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Cuál es la diferencia entre una pregunta esencial y una pregunta de contenido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07" name=""/>
          <p:cNvGraphicFramePr/>
          <p:nvPr/>
        </p:nvGraphicFramePr>
        <p:xfrm>
          <a:off x="457200" y="1600200"/>
          <a:ext cx="8229600" cy="4313160"/>
        </p:xfrm>
        <a:graphic>
          <a:graphicData uri="http://schemas.openxmlformats.org/drawingml/2006/table">
            <a:tbl>
              <a:tblPr/>
              <a:tblGrid>
                <a:gridCol w="4037040"/>
                <a:gridCol w="419256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 esencial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contenido basadas en un hecho de “una” sola respuesta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el arte refleja la cultura o la cambia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n arte ¿Qué es el renacimiento?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1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prospera un organismo en su entorn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uál es el ciclo de vida de la rana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70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un conflicto produce un cambi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uál es el conflicto en la historia…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0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cambian las ley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se forman las leyes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Es la Historia una historia del progreso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8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Quién es un inventor importante y qué -él o ella- inventó?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ED998-3911-4A79-8002-49D12C4F1BF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9" name="Rectangle 146"/>
          <p:cNvSpPr/>
          <p:nvPr/>
        </p:nvSpPr>
        <p:spPr>
          <a:xfrm>
            <a:off x="228600" y="152280"/>
            <a:ext cx="8915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Verdana"/>
              </a:rPr>
              <a:t>¿De qué maneras apoyan las preguntas de contenido, de unidad y la esencial al aprendizaje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76320" y="1371600"/>
          <a:ext cx="9067680" cy="4632480"/>
        </p:xfrm>
        <a:graphic>
          <a:graphicData uri="http://schemas.openxmlformats.org/drawingml/2006/table">
            <a:tbl>
              <a:tblPr/>
              <a:tblGrid>
                <a:gridCol w="1930320"/>
                <a:gridCol w="7137360"/>
              </a:tblGrid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jemplo de estándar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ncepto 3: Organismos y medio ambient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Comprender las relaciones entre varios organismos y su medio ambiente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Ejemplo del objetiv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Los estudiantes serán capaces de identificar un ecosistema y explicar como los organismos dentro de un ecosistema están conectados y son interdependientes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contenid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- ¿Cómo recolecto información y la despliego en un gráfico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- ¿Cuáles animales urbanos hay ahí y qué necesitan para sobrevivir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unidad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puede la fauna urbana y los humanos convivir juntos de manera armoniosa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 esencia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podemos todos llevarnos bien?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729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_tradnl" sz="16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oyecto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00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12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Utilizando información actual sobre las lesiones infringidas a la vida silvestre, tomadas de un refugio de vida silvestre local, los estudiantes aprenden cuales especies animales han sido lesionadas, las causas de las lesiones y los efectos de la reducción de la fauna urbana. Aportan recomendaciones para la reducción de las causas de lesiones provocadas por humanos a la asociación ornitológica local, la sociedad humanitaria, las asociaciones de vecinos y a otros grupos interesados. Al final de cada presentación pública, los estudiantes reúnen las impresiones de los asistentes a los datos mostrados y publican sus hallazgos e ideas en un boletín informativo para el público.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Text Box 3"/>
          <p:cNvSpPr/>
          <p:nvPr/>
        </p:nvSpPr>
        <p:spPr>
          <a:xfrm>
            <a:off x="484200" y="6415200"/>
            <a:ext cx="645156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70c0"/>
                </a:solidFill>
                <a:latin typeface="Verdana"/>
              </a:rPr>
              <a:t>Los programas de Intel Educación son financiados por la Fundación Intel y la Corporación Intel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700" spc="-1" strike="noStrike">
                <a:solidFill>
                  <a:srgbClr val="0070c0"/>
                </a:solidFill>
                <a:latin typeface="Verdana"/>
              </a:rPr>
              <a:t>Derechos de autor © 2007, Corporación Intel. Todos los derechos reservados. Intel e Intel </a:t>
            </a:r>
            <a:r>
              <a:rPr b="0" lang="en-US" sz="700" spc="-1" strike="noStrike">
                <a:solidFill>
                  <a:srgbClr val="0070c0"/>
                </a:solidFill>
                <a:latin typeface="Symbol"/>
                <a:ea typeface="Symbol"/>
              </a:rPr>
              <a:t></a:t>
            </a:r>
            <a:r>
              <a:rPr b="0" lang="es-ES_tradnl" sz="700" spc="-1" strike="noStrike">
                <a:solidFill>
                  <a:srgbClr val="0070c0"/>
                </a:solidFill>
                <a:latin typeface="Verdana"/>
              </a:rPr>
              <a:t> Educación son marcas comerciales o marcas registradas de la Corporación Intel o sus subsidiarias en los Estados Unidos y otros países. *Otros nombres y marcas pueden ser reclamadas como propiedad de terceros.</a:t>
            </a: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B92CE-F299-44A2-A236-9756FA5DE43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Hacer preguntas es contagioso</a:t>
            </a:r>
            <a:br>
              <a:rPr sz="3200"/>
            </a:b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Promueve el aprendizaje auténtico, lo que insta a que los estudiantes hagan más pregunt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Los estudiantes tienen mayor posibilidad de convertirse en aprendices autónomos, porque están interesados en las respuest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Verdana"/>
              </a:rPr>
              <a:t>Los estudiantes ven las relaciones entre la materia aprendida y su mundo, esto puede cambiar toda su perspectiva de lo que se trata la educación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4531-048A-4DE6-BE31-59EA6227F48E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Verdana"/>
              </a:rPr>
              <a:t>Las preguntas orientadoras del currículo incluyen las preguntas esenciales, de unidad y de contenido</a:t>
            </a:r>
            <a:br>
              <a:rPr sz="2800"/>
            </a:b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0" y="2133720"/>
            <a:ext cx="91440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tratar las destrezas de pensamiento de orden superior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instar a la comparación, síntesis, interpretación y la evaluación, entre otros.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asegurarse que los proyectos de los estudiantes sean persuasivos y cautiva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instar a algo más que una simple reafirmación de los hechos</a:t>
            </a:r>
            <a:br>
              <a:rPr sz="1800"/>
            </a:b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enfocarse en temas importa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relacionar el aprendizaje con otras disciplinas y temas de estudi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hacer preguntas que han sido planteadas a lo largo de la historia de la humanidad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ara tratar las preguntas interesantes que hacen los estudiante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Text Box 7"/>
          <p:cNvSpPr/>
          <p:nvPr/>
        </p:nvSpPr>
        <p:spPr>
          <a:xfrm>
            <a:off x="380880" y="129528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ffffff"/>
                </a:solidFill>
                <a:latin typeface="Verdana"/>
              </a:rPr>
              <a:t>¿Por qué utilizar preguntas orientadoras del currículo?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7D483-25E6-4C88-8432-2DB2DCEB56C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34800"/>
            <a:ext cx="82296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Preguntas esenciales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5360" indent="-2253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ffffff"/>
                </a:solidFill>
                <a:latin typeface="Verdana"/>
              </a:rPr>
              <a:t>Son amplias y abiertas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Tratan de grandes ideas y conceptos durader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Son cautivadoras y significativa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Llaman a la curiosidad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lantean un desafío razon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Requieren destrezas de pensamiento de orden superi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oseen respuestas que no pueden ser encontradas en un libr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spcAft>
                <a:spcPts val="1001"/>
              </a:spcAft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 menudo entrecruzan disciplinas y ayudan a que los estudiantes vean cómo se relacionan las materias entre sí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25360" indent="-22536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99"/>
                </a:solidFill>
                <a:latin typeface="Verdana"/>
              </a:rPr>
              <a:t>Ejemplo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ffff99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Verdana"/>
              </a:rPr>
              <a:t>P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Por qué necesitamos unos de otro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6823-8017-4EEA-BAA2-164CAA9E55AC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De qué manera ayudan las preguntas esenciales a los docente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Ayudan a que los docentes se concentren en los temas importantes de sus currículos anuales y llevan un sentido interdisciplinario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Ponen en relieve preguntas importantes que son comunes a distintas asignaturas (Matemática, Ciencias, Literatura, Historia, entre otras.)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270720" indent="-27072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e centran en torno a asuntos trascendentales, problemas, inquietudes, intereses o temas que también surgen en otras unidades.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586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58680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27072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C3C5A-A35C-49B0-A465-F8D3B9FB0E0D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Cómo ayudan las preguntas esenciales a los estudiantes</a:t>
            </a: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? 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cont.)</a:t>
            </a:r>
            <a:endParaRPr b="1" lang="en-US" sz="1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Las preguntas esenciales ponen en relieve y se centran en el estudio de eventos y tópicos a lo largo de un proyecto o curso que de otro modo pareciera arbitrario o inconex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Ocupan la imaginación del estudiante y relacionan al sujeto con sus propias experiencias e ide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No existe una única y obvia respuesta “correcta”, de modo que los estudiantes son desafiados a explorar muchas posibilidad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mueven las discusiones profundas y preparan el escenario para fomentar el cuestionamiento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yudan a que los estudiantes comparen, contrasten y hagan analogía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9AD88-372B-4413-B3A5-24785D5AAFC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80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3200" spc="-1" strike="noStrike">
                <a:solidFill>
                  <a:srgbClr val="ffffff"/>
                </a:solidFill>
                <a:latin typeface="Verdana"/>
              </a:rPr>
              <a:t>Preguntas de unidad: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2375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lvl="2"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Son preguntas abiertas que se enlazan directamente a un proyecto o un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Plantean un desafío razonable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Requieren  destrezas de pensamiento de orden superior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yudan a los estudiantes a construir sus propias respuestas y su propio significado de la información obtenida por ellos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ff"/>
                </a:solidFill>
                <a:latin typeface="Verdana"/>
              </a:rPr>
              <a:t>Apoyan la pregunta esencial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-31896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ffff99"/>
                </a:solidFill>
                <a:latin typeface="Verdana"/>
              </a:rPr>
              <a:t>Ejemplos:</a:t>
            </a:r>
            <a:r>
              <a:rPr b="1" i="1" lang="es-CR" sz="2000" spc="-1" strike="noStrike">
                <a:solidFill>
                  <a:srgbClr val="ffffff"/>
                </a:solidFill>
                <a:latin typeface="Verdana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4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ff"/>
                </a:solidFill>
                <a:latin typeface="Verdana"/>
              </a:rPr>
              <a:t>PE: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-318960">
              <a:spcBef>
                <a:spcPts val="4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ff"/>
                </a:solidFill>
                <a:latin typeface="Verdana"/>
              </a:rPr>
              <a:t>¿Por qué necesitamos de los otros?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-265680">
              <a:spcBef>
                <a:spcPts val="451"/>
              </a:spcBef>
              <a:buClr>
                <a:srgbClr val="ffff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ffff99"/>
                </a:solidFill>
                <a:latin typeface="Verdana"/>
              </a:rPr>
              <a:t>PU: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-318960">
              <a:spcBef>
                <a:spcPts val="499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Cuál de nuestros ayudantes comunitarios es el más importante? 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-318960">
              <a:spcBef>
                <a:spcPts val="601"/>
              </a:spcBef>
              <a:buClr>
                <a:srgbClr val="ffff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R" sz="2000" spc="-1" strike="noStrike">
                <a:solidFill>
                  <a:srgbClr val="ffff99"/>
                </a:solidFill>
                <a:latin typeface="Verdana"/>
              </a:rPr>
              <a:t>¿Cuál ayudante comunitario le gustaría ser?</a:t>
            </a:r>
            <a:r>
              <a:rPr b="1" i="1" lang="es-CR" sz="2400" spc="-1" strike="noStrike">
                <a:solidFill>
                  <a:srgbClr val="ffff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lvl="2" marL="31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189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143D0-54A7-48FB-A99C-A84377AF97C8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Verdana"/>
              </a:rPr>
              <a:t>¿Cómo las preguntas de unidad ayudan a la pregunta esencial?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aphicFrame>
        <p:nvGraphicFramePr>
          <p:cNvPr id="198" name=""/>
          <p:cNvGraphicFramePr/>
          <p:nvPr/>
        </p:nvGraphicFramePr>
        <p:xfrm>
          <a:off x="457200" y="1600200"/>
          <a:ext cx="8229600" cy="4419720"/>
        </p:xfrm>
        <a:graphic>
          <a:graphicData uri="http://schemas.openxmlformats.org/drawingml/2006/table">
            <a:tbl>
              <a:tblPr/>
              <a:tblGrid>
                <a:gridCol w="3884760"/>
                <a:gridCol w="434484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 esenci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R" sz="20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Preguntas de unida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90099"/>
                    </a:solidFill>
                  </a:tcPr>
                </a:tc>
              </a:tr>
              <a:tr h="778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puede la matemática ayudarme a comprender el mundo que me rode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Para qué sirven los fractales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74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Por qué las novelas han sido siempre importantes a lo largo de la histori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Por qué todavía leemos a Cervantes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De qué manera la obra de Cervantes es relevante para mi vid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02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Cómo el arte refleja o cambia la sociedad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el arte impresionista refleja la vida hacia finales de 1800?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751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el arte contemporáneo refleja su vida y cultur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82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228600" indent="-228600">
                        <a:spcBef>
                          <a:spcPts val="374"/>
                        </a:spcBef>
                        <a:buClr>
                          <a:srgbClr val="ffffff"/>
                        </a:buClr>
                        <a:buFont typeface="Verdana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</a:rPr>
                        <a:t>¿Qué se necesita para cambiar el mundo?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repercutieron las acciones de Simón</a:t>
                      </a: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Bolívar</a:t>
                      </a: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 en América Latina hace ya más de 150 años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  <a:p>
                      <a:pPr lvl="1" marL="227160" indent="-225720">
                        <a:lnSpc>
                          <a:spcPct val="100000"/>
                        </a:lnSpc>
                        <a:spcBef>
                          <a:spcPts val="374"/>
                        </a:spcBef>
                        <a:buClr>
                          <a:srgbClr val="ffffff"/>
                        </a:buClr>
                        <a:buSzPct val="125000"/>
                        <a:buFont typeface="Time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500" spc="-1" strike="noStrike">
                          <a:solidFill>
                            <a:srgbClr val="ffffff"/>
                          </a:solidFill>
                          <a:latin typeface="Verdana"/>
                          <a:ea typeface="Arial"/>
                        </a:rPr>
                        <a:t>¿Cómo las acciones y pensamiento de Simón Bolívar inciden hoy en su vida?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3 Marcador de número de diapositiva"/>
          <p:cNvSpPr/>
          <p:nvPr/>
        </p:nvSpPr>
        <p:spPr>
          <a:xfrm>
            <a:off x="457200" y="6400800"/>
            <a:ext cx="4158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60D68-570D-4E5D-AB31-2473EF8178F7}" type="slidenum">
              <a:rPr b="1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ffffff"/>
                </a:solidFill>
                <a:latin typeface="Verdana"/>
              </a:rPr>
              <a:t>Equipos de docentes de diferentes disciplinas pueden usar sus propias preguntas de unidad apoyados en una pregunta esencial</a:t>
            </a:r>
            <a:endParaRPr b="1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1" name="47 Imagen" descr="Imagen2.jpg"/>
          <p:cNvPicPr/>
          <p:nvPr/>
        </p:nvPicPr>
        <p:blipFill>
          <a:blip r:embed="rId1"/>
          <a:stretch/>
        </p:blipFill>
        <p:spPr>
          <a:xfrm>
            <a:off x="1066680" y="2209680"/>
            <a:ext cx="7096320" cy="3627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06T15:48:59Z</dcterms:created>
  <dc:creator>Judi Yost</dc:creator>
  <dc:description/>
  <dc:language>en-US</dc:language>
  <cp:lastModifiedBy>Jacqueline</cp:lastModifiedBy>
  <dcterms:modified xsi:type="dcterms:W3CDTF">2008-05-15T03:18:53Z</dcterms:modified>
  <cp:revision>227</cp:revision>
  <dc:subject/>
  <dc:title>Why Essential Questions?</dc:title>
</cp:coreProperties>
</file>