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</p:sldIdLst>
  <p:sldSz cx="9144000" cy="6858000"/>
  <p:notesSz cx="6858000" cy="9144000"/>
  <p:custShowLst>
    <p:custShow name="Custom Show 1" id="0">
      <p:sldLst>
        <p:sld r:id="rId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AB2F1-7F27-4AE6-9234-4ED5826AE0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2B34-3411-42DE-BC4B-DD56208DA2E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DE79D-B5E3-4688-8D39-2C658E8C6B0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6A9A7-DACB-4541-83DD-C3A0692F4A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C08937-169B-44D0-8805-CADA3F2ABDD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A47017-341F-4969-B698-B1CC46E79E8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EC74F2-13DA-4327-BB0C-9CA6F9C188B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668EAF-9086-4645-81C7-D3B4333F006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674904-F1A4-41DE-9422-F7B9DFE4F24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2BA453-5FE5-44A6-9D19-F2AFE895A05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8AC2BA-DE38-47FC-94C4-B11FB0426FD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DEF00D-A45B-49BA-B136-AD95B2D049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B1079-4313-4E93-B031-2B1A528504F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8EB98F-5638-4DBE-A89E-D4C515C25D6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05A1E6-318D-4B50-93F2-62D1504A85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40F0E3-1365-4FB4-839F-FCEFB032132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EBD437-1969-4938-ACCC-9F456522F19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6EEA0-614E-499F-94FB-0EC8508501B1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09B21-6755-46AB-9C58-D497174B92C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75D459-4E4D-4E24-8773-80EC2B9FE56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D55B89-BE3D-4A3F-9969-BD3B5B001E7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4CDB3-CA0E-4336-80F0-D448079B0A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E7114-F2CB-4A0E-82C5-B1F7E2948AB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0551B-9823-4EB4-9158-55CD16E5E16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CB5FE-94D0-411C-AAF3-9EC993F5FEF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AA47C-6828-4CE2-B450-88DCBE58507F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6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966960" y="6350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Derechos de autor © 2008, Corporación Intel. Todos los derechos reservados. Intel, el logo de la Iniciativa Intel Educación y el Programa Intel Educar son marcas registradas de la Corporación Intel en los Estados Unidos y otros países.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*Otros nombres y marcas pueden ser reclamadas como propiedad de tercero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intelEDU_4c_lrg [Converted]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5" descr="PPT_pic copy"/>
          <p:cNvPicPr/>
          <p:nvPr/>
        </p:nvPicPr>
        <p:blipFill>
          <a:blip r:embed="rId2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6"/>
          <p:cNvSpPr/>
          <p:nvPr/>
        </p:nvSpPr>
        <p:spPr>
          <a:xfrm>
            <a:off x="966960" y="6350040"/>
            <a:ext cx="645156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Verdana"/>
              </a:rPr>
              <a:t>Derechos de autor © 2008, Corporación Intel. Todos los derechos reservados. Intel, el logo de la Iniciativa Intel Educación y el Programa Intel Educar son marcas registradas de la Corporación Intel en los Estados Unidos y otros países. 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800" spc="-1" strike="noStrike">
                <a:solidFill>
                  <a:srgbClr val="ffffff"/>
                </a:solidFill>
                <a:latin typeface="Verdana"/>
              </a:rPr>
              <a:t>*Otros nombres y marcas pueden ser reclamadas como propiedad de terceros.</a:t>
            </a:r>
            <a:endParaRPr b="0" lang="en-US" sz="8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333399"/>
                </a:solidFill>
                <a:latin typeface="Verdana"/>
              </a:rPr>
              <a:t>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Rectangle 8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duteka.org/ComoAprendeLaGente.php3" TargetMode="External"/><Relationship Id="rId2" Type="http://schemas.openxmlformats.org/officeDocument/2006/relationships/hyperlink" Target="http://www.wested.org/online_pubs/learning_return.pdf" TargetMode="External"/><Relationship Id="rId3" Type="http://schemas.openxmlformats.org/officeDocument/2006/relationships/hyperlink" Target="http://www.eduteka.org/TemaApoyo.php" TargetMode="External"/><Relationship Id="rId4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2057400" y="5448240"/>
            <a:ext cx="6400800" cy="73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0860a8"/>
                </a:solidFill>
                <a:latin typeface="Verdana"/>
              </a:rPr>
              <a:t>Creating Effective Questions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Verdana"/>
              </a:rPr>
              <a:t>Preguntas orientadoras del currículo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F342D-875D-4581-B551-050F43CEC0A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324120" y="151920"/>
            <a:ext cx="259092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The Creation of Good Questions and a Good Unit Is an Ongoing Process</a:t>
            </a:r>
            <a:endParaRPr b="1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Picture 82" descr=""/>
          <p:cNvPicPr/>
          <p:nvPr/>
        </p:nvPicPr>
        <p:blipFill>
          <a:blip r:embed="rId1"/>
          <a:stretch/>
        </p:blipFill>
        <p:spPr>
          <a:xfrm>
            <a:off x="0" y="0"/>
            <a:ext cx="7834320" cy="5991120"/>
          </a:xfrm>
          <a:prstGeom prst="rect">
            <a:avLst/>
          </a:prstGeom>
          <a:ln w="0">
            <a:noFill/>
          </a:ln>
        </p:spPr>
      </p:pic>
      <p:sp>
        <p:nvSpPr>
          <p:cNvPr id="199" name="5 Rectángulo"/>
          <p:cNvSpPr/>
          <p:nvPr/>
        </p:nvSpPr>
        <p:spPr>
          <a:xfrm>
            <a:off x="7086600" y="0"/>
            <a:ext cx="190512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a creación de buenas preguntas y una buena unidad en un proceso continu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42F1B-0C91-419E-BE9D-814D38FFC2A9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¿Por qué debemos usar las preguntas  orientadoras del currículo  en nuestra unidad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91440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El uso de la tecnología en los proyectos debería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Mejorar el aprendizaje de los alumn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yudar a los estudiantes a ser autónom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Promover la creativid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os proyectos deben proporcionar a los estudiantes con tareas  y </a:t>
            </a: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preguntas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  desafiantes, más que la experiencia de proyectos tradiciona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os buenos proyectos deben  incitar a los estudiantes a participar en la </a:t>
            </a: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reflexión, evaluación, análisis 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y/o </a:t>
            </a: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síntesis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 de la materia, no solo en la </a:t>
            </a: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identificación, definición o reiteración de los  hechos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Text Box 4"/>
          <p:cNvSpPr/>
          <p:nvPr/>
        </p:nvSpPr>
        <p:spPr>
          <a:xfrm>
            <a:off x="0" y="52578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a aplicación de tecnología para proyectos tradicionales no conduce necesariamente a un mayor aprendizaje de los estudiant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20CBE-93A0-4B37-98C8-C271B5C5BE32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El conocimiento experto es organizado… Su conocimiento no es simplemente una lista de hechos y fórmulas que son relevantes para el dominio, en cambio, su conocimiento está organizado alrededor de conceptos medulares o ‘grandes ideas’ que guían su pensamiento acerca del dominio.”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Bransford, J. D.; Brown, A. L. (2000). </a:t>
            </a:r>
            <a:r>
              <a:rPr b="0" i="1" lang="en-US" sz="1200" spc="-1" strike="noStrike">
                <a:solidFill>
                  <a:srgbClr val="ffffff"/>
                </a:solidFill>
                <a:latin typeface="Verdana"/>
              </a:rPr>
              <a:t>How People Learn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. Washington, D. C. National Research Council, p. 24. Disponible en línea en: </a:t>
            </a:r>
            <a:r>
              <a:rPr b="0" lang="en-US" sz="1200" spc="-1" strike="noStrike" u="sng">
                <a:solidFill>
                  <a:srgbClr val="ccecff"/>
                </a:solidFill>
                <a:uFillTx/>
                <a:latin typeface="Verdana"/>
                <a:hlinkClick r:id="rId1"/>
              </a:rPr>
              <a:t>http://www.eduteka.org/ComoAprendeLaGente.php3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1800" spc="-1" strike="noStrike">
                <a:solidFill>
                  <a:srgbClr val="ffffff"/>
                </a:solidFill>
                <a:latin typeface="Verdana"/>
              </a:rPr>
              <a:t>"La tecnología es más poderosa cuando se utiliza como una herramienta para la resolución de problemas, desarrollo conceptual, y el pensamiento crítico. Gracias a la tecnología, los estudiantes pueden pasar más tiempo… la creación de estrategias destinadas a resolver problemas complejos y el desarrollo de un profundo conocimiento de la materia."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300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Ringstaff, C. &amp; Kelley, L. (2002).“The Learning Return on our Educational Technology Investment.” CA: San Francisco. WestEd. Disponible en línea en: </a:t>
            </a:r>
            <a:r>
              <a:rPr b="0" lang="en-US" sz="1200" spc="-1" strike="noStrike" u="sng">
                <a:solidFill>
                  <a:srgbClr val="ccecff"/>
                </a:solidFill>
                <a:uFillTx/>
                <a:latin typeface="Verdana"/>
                <a:hlinkClick r:id="rId2"/>
              </a:rPr>
              <a:t>http://www.wested.org/online_pubs/learning_return.pdf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(solo en idioma inglés). Puede ver un resumen en idioma español en: </a:t>
            </a:r>
            <a:r>
              <a:rPr b="0" lang="en-US" sz="1200" spc="-1" strike="noStrike" u="sng">
                <a:solidFill>
                  <a:srgbClr val="ccecff"/>
                </a:solidFill>
                <a:uFillTx/>
                <a:latin typeface="Verdana"/>
                <a:hlinkClick r:id="rId3"/>
              </a:rPr>
              <a:t>http://www.eduteka.org/TemaApoyo.php</a:t>
            </a: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5" name="Text Box 7"/>
          <p:cNvSpPr/>
          <p:nvPr/>
        </p:nvSpPr>
        <p:spPr>
          <a:xfrm>
            <a:off x="0" y="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¿Por qué debemos usar las preguntas  orientadoras del currículo en nuestra unidad?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i="1" lang="en-US" sz="1600" spc="-1" strike="noStrike">
                <a:solidFill>
                  <a:srgbClr val="ffffff"/>
                </a:solidFill>
                <a:latin typeface="Verdana"/>
              </a:rPr>
              <a:t>(cont.)</a:t>
            </a:r>
            <a:endParaRPr b="0" lang="en-US" sz="1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8080D-911B-49E9-BDDE-9D33A562E54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Enfrentándose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al “Sí, pero…”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12952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“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Tengo que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</a:rPr>
              <a:t>enseñar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para el examen”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ara ser competentes, los estudiantes deben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Disponer de sólidas bases en conocimiento enciclopédic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Comprender los hechos y las ideas dentro de un marco conceptu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Organizar el conocimiento de modo que se facilite su recuperación y aplicación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as preguntas orientadoras permiten profundizar en la comprensión de los material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En vez de enfocarse en actividades “sin sentido” y en una “cobertura superficial”, concéntrese en metas relacionadas con grandes ideas y ejecuciones complej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349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ffffff"/>
                </a:solidFill>
                <a:latin typeface="Verdana"/>
              </a:rPr>
              <a:t>Tomado de </a:t>
            </a:r>
            <a:r>
              <a:rPr b="0" i="1" lang="en-US" sz="1400" spc="-1" strike="noStrike">
                <a:solidFill>
                  <a:srgbClr val="ffffff"/>
                </a:solidFill>
                <a:latin typeface="Verdana"/>
              </a:rPr>
              <a:t>Understanding by Design Workshop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4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B164E-9BBA-4651-A3B9-6F3EABF98ACA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Que NO es una pregunta esencial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5760" y="1142640"/>
            <a:ext cx="823104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No puede ser respondida con una respuesta </a:t>
            </a:r>
            <a:r>
              <a:rPr b="0" i="1" lang="es-CR" sz="2000" spc="-1" strike="noStrike">
                <a:solidFill>
                  <a:srgbClr val="ffffff"/>
                </a:solidFill>
                <a:latin typeface="Verdana"/>
              </a:rPr>
              <a:t>Sí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 o </a:t>
            </a:r>
            <a:r>
              <a:rPr b="0" i="1" lang="es-CR" sz="2000" spc="-1" strike="noStrike">
                <a:solidFill>
                  <a:srgbClr val="ffffff"/>
                </a:solidFill>
                <a:latin typeface="Verdana"/>
              </a:rPr>
              <a:t>No</a:t>
            </a: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No puede ser respondida por medio de una copia o parafraseando otras fuente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No puede ser respondida con hechos que contengan simples relaciones o sea familiar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57200" y="3048120"/>
          <a:ext cx="8236080" cy="2419200"/>
        </p:xfrm>
        <a:graphic>
          <a:graphicData uri="http://schemas.openxmlformats.org/drawingml/2006/table">
            <a:tbl>
              <a:tblPr/>
              <a:tblGrid>
                <a:gridCol w="4114800"/>
                <a:gridCol w="4121280"/>
              </a:tblGrid>
              <a:tr h="40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sen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No esen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00080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Por qué nos gustan los animal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Qué necesitan hacer los animales para vivir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9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Por qué somos diferentes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es la vida en otros país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87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Solo por el hecho de que podemos, ¿debemos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R" sz="1800" spc="-1" strike="noStrike">
                          <a:solidFill>
                            <a:srgbClr val="ffffff"/>
                          </a:solidFill>
                          <a:latin typeface="Verdana"/>
                          <a:ea typeface="Times New Roman"/>
                        </a:rPr>
                        <a:t>¿Cuáles son las implicaciones de la ingeniería genética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D62B-FE28-497B-B58E-D1F1263FAABF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¿Cuál es la diferencia entre la pregunta esencial y las de unidad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81080" indent="-18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No es la pregunta la que define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</a:rPr>
              <a:t>per se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cuando es esencial o de unidad, sino como usted la utilice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181080" indent="-181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Las preguntas: “¿Qué se necesita para cambiar el mundo?” o “¿Cómo los conflictos producen cambio?” Pueden ser utilizadas individualmente, tanto como una pregunta esencial, así como de unidad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8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Será una pregunta esencial si es utilizada como una pregunta guía durante todo el año en una clase de Estudios Sociales que cubre unidades, tales como: La conquista, la Revolución Industrial, la Segunda Guerra Mund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8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Será una pregunta esencial si es utilizada en aulas interdisciplinarias o en aulas donde se discuten simultáneamente distintas facetas de la misma pregunta, tal como en Artes del lenguaje y Estudios Sociale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81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- Será una pregunta de unidad si es utilizada solamente dentro de una unidad específica, como en Evolu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181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5C462-6732-4436-8BB3-98C320E9357B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¿Cómo distintas preguntas de unidad respaldan una única pregunta esencial en una clase? 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8" name="4 Imagen" descr="p2_B.jpg"/>
          <p:cNvPicPr/>
          <p:nvPr/>
        </p:nvPicPr>
        <p:blipFill>
          <a:blip r:embed="rId1"/>
          <a:stretch/>
        </p:blipFill>
        <p:spPr>
          <a:xfrm>
            <a:off x="990720" y="1828800"/>
            <a:ext cx="7095960" cy="36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BB009-4439-4ED5-89B0-98FD9A6C43B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151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Pistas para redactar preguntas esenciales y de unidad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2296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Genere usted mismo las preguntas y luego trabaje con otros docentes o sus propios estudiantes para refinarlas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0" y="1905120"/>
            <a:ext cx="9144000" cy="421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La pregunta esencial y las de unidad tienden a ser más del tipo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cóm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 y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por qué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, que aquellas que empiezan con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qué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,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quién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 o </a:t>
            </a:r>
            <a:r>
              <a:rPr b="0" i="1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cuándo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- Manténgase apartado de las preguntas que invitan a proferir definiciones o a la comprensión de procesos “simples”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indent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 </a:t>
            </a:r>
            <a:r>
              <a:rPr b="0" lang="es-ES_tradnl" sz="2000" spc="-1" strike="noStrike">
                <a:solidFill>
                  <a:srgbClr val="ffffff"/>
                </a:solidFill>
                <a:latin typeface="Verdana"/>
                <a:ea typeface="Arial"/>
              </a:rPr>
              <a:t>Pregúntese a sí mismo si la pregunta tiene, básicamente, solo una o un grupo limitado de respuestas correctas. Si es así, no es una pregunta esencial o de un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- ¿Cuál es el ciclo de vida de las rana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  <a:ea typeface="Arial"/>
              </a:rPr>
              <a:t>- ¿Quién fue Mozart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as preguntas requieren que los estudiantes reflexionen evalúen analicen, sinteticen  el sujeto de la materia. </a:t>
            </a:r>
            <a:br>
              <a:rPr sz="2000"/>
            </a:b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CR" sz="1800" spc="-1" strike="noStrike">
                <a:solidFill>
                  <a:srgbClr val="ffffff"/>
                </a:solidFill>
                <a:latin typeface="Verdana"/>
              </a:rPr>
              <a:t>- ¿Los estudiantes necesitan para tener tiempo para responder a las preguntas así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31840" indent="-231840"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4DAC0-E9EA-48A7-8A37-CECE2A7D809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ffff"/>
                </a:solidFill>
                <a:latin typeface="Verdana"/>
              </a:rPr>
              <a:t>Pistas para redactar preguntas esenciales y de unidad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0" y="1066320"/>
            <a:ext cx="91440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ffffff"/>
                </a:solidFill>
                <a:latin typeface="Verdana"/>
              </a:rPr>
              <a:t>No solo sencillos, sino importantes consejos prácticos…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Piense acerca del por qué es importante impartir ese tema. Piense en torno a las  cautivantes preguntas que los estudiosos se han planteado a lo largo del tiempo. ¿Cómo han adquirido los seres humanos el conocimiento que ahora les queremos impartir a nuestros estudiante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- ¿Por qué el universo es del modo que e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¿Cómo se ajusta este tema al “mundo real”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1001"/>
              </a:spcBef>
              <a:buClr>
                <a:srgbClr val="ffff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Verdana"/>
              </a:rPr>
              <a:t>¿Cuáles relaciones puede establecer con la vida de los estudiante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- ¿Qué hace que </a:t>
            </a:r>
            <a:r>
              <a:rPr b="1" lang="es-ES_tradnl" sz="1800" spc="-1" strike="noStrike">
                <a:solidFill>
                  <a:srgbClr val="ffffff"/>
                </a:solidFill>
                <a:latin typeface="Verdana"/>
              </a:rPr>
              <a:t>mi </a:t>
            </a: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cuerpo funcione? 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0">
              <a:spcBef>
                <a:spcPts val="9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- ¿Qué puedo hacer para mantener mi cuerpo fuerte y saludable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Si lo prefiere, escriba la pregunta en lenguaje adulto y luego adáptela al lenguaje de los estudiantes 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Jacqueline</cp:lastModifiedBy>
  <dcterms:modified xsi:type="dcterms:W3CDTF">2008-05-15T03:26:59Z</dcterms:modified>
  <cp:revision>216</cp:revision>
  <dc:subject/>
  <dc:title>Why Essential Questions?</dc:title>
</cp:coreProperties>
</file>