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B5E2-8F09-48FD-A081-3AF3067F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2A38-7353-4E90-8845-3DA1A659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9BA4-8449-48CA-BA76-29A5741A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0B24-A30F-40C1-81AF-21DA6765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367E-D07E-4F1F-A11F-A9F6373C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C433-EF91-4257-A11C-18B76172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7360-2A7C-466F-949E-9255E982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1C77-ACB2-4389-B14F-4E9E7AE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E5D1-DC88-4917-8E67-FF64FA9D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647A-5421-413F-9189-9DF5B140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3AA-C0F1-4775-AA6F-CB0E747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BAA6-4F80-488F-B79A-7F63CC2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4FDC-51B4-49C6-98E9-66A57AC1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B0DE-913A-4809-9C5E-1B0A0F9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4E6B-2765-4A7C-89A1-7975D0A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18E6-E4E4-4767-83E3-8B74BD7B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A434-AD1B-4D06-BE9F-53C224D9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79C1-05E3-4A11-B9BA-8141456A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F02B-1C0C-42D1-AEF1-CEC1694B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962B-5D57-4A20-AF04-4ED8BC24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96EB-0C50-4660-BAD7-D6DC4BEF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65EA-F55F-42A3-8BB1-45844CE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DFCE-1229-4644-B977-FB17DC5B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099F-A15C-49F4-A311-F4098422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3154-85B7-490E-8A05-2AC4C4358B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B057-9226-4DD3-8491-2CB76FFF76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Tahoma"/>
              </a:rPr>
              <a:t>Romeo y Juliet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360" y="43430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esentación del portafolio de un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: Pedro Rodrígu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j0104164"/>
          <p:cNvPicPr/>
          <p:nvPr/>
        </p:nvPicPr>
        <p:blipFill>
          <a:blip r:embed="rId1"/>
          <a:stretch/>
        </p:blipFill>
        <p:spPr>
          <a:xfrm>
            <a:off x="3581280" y="1600200"/>
            <a:ext cx="1852560" cy="2523960"/>
          </a:xfrm>
          <a:prstGeom prst="rect">
            <a:avLst/>
          </a:prstGeom>
          <a:ln w="0">
            <a:noFill/>
          </a:ln>
        </p:spPr>
      </p:pic>
      <p:pic>
        <p:nvPicPr>
          <p:cNvPr id="129" name="SN00571_.mid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3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j0288891"/>
          <p:cNvPicPr/>
          <p:nvPr/>
        </p:nvPicPr>
        <p:blipFill>
          <a:blip r:embed="rId1"/>
          <a:stretch/>
        </p:blipFill>
        <p:spPr>
          <a:xfrm>
            <a:off x="3048120" y="1066680"/>
            <a:ext cx="3190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Resumen de la unid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Los estudiantes leen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Romeo y Julieta 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y se refieren a la vida contemporánea. Investigan un problema de la obra que sigue siendo un problema hoy en día y colaboran para encontrar una solución. Crean una publicación o presentación sobre su solución y la comparten con un públ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reguntas orientadoras del plan de unid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gunta esenc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Existe eso que llaman desti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guntas de unida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Por qué es Romeo y Julieta un clásic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guntas de conten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Qué es un teatro glob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Quienes son los personajes en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Romeo y Julie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Visión de la unid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Mediante la creación de esta unidad, des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robar nuevos métodos para hacer que la literatura clásica sea de interés para la vida de mis 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nsar en formas de involucrar a mis alumnos más en la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urante esta unidad, deseo que mis estudian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Aprendan las maneras de relacionar lo clásico de la literatura a su vida cotid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Utilicen la tecnología para comunicarse con diferentes audi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Enfoque del proyect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mo mis estudiantes trabajan en este proyecto, ell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Relacionan la obra con el mundo r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laboran con sus compañeros y miembros de la comun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rean un producto que muestra lo que han aprend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mparten su aprendizaje con una audiencia r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Aprendizaje para el siglo XX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estudiantes desarrollarán el pensamiento superior y las destrezas del siglo XXI en esta unidad, ya q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2666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Utilizan la pregunta esencial y las de unidad para orientar su análisis en la obra, y a la vez encontrar temas que relacionen fechas y lug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omunican sus ideas a una audiencia de la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Reflexionan sobre su lectura, redacción, investigación y las estrategias de pensamiento, las modifican y adaptan según sea neces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Utilizan evaluaciones de proyectos para autoevaluar su trabajo y dar realimentación a sus compañe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cc"/>
                </a:solidFill>
                <a:latin typeface="Tahoma"/>
              </a:rPr>
              <a:t>Evaluar las necesidades de los estudiante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219320" y="1828800"/>
            <a:ext cx="6933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ahoma"/>
              </a:rPr>
              <a:t>Utilice las preguntas orientadoras de unidad para apr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Las ideas que tienen los estudiantes acerca de lo que es un "clásico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l conocimiento previo de los personajes y trama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ahoma"/>
              </a:rPr>
              <a:t>Evaluar las destrezas del sig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apacidad para ver elementos comunes en los clásicos y la literatura contempo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152280" y="1295280"/>
          <a:ext cx="914400" cy="7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"/>
          <p:cNvGraphicFramePr/>
          <p:nvPr/>
        </p:nvGraphicFramePr>
        <p:xfrm>
          <a:off x="7543800" y="1143000"/>
          <a:ext cx="914400" cy="77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cc"/>
                </a:solidFill>
                <a:latin typeface="Tahoma"/>
              </a:rPr>
              <a:t>Evaluar las necesidades de los estudiante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85800" y="14479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do usar esta información derivada de éstas evaluaciones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143000" y="2362320"/>
            <a:ext cx="7543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Concentrarme en las partes de la obra en las que los estudiantes tienen ideas erróne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lanificar actividades en las cuales ellos puedan contestar sus pregunt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85800" y="3978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estudiantes pueden usar esta información de estas evaluaciones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219320" y="4876920"/>
            <a:ext cx="7543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Comparar sus preguntas con respecto a las unidades anteri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blecer objetivos de cómo ajustará su estilo delectura para este tipo de literatur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Respuestas de la realimentació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os estudiantes necesitan ayuda para comprender la obra sin parafrasear y resum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Necesita ayuda para la evaluación de las destrezas de pensamiento de orden superior de los estudi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Jacqueline Arroyo</cp:lastModifiedBy>
  <dcterms:modified xsi:type="dcterms:W3CDTF">2008-08-07T15:48:59Z</dcterms:modified>
  <cp:revision>44</cp:revision>
  <dc:subject/>
  <dc:title>What can Romeo and Juliet Teach Us About Ourselves?</dc:title>
</cp:coreProperties>
</file>