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832-7D59-439A-82B6-50239054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688D-64B6-4516-ABE3-69A43885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8197-A20B-4EA6-8989-B7CF8CAE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02DE-584E-4BFC-910F-A0A52736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658B-BA24-49CF-B00E-A03F1DCE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57C8-6E12-4A2C-8890-522909BA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6BAC-3656-43E1-984B-62AA75A2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BD95-FB50-46D1-BDBA-0F1B0AA3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E081-0C4D-4C72-AB37-6212681E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725E-DCC5-41D0-90C7-C72EEC79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1086-B8F8-4521-9C0A-E80C6C5D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AC07-9C2A-40DC-A8F7-6B06D771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CC8F-A627-4FB2-B6F8-5DD91B08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CF8D-4081-4ECB-8B8B-2F6947C0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427C-BDE9-424F-9BD7-C091EECC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ED0C-AD04-45E8-8195-97812A74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2816-1605-41A0-BAC9-2C3D9CC5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2E3-951A-4418-BD23-ABEF8F5F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9F8A-7197-4DC8-80A7-D12A5229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8F46-0592-43DB-9E8A-862CCD03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CC01-6E13-433B-A891-15E466F9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6E00-9901-4AD5-8B0E-98E97AFB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BAE-02BB-4C4F-A66F-F81F0B8C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0078-6563-428C-B8C3-6A3CCF99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44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44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0492-16F3-46C5-9AE5-FB0121A58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44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44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4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AD7E-5BD9-404C-B4DA-78909C09F547}" type="slidenum">
              <a:rPr b="0" lang="en-US" sz="1400" spc="-1" strike="noStrike">
                <a:solidFill>
                  <a:srgbClr val="32324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4"/>
          <p:cNvSpPr/>
          <p:nvPr/>
        </p:nvSpPr>
        <p:spPr>
          <a:xfrm>
            <a:off x="1447920" y="685800"/>
            <a:ext cx="6324480" cy="5105520"/>
          </a:xfrm>
          <a:prstGeom prst="triangle">
            <a:avLst>
              <a:gd name="adj" fmla="val 50000"/>
            </a:avLst>
          </a:prstGeom>
          <a:solidFill>
            <a:srgbClr val="979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44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3333ff"/>
                </a:solidFill>
                <a:latin typeface="Century Gothic"/>
              </a:rPr>
              <a:t>Taxonomía de Bloom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Un enfoque en la capacidad de pensamiento de nivel super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3333ff"/>
                </a:solidFill>
                <a:latin typeface="Century Gothic"/>
              </a:rPr>
              <a:t>Antecedentes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n 1956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jamin Bloom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, profesor de la Universidad de Chicago, compartió su famosa “Taxonomía de los objetivos del aprendizaje“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m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identificó los seis niveles de complejidad cognitiva que se han utilizado en las últimas cuatro décadas para garantizar que el aprendizaje estimula y desarrolla la capacidad de pensamiento en los estudiantes a un nivel super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1"/>
          <p:cNvGrpSpPr/>
          <p:nvPr/>
        </p:nvGrpSpPr>
        <p:grpSpPr>
          <a:xfrm>
            <a:off x="1486080" y="1574640"/>
            <a:ext cx="6209640" cy="5054400"/>
            <a:chOff x="1486080" y="1574640"/>
            <a:chExt cx="6209640" cy="5054400"/>
          </a:xfrm>
        </p:grpSpPr>
        <p:grpSp>
          <p:nvGrpSpPr>
            <p:cNvPr id="142" name="Group 5"/>
            <p:cNvGrpSpPr/>
            <p:nvPr/>
          </p:nvGrpSpPr>
          <p:grpSpPr>
            <a:xfrm>
              <a:off x="1486080" y="1574640"/>
              <a:ext cx="6209640" cy="4787640"/>
              <a:chOff x="1486080" y="1574640"/>
              <a:chExt cx="6209640" cy="4787640"/>
            </a:xfrm>
          </p:grpSpPr>
          <p:sp>
            <p:nvSpPr>
              <p:cNvPr id="143" name="AutoShape 6"/>
              <p:cNvSpPr/>
              <p:nvPr/>
            </p:nvSpPr>
            <p:spPr>
              <a:xfrm>
                <a:off x="1486080" y="1574640"/>
                <a:ext cx="6209640" cy="478764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4" name="Line 7"/>
              <p:cNvSpPr/>
              <p:nvPr/>
            </p:nvSpPr>
            <p:spPr>
              <a:xfrm>
                <a:off x="3928680" y="2593440"/>
                <a:ext cx="132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5" name="Line 8"/>
              <p:cNvSpPr/>
              <p:nvPr/>
            </p:nvSpPr>
            <p:spPr>
              <a:xfrm>
                <a:off x="3476880" y="3306960"/>
                <a:ext cx="223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6" name="Line 9"/>
              <p:cNvSpPr/>
              <p:nvPr/>
            </p:nvSpPr>
            <p:spPr>
              <a:xfrm>
                <a:off x="2971080" y="4096080"/>
                <a:ext cx="325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7" name="Line 10"/>
              <p:cNvSpPr/>
              <p:nvPr/>
            </p:nvSpPr>
            <p:spPr>
              <a:xfrm>
                <a:off x="1944000" y="5649120"/>
                <a:ext cx="529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8" name="Line 11"/>
              <p:cNvSpPr/>
              <p:nvPr/>
            </p:nvSpPr>
            <p:spPr>
              <a:xfrm>
                <a:off x="2410560" y="4935600"/>
                <a:ext cx="437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Group 20"/>
            <p:cNvGrpSpPr/>
            <p:nvPr/>
          </p:nvGrpSpPr>
          <p:grpSpPr>
            <a:xfrm>
              <a:off x="2373480" y="2336760"/>
              <a:ext cx="4434840" cy="4292280"/>
              <a:chOff x="2373480" y="2336760"/>
              <a:chExt cx="4434840" cy="4292280"/>
            </a:xfrm>
          </p:grpSpPr>
          <p:sp>
            <p:nvSpPr>
              <p:cNvPr id="150" name="Text Box 13"/>
              <p:cNvSpPr/>
              <p:nvPr/>
            </p:nvSpPr>
            <p:spPr>
              <a:xfrm>
                <a:off x="3570120" y="2336760"/>
                <a:ext cx="2070360" cy="59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R" sz="1400" spc="-1" strike="noStrike">
                    <a:solidFill>
                      <a:srgbClr val="323244"/>
                    </a:solidFill>
                    <a:latin typeface="Arial Black"/>
                  </a:rPr>
                  <a:t>Evaluación</a:t>
                </a:r>
                <a:endParaRPr b="0" lang="en-US" sz="1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grpSp>
            <p:nvGrpSpPr>
              <p:cNvPr id="151" name="Group 14"/>
              <p:cNvGrpSpPr/>
              <p:nvPr/>
            </p:nvGrpSpPr>
            <p:grpSpPr>
              <a:xfrm>
                <a:off x="2373480" y="3014640"/>
                <a:ext cx="4434840" cy="3614400"/>
                <a:chOff x="2373480" y="3014640"/>
                <a:chExt cx="4434840" cy="3614400"/>
              </a:xfrm>
            </p:grpSpPr>
            <p:sp>
              <p:nvSpPr>
                <p:cNvPr id="152" name="Text Box 15"/>
                <p:cNvSpPr/>
                <p:nvPr/>
              </p:nvSpPr>
              <p:spPr>
                <a:xfrm>
                  <a:off x="3260160" y="3014640"/>
                  <a:ext cx="266112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R" sz="1400" spc="-1" strike="noStrike">
                      <a:solidFill>
                        <a:srgbClr val="323244"/>
                      </a:solidFill>
                      <a:latin typeface="Arial Black"/>
                    </a:rPr>
                    <a:t>Síntesis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Text Box 16"/>
                <p:cNvSpPr/>
                <p:nvPr/>
              </p:nvSpPr>
              <p:spPr>
                <a:xfrm>
                  <a:off x="2964600" y="3796560"/>
                  <a:ext cx="325260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R" sz="1400" spc="-1" strike="noStrike">
                      <a:solidFill>
                        <a:srgbClr val="323244"/>
                      </a:solidFill>
                      <a:latin typeface="Arial Black"/>
                    </a:rPr>
                    <a:t>Análisis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7"/>
                <p:cNvSpPr/>
                <p:nvPr/>
              </p:nvSpPr>
              <p:spPr>
                <a:xfrm>
                  <a:off x="2669040" y="4637880"/>
                  <a:ext cx="384336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R" sz="1400" spc="-1" strike="noStrike">
                      <a:solidFill>
                        <a:srgbClr val="323244"/>
                      </a:solidFill>
                      <a:latin typeface="Arial Black"/>
                    </a:rPr>
                    <a:t>Aplicación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Text Box 18"/>
                <p:cNvSpPr/>
                <p:nvPr/>
              </p:nvSpPr>
              <p:spPr>
                <a:xfrm>
                  <a:off x="2373480" y="5340960"/>
                  <a:ext cx="443484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R" sz="1400" spc="-1" strike="noStrike">
                      <a:solidFill>
                        <a:srgbClr val="323244"/>
                      </a:solidFill>
                      <a:latin typeface="Arial Black"/>
                    </a:rPr>
                    <a:t>Comprensión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Text Box 19"/>
                <p:cNvSpPr/>
                <p:nvPr/>
              </p:nvSpPr>
              <p:spPr>
                <a:xfrm>
                  <a:off x="2373480" y="6037560"/>
                  <a:ext cx="443484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R" sz="1400" spc="-1" strike="noStrike">
                      <a:solidFill>
                        <a:srgbClr val="323244"/>
                      </a:solidFill>
                      <a:latin typeface="Arial Black"/>
                    </a:rPr>
                    <a:t>Conocimiento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7" name="Rectangle 22"/>
          <p:cNvSpPr/>
          <p:nvPr/>
        </p:nvSpPr>
        <p:spPr>
          <a:xfrm>
            <a:off x="726120" y="949320"/>
            <a:ext cx="81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3333ff"/>
                </a:solidFill>
                <a:latin typeface="Century Gothic"/>
              </a:rPr>
              <a:t>Capacidad de pensamiento de nivel superior </a:t>
            </a:r>
            <a:endParaRPr b="0" lang="en-US" sz="2800" spc="-1" strike="noStrike">
              <a:solidFill>
                <a:srgbClr val="323244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3333ff"/>
                </a:solidFill>
                <a:latin typeface="Century Gothic"/>
              </a:rPr>
              <a:t>Conocimiento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19280" y="161424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Arial"/>
              </a:rPr>
              <a:t>Recordar o reconocer inform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0" name="Group 6"/>
          <p:cNvGrpSpPr/>
          <p:nvPr/>
        </p:nvGrpSpPr>
        <p:grpSpPr>
          <a:xfrm>
            <a:off x="533520" y="2514600"/>
            <a:ext cx="8839080" cy="3447720"/>
            <a:chOff x="533520" y="2514600"/>
            <a:chExt cx="8839080" cy="3447720"/>
          </a:xfrm>
        </p:grpSpPr>
        <p:sp>
          <p:nvSpPr>
            <p:cNvPr id="161" name="Text Box 4"/>
            <p:cNvSpPr/>
            <p:nvPr/>
          </p:nvSpPr>
          <p:spPr>
            <a:xfrm>
              <a:off x="4724280" y="2514600"/>
              <a:ext cx="4648320" cy="29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enumer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nombr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identific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mostr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efini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reconoce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record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asoci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62" name="Text Box 5"/>
            <p:cNvSpPr/>
            <p:nvPr/>
          </p:nvSpPr>
          <p:spPr>
            <a:xfrm>
              <a:off x="533520" y="2529000"/>
              <a:ext cx="4572000" cy="34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efini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lasific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escribi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localiz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esquematiz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ar ejemplos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istinguir entre hechos y opiniones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3333ff"/>
                </a:solidFill>
                <a:latin typeface="Century Gothic"/>
              </a:rPr>
              <a:t>Comprensión</a:t>
            </a: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Arial"/>
              </a:rPr>
              <a:t>La capacidad para entender, traducir, parafrasear, interpretar o extrapolar material. (Predecir resultados y efect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Group 6"/>
          <p:cNvGrpSpPr/>
          <p:nvPr/>
        </p:nvGrpSpPr>
        <p:grpSpPr>
          <a:xfrm>
            <a:off x="480960" y="2838600"/>
            <a:ext cx="7391520" cy="3433320"/>
            <a:chOff x="480960" y="2838600"/>
            <a:chExt cx="7391520" cy="3433320"/>
          </a:xfrm>
        </p:grpSpPr>
        <p:sp>
          <p:nvSpPr>
            <p:cNvPr id="166" name="Text Box 4"/>
            <p:cNvSpPr/>
            <p:nvPr/>
          </p:nvSpPr>
          <p:spPr>
            <a:xfrm>
              <a:off x="3986280" y="2838600"/>
              <a:ext cx="3886200" cy="34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parafrase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iferenci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mostr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visualiz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exponer de una manera diferen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rescribi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ar ejemplos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67" name="Text Box 5"/>
            <p:cNvSpPr/>
            <p:nvPr/>
          </p:nvSpPr>
          <p:spPr>
            <a:xfrm>
              <a:off x="480960" y="2852640"/>
              <a:ext cx="4114800" cy="33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resumi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explic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interpret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escribi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ompar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onverti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istingui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hacer estimaciones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50"/>
                </a:spcBef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3333ff"/>
                </a:solidFill>
                <a:latin typeface="Century Gothic"/>
              </a:rPr>
              <a:t>Aplicación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Arial"/>
              </a:rPr>
              <a:t>La capacidad de usar información y transferir conocimiento de un contexto a otro. (Usar lo aprendido en una situación nueva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Group 7"/>
          <p:cNvGrpSpPr/>
          <p:nvPr/>
        </p:nvGrpSpPr>
        <p:grpSpPr>
          <a:xfrm>
            <a:off x="419040" y="2781360"/>
            <a:ext cx="7315200" cy="2660400"/>
            <a:chOff x="419040" y="2781360"/>
            <a:chExt cx="7315200" cy="2660400"/>
          </a:xfrm>
        </p:grpSpPr>
        <p:sp>
          <p:nvSpPr>
            <p:cNvPr id="171" name="Text Box 4"/>
            <p:cNvSpPr/>
            <p:nvPr/>
          </p:nvSpPr>
          <p:spPr>
            <a:xfrm>
              <a:off x="4000320" y="2781360"/>
              <a:ext cx="3733920" cy="26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aplic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lasific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modific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poner en práctica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emostr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omput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oper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419040" y="2819520"/>
              <a:ext cx="3504960" cy="26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resolve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ilustr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alcul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interpret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manipul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predeci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mostr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3333ff"/>
                </a:solidFill>
                <a:latin typeface="Century Gothic"/>
              </a:rPr>
              <a:t>Análisis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Identificar detalles y ser capaz de descubrir y diferenciar las partes que componen una situación o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385920" y="2971800"/>
            <a:ext cx="7696080" cy="2963880"/>
            <a:chOff x="385920" y="2971800"/>
            <a:chExt cx="7696080" cy="2963880"/>
          </a:xfrm>
        </p:grpSpPr>
        <p:sp>
          <p:nvSpPr>
            <p:cNvPr id="176" name="Text Box 4"/>
            <p:cNvSpPr/>
            <p:nvPr/>
          </p:nvSpPr>
          <p:spPr>
            <a:xfrm>
              <a:off x="3662640" y="2971800"/>
              <a:ext cx="441936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ontrast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ompar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istingui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ategoriz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esboz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relat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77" name="Text Box 5"/>
            <p:cNvSpPr/>
            <p:nvPr/>
          </p:nvSpPr>
          <p:spPr>
            <a:xfrm>
              <a:off x="385920" y="2971800"/>
              <a:ext cx="3200400" cy="24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analiz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organiz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educi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escoge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iagram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iscrimin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3333ff"/>
                </a:solidFill>
                <a:latin typeface="Century Gothic"/>
              </a:rPr>
              <a:t>Síntesis</a:t>
            </a: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Arial"/>
              </a:rPr>
              <a:t>La capacidad de combinar las partes para crear el to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2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600120" y="2590920"/>
            <a:ext cx="7391520" cy="3503160"/>
            <a:chOff x="600120" y="2590920"/>
            <a:chExt cx="7391520" cy="3503160"/>
          </a:xfrm>
        </p:grpSpPr>
        <p:sp>
          <p:nvSpPr>
            <p:cNvPr id="181" name="Text Box 4"/>
            <p:cNvSpPr/>
            <p:nvPr/>
          </p:nvSpPr>
          <p:spPr>
            <a:xfrm>
              <a:off x="4486320" y="2590920"/>
              <a:ext cx="3505320" cy="35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iscuti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plane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ompar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re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onstrui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reorden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ompone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organiz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82" name="Text Box 5"/>
            <p:cNvSpPr/>
            <p:nvPr/>
          </p:nvSpPr>
          <p:spPr>
            <a:xfrm>
              <a:off x="600120" y="2590920"/>
              <a:ext cx="4191120" cy="29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iseñ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formular hipótesis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apoy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escribi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report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ombin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umpli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esarroll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3333ff"/>
                </a:solidFill>
                <a:latin typeface="Century Gothic"/>
              </a:rPr>
              <a:t>Evaluación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La habilidad de juzgar el valor o uso de la información utilizando criterios apropiados. (Apoyar los argumentos con razon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2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Group 6"/>
          <p:cNvGrpSpPr/>
          <p:nvPr/>
        </p:nvGrpSpPr>
        <p:grpSpPr>
          <a:xfrm>
            <a:off x="533520" y="2971800"/>
            <a:ext cx="7543800" cy="3452400"/>
            <a:chOff x="533520" y="2971800"/>
            <a:chExt cx="7543800" cy="3452400"/>
          </a:xfrm>
        </p:grpSpPr>
        <p:sp>
          <p:nvSpPr>
            <p:cNvPr id="186" name="Text Box 4"/>
            <p:cNvSpPr/>
            <p:nvPr/>
          </p:nvSpPr>
          <p:spPr>
            <a:xfrm>
              <a:off x="3962520" y="2990880"/>
              <a:ext cx="4114800" cy="34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ritic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justific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eb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apoyar sus razonamiento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onclui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evalu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orden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87" name="Text Box 5"/>
            <p:cNvSpPr/>
            <p:nvPr/>
          </p:nvSpPr>
          <p:spPr>
            <a:xfrm>
              <a:off x="533520" y="2971800"/>
              <a:ext cx="525780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evalu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escoge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estim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juzg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efende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valor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5T20:37:00Z</dcterms:created>
  <dc:creator>Debbie Candau</dc:creator>
  <dc:description/>
  <dc:language>en-US</dc:language>
  <cp:lastModifiedBy>Jacqueline Arroyo</cp:lastModifiedBy>
  <dcterms:modified xsi:type="dcterms:W3CDTF">2008-08-06T21:29:44Z</dcterms:modified>
  <cp:revision>115</cp:revision>
  <dc:subject/>
  <dc:title>Bloom’s Taxonomy</dc:title>
</cp:coreProperties>
</file>