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21C5-1E38-4314-822A-73022D276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444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080A-9385-475F-A954-A100482EA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D5C8-06F1-4452-8DD8-A68911029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PlaceHolder 1"/>
          <p:cNvSpPr>
            <a:spLocks noGrp="1"/>
          </p:cNvSpPr>
          <p:nvPr>
            <p:ph type="sldImg"/>
          </p:nvPr>
        </p:nvSpPr>
        <p:spPr>
          <a:xfrm>
            <a:off x="1152360" y="692280"/>
            <a:ext cx="455472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41D6B-BF8F-4EAA-94F4-F9B4ABA39B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4C7C752D-764E-461E-BBAB-BB01A4B50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A2D38B16-5AD4-4F5B-A5F1-2DF011E9E4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E3CA18A8-EAB3-43EB-841F-3E4430FEEB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04A589FC-36DD-4ABC-A1B1-CBC47D2B7F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D9FE07AA-D426-4982-B33C-384B722B71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08416CD5-0B52-4ECC-8F55-E5EE9A53A4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D3E3A480-3577-4EF0-9F0B-EAB825D65D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2F7FEDEF-1B40-4C01-B99F-9742394331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EA0C8DF1-0380-4874-B763-6B67416493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EC326911-4C92-42E1-BE75-1D31933A29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E3A74BD3-AC6F-4B24-949C-40FB7C5F93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1673-CA50-45C1-A96D-384DC49CB816}"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AB76ACFA-05D6-4388-8013-1E74D4838A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DAEE351E-C9E7-4DE1-A9BA-5D5097FF84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2B07D78-B970-4F0B-B4AB-2A89B551C6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51B8B5B8-AA51-4E2D-88A1-5765EE2203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56A5707D-2B3C-4C10-8339-EA1E86AF4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55D6DE21-295D-442B-9551-E15E0BA7CC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2"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2DC642C6-D7F0-4A12-8FB2-1DFD71D38A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4"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C04B07C-A949-46A5-868A-6EA6A6F121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C156DD4-D16E-4372-97A2-D53658CB28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2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42E1E954-DFD1-4C04-92F5-0454D0B532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0DA6EDD-A8E9-49C4-BD65-3F8331E349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FD6BAAB7-B165-4E9F-84D0-0ABED6C026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2" name=""/>
          <p:cNvGrpSpPr/>
          <p:nvPr/>
        </p:nvGrpSpPr>
        <p:grpSpPr>
          <a:xfrm>
            <a:off x="304920" y="1447920"/>
            <a:ext cx="8237520" cy="3580920"/>
            <a:chOff x="304920" y="1447920"/>
            <a:chExt cx="8237520" cy="3580920"/>
          </a:xfrm>
        </p:grpSpPr>
        <p:sp>
          <p:nvSpPr>
            <p:cNvPr id="13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6" name=""/>
            <p:cNvGrpSpPr/>
            <p:nvPr/>
          </p:nvGrpSpPr>
          <p:grpSpPr>
            <a:xfrm>
              <a:off x="304920" y="1447920"/>
              <a:ext cx="8237520" cy="3580560"/>
              <a:chOff x="304920" y="1447920"/>
              <a:chExt cx="8237520" cy="3580560"/>
            </a:xfrm>
          </p:grpSpPr>
          <p:sp>
            <p:nvSpPr>
              <p:cNvPr id="13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3D2A5738-2580-4DA9-B616-9DAE2F4360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9BB1F54C-DA4F-49B3-B7E0-E4EC946294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6C5668AE-3FB7-49E6-8CB0-79B03A4528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C8393C82-EFCF-428B-B35E-DEF5287EE8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0"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65AB7A61-B8CC-4126-AC51-8AB3599AE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F8517A5-852F-48E4-BFD2-7C05602500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0930D8F7-99E7-4FD5-8888-A1670C835B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6"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58AD39F2-8F86-450C-B68B-F23538C1E8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4DE5DC69-D94C-4352-8B03-71D1723D58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95B4AFE7-45E1-4477-8A55-D936BA4B98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0" name=""/>
          <p:cNvGrpSpPr/>
          <p:nvPr/>
        </p:nvGrpSpPr>
        <p:grpSpPr>
          <a:xfrm>
            <a:off x="304920" y="1447920"/>
            <a:ext cx="8237520" cy="3580920"/>
            <a:chOff x="304920" y="1447920"/>
            <a:chExt cx="8237520" cy="3580920"/>
          </a:xfrm>
        </p:grpSpPr>
        <p:sp>
          <p:nvSpPr>
            <p:cNvPr id="161"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2"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3"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4" name=""/>
            <p:cNvGrpSpPr/>
            <p:nvPr/>
          </p:nvGrpSpPr>
          <p:grpSpPr>
            <a:xfrm>
              <a:off x="304920" y="1447920"/>
              <a:ext cx="8237520" cy="3580560"/>
              <a:chOff x="304920" y="1447920"/>
              <a:chExt cx="8237520" cy="3580560"/>
            </a:xfrm>
          </p:grpSpPr>
          <p:sp>
            <p:nvSpPr>
              <p:cNvPr id="165"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C8AF490E-3691-4C6B-B947-7837C2611A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2" name=""/>
          <p:cNvGrpSpPr/>
          <p:nvPr/>
        </p:nvGrpSpPr>
        <p:grpSpPr>
          <a:xfrm>
            <a:off x="304920" y="1447920"/>
            <a:ext cx="8237520" cy="3580920"/>
            <a:chOff x="304920" y="1447920"/>
            <a:chExt cx="8237520" cy="3580920"/>
          </a:xfrm>
        </p:grpSpPr>
        <p:sp>
          <p:nvSpPr>
            <p:cNvPr id="17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or Master Teachers:</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Facilitation Guid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earning to Facilitate</a:t>
              </a:r>
              <a:endParaRPr b="0" lang="en-US" sz="2000" spc="-1" strike="noStrike">
                <a:solidFill>
                  <a:srgbClr val="ffffff"/>
                </a:solidFill>
                <a:latin typeface="Times New Roman"/>
              </a:endParaRPr>
            </a:p>
          </p:txBody>
        </p:sp>
        <p:sp>
          <p:nvSpPr>
            <p:cNvPr id="17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6" name=""/>
            <p:cNvGrpSpPr/>
            <p:nvPr/>
          </p:nvGrpSpPr>
          <p:grpSpPr>
            <a:xfrm>
              <a:off x="304920" y="1447920"/>
              <a:ext cx="8237520" cy="3580560"/>
              <a:chOff x="304920" y="1447920"/>
              <a:chExt cx="8237520" cy="3580560"/>
            </a:xfrm>
          </p:grpSpPr>
          <p:sp>
            <p:nvSpPr>
              <p:cNvPr id="17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F5E159B9-80B7-4700-98B9-CFCE199C37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6C99858B-1AC9-4C62-A3BB-CDA2D42A4A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DCAE7A7E-3BB7-4957-A319-679AC9A632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8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Guid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7BCEE5E3-ACD2-44BC-8840-EE93C6840C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5D364F8D-03C3-446F-9C16-6FD53A5CE19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17600" y="1908000"/>
            <a:ext cx="4953240" cy="2475000"/>
          </a:xfrm>
          <a:prstGeom prst="rect">
            <a:avLst/>
          </a:prstGeom>
          <a:ln w="0">
            <a:noFill/>
          </a:ln>
        </p:spPr>
      </p:pic>
      <p:sp>
        <p:nvSpPr>
          <p:cNvPr id="192"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976C96AD-C0A5-479F-A5A7-D1501BB6AB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EC2B7A0B-3D0E-4A27-91D7-FB49B7C6EB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5"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4D76C061-EEF5-4927-8FCD-276D02A78F1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3A5A8AA3-56D0-41E7-88BE-6A95A124A8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85387603-602A-4D66-838C-54C249741D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B2EEF07-48EF-4515-814F-38CFC50D98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DB3BBDA5-197D-42FA-930D-F24E23B1D4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8F92865-EB2F-4CC2-96CB-DD262F4253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6C04ABE-4214-4599-8875-E97A387ACB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E9E8A507-0BB1-406C-9D83-EC2C3128D0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5-08T22:47:05Z</dcterms:modified>
  <cp:revision>543</cp:revision>
  <dc:subject/>
  <dc:title>Module 1</dc:title>
</cp:coreProperties>
</file>